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.jpeg" ContentType="image/jpeg"/>
  <Override PartName="/ppt/media/image36.jpeg" ContentType="image/jpeg"/>
  <Override PartName="/ppt/media/image12.png" ContentType="image/png"/>
  <Override PartName="/ppt/media/image39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8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9.jpeg" ContentType="image/jpe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6.jpeg" ContentType="image/jpeg"/>
  <Override PartName="/ppt/media/image46.png" ContentType="image/png"/>
  <Override PartName="/ppt/media/image28.png" ContentType="image/png"/>
  <Override PartName="/ppt/media/image38.jpeg" ContentType="image/jpeg"/>
  <Override PartName="/ppt/media/image7.png" ContentType="image/png"/>
  <Override PartName="/ppt/media/image34.jpeg" ContentType="image/jpeg"/>
  <Override PartName="/ppt/media/image48.wmf" ContentType="image/x-wmf"/>
  <Override PartName="/ppt/media/image5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390-3F6A-4EE1-A3CE-98CD5B55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6E2-4876-4982-8105-18183BF6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D2D-D80F-4BC7-9FDC-1B5131EC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EE5-5EE2-4D7D-868B-60BD1E33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07A-1110-4FF6-966A-CA9C67E3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BCD-4285-43CB-9210-BAE374B3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D45-2452-4017-A7B2-EF58ED0B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5D7-C502-4F38-BEC2-5CC0DFF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750-1500-4E4B-AFA0-23023159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287-25C3-4531-9E95-35BBB6D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73F-FA9E-4DF7-82B7-08DC13FA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083-8712-46A6-B42A-8B525D2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8B44-27B9-47AC-9C77-24ACD596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8;&#1089;&#1090;&#1086;&#1088;&#1080;&#1103;%20&#1088;&#1072;&#1079;&#1074;&#1080;&#1090;&#1080;&#1103;%20&#1093;&#1080;&#1084;&#1080;&#1080;.ppt" TargetMode="External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file:///&#1087;&#1088;&#1077;&#1079;&#1077;&#1085;&#1090;&#1072;&#1094;&#1080;&#1103;%20&#1087;&#1086;%20&#1090;&#1077;&#1093;&#1085;&#1080;&#1082;&#1077;%20&#1073;&#1077;&#1079;&#1086;&#1087;&#1072;&#1089;&#1085;&#1086;&#1089;&#1090;&#1080;%20&#1074;%20&#1082;&#1072;&#1073;&#1080;&#1085;&#1077;&#1090;&#1077;%20&#1093;&#1080;&#1084;&#1080;&#1080;.pp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1177920" cy="156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Предмет химии. Вещ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59280" y="4005360"/>
            <a:ext cx="2835000" cy="222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377800" cy="2222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332000" y="692280"/>
            <a:ext cx="1576440" cy="139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1719360" cy="128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236000" y="3573360"/>
            <a:ext cx="140004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8360" y="3645000"/>
            <a:ext cx="209556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53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щества, которые образованы атомами одного химического элемента, называю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ростыми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3800" cy="377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2675160" cy="2370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щества, которые образованы атомами разных химических элементов, назыв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слож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698560" cy="280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038480" cy="301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11640" y="4221000"/>
            <a:ext cx="164160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Упражнение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ите, какое из предложенных веществ простое, а какое – слож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76440" y="1671480"/>
            <a:ext cx="3489120" cy="261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91040" y="1758960"/>
            <a:ext cx="308916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Что объединяет эти объек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1622520" cy="165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68360" y="981000"/>
            <a:ext cx="1159200" cy="165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3457440" cy="2130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635280" y="981000"/>
            <a:ext cx="1573200" cy="165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364000" y="981000"/>
            <a:ext cx="2232360" cy="1674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877080" y="4292640"/>
            <a:ext cx="1965240" cy="2152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7093080" y="981000"/>
            <a:ext cx="1733400" cy="2592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4284720" y="4365720"/>
            <a:ext cx="216036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68360" y="272736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2556000" y="2708280"/>
            <a:ext cx="1944720" cy="155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4643280" y="2708280"/>
            <a:ext cx="1944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ещества и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34332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2774880" cy="1865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17208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ещества и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52920" y="1847880"/>
            <a:ext cx="2602080" cy="3846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328428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Свойства веществ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– это признаки, по которым вещества отличаются друг от друга либо сходны между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Предмет химии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– изучение веществ, их превращений, создание веществ с заданны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1268280"/>
            <a:ext cx="1944720" cy="642600"/>
          </a:xfrm>
          <a:prstGeom prst="rect">
            <a:avLst/>
          </a:prstGeom>
          <a:solidFill>
            <a:srgbClr val="f4fda1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Хим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205000"/>
            <a:ext cx="302436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Примен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549360"/>
            <a:ext cx="194472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Соста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6280"/>
            <a:ext cx="266544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6232200">
            <a:off x="6480360" y="1519920"/>
            <a:ext cx="1511280" cy="129708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173520 h 1297080"/>
              <a:gd name="textAreaBottom" fmla="*/ 112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5622200">
            <a:off x="1151640" y="1375200"/>
            <a:ext cx="1511280" cy="129708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173520 h 1297080"/>
              <a:gd name="textAreaBottom" fmla="*/ 112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549360"/>
            <a:ext cx="1511280" cy="5032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Упражнение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ажите, где о кислороде говорится как о химическом элементе, а где – как о простом вещест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кислород мало растворим в в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молекулы воды состоят из двух атомов водорода и одного атома кисло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в воздухе содержится 21% кислорода (по объём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) кислород входит в состав углекислого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План описания физических свойств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В каком агрегатном состоянии – газообразном, жидком или твёрдом – находится вещество при данных услови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Какого цвета вещество? Имеет ли оно бле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Имеет ли вещество зап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Проявляет ли вещество пластичность, хрупкость, эластич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Растворяется ли вещество в в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Какова температура плавления и температура кипения вещества? (См. справочники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Какова плотность вещества? (См. справочники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Обладает ли вещество тепло- и электропроводностью? (см. справочники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Упражнение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пишите физические свойства уксусной кислоты, сахара, соли, меди, алюминия по предложенному пла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С.5 (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2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 учебн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1917720" cy="334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948360" y="1557360"/>
            <a:ext cx="1800360" cy="1355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948360" y="3284640"/>
            <a:ext cx="1800360" cy="1488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716360" y="5013360"/>
            <a:ext cx="1943280" cy="1450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7020000" y="5229360"/>
            <a:ext cx="1800000" cy="120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760" y="63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pmedi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47840" y="326880"/>
            <a:ext cx="65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евиз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Широко простирает химия руки свои в дела человеческие»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.В.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Химия и охрана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879640" cy="1969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2520720" cy="2295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067280" y="4508640"/>
            <a:ext cx="2881080" cy="2151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659640" y="981000"/>
            <a:ext cx="208764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012000" y="3100320"/>
            <a:ext cx="2736720" cy="2043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9280" y="5300640"/>
            <a:ext cx="39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Защитить и сохранить Природу необходим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раграф 1, упр. 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клады, презентации по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стории развития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аб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229120" cy="25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3059280" y="4365720"/>
          <a:ext cx="4038480" cy="2192400"/>
        </p:xfrm>
        <a:graphic>
          <a:graphicData uri="http://schemas.openxmlformats.org/drawingml/2006/table">
            <a:tbl>
              <a:tblPr/>
              <a:tblGrid>
                <a:gridCol w="1508040"/>
                <a:gridCol w="253044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ат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Достижения нау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da1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7683480" y="392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знакомить 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предметом хим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простыми и сложными веществ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свойствами вещ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формами существования химического э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43280" y="1773360"/>
            <a:ext cx="41054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507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 О.С.Габриелян. «Химия». 8 класс. Учебник. 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Тетрадь для работы в классе и дома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Тетради для контрольных и практических рабо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854440" cy="3735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798640" cy="3662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2482920" cy="378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189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Что нужно для ур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1280" y="198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ехника безопасно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Науки о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 Какие науки изучают прир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 Что изучает биология; физика; география; астрономия; геолог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 Почему физику вы начали изучать в 7, а химию в 8 кла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1593720" cy="19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68360" y="4508640"/>
            <a:ext cx="140040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24360" y="4508640"/>
            <a:ext cx="2520720" cy="189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732720" y="450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Что изучает хим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981000"/>
            <a:ext cx="5112000" cy="2158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ХИМИЯ ИЗУЧ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852640"/>
            <a:ext cx="3673440" cy="1368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8820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3933720"/>
            <a:ext cx="3996000" cy="1656000"/>
          </a:xfrm>
          <a:prstGeom prst="ellipse">
            <a:avLst/>
          </a:prstGeom>
          <a:solidFill>
            <a:srgbClr val="5b3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СВОЙСТВА</a:t>
            </a:r>
            <a:br>
              <a:rPr sz="32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5300640"/>
            <a:ext cx="3959280" cy="1368360"/>
          </a:xfrm>
          <a:prstGeom prst="ellipse">
            <a:avLst/>
          </a:prstGeom>
          <a:solidFill>
            <a:srgbClr val="f5fa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ПРЕВРАЩЕНИЯ</a:t>
            </a:r>
            <a:br>
              <a:rPr sz="2800"/>
            </a:b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85880" cy="223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262560" y="292428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«Отец химии» Роберт Бойль (1627 - 16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989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Химия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– наука о веществах, их   </a:t>
            </a:r>
            <a:br>
              <a:rPr sz="3200"/>
            </a:b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           свойствах, о превращениях веществ и способах управления этими превращ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5711760" cy="408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256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Те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ещ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653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олек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7340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А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718560" y="3176280"/>
            <a:ext cx="574560" cy="35892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718560" y="4257360"/>
            <a:ext cx="574560" cy="35892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718560" y="5337000"/>
            <a:ext cx="574560" cy="358920"/>
          </a:xfrm>
          <a:prstGeom prst="rightArrow">
            <a:avLst>
              <a:gd name="adj1" fmla="val 50000"/>
              <a:gd name="adj2" fmla="val 400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2781360"/>
            <a:ext cx="12952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924280"/>
            <a:ext cx="14436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5950080"/>
            <a:ext cx="1008000" cy="288720"/>
          </a:xfrm>
          <a:prstGeom prst="leftArrow">
            <a:avLst>
              <a:gd name="adj1" fmla="val 50000"/>
              <a:gd name="adj2" fmla="val 87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56720" cy="211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Вещество</a:t>
            </a:r>
            <a:r>
              <a:rPr b="0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d6e8b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то то, из чего состоят физические тела</a:t>
            </a:r>
            <a:br>
              <a:rPr sz="3200"/>
            </a:b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Химический элемент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– это определенный вид атом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17188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2584440" cy="16491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250920" y="3933720"/>
            <a:ext cx="4038120" cy="2518920"/>
            <a:chOff x="250920" y="3933720"/>
            <a:chExt cx="4038120" cy="2518920"/>
          </a:xfrm>
        </p:grpSpPr>
        <p:cxnSp>
          <p:nvCxnSpPr>
            <p:cNvPr id="93" name="_s6157"/>
            <p:cNvCxnSpPr>
              <a:stCxn id="94" idx="0"/>
              <a:endCxn id="95" idx="2"/>
            </p:cNvCxnSpPr>
            <p:nvPr/>
          </p:nvCxnSpPr>
          <p:spPr>
            <a:xfrm flipV="1" rot="16200000">
              <a:off x="2561040" y="4648680"/>
              <a:ext cx="504360" cy="1087920"/>
            </a:xfrm>
            <a:prstGeom prst="bentConnector3">
              <a:avLst>
                <a:gd name="adj1" fmla="val 260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6155"/>
            <p:cNvCxnSpPr>
              <a:stCxn id="97" idx="0"/>
              <a:endCxn id="95" idx="2"/>
            </p:cNvCxnSpPr>
            <p:nvPr/>
          </p:nvCxnSpPr>
          <p:spPr>
            <a:xfrm flipH="1" flipV="1" rot="5400000">
              <a:off x="1473840" y="4649040"/>
              <a:ext cx="504360" cy="1087560"/>
            </a:xfrm>
            <a:prstGeom prst="bentConnector3">
              <a:avLst>
                <a:gd name="adj1" fmla="val 260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6151"/>
            <p:cNvSpPr/>
            <p:nvPr/>
          </p:nvSpPr>
          <p:spPr>
            <a:xfrm>
              <a:off x="1337760" y="3933720"/>
              <a:ext cx="1863720" cy="100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Веществ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6152"/>
            <p:cNvSpPr/>
            <p:nvPr/>
          </p:nvSpPr>
          <p:spPr>
            <a:xfrm>
              <a:off x="250920" y="5445000"/>
              <a:ext cx="1863720" cy="100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ирод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(углекисл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газ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6154"/>
            <p:cNvSpPr/>
            <p:nvPr/>
          </p:nvSpPr>
          <p:spPr>
            <a:xfrm>
              <a:off x="2425320" y="5445000"/>
              <a:ext cx="1863720" cy="100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990000"/>
                  </a:solidFill>
                  <a:latin typeface="Arial"/>
                </a:rPr>
                <a:t>Синт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990000"/>
                  </a:solidFill>
                  <a:latin typeface="Arial"/>
                </a:rPr>
                <a:t>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990000"/>
                  </a:solidFill>
                  <a:latin typeface="Arial"/>
                </a:rPr>
                <a:t>(полиэтилен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859280" y="3933720"/>
            <a:ext cx="4038120" cy="2187000"/>
            <a:chOff x="4859280" y="3933720"/>
            <a:chExt cx="4038120" cy="2187000"/>
          </a:xfrm>
        </p:grpSpPr>
        <p:cxnSp>
          <p:nvCxnSpPr>
            <p:cNvPr id="99" name="_s6161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7202520" y="4482720"/>
              <a:ext cx="438120" cy="1087920"/>
            </a:xfrm>
            <a:prstGeom prst="bentConnector3">
              <a:avLst>
                <a:gd name="adj1" fmla="val 260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6162"/>
            <p:cNvCxnSpPr>
              <a:stCxn id="103" idx="0"/>
              <a:endCxn id="101" idx="2"/>
            </p:cNvCxnSpPr>
            <p:nvPr/>
          </p:nvCxnSpPr>
          <p:spPr>
            <a:xfrm flipH="1" flipV="1" rot="5400000">
              <a:off x="6115320" y="4483080"/>
              <a:ext cx="438120" cy="1087560"/>
            </a:xfrm>
            <a:prstGeom prst="bentConnector3">
              <a:avLst>
                <a:gd name="adj1" fmla="val 260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6163"/>
            <p:cNvSpPr/>
            <p:nvPr/>
          </p:nvSpPr>
          <p:spPr>
            <a:xfrm>
              <a:off x="5946120" y="3933720"/>
              <a:ext cx="1863720" cy="87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Веществ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6164"/>
            <p:cNvSpPr/>
            <p:nvPr/>
          </p:nvSpPr>
          <p:spPr>
            <a:xfrm>
              <a:off x="4859280" y="5245920"/>
              <a:ext cx="1863720" cy="87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Прост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(водород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кислород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6165"/>
            <p:cNvSpPr/>
            <p:nvPr/>
          </p:nvSpPr>
          <p:spPr>
            <a:xfrm>
              <a:off x="7033680" y="5245920"/>
              <a:ext cx="1863720" cy="874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Слож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0000"/>
                  </a:solidFill>
                  <a:latin typeface="Arial"/>
                </a:rPr>
                <a:t>(вода, сахар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24160" y="67608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мотрите модели молекул. В чём между ними сходство и различие? Какое из веществ простое, а какое - сложное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72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                   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076640"/>
            <a:ext cx="86544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4076640"/>
            <a:ext cx="86544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3213000"/>
            <a:ext cx="158436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4221000"/>
            <a:ext cx="86508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4292640"/>
            <a:ext cx="8654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486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дород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3068640"/>
            <a:ext cx="115272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933720"/>
            <a:ext cx="1152360" cy="115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530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Кислород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5229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д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09:18:05Z</dcterms:created>
  <dc:creator>Алексей</dc:creator>
  <dc:description/>
  <dc:language>en-US</dc:language>
  <cp:lastModifiedBy>Хрипунов</cp:lastModifiedBy>
  <dcterms:modified xsi:type="dcterms:W3CDTF">2010-09-02T02:24:12Z</dcterms:modified>
  <cp:revision>8</cp:revision>
  <dc:subject/>
  <dc:title>Предмет химии. Вещества.</dc:title>
</cp:coreProperties>
</file>