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12.png" ContentType="image/png"/>
  <Override PartName="/ppt/media/image39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9.jpeg" ContentType="image/jpe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34.jpeg" ContentType="image/jpeg"/>
  <Override PartName="/ppt/media/image48.wmf" ContentType="image/x-wmf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167-99B1-4E88-A63D-0569599E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2D6-F801-413E-91EC-E70ADD5E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72A-D325-49A9-9BD0-9EF96189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30F-862C-4F7B-9E61-7155B254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0EE-A60E-43F6-A1B4-E69C80E0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EFE-D837-4F1F-B253-85E59DA6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AB9-E8FD-4AFB-A58D-E40D5652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8E2-7F9A-4729-9AAC-3AC1239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9C5-9D2D-4C94-ACC1-5EAA4E59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D17-76A6-4588-93C2-554CE31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C02-70B6-459C-958A-0565F99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8CE-A0DF-4461-80F9-BD7338C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B17-ED50-4FB6-9F1A-FA065116C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8;&#1089;&#1090;&#1086;&#1088;&#1080;&#1103;%20&#1088;&#1072;&#1079;&#1074;&#1080;&#1090;&#1080;&#1103;%20&#1093;&#1080;&#1084;&#1080;&#1080;.ppt" TargetMode="External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file:///&#1087;&#1088;&#1077;&#1079;&#1077;&#1085;&#1090;&#1072;&#1094;&#1080;&#1103;%20&#1087;&#1086;%20&#1090;&#1077;&#1093;&#1085;&#1080;&#1082;&#1077;%20&#1073;&#1077;&#1079;&#1086;&#1087;&#1072;&#1089;&#1085;&#1086;&#1089;&#1090;&#1080;%20&#1074;%20&#1082;&#1072;&#1073;&#1080;&#1085;&#1077;&#1090;&#1077;%20&#1093;&#1080;&#1084;&#1080;&#1080;.pp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1177920" cy="156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редмет химии. Вещ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59280" y="4005360"/>
            <a:ext cx="28350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377800" cy="222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332000" y="692280"/>
            <a:ext cx="157644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171936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6000" y="3573360"/>
            <a:ext cx="140004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645000"/>
            <a:ext cx="209556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53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щества, которые образованы атомами одного химического элемента, назыв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ростыми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3800" cy="377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2675160" cy="237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щества, которые образованы атомами разных химических элементов, назыв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слож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698560" cy="280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038480" cy="30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11640" y="4221000"/>
            <a:ext cx="16416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пражне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, какое из предложенных веществ простое, а какое – сло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6440" y="1671480"/>
            <a:ext cx="3489120" cy="261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91040" y="1758960"/>
            <a:ext cx="308916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Что объединяет эти объе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62252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1159200" cy="165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3457440" cy="2130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635280" y="981000"/>
            <a:ext cx="1573200" cy="165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64000" y="981000"/>
            <a:ext cx="2232360" cy="167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877080" y="4292640"/>
            <a:ext cx="1965240" cy="2152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7093080" y="981000"/>
            <a:ext cx="173340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284720" y="4365720"/>
            <a:ext cx="216036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68360" y="272736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2556000" y="2708280"/>
            <a:ext cx="1944720" cy="155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643280" y="2708280"/>
            <a:ext cx="1944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ещества и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34332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774880" cy="1865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7208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ещества и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52920" y="1847880"/>
            <a:ext cx="2602080" cy="3846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328428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Свойства веществ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– это признаки, по которым вещества отличаются друг от друга либо сходны между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Предмет химии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– изучение веществ, их превращений, создание веществ с заданны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268280"/>
            <a:ext cx="1944720" cy="642600"/>
          </a:xfrm>
          <a:prstGeom prst="rect">
            <a:avLst/>
          </a:prstGeom>
          <a:solidFill>
            <a:srgbClr val="f4fda1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Хим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205000"/>
            <a:ext cx="302436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Приме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549360"/>
            <a:ext cx="194472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Соста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6280"/>
            <a:ext cx="26654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6232200">
            <a:off x="6480360" y="1519920"/>
            <a:ext cx="1511280" cy="12970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173520 h 1297080"/>
              <a:gd name="textAreaBottom" fmla="*/ 112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5622200">
            <a:off x="1151640" y="1375200"/>
            <a:ext cx="1511280" cy="12970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173520 h 1297080"/>
              <a:gd name="textAreaBottom" fmla="*/ 112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549360"/>
            <a:ext cx="1511280" cy="503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пражнение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жите, где о кислороде говорится как о химическом элементе, а где – как о простом вещест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кислород мало растворим в в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молекулы воды состоят из двух атомов водорода и одного атома кисл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в воздухе содержится 21% кислорода (по объём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 кислород входит в состав углекислого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План описания физических свойств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В каком агрегатном состоянии – газообразном, жидком или твёрдом – находится вещество при данных услов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акого цвета вещество? Имеет ли оно бл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Имеет ли вещество зап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роявляет ли вещество пластичность, хрупкость, эластич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Растворяется ли вещество в в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Какова температура плавления и температура кипения вещества? (См. справочни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Какова плотность вещества? (См. справочни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Обладает ли вещество тепло- и электропроводностью? (см. справочни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пражнение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ишите физические свойства уксусной кислоты, сахара, соли, меди, алюминия по предложенному пла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С.5 (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2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 учеб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1917720" cy="334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948360" y="155736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948360" y="3284640"/>
            <a:ext cx="1800360" cy="1488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716360" y="5013360"/>
            <a:ext cx="1943280" cy="1450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7020000" y="5229360"/>
            <a:ext cx="1800000" cy="12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760" y="63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pmedi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47840" y="32688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виз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Широко простирает химия руки свои в дела человеческие»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Химия и охрана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879640" cy="1969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2520720" cy="2295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067280" y="4508640"/>
            <a:ext cx="2881080" cy="2151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659640" y="981000"/>
            <a:ext cx="208764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012000" y="3100320"/>
            <a:ext cx="2736720" cy="2043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9280" y="5300640"/>
            <a:ext cx="39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Защитить и сохранить Природу необходим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раграф 1, упр. 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клады, презентации по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стории развити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229120" cy="25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059280" y="4365720"/>
          <a:ext cx="4038480" cy="2192400"/>
        </p:xfrm>
        <a:graphic>
          <a:graphicData uri="http://schemas.openxmlformats.org/drawingml/2006/table">
            <a:tbl>
              <a:tblPr/>
              <a:tblGrid>
                <a:gridCol w="1508040"/>
                <a:gridCol w="253044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ат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стижения на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768348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знакомить 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предметом хим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простыми и сложными веще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свойствами вещ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формами существования химического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43280" y="1773360"/>
            <a:ext cx="4105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507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О.С.Габриелян. «Химия». 8 класс. Учебник. 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Тетрадь для работы в классе и дома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Тетради для контрольных и практических рабо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54440" cy="3735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798640" cy="366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2482920" cy="378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189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Что нужно для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1280" y="198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ехника безопас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Науки о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 Какие науки изучают при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 Что изучает биология; физика; география; астрономия; геоло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 Почему физику вы начали изучать в 7, а химию в 8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15937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68360" y="4508640"/>
            <a:ext cx="140040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24360" y="4508640"/>
            <a:ext cx="2520720" cy="189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32720" y="450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то изучает хим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981000"/>
            <a:ext cx="5112000" cy="2158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ХИМИЯ ИЗУЧ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852640"/>
            <a:ext cx="3673440" cy="1368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8820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933720"/>
            <a:ext cx="3996000" cy="1656000"/>
          </a:xfrm>
          <a:prstGeom prst="ellipse">
            <a:avLst/>
          </a:prstGeom>
          <a:solidFill>
            <a:srgbClr val="5b3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СВОЙСТВА</a:t>
            </a:r>
            <a:br>
              <a:rPr sz="32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5300640"/>
            <a:ext cx="3959280" cy="1368360"/>
          </a:xfrm>
          <a:prstGeom prst="ellipse">
            <a:avLst/>
          </a:prstGeom>
          <a:solidFill>
            <a:srgbClr val="f5fa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ПРЕВРАЩЕНИЯ</a:t>
            </a:r>
            <a:br>
              <a:rPr sz="2800"/>
            </a:b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85880" cy="223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62560" y="2924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Отец химии» Роберт Бойль (1627 - 16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989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Химия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– наука о веществах, их   </a:t>
            </a:r>
            <a:br>
              <a:rPr sz="3200"/>
            </a:b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           свойствах, о превращениях веществ и способах управления этими превращ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711760" cy="408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ещ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653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олек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734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718560" y="317628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718560" y="425736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718560" y="533700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2781360"/>
            <a:ext cx="1295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924280"/>
            <a:ext cx="14436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950080"/>
            <a:ext cx="1008000" cy="288720"/>
          </a:xfrm>
          <a:prstGeom prst="leftArrow">
            <a:avLst>
              <a:gd name="adj1" fmla="val 50000"/>
              <a:gd name="adj2" fmla="val 87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211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Вещество</a:t>
            </a:r>
            <a:r>
              <a:rPr b="0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d6e8b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то то, из чего состоят физические тела</a:t>
            </a:r>
            <a:br>
              <a:rPr sz="3200"/>
            </a:b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Химический элемен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это определенный вид атом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17188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2584440" cy="16491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50920" y="3933720"/>
            <a:ext cx="4038120" cy="2518920"/>
            <a:chOff x="250920" y="3933720"/>
            <a:chExt cx="4038120" cy="2518920"/>
          </a:xfrm>
        </p:grpSpPr>
        <p:cxnSp>
          <p:nvCxnSpPr>
            <p:cNvPr id="93" name="_s6157"/>
            <p:cNvCxnSpPr>
              <a:stCxn id="94" idx="0"/>
              <a:endCxn id="95" idx="2"/>
            </p:cNvCxnSpPr>
            <p:nvPr/>
          </p:nvCxnSpPr>
          <p:spPr>
            <a:xfrm flipV="1" rot="16200000">
              <a:off x="2561040" y="4648680"/>
              <a:ext cx="504360" cy="1087920"/>
            </a:xfrm>
            <a:prstGeom prst="bentConnector3">
              <a:avLst>
                <a:gd name="adj1" fmla="val 260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6155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1473840" y="4649040"/>
              <a:ext cx="504360" cy="1087560"/>
            </a:xfrm>
            <a:prstGeom prst="bentConnector3">
              <a:avLst>
                <a:gd name="adj1" fmla="val 260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6151"/>
            <p:cNvSpPr/>
            <p:nvPr/>
          </p:nvSpPr>
          <p:spPr>
            <a:xfrm>
              <a:off x="1337760" y="3933720"/>
              <a:ext cx="1863720" cy="100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Веществ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2"/>
            <p:cNvSpPr/>
            <p:nvPr/>
          </p:nvSpPr>
          <p:spPr>
            <a:xfrm>
              <a:off x="250920" y="5445000"/>
              <a:ext cx="1863720" cy="100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ро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(углекисл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газ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6154"/>
            <p:cNvSpPr/>
            <p:nvPr/>
          </p:nvSpPr>
          <p:spPr>
            <a:xfrm>
              <a:off x="2425320" y="5445000"/>
              <a:ext cx="1863720" cy="100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0000"/>
                  </a:solidFill>
                  <a:latin typeface="Arial"/>
                </a:rPr>
                <a:t>Синт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0000"/>
                  </a:solidFill>
                  <a:latin typeface="Arial"/>
                </a:rPr>
                <a:t>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0000"/>
                  </a:solidFill>
                  <a:latin typeface="Arial"/>
                </a:rPr>
                <a:t>(полиэтилен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859280" y="3933720"/>
            <a:ext cx="4038120" cy="2187000"/>
            <a:chOff x="4859280" y="3933720"/>
            <a:chExt cx="4038120" cy="2187000"/>
          </a:xfrm>
        </p:grpSpPr>
        <p:cxnSp>
          <p:nvCxnSpPr>
            <p:cNvPr id="99" name="_s6161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7202520" y="4482720"/>
              <a:ext cx="438120" cy="108792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6162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6115320" y="4483080"/>
              <a:ext cx="438120" cy="108756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6163"/>
            <p:cNvSpPr/>
            <p:nvPr/>
          </p:nvSpPr>
          <p:spPr>
            <a:xfrm>
              <a:off x="5946120" y="3933720"/>
              <a:ext cx="1863720" cy="87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Веществ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164"/>
            <p:cNvSpPr/>
            <p:nvPr/>
          </p:nvSpPr>
          <p:spPr>
            <a:xfrm>
              <a:off x="4859280" y="5245920"/>
              <a:ext cx="1863720" cy="87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ост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(водород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кислород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65"/>
            <p:cNvSpPr/>
            <p:nvPr/>
          </p:nvSpPr>
          <p:spPr>
            <a:xfrm>
              <a:off x="7033680" y="5245920"/>
              <a:ext cx="1863720" cy="87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лож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(вода, сахар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24160" y="67608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мотрите модели молекул. В чём между ними сходство и различие? Какое из веществ простое, а какое - сложно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                   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076640"/>
            <a:ext cx="86544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4076640"/>
            <a:ext cx="86544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213000"/>
            <a:ext cx="158436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4221000"/>
            <a:ext cx="86508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4292640"/>
            <a:ext cx="8654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486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оро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3068640"/>
            <a:ext cx="115272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933720"/>
            <a:ext cx="115236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530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Кислород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5229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09:18:05Z</dcterms:created>
  <dc:creator>Алексей</dc:creator>
  <dc:description/>
  <dc:language>en-US</dc:language>
  <cp:lastModifiedBy>Хрипунов</cp:lastModifiedBy>
  <dcterms:modified xsi:type="dcterms:W3CDTF">2010-09-02T02:24:12Z</dcterms:modified>
  <cp:revision>8</cp:revision>
  <dc:subject/>
  <dc:title>Предмет химии. Вещества.</dc:title>
</cp:coreProperties>
</file>