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BC4-B439-4A5A-96B6-8717F075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2B7-4F2E-4F2D-B9B7-5CCECC27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1E4-3097-4FAE-9916-D950BC71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619-4F42-4707-B702-ED4AF22B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E498-509C-47ED-9A13-E5816A71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74EC-116B-4520-9C30-6B9B3740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C144-F137-4F5C-B6CD-6BC6703C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52B1-2B72-4A12-8E6F-C489561F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64E9-D98E-46FF-AC41-7E9B503D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E4BA-6F03-4669-AECE-6685DD89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59E5-D629-4984-8DED-CE3EEC0D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52D-B4FB-41C4-862E-C983FDCE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0673-7087-453C-86E1-30CBD518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9C0C-D62B-427A-9BE7-C78F38EF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8A2D-927A-409D-9313-35F04907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2631-4A7E-4EBF-9595-CEEE6B22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11AC-EE04-4400-822C-72028ECC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200-8D4C-47F7-9270-191D1143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E5F-35B5-4375-B556-5D734C1C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98E-544A-436D-A106-4615A278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4AF-905B-4645-A688-6145BD72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04F-77D2-4494-A038-10D619DE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CA3-88D6-40D5-A58F-A9F28D87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B0B-07EE-4928-9F2E-783423D0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2CA0-BEF8-4EB2-97F6-2D0BCFDDDE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F374-3DBA-4F57-B54D-5F2ADC3133B6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696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Times New Roman"/>
              </a:rPr>
              <a:t>МИНИСТЕРСТВО ОБРАЗОВАНИЯ И НАУКИ РФ</a:t>
            </a:r>
            <a:br>
              <a:rPr sz="1400"/>
            </a:br>
            <a:r>
              <a:rPr b="1" lang="ru-RU" sz="1400" spc="-1" strike="noStrike">
                <a:solidFill>
                  <a:srgbClr val="2f1311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. </a:t>
            </a:r>
            <a:br>
              <a:rPr sz="1400"/>
            </a:br>
            <a:r>
              <a:rPr b="1" lang="ru-RU" sz="1400" spc="-1" strike="noStrike">
                <a:solidFill>
                  <a:srgbClr val="2f1311"/>
                </a:solidFill>
                <a:latin typeface="Times New Roman"/>
              </a:rPr>
              <a:t>«ПЕНЗЕНСКИЙ ГОСУДАРСТВЕННЫЙ УНИВЕРСИТЕТ»</a:t>
            </a:r>
            <a:br>
              <a:rPr sz="1400"/>
            </a:br>
            <a:r>
              <a:rPr b="1" lang="ru-RU" sz="1400" spc="-1" strike="noStrike">
                <a:solidFill>
                  <a:srgbClr val="2f1311"/>
                </a:solidFill>
                <a:latin typeface="Times New Roman"/>
              </a:rPr>
              <a:t>Пензенский государственный педагогический институт им В.Г. Белинского</a:t>
            </a:r>
            <a:br>
              <a:rPr sz="1400"/>
            </a:b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71280" y="2276640"/>
            <a:ext cx="6337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ПРОЕК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«Артикуляционные сказки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Times New Roman"/>
              </a:rPr>
              <a:t>Выполнила: Кляйн В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есто проведения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БДОУ № 123 г.Пензы «Семицветик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.Пенза ул.Суворова д.13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уководитель: Потанина Е.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спитатель: Кляйн В.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Логопед: Чебанюк И.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ктуальность проекта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Чтобы ребёнок научился произносить сложные звуки, его губы и язык должны быть сильными и гибкими, долго удерживать необходимое положение, без труда совершать многократные переходы от одного движения к другому. Всему этому способствует </a:t>
            </a:r>
            <a:r>
              <a:rPr b="1" i="1" lang="ru-RU" sz="2000" spc="-1" strike="noStrike">
                <a:solidFill>
                  <a:srgbClr val="2f1311"/>
                </a:solidFill>
                <a:latin typeface="Times New Roman"/>
              </a:rPr>
              <a:t>артикуляционная гимнастика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. Благодаря регулярным занятиям такой гимнастикой и упражнениям по развитию речевого слуха дети с правильным, но вялым звукопроизношением постепенно избавляются от этого дефекта; дети со сложными нарушениями звукопроизношения быстрее преодолевают речевые дефекты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Проект «Артикуляционные сказки» призван вызвать интерес младших дошкольников  к занятиям по развитию речи и речевому общению, и подготовить артикуляционный аппарат детей к проведению занятий по постановке, автоматизации и дифференциации звуков,  познакомить родителей с артикуляционной гимнастикой и правилами её проведени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проекта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Times New Roman"/>
              </a:rPr>
              <a:t>Профилактика нарушений звукопроизношения у детей старшего дошкольного возраста посредством проведения специальных артикуляционных логопедических сказок и упражнений направленных на укрепление и развитие мышц артикуляционного аппара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 проекта: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MingLiU_HKSCS-ExtB"/>
              </a:rPr>
              <a:t>1.Развитие  мышц речевого аппарат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MingLiU_HKSCS-ExtB"/>
              </a:rPr>
              <a:t>2.Формирование артикуляционных укладов, необходимых для постановки зву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MingLiU_HKSCS-ExtB"/>
              </a:rPr>
              <a:t>3.Создание положительного эмоционального настроя у детей и желания заниматься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MingLiU_HKSCS-ExtB"/>
              </a:rPr>
              <a:t>4.Повысить уровень знаний об артикуляционной гимнастике среди родителей;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MingLiU_HKSCS-ExtB"/>
              </a:rPr>
              <a:t>5.Создание сборника артикуляционных сказок для занятий с детьми младшего дошкольного возрас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Продолжительность: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 2 недели (16.01.2017-27.01.2017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Практическое применение проекта:  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для педагогов, учителей – логопедов,  родител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Times New Roman"/>
              </a:rPr>
              <a:t>Участники проекта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: дети младшего дошкольного возраста, родители, учитель-логопе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ланируемый результат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Times New Roman"/>
              </a:rPr>
              <a:t>Регулярное выполнение артикуляционной гимнастики поможет: улучшить кровоснабжение артикуляторных органов, укрепить мышечную систему языка, губ, щек, научить ребенка удерживать определенную артикуляторную позу, увеличить амплитуду движений, уменьшить напряженность органов артикуляции. Родители получат знания о артикуляционной гимнастик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1.Подготовительны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пределение целей и задач проектной деятель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ставление плана основного этап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общение в рамках родительского собрания «Фонетико-фонематическое недоразвитие речи – определение, признаки, причины возникновения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накомство со строением органов речи посредством логопедической сказ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2. Основно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ведение серий индивидуальных и  – подгрупповых занятий по ознакомлению с органами речевого аппарата и их значении в развитии правильной реч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накомство детей со сказками с элементами артикуляционной гимнастики (артикуляционными сказками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ведение родительского собрания с участием логопеда: «Почему ребенок молчит?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онсультация для родителей «Значение пальчиковых игр для развития речи детей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ционные буклеты «Артикуляционная гимнастика и развитие мелкой моторики у детей раннего возраст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формление информационного стенда для родителей «Развиваем речь ребенка дома»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3. Заключительны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ление картотеки артикуляционных сказо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ктическое занятие для воспитателей «Методика выполнения артикуляционных упражнений» в рамках семинара-практикума по здоровьесберегающим технологиям (педсовет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02:20:26Z</dcterms:created>
  <dc:creator>Валентина</dc:creator>
  <dc:description/>
  <dc:language>en-US</dc:language>
  <cp:lastModifiedBy>Виктория Кляйн</cp:lastModifiedBy>
  <dcterms:modified xsi:type="dcterms:W3CDTF">2019-06-01T13:41:32Z</dcterms:modified>
  <cp:revision>3</cp:revision>
  <dc:subject/>
  <dc:title>МИНИСТЕРСТВО ОБРАЗОВАНИЯ И НАУКИ РФ Федеральное государственное бюджетное образовательное учреждение высшего образования.  «ПЕНЗЕНСКИЙ ГОСУДАРСТВЕННЫЙ УНИВЕРСИТЕТ» Пензенский государственный педагогический институт им В.Г. Белинского</dc:title>
</cp:coreProperties>
</file>