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4A4-7EC6-45AC-9E62-4888ECB1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2A9-55AC-450E-B112-7362A30C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710-2A41-415A-8D16-CBC0FAF9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BC4-3FF9-46BB-B7FB-00AEA495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2123-345E-47EF-ABB4-FCA7C2F5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FF2F-926B-440B-A6AD-D01E125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8A8C-1959-4048-B5EF-C7083D56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EBBB-FE8D-407C-9F8F-2A45052D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E38-3B5E-467B-AE41-E8C25CD8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A88E-7764-4D2A-A7FB-2CA930A0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4BB-D536-4558-9E39-6B3EC25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D3A-56E0-48B3-AAE6-082DBE4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D64D-80F8-46FB-8EFE-35E3334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D21-84DA-48F7-AD4E-D651901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2B8F-2957-4D05-9372-92C66907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71AA-DEF6-4B34-8CBE-95DFEC2F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BED-1471-4D87-9D50-C703CF22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C70-6AA2-4CFB-A7D2-6205DEAA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339-5F45-4658-8329-78A52A50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40D-704C-40B7-9F4D-8BAFE52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FCF-1E96-44E1-8863-02CB566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226-9D43-4C9D-9BE2-CE4D89C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A2A-C5BD-4E9E-992E-7F3B439E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463-44EF-4D51-A3B3-144C574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779B-2879-40B7-99C8-A303E955B2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C54-FAEA-42B9-A4D7-101ECF61251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МИНИСТЕРСТВО ОБРАЗОВАНИЯ И НАУКИ РФ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. 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«ПЕНЗЕНСКИЙ ГОСУДАРСТВЕННЫЙ УНИВЕРСИТЕТ»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Пензенский государственный педагогический институт им В.Г. Белинского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2276640"/>
            <a:ext cx="633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«Артикуляционные сказк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</a:rPr>
              <a:t>Выполнила: Кляйн В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сто проведен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БДОУ № 123 г.Пензы «Семицвет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.Пенза ул.Суворова д.13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уководитель: Потанина Е.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ь: Кляйн В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огопед: Чебанюк И.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Чтобы ребёнок научился произносить сложные звуки, его губы и язык должны быть сильными и гибкими, долго удерживать необходимое положение, без труда совершать многократные переходы от одного движения к другому. Всему этому способствует </a:t>
            </a:r>
            <a:r>
              <a:rPr b="1" i="1" lang="ru-RU" sz="2000" spc="-1" strike="noStrike">
                <a:solidFill>
                  <a:srgbClr val="2f1311"/>
                </a:solidFill>
                <a:latin typeface="Times New Roman"/>
              </a:rPr>
              <a:t>артикуляционная гимнастика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. Благодаря регулярным занятиям такой гимнастикой и упражнениям по развитию речевого слуха дети с правильным, но вялым звукопроизношением постепенно избавляются от этого дефекта; дети со сложными нарушениями звукопроизношения быстрее преодолевают речевые дефект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Проект «Артикуляционные сказки» призван вызвать интерес младших дошкольников  к занятиям по развитию речи и речевому общению, и подготовить артикуляционный аппарат детей к проведению занятий по постановке, автоматизации и дифференциации звуков,  познакомить родителей с артикуляционной гимнастикой и правилами её проведени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Times New Roman"/>
              </a:rPr>
              <a:t>Профилактика нарушений звукопроизношения у детей старшего дошкольного возраста посредством проведения специальных артикуляционных логопедических сказок и упражнений направленных на укрепление и развитие мышц артикуляционного аппара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1.Развитие  мышц речевого аппарат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2.Формирование артикуляционных укладов, необходимых для постановки зву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3.Создание положительного эмоционального настроя у детей и желания заниматьс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4.Повысить уровень знаний об артикуляционной гимнастике среди родителей;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5.Создание сборника артикуляционных сказок для занятий с детьми младшего дошкольного возрас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родолжительность: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 2 недели (16.01.2017-27.01.2017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рактическое применение проекта: 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для педагогов, учителей – логопедов,  родител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Участники проекта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: дети младшего дошкольного возраста, родители, учитель-логопе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иру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Регулярное выполнение артикуляционной гимнастики поможет: улучшить кровоснабжение артикуляторных органов, укрепить мышечную систему языка, губ, щек, научить ребенка удерживать определенную артикуляторную позу, увеличить амплитуду движений, уменьшить напряженность органов артикуляции. Родители получат знания о артикуляционной гимнастик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1.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ределение целей и задач проектной дея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ставление плана основного этап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общение в рамках родительского собрания «Фонетико-фонематическое недоразвитие речи – определение, признаки, причины возникновения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ство со строением органов речи посредством логопедической ска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2. 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ведение серий индивидуальных и  – подгрупповых занятий по ознакомлению с органами речевого аппарата и их значении в развитии правильной реч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накомство детей со сказками с элементами артикуляционной гимнастики (артикуляционными сказкам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ведение родительского собрания с участием логопеда: «Почему ребенок молчит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онсультация для родителей «Значение пальчиковых игр для развития речи детей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ционные буклеты «Артикуляционная гимнастика и развитие мелкой моторики у детей раннего возраст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формление информационного стенда для родителей «Развиваем речь ребенка дома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3. Заключ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ление картотеки артикуляционных сказо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ктическое занятие для воспитателей «Методика выполнения артикуляционных упражнений» в рамках семинара-практикума по здоровьесберегающим технологиям (педсовет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2:20:26Z</dcterms:created>
  <dc:creator>Валентина</dc:creator>
  <dc:description/>
  <dc:language>en-US</dc:language>
  <cp:lastModifiedBy>Виктория Кляйн</cp:lastModifiedBy>
  <dcterms:modified xsi:type="dcterms:W3CDTF">2019-06-01T13:41:32Z</dcterms:modified>
  <cp:revision>3</cp:revision>
  <dc:subject/>
  <dc:title>МИНИСТЕРСТВО ОБРАЗОВАНИЯ И НАУКИ РФ Федеральное государственное бюджетное образовательное учреждение высшего образования.  «ПЕНЗЕНСКИЙ ГОСУДАРСТВЕННЫЙ УНИВЕРСИТЕТ» Пензенский государственный педагогический институт им В.Г. Белинского</dc:title>
</cp:coreProperties>
</file>