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9.gif" ContentType="image/gif"/>
  <Override PartName="/ppt/media/image7.png" ContentType="image/png"/>
  <Override PartName="/ppt/media/image16.gif" ContentType="image/gif"/>
  <Override PartName="/ppt/media/image17.png" ContentType="image/png"/>
  <Override PartName="/ppt/media/image14.gif" ContentType="image/gif"/>
  <Override PartName="/ppt/media/image13.gif" ContentType="image/gif"/>
  <Override PartName="/ppt/media/chimes.wav" ContentType="audio/x-wav"/>
  <Override PartName="/ppt/media/image8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applause.wav" ContentType="audio/x-wav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4E0-4CFE-46BA-AE1F-C93D4B8BC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8A62-E19A-4DB2-8A8C-17E3F9410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791E-334E-4C29-BEAB-187E49963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6D7-3697-4DB9-8E6C-D094A89A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6FE-E251-4049-8584-5E5A7F80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701-3613-4DBD-BFFB-92A69B5C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082-15F1-4CB9-ABEB-FF7B7D9F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84E4-A600-4E0D-B96C-43AA78E1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1449-B93E-4810-ABCB-6386D992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E055-8CD0-4623-8A0A-0E3D66BB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73E1-0008-4E2F-9F63-F38AF1F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5459-3644-4D48-AB58-6D891A03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72F3-11A4-49E8-9929-4B05BA46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9149-D815-4D97-A2F1-AF3B1986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A1D-7BEF-4D07-AA5E-0902D256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7F1-8EB2-47A0-B971-2C5F5E01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105-C9BC-4640-94A7-1C4CBC89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CF82-DED9-49F4-B735-D8E70B42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54F-2580-47F7-B412-FE9B5AED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C5C1-B92B-4266-8588-D2124894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7068-5D36-4664-9520-355919CF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5AD9-F46B-4D06-8A7D-BB3EC731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7537-7DA8-4EBB-B5C8-EF04D464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280B-1E7B-4863-A4CB-E063592F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BFCD-A420-4CD3-A85E-2E260790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2028-9EA9-4550-86A3-9808B03A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29B1-FCA1-4594-8509-372F1809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28B7-F37E-42E8-835F-FD07A2A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44DF-1677-4FC1-B7CA-785607D1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2669-B45B-4218-8F32-3A1A85E8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8A67-4079-4175-9FA9-C72F2D0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2B64-B30D-4709-8AF7-2F867557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51C4-D5F5-4F2E-A870-58FDDAEB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1D9A-438B-41A7-B780-D6E43E02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C7C9-911C-4DFA-BE58-8084105F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686D-38A9-4EF8-8BEB-D6BE75A1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A59-0D82-477F-9363-880C8C8F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0AE7-87C4-4EC7-AE67-757F89A2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5469-D6D5-42CB-A201-2AB5E08F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1A92-8790-457C-9328-BD3C5496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8F98-837C-4B31-8A08-4BABDEC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6012C-8ED0-4D2F-B4FE-1E7A94A3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0723-D2AE-4C33-AFF2-8ECF950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07DE-FFAA-4362-8411-6BDC1C4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0901-95D1-40BA-827C-51B251BD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3D69-0B5A-4DA2-A3A7-BFCDF5F5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09C1F-F47F-4E06-AB78-D77FA208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97F-795B-4E6D-86CB-0BF298A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EF7E-9926-432B-91C8-CD97917C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87979-C50A-4198-98D3-1A45C616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F26F-5265-4E3B-9D74-F674D3A4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634E-2097-48E6-A505-AE0DF79F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832B-5587-4F75-B049-2AF51B0E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E704-4453-4FF5-8FB2-39F9F67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0752-7747-4CFF-9F4C-DD72ADF3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53CDF-E846-4BF1-A8FF-D00F613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C8D46-E63D-4964-8DC5-DD013C3E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B5AA-22CD-4695-A1D7-E161CDF0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A72-2AF0-46DA-B29E-725EE0F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4AD6-0BD6-49A6-9DA7-B1495F51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F3A0-5433-41E6-AD2F-BBAF841F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9E15-D5D1-417F-B345-046DB19F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1B7B-5117-4951-8285-3E137C6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4EBD3-2B19-454E-AF6F-FD093A7F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F211-0036-4D9D-BAB0-A2EB441D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1BFF7-A93B-44BC-8781-45D80B64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C270-64EB-42A8-8034-E61D278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661F-8646-4DC3-9194-2D765C0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1B30D-844D-451A-B7D3-6D943D6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24C-A03C-4E1C-9687-2B3E95B3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2FCA-2158-420B-905A-42FAA78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85C6-08C3-48F8-8F13-5176D6DA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F401-94CD-46F4-807C-48367E69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9656-809A-4498-A012-B69CB807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8BC8-4B08-49D2-9AE0-84107407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494BC-F21A-4B39-9442-8929A607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3808-E7E4-4ED7-BFBF-FBB112AE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3704-329A-4513-8EA9-39868AB8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FC317-7362-442E-A77C-EE07074E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2BF2-3E4C-4B44-8F73-E2B6D21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99F-8779-4D8C-AD69-32BCC225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C163-7035-44AC-8EF6-9E11F08E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2FA0-7919-4572-86BF-3A4CEFA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41829-EA1E-41E1-826D-4A64563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58A85-B9B3-4FEC-A21A-51E96A00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9AE88-6340-41ED-956F-8C20828A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18802-8F60-474B-9225-4652CA1B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CD0D3-ABC0-4D7D-9200-597CFDA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5114D-EC32-4782-A7A2-2E291D9D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D8F9-578B-4096-A7A0-05E324A8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0358A-184D-42EC-8BD7-94747CA2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48E-7B17-4FF3-8538-15D09D5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A1C61-CDA5-4B04-B91B-DFECEBD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BB99-1BEA-4B8B-B0DF-372945E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DC3A7-2602-4FA7-BD7A-FDB4CF4C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B5365-7DCA-47A4-8F00-55F8BBB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EC90-AE73-49DE-8AAF-833E228E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AF54C-F525-49EF-8664-E323A150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EE400-E39A-4F55-8383-6EF1C5B0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AF9B-B4B5-47BB-8635-DBA2A924B8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FE5-E43A-40B2-87E3-066FBE38BC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F108-6EBC-414D-93C1-986F51389E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4D4-3076-4EC0-B0CE-83E68A5794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157F-46A3-448C-A393-6F0B693E39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260-7311-4EB2-A953-FF9419ED33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98B6-C8B0-475A-8C68-FC1B332E67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E23D-ED8E-4B0D-89E7-B0E402CBF8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5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6.gif"/><Relationship Id="rId6" Type="http://schemas.openxmlformats.org/officeDocument/2006/relationships/image" Target="../media/image9.gif"/><Relationship Id="rId7" Type="http://schemas.openxmlformats.org/officeDocument/2006/relationships/image" Target="../media/image17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4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31.xm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706400" y="1646280"/>
            <a:ext cx="7334280" cy="3432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571760" y="46429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2975760" y="5072040"/>
            <a:ext cx="53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р: учитель математики ГБОУ лицея №39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ушкина Ирина Михайл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4BF6-25CC-463C-9FD4-8A2C0A87D847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D40F-C080-45E3-8C95-A06A0FD3102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Box 3"/>
          <p:cNvSpPr/>
          <p:nvPr/>
        </p:nvSpPr>
        <p:spPr>
          <a:xfrm>
            <a:off x="6143760" y="142920"/>
            <a:ext cx="2786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7500960" y="92880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Прямоугольник 11">
            <a:hlinkClick r:id="rId1" action="ppaction://hlinksldjump"/>
          </p:cNvPr>
          <p:cNvSpPr/>
          <p:nvPr/>
        </p:nvSpPr>
        <p:spPr>
          <a:xfrm>
            <a:off x="3071880" y="4357800"/>
            <a:ext cx="5786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гда равны их действительные части и коэффициенты при мнимых частях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1"/>
          <p:cNvSpPr/>
          <p:nvPr/>
        </p:nvSpPr>
        <p:spPr>
          <a:xfrm>
            <a:off x="500040" y="20070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сных числа равны тогда и только тогда, когда …(продолжите фразу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2"/>
          <p:cNvSpPr txBox="1"/>
          <p:nvPr/>
        </p:nvSpPr>
        <p:spPr>
          <a:xfrm>
            <a:off x="611280" y="765000"/>
            <a:ext cx="792000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9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м достаетс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от в мешке"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0" name="Picture 3" descr="j041076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411280" y="1916280"/>
            <a:ext cx="4089600" cy="303048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4">
            <a:hlinkClick r:id="" action="ppaction://hlinkshowjump?jump=nextslide"/>
          </p:cNvPr>
          <p:cNvSpPr/>
          <p:nvPr/>
        </p:nvSpPr>
        <p:spPr>
          <a:xfrm>
            <a:off x="8028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4">
            <a:hlinkClick r:id="rId1" action="ppaction://hlinksldjump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3500280" y="407196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Прямоугольник 6"/>
          <p:cNvSpPr/>
          <p:nvPr/>
        </p:nvSpPr>
        <p:spPr>
          <a:xfrm>
            <a:off x="3000240" y="142920"/>
            <a:ext cx="58579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Box 10"/>
          <p:cNvSpPr/>
          <p:nvPr/>
        </p:nvSpPr>
        <p:spPr>
          <a:xfrm>
            <a:off x="7572240" y="71424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Box 7"/>
          <p:cNvSpPr/>
          <p:nvPr/>
        </p:nvSpPr>
        <p:spPr>
          <a:xfrm>
            <a:off x="833040" y="1785960"/>
            <a:ext cx="5211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Вычислить </a:t>
            </a:r>
            <a:r>
              <a:rPr b="0" i="1" lang="ru-RU" sz="4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 + </a:t>
            </a:r>
            <a:r>
              <a:rPr b="0" i="1" lang="ru-RU" sz="4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5">
            <a:hlinkClick r:id="rId1" action="ppaction://hlinksldjump"/>
          </p:cNvPr>
          <p:cNvSpPr/>
          <p:nvPr/>
        </p:nvSpPr>
        <p:spPr>
          <a:xfrm>
            <a:off x="7812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4500720" y="393084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твет: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+2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Прямоугольник 7"/>
          <p:cNvSpPr/>
          <p:nvPr/>
        </p:nvSpPr>
        <p:spPr>
          <a:xfrm>
            <a:off x="2786040" y="357120"/>
            <a:ext cx="59292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7358040" y="8571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500040" y="2000160"/>
            <a:ext cx="84297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йти произведение комплексных чисел 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 = 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i 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 z</a:t>
            </a:r>
            <a:r>
              <a:rPr b="0" i="1" lang="ru-RU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 = 2 – i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4"/>
          <p:cNvSpPr/>
          <p:nvPr/>
        </p:nvSpPr>
        <p:spPr>
          <a:xfrm>
            <a:off x="7596360" y="5950080"/>
            <a:ext cx="863280" cy="574560"/>
          </a:xfrm>
          <a:custGeom>
            <a:avLst/>
            <a:gdLst>
              <a:gd name="textAreaLeft" fmla="*/ 37080 w 863280"/>
              <a:gd name="textAreaRight" fmla="*/ 826200 w 8632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47" h="21600">
                <a:moveTo>
                  <a:pt x="0" y="0"/>
                </a:moveTo>
                <a:lnTo>
                  <a:pt x="32447" y="0"/>
                </a:lnTo>
                <a:lnTo>
                  <a:pt x="32447" y="21600"/>
                </a:lnTo>
                <a:lnTo>
                  <a:pt x="0" y="21600"/>
                </a:lnTo>
                <a:close/>
              </a:path>
              <a:path fill="lightenLess" w="32447" h="21600">
                <a:moveTo>
                  <a:pt x="0" y="0"/>
                </a:moveTo>
                <a:lnTo>
                  <a:pt x="32447" y="0"/>
                </a:lnTo>
                <a:lnTo>
                  <a:pt x="31047" y="1400"/>
                </a:lnTo>
                <a:lnTo>
                  <a:pt x="1400" y="1400"/>
                </a:lnTo>
                <a:close/>
              </a:path>
              <a:path fill="darken" w="32447" h="21600">
                <a:moveTo>
                  <a:pt x="32447" y="0"/>
                </a:moveTo>
                <a:lnTo>
                  <a:pt x="32447" y="21600"/>
                </a:lnTo>
                <a:lnTo>
                  <a:pt x="31047" y="20200"/>
                </a:lnTo>
                <a:lnTo>
                  <a:pt x="31047" y="1400"/>
                </a:lnTo>
                <a:close/>
              </a:path>
              <a:path fill="darkenLess" w="32447" h="21600">
                <a:moveTo>
                  <a:pt x="32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7" y="20200"/>
                </a:lnTo>
                <a:close/>
              </a:path>
              <a:path fill="lighten" w="32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7" h="21600">
                <a:moveTo>
                  <a:pt x="9217" y="3794"/>
                </a:moveTo>
                <a:lnTo>
                  <a:pt x="23230" y="10800"/>
                </a:lnTo>
                <a:lnTo>
                  <a:pt x="9217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071960" y="3980880"/>
            <a:ext cx="29289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Прямоугольник 5"/>
          <p:cNvSpPr/>
          <p:nvPr/>
        </p:nvSpPr>
        <p:spPr>
          <a:xfrm>
            <a:off x="2928960" y="142920"/>
            <a:ext cx="5500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7215120" y="71424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785880" y="1857240"/>
            <a:ext cx="7858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числить частное комплексных чисел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 =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 + 1 и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 = 1 – 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i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4"/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4429080" y="407196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2+3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5"/>
          <p:cNvSpPr/>
          <p:nvPr/>
        </p:nvSpPr>
        <p:spPr>
          <a:xfrm>
            <a:off x="3143160" y="142920"/>
            <a:ext cx="53578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7286760" y="6429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1024200" y="1928880"/>
            <a:ext cx="63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ычислить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2 – 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 – 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3 – 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4"/>
          <p:cNvSpPr/>
          <p:nvPr/>
        </p:nvSpPr>
        <p:spPr>
          <a:xfrm>
            <a:off x="7812000" y="6237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25033" y="10800"/>
                </a:lnTo>
                <a:lnTo>
                  <a:pt x="11021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5214960" y="4572000"/>
            <a:ext cx="328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5"/>
          <p:cNvSpPr/>
          <p:nvPr/>
        </p:nvSpPr>
        <p:spPr>
          <a:xfrm>
            <a:off x="2500200" y="142920"/>
            <a:ext cx="57150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ействия с комплексными числ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7358040" y="7142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428760" y="20761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 каком значении параметра 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уравнение имеет бесконечно много корней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– 1)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 1)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= 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– 1)(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+ 2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4"/>
          <p:cNvSpPr/>
          <p:nvPr/>
        </p:nvSpPr>
        <p:spPr>
          <a:xfrm>
            <a:off x="77407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929120" y="47862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189680" y="26280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14200" y="142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7500960" y="78588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Прямоугольник 12"/>
          <p:cNvSpPr/>
          <p:nvPr/>
        </p:nvSpPr>
        <p:spPr>
          <a:xfrm>
            <a:off x="4143240" y="457200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ротивополож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709560" y="2071800"/>
            <a:ext cx="82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называются эти числа (-2+3i) и (2-3i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4"/>
          <p:cNvSpPr/>
          <p:nvPr/>
        </p:nvSpPr>
        <p:spPr>
          <a:xfrm>
            <a:off x="7596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5500800" y="41443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Z= -8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89400" y="35712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7000920" y="4287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520200" y="1857240"/>
            <a:ext cx="82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число является сопряженным для Z=8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AutoShape 4"/>
          <p:cNvSpPr/>
          <p:nvPr/>
        </p:nvSpPr>
        <p:spPr>
          <a:xfrm>
            <a:off x="759636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214800" y="48592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Calibri"/>
              </a:rPr>
              <a:t>да, комплекс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03560" y="28584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7215120" y="35712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198360" y="1857240"/>
            <a:ext cx="80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ешении квадратного уравнения мы получили отрицательный дискриминант. Существуют ли корни такого уравнения (да или нет) и какие они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395280" y="1557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На 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вопрос – аукцион»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о ответа имеет та команда, которая назначит большую сумму, если на счету игроков сумма, меньшая чем стоимость вопроса, то они могут предложить только номинал (стоимость вопроса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тавка вопроса 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кот в мешке» удваивае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Прямоугольник 2" descr=""/>
          <p:cNvPicPr/>
          <p:nvPr/>
        </p:nvPicPr>
        <p:blipFill>
          <a:blip r:embed="rId1"/>
          <a:stretch/>
        </p:blipFill>
        <p:spPr>
          <a:xfrm>
            <a:off x="324000" y="396720"/>
            <a:ext cx="8350200" cy="36147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j030469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643280" y="2565360"/>
            <a:ext cx="3961080" cy="39448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j0304691"/>
          <p:cNvPicPr/>
          <p:nvPr/>
        </p:nvPicPr>
        <p:blipFill>
          <a:blip r:embed="rId3"/>
          <a:stretch/>
        </p:blipFill>
        <p:spPr>
          <a:xfrm>
            <a:off x="4716360" y="2637000"/>
            <a:ext cx="3816360" cy="380196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6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4"/>
          <p:cNvSpPr/>
          <p:nvPr/>
        </p:nvSpPr>
        <p:spPr>
          <a:xfrm>
            <a:off x="738036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3794"/>
                </a:moveTo>
                <a:lnTo>
                  <a:pt x="21845" y="10800"/>
                </a:lnTo>
                <a:lnTo>
                  <a:pt x="783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071960" y="52880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Прямоугольник 5"/>
          <p:cNvSpPr/>
          <p:nvPr/>
        </p:nvSpPr>
        <p:spPr>
          <a:xfrm>
            <a:off x="403560" y="35712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7358040" y="3571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500040" y="1357200"/>
            <a:ext cx="8286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решении квадратного уравнения мы получили отрицательный дискриминант. Может ли один корень такого уравнения быть действительным, а другой комплекс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5"/>
          <p:cNvSpPr/>
          <p:nvPr/>
        </p:nvSpPr>
        <p:spPr>
          <a:xfrm>
            <a:off x="7885080" y="609300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3794"/>
                </a:moveTo>
                <a:lnTo>
                  <a:pt x="22394" y="10800"/>
                </a:lnTo>
                <a:lnTo>
                  <a:pt x="8381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4643280" y="464472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Прямоугольник 7"/>
          <p:cNvSpPr/>
          <p:nvPr/>
        </p:nvSpPr>
        <p:spPr>
          <a:xfrm>
            <a:off x="403560" y="142920"/>
            <a:ext cx="3734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Tahoma"/>
                <a:ea typeface="Tahoma"/>
              </a:rPr>
              <a:t>Применение зн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7143840" y="3571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1071720" y="200016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ются ли числа -2+3i и 2 -3i сопряженными (да или нет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5"/>
          <p:cNvSpPr/>
          <p:nvPr/>
        </p:nvSpPr>
        <p:spPr>
          <a:xfrm>
            <a:off x="7885080" y="616572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3794"/>
                </a:moveTo>
                <a:lnTo>
                  <a:pt x="19335" y="10800"/>
                </a:lnTo>
                <a:lnTo>
                  <a:pt x="5322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3500280" y="414468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ффик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Прямоугольник 8"/>
          <p:cNvSpPr/>
          <p:nvPr/>
        </p:nvSpPr>
        <p:spPr>
          <a:xfrm>
            <a:off x="3357720" y="142920"/>
            <a:ext cx="55720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Box 9"/>
          <p:cNvSpPr/>
          <p:nvPr/>
        </p:nvSpPr>
        <p:spPr>
          <a:xfrm>
            <a:off x="7500960" y="8571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357120" y="293220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называется точка, соответствующая комплексному числу?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5"/>
          <p:cNvSpPr/>
          <p:nvPr/>
        </p:nvSpPr>
        <p:spPr>
          <a:xfrm>
            <a:off x="774072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42960" y="471924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ь OX - действительна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OY - мним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Прямоугольник 7"/>
          <p:cNvSpPr/>
          <p:nvPr/>
        </p:nvSpPr>
        <p:spPr>
          <a:xfrm>
            <a:off x="2108160" y="428760"/>
            <a:ext cx="5854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7572240" y="857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9"/>
          <p:cNvSpPr/>
          <p:nvPr/>
        </p:nvSpPr>
        <p:spPr>
          <a:xfrm>
            <a:off x="714240" y="221472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к называются оси координат, OX и OY для комплексных чисел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5"/>
          <p:cNvSpPr/>
          <p:nvPr/>
        </p:nvSpPr>
        <p:spPr>
          <a:xfrm>
            <a:off x="7885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143160" y="393048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то мним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643120" y="285840"/>
            <a:ext cx="49291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Box 8"/>
          <p:cNvSpPr/>
          <p:nvPr/>
        </p:nvSpPr>
        <p:spPr>
          <a:xfrm>
            <a:off x="7500960" y="1429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Прямоугольник 9"/>
          <p:cNvSpPr/>
          <p:nvPr/>
        </p:nvSpPr>
        <p:spPr>
          <a:xfrm>
            <a:off x="1214280" y="2357280"/>
            <a:ext cx="657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ие числа изображаются точками на мнимой ос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5"/>
          <p:cNvSpPr/>
          <p:nvPr/>
        </p:nvSpPr>
        <p:spPr>
          <a:xfrm>
            <a:off x="774072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3794"/>
                </a:moveTo>
                <a:lnTo>
                  <a:pt x="19374" y="10800"/>
                </a:lnTo>
                <a:lnTo>
                  <a:pt x="5361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500040" y="443412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изображаются точками, симметричными относительно оси OX, так как это сопряженные чис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Прямоугольник 7"/>
          <p:cNvSpPr/>
          <p:nvPr/>
        </p:nvSpPr>
        <p:spPr>
          <a:xfrm>
            <a:off x="2535120" y="142920"/>
            <a:ext cx="65008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7572240" y="71424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785880" y="185724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оскости изображены числа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2i и 5-2i . Какова особенность их взаиморасположени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5"/>
          <p:cNvSpPr/>
          <p:nvPr/>
        </p:nvSpPr>
        <p:spPr>
          <a:xfrm>
            <a:off x="7956720" y="5805360"/>
            <a:ext cx="826920" cy="503280"/>
          </a:xfrm>
          <a:custGeom>
            <a:avLst/>
            <a:gdLst>
              <a:gd name="textAreaLeft" fmla="*/ 32400 w 826920"/>
              <a:gd name="textAreaRight" fmla="*/ 794520 w 826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5480" h="21600">
                <a:moveTo>
                  <a:pt x="0" y="0"/>
                </a:moveTo>
                <a:lnTo>
                  <a:pt x="35480" y="0"/>
                </a:lnTo>
                <a:lnTo>
                  <a:pt x="35480" y="21600"/>
                </a:lnTo>
                <a:lnTo>
                  <a:pt x="0" y="21600"/>
                </a:lnTo>
                <a:close/>
              </a:path>
              <a:path fill="lightenLess" w="35480" h="21600">
                <a:moveTo>
                  <a:pt x="0" y="0"/>
                </a:moveTo>
                <a:lnTo>
                  <a:pt x="35480" y="0"/>
                </a:lnTo>
                <a:lnTo>
                  <a:pt x="34080" y="1400"/>
                </a:lnTo>
                <a:lnTo>
                  <a:pt x="1400" y="1400"/>
                </a:lnTo>
                <a:close/>
              </a:path>
              <a:path fill="darken" w="35480" h="21600">
                <a:moveTo>
                  <a:pt x="35480" y="0"/>
                </a:moveTo>
                <a:lnTo>
                  <a:pt x="35480" y="21600"/>
                </a:lnTo>
                <a:lnTo>
                  <a:pt x="34080" y="20200"/>
                </a:lnTo>
                <a:lnTo>
                  <a:pt x="34080" y="1400"/>
                </a:lnTo>
                <a:close/>
              </a:path>
              <a:path fill="darkenLess" w="35480" h="21600">
                <a:moveTo>
                  <a:pt x="35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80" y="20200"/>
                </a:lnTo>
                <a:close/>
              </a:path>
              <a:path fill="lighten" w="35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480" h="21600">
                <a:moveTo>
                  <a:pt x="10734" y="3794"/>
                </a:moveTo>
                <a:lnTo>
                  <a:pt x="24747" y="10800"/>
                </a:lnTo>
                <a:lnTo>
                  <a:pt x="10734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00040" y="450612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твет: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и симметричны относительно начала координат, так как являются противополож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Прямоугольник 7"/>
          <p:cNvSpPr/>
          <p:nvPr/>
        </p:nvSpPr>
        <p:spPr>
          <a:xfrm>
            <a:off x="3036960" y="142920"/>
            <a:ext cx="5854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Комплексные числа на координатной плоск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7500960" y="78588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Box 9"/>
          <p:cNvSpPr/>
          <p:nvPr/>
        </p:nvSpPr>
        <p:spPr>
          <a:xfrm>
            <a:off x="500040" y="200016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оответствуют числам -4-i и 4+i. Какова особенность их взаиморасположения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2"/>
          <p:cNvSpPr txBox="1"/>
          <p:nvPr/>
        </p:nvSpPr>
        <p:spPr>
          <a:xfrm rot="21435600">
            <a:off x="899640" y="62028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2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иналь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1000080" y="578628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художник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357120" y="785880"/>
            <a:ext cx="8286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Легенда</a:t>
            </a: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евних греков существовала легенда о созвездиях Большой и Малой Медведиц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огущий бог Зевс решил взять себе в жены прекрасную нимфу Калисто, одну из служанок богини Афродиты, вопреки желанию последней. Чтобы избавить Калисто от преследований богини, Зевс обратил Калисто в Большую Медведицу, а её любимую собаку - в Малую Медведицу и взял их на небо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данным числам постройте рисунки в прямоугольной системе координ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Цена вопроса: 1 – 500, 2 – 400,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571680" y="1000080"/>
            <a:ext cx="8143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"Комплексное число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о тонкое и поразительное средство божественного дух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чти амфибия между бытием и небытием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. 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Рисунок 7" descr="f9.gif"/>
          <p:cNvPicPr/>
          <p:nvPr/>
        </p:nvPicPr>
        <p:blipFill>
          <a:blip r:embed="rId1"/>
          <a:stretch/>
        </p:blipFill>
        <p:spPr>
          <a:xfrm>
            <a:off x="2700360" y="3429000"/>
            <a:ext cx="3147840" cy="30830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8" descr="3.gif"/>
          <p:cNvPicPr/>
          <p:nvPr/>
        </p:nvPicPr>
        <p:blipFill>
          <a:blip r:embed="rId2"/>
          <a:stretch/>
        </p:blipFill>
        <p:spPr>
          <a:xfrm rot="4041600">
            <a:off x="5625720" y="3143160"/>
            <a:ext cx="971280" cy="215244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9" descr="3.gif"/>
          <p:cNvPicPr/>
          <p:nvPr/>
        </p:nvPicPr>
        <p:blipFill>
          <a:blip r:embed="rId3"/>
          <a:stretch/>
        </p:blipFill>
        <p:spPr>
          <a:xfrm rot="2229000">
            <a:off x="4979520" y="2568600"/>
            <a:ext cx="971640" cy="2152800"/>
          </a:xfrm>
          <a:prstGeom prst="rect">
            <a:avLst/>
          </a:prstGeom>
          <a:ln w="0">
            <a:noFill/>
          </a:ln>
        </p:spPr>
      </p:pic>
      <p:pic>
        <p:nvPicPr>
          <p:cNvPr id="530" name="Рисунок 10" descr="3.gif"/>
          <p:cNvPicPr/>
          <p:nvPr/>
        </p:nvPicPr>
        <p:blipFill>
          <a:blip r:embed="rId4"/>
          <a:stretch/>
        </p:blipFill>
        <p:spPr>
          <a:xfrm>
            <a:off x="4140360" y="2205000"/>
            <a:ext cx="971280" cy="215280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11" descr="3.gif"/>
          <p:cNvPicPr/>
          <p:nvPr/>
        </p:nvPicPr>
        <p:blipFill>
          <a:blip r:embed="rId5"/>
          <a:stretch/>
        </p:blipFill>
        <p:spPr>
          <a:xfrm rot="18540000">
            <a:off x="3139920" y="2110680"/>
            <a:ext cx="97164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14" descr="3.gif"/>
          <p:cNvPicPr/>
          <p:nvPr/>
        </p:nvPicPr>
        <p:blipFill>
          <a:blip r:embed="rId6"/>
          <a:stretch/>
        </p:blipFill>
        <p:spPr>
          <a:xfrm rot="17097600">
            <a:off x="2442960" y="2594880"/>
            <a:ext cx="971640" cy="215280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5" descr="3.gif"/>
          <p:cNvPicPr/>
          <p:nvPr/>
        </p:nvPicPr>
        <p:blipFill>
          <a:blip r:embed="rId7"/>
          <a:stretch/>
        </p:blipFill>
        <p:spPr>
          <a:xfrm rot="17097600">
            <a:off x="2011320" y="3460680"/>
            <a:ext cx="971280" cy="2152440"/>
          </a:xfrm>
          <a:prstGeom prst="rect">
            <a:avLst/>
          </a:prstGeom>
          <a:ln w="0">
            <a:noFill/>
          </a:ln>
        </p:spPr>
      </p:pic>
      <p:pic>
        <p:nvPicPr>
          <p:cNvPr id="534" name="Прямоугольник 19" descr=""/>
          <p:cNvPicPr/>
          <p:nvPr/>
        </p:nvPicPr>
        <p:blipFill>
          <a:blip r:embed="rId8"/>
          <a:stretch/>
        </p:blipFill>
        <p:spPr>
          <a:xfrm>
            <a:off x="749160" y="396720"/>
            <a:ext cx="764568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9" name="applaus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1"/>
          <p:cNvSpPr/>
          <p:nvPr/>
        </p:nvSpPr>
        <p:spPr>
          <a:xfrm>
            <a:off x="214200" y="0"/>
            <a:ext cx="8715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нятие комплексного числа  значительно расширяет их применение, комплексные числа применяются в  решении  различных задач как алгебраического, так и геометрического содержания, в решении алгебраических уравнений любой степе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настоящее время стала бурно развиваться одна из важнейших ветвей математического анализа - теория функции комплексного перемен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ы  этой теории функции комплексной переменной используется при построении фракталов. Фракталы находят применение, например,  в компьютерном дизайне, в алгоритмах сжатия информации, используются при анализе и классификации сигналов сложной фор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         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ое значение комплексных чисел в математике и её приложениях широко известно. Их изучение имеет самостоятельный интерес. Алгебру комплексных чисел можно успешно использовать в элементарной геометрии, тригонометрии, теории геометрических преобразований, а также в электротехнике и различных задачах с механическим и физическим содержа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тод комплексных чисел позволяет решать планиметрические задачи по готовым формулам.  Выбор этих формул диктуется условиями задачи и ее требованием. С помощью комплексных чисел исследуется течение воды, полет самолетов и ракет. Применяются они при вычерчивании географических карт, используются для изучения явлений в атомах и атомных ядр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1" descr="1026a4f67ec5b78e31bda72a7d4bb186.gif"/>
          <p:cNvPicPr/>
          <p:nvPr/>
        </p:nvPicPr>
        <p:blipFill>
          <a:blip r:embed="rId1"/>
          <a:stretch/>
        </p:blipFill>
        <p:spPr>
          <a:xfrm rot="6165600">
            <a:off x="1740240" y="2712240"/>
            <a:ext cx="2890800" cy="320040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2" descr="1026a4f67ec5b78e31bda72a7d4bb186.gif"/>
          <p:cNvPicPr/>
          <p:nvPr/>
        </p:nvPicPr>
        <p:blipFill>
          <a:blip r:embed="rId2"/>
          <a:stretch/>
        </p:blipFill>
        <p:spPr>
          <a:xfrm rot="19585800">
            <a:off x="2711160" y="3833280"/>
            <a:ext cx="1020600" cy="113040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3" descr="1026a4f67ec5b78e31bda72a7d4bb186.gif"/>
          <p:cNvPicPr/>
          <p:nvPr/>
        </p:nvPicPr>
        <p:blipFill>
          <a:blip r:embed="rId3"/>
          <a:stretch/>
        </p:blipFill>
        <p:spPr>
          <a:xfrm rot="19585800">
            <a:off x="5845320" y="4470120"/>
            <a:ext cx="1022040" cy="126684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4" descr="1026a4f67ec5b78e31bda72a7d4bb186.gif"/>
          <p:cNvPicPr/>
          <p:nvPr/>
        </p:nvPicPr>
        <p:blipFill>
          <a:blip r:embed="rId4"/>
          <a:stretch/>
        </p:blipFill>
        <p:spPr>
          <a:xfrm rot="17983800">
            <a:off x="4711320" y="2593440"/>
            <a:ext cx="2892600" cy="3200400"/>
          </a:xfrm>
          <a:prstGeom prst="rect">
            <a:avLst/>
          </a:prstGeom>
          <a:ln w="0">
            <a:noFill/>
          </a:ln>
        </p:spPr>
      </p:pic>
      <p:pic>
        <p:nvPicPr>
          <p:cNvPr id="540" name="Содержимое 17" descr="Mouse32.gif"/>
          <p:cNvPicPr/>
          <p:nvPr/>
        </p:nvPicPr>
        <p:blipFill>
          <a:blip r:embed="rId5"/>
          <a:stretch/>
        </p:blipFill>
        <p:spPr>
          <a:xfrm>
            <a:off x="3851280" y="364500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6" descr="1026a4f67ec5b78e31bda72a7d4bb186.gif"/>
          <p:cNvPicPr/>
          <p:nvPr/>
        </p:nvPicPr>
        <p:blipFill>
          <a:blip r:embed="rId6"/>
          <a:stretch/>
        </p:blipFill>
        <p:spPr>
          <a:xfrm rot="19585800">
            <a:off x="5511600" y="3569760"/>
            <a:ext cx="1110960" cy="1130400"/>
          </a:xfrm>
          <a:prstGeom prst="rect">
            <a:avLst/>
          </a:prstGeom>
          <a:ln w="0">
            <a:noFill/>
          </a:ln>
        </p:spPr>
      </p:pic>
      <p:pic>
        <p:nvPicPr>
          <p:cNvPr id="542" name="Прямоугольник 7" descr=""/>
          <p:cNvPicPr/>
          <p:nvPr/>
        </p:nvPicPr>
        <p:blipFill>
          <a:blip r:embed="rId7"/>
          <a:stretch/>
        </p:blipFill>
        <p:spPr>
          <a:xfrm>
            <a:off x="566640" y="920880"/>
            <a:ext cx="8369280" cy="181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8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738360"/>
            <a:ext cx="8358120" cy="86612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2" descr="1026a4f67ec5b78e31bda72a7d4bb186.gif"/>
          <p:cNvPicPr/>
          <p:nvPr/>
        </p:nvPicPr>
        <p:blipFill>
          <a:blip r:embed="rId2"/>
          <a:stretch/>
        </p:blipFill>
        <p:spPr>
          <a:xfrm rot="19585800">
            <a:off x="6637320" y="4181040"/>
            <a:ext cx="1020960" cy="12668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" descr="1026a4f67ec5b78e31bda72a7d4bb186.gif"/>
          <p:cNvPicPr/>
          <p:nvPr/>
        </p:nvPicPr>
        <p:blipFill>
          <a:blip r:embed="rId3"/>
          <a:stretch/>
        </p:blipFill>
        <p:spPr>
          <a:xfrm rot="19585800">
            <a:off x="6080040" y="3673080"/>
            <a:ext cx="2890800" cy="32004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1026a4f67ec5b78e31bda72a7d4bb186.gif"/>
          <p:cNvPicPr/>
          <p:nvPr/>
        </p:nvPicPr>
        <p:blipFill>
          <a:blip r:embed="rId4"/>
          <a:stretch/>
        </p:blipFill>
        <p:spPr>
          <a:xfrm rot="19585800">
            <a:off x="6637320" y="4181040"/>
            <a:ext cx="1020960" cy="12668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1026a4f67ec5b78e31bda72a7d4bb186.gif"/>
          <p:cNvPicPr/>
          <p:nvPr/>
        </p:nvPicPr>
        <p:blipFill>
          <a:blip r:embed="rId5"/>
          <a:stretch/>
        </p:blipFill>
        <p:spPr>
          <a:xfrm rot="19585800">
            <a:off x="7358040" y="364680"/>
            <a:ext cx="1020960" cy="126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324000" y="836640"/>
          <a:ext cx="8424720" cy="4933800"/>
        </p:xfrm>
        <a:graphic>
          <a:graphicData uri="http://schemas.openxmlformats.org/drawingml/2006/table">
            <a:tbl>
              <a:tblPr/>
              <a:tblGrid>
                <a:gridCol w="3620880"/>
                <a:gridCol w="946080"/>
                <a:gridCol w="1022400"/>
                <a:gridCol w="1023840"/>
                <a:gridCol w="1024200"/>
                <a:gridCol w="787320"/>
              </a:tblGrid>
              <a:tr h="51120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емы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оимость 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еоретические фа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34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йствия с комплексными чис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менение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мплексные числа на координатной плоск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8119"/>
                          </a:solidFill>
                          <a:uFillTx/>
                          <a:latin typeface="Tahoma"/>
                          <a:ea typeface="Tahoma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AutoShape 43">
            <a:hlinkClick r:id="rId21" action="ppaction://hlinksldjump"/>
          </p:cNvPr>
          <p:cNvSpPr/>
          <p:nvPr/>
        </p:nvSpPr>
        <p:spPr>
          <a:xfrm>
            <a:off x="77407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0615-AD05-4A44-9A2B-0DE8C83E841F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0949-484F-4A10-9D72-78C15DE11A4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Box 3"/>
          <p:cNvSpPr/>
          <p:nvPr/>
        </p:nvSpPr>
        <p:spPr>
          <a:xfrm>
            <a:off x="2786040" y="0"/>
            <a:ext cx="4500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7215120" y="78588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Прямоугольник 11">
            <a:hlinkClick r:id="rId1" action="ppaction://hlinksldjump"/>
          </p:cNvPr>
          <p:cNvSpPr/>
          <p:nvPr/>
        </p:nvSpPr>
        <p:spPr>
          <a:xfrm>
            <a:off x="3929040" y="407196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элемент 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 = -1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1">
            <a:hlinkClick r:id="rId2" action="ppaction://hlinksldjump"/>
          </p:cNvPr>
          <p:cNvSpPr/>
          <p:nvPr/>
        </p:nvSpPr>
        <p:spPr>
          <a:xfrm>
            <a:off x="500040" y="1872720"/>
            <a:ext cx="828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мнимая единиц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AutoShape 43">
            <a:hlinkClick r:id="rId3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E2E-3DD0-4312-973E-455C0EAA263F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985-E2EF-45D4-8C5F-9A54E715770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2786040" y="0"/>
            <a:ext cx="4071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7500960" y="42876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11">
            <a:hlinkClick r:id="rId1" action="ppaction://hlinksldjump"/>
          </p:cNvPr>
          <p:cNvSpPr/>
          <p:nvPr/>
        </p:nvSpPr>
        <p:spPr>
          <a:xfrm>
            <a:off x="3786120" y="3786120"/>
            <a:ext cx="514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имыми или комплексны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"/>
          <p:cNvSpPr/>
          <p:nvPr/>
        </p:nvSpPr>
        <p:spPr>
          <a:xfrm>
            <a:off x="357120" y="143784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ми числами являются корни четной степени из отрицательных чисел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3C2C-79CE-4306-87FD-B415588D03E8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2A87-8090-44D1-838C-241D0A44F75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2428920" y="214200"/>
            <a:ext cx="4214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643880" y="21420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Прямоугольник 11">
            <a:hlinkClick r:id="rId1" action="ppaction://hlinksldjump"/>
          </p:cNvPr>
          <p:cNvSpPr/>
          <p:nvPr/>
        </p:nvSpPr>
        <p:spPr>
          <a:xfrm>
            <a:off x="4643280" y="5072040"/>
            <a:ext cx="41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Не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357120" y="1937880"/>
            <a:ext cx="835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ни четной степени из отрицательных чисел являются числами действительными (да или нет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E9D4-B5A5-4EB8-A830-3EDE86FC11E8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Номер слайда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025E-8D05-4A61-BD41-E464E60ABE8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2571840" y="0"/>
            <a:ext cx="3929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фак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7500960" y="7142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10229"/>
                </a:solidFill>
                <a:latin typeface="Times New Roman"/>
                <a:ea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Прямоугольник 11">
            <a:hlinkClick r:id="rId1" action="ppaction://hlinksldjump"/>
          </p:cNvPr>
          <p:cNvSpPr/>
          <p:nvPr/>
        </p:nvSpPr>
        <p:spPr>
          <a:xfrm>
            <a:off x="4500720" y="5286240"/>
            <a:ext cx="42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Не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642960" y="193788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сказать, какое из двух комплексных чисел больш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43">
            <a:hlinkClick r:id="rId2" action="ppaction://hlinksldjump"/>
          </p:cNvPr>
          <p:cNvSpPr/>
          <p:nvPr/>
        </p:nvSpPr>
        <p:spPr>
          <a:xfrm>
            <a:off x="6500880" y="61437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9:03:08Z</dcterms:created>
  <dc:creator>ученик</dc:creator>
  <dc:description/>
  <dc:language>en-US</dc:language>
  <cp:lastModifiedBy>ИРИНА</cp:lastModifiedBy>
  <dcterms:modified xsi:type="dcterms:W3CDTF">2019-05-31T21:31:04Z</dcterms:modified>
  <cp:revision>182</cp:revision>
  <dc:subject/>
  <dc:title>Слайд 1</dc:title>
</cp:coreProperties>
</file>