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drumroll.wav" ContentType="audio/x-wav"/>
  <Override PartName="/ppt/media/image15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9.gif" ContentType="image/gif"/>
  <Override PartName="/ppt/media/image7.png" ContentType="image/png"/>
  <Override PartName="/ppt/media/image16.gif" ContentType="image/gif"/>
  <Override PartName="/ppt/media/image17.png" ContentType="image/png"/>
  <Override PartName="/ppt/media/image14.gif" ContentType="image/gif"/>
  <Override PartName="/ppt/media/image13.gif" ContentType="image/gif"/>
  <Override PartName="/ppt/media/chimes.wav" ContentType="audio/x-wav"/>
  <Override PartName="/ppt/media/image8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6.jpeg" ContentType="image/jpeg"/>
  <Override PartName="/ppt/media/applause.wav" ContentType="audio/x-wav"/>
  <Override PartName="/ppt/media/image12.wmf" ContentType="image/x-wmf"/>
  <Override PartName="/ppt/media/image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4C210-8C55-4DBB-A5C0-048CAE3BB3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6DF48-7A06-4B8D-A8D5-26DF7B85C4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C7B89-F075-4353-B3F1-E0C3533F6B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A3B7-6F14-4753-AD2F-35F124A82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FEF4-2A7D-4425-9342-82F2AC626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18CC-E96B-4328-9632-B27475F7F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DA55-A465-4D58-907D-8E9112AE6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C4DF7-175A-41AA-B1F9-AB3A3DCFA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F00C6-A705-4CCB-9CDF-26CBA9FA2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6740F-DCF2-4E04-BD5C-CB4FD745C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243E0-FFC0-49AB-B7BC-716C7B030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3244C-78B8-4588-B17D-F65016BC8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5D000-2225-4546-A815-D37CB20BB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38395-EEA3-403F-A96C-9CC6F0FE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D090-16E3-4B66-AC39-2F341CD02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B6AF9-60F2-4023-AEC6-3CE35A2B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484B7-42AE-4E9D-A3F6-9480BB6B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89500-FECE-43AF-8E91-468AFD538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50F7C-802F-4DCD-BC8E-96EE90B46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82A25-D070-4D0C-989B-9B79FB641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FEAC5-171E-4E5C-8123-4D6E4A06C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2C923-69F0-4596-A314-A26DBD2B2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29B9A-9AB7-4A32-8D3A-8C223C3A7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DFA9A-B93A-4DC2-9CF7-D6019E2D5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A07FD-E079-4C33-8EB6-84A2A8ACD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20BE-15D2-48D3-8694-C33BB85C5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AF4DE-2F4E-404E-9E64-55ED446BE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5C5E0-FFC4-4B11-AD47-39035D10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670BD-257F-45C1-BB06-A5927FA8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87D40-FB81-4315-B931-09208128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03DA2-0842-447C-B45D-43E1F47F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ABAE6-2DE5-413F-8E78-03F207389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9A419-8C70-4D31-923B-555C09F67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947C4-1531-4C47-BC0E-6711BC3B7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6BE96-57EE-4AA6-8666-AC3ACAA0D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7FB80-8016-4889-A8BD-C826B6961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F75C-BAA8-4D09-8268-8B817D65B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18F18-608B-4B96-A402-A1C76B088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4F20F-4DF3-427B-9FCB-B52552426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87161-E92D-4333-B0DC-733343AD9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650B7-8DC1-41A9-9BE3-4BB2B01D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9C8B4-969C-4E30-BAFC-933D91C8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9879E-C967-4921-A207-9AD0C871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BB694-4E1B-41BB-8A80-5053F603D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681BA-F43A-4340-9FF0-3D3B2F347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898EC-9F81-4F98-A0B4-E78D79EC5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84755-8D5C-4257-A6FF-235ADFDCE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A7A9-116C-4EFE-847F-12C8A66C4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77FF8-04F0-4A87-B89F-D7CCDEF1F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D6787-8277-40C0-A15C-3435C786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C29A4-1ED8-4799-A4C5-19672B6B2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EC0E0-93F7-420E-8490-1B52A3DF2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AEA0E-3EF9-4F8A-BC36-C30E5FD08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3FB1B-0AC3-4443-8F35-DC47E608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19A28-E672-44D5-B2B2-5EADADC0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DFEE3-F9AA-4AB1-84A6-ACF05066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78D1F-EAFE-491D-80F7-528AA1005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FE48A-4DA6-4C8D-8AF4-01034C454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5D22-09A1-46F5-95DA-BC0E45131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A7407-2C84-4B52-B795-D9C496089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F1C40-04D6-48A7-BEF8-1F79F1EAB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3C5EE-5C58-459C-B8FC-7795326D3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06132-B582-45FE-B91C-AF52D4D25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AEA8B-F4E0-4BB8-B9F1-E9F112412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F19F2-EBFD-48B3-8D6A-F553A91DF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59A32-CD7C-417D-B351-9B5B86BA1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8BC1E-4C90-476F-923A-78DE4378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49A4B-0B2E-4EDB-BD3F-87723AFF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E314A-5339-4205-8FD7-E4E99274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5A16-0A42-49CD-83DB-BEF3EBAC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AA04C-2340-49E7-874B-DC68AFAE2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4173EC-928D-4AC0-B5A4-16B26A8E5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7561A-C3A0-49D3-A8D0-C34679D1D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CBFF7-8BF4-4761-9523-00B58C85B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BCEA2B-DB8B-4F12-BA0F-31E3D76A5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7D041-6B71-444A-999B-3DFB6BD33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8653A-9125-4E88-AFA2-26C516F6D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8E68E7-0E96-4410-A28D-D61BAE03C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351A4-9EDB-4AA1-8EE0-AC9E9B130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5D2FE-C10F-4523-B6EE-40E60799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0BB9-CAD3-4D53-A8A5-973E8FB8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C86D4-2FBA-4BD4-B5E6-6F75CEDF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9FEB4-C1D1-4928-A915-7C4DB780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6E500-6216-4036-9237-EB10D34BC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A5D33C-6FF9-4E96-84D9-4D63D5CB1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C2195-56E6-432B-832C-298B1899C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7ED833-8D83-413E-9327-16C55D09B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606CB9-AA09-4CC7-92D5-EFACA6790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167BF-D82A-40C3-BC23-0DAC02AB2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98DA9-554B-41D1-9CFA-5926E8BD2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33D08F-1C6C-4BFF-8C50-71FF238CC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6D97-B931-4440-B5E9-A34B0DAA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5A82EF-482A-4038-85FF-BF219C789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0DC777-B494-41BD-9318-84F3F4BD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D973CF-62B0-4695-AE24-6598CDC5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A08573-54B6-46AE-AF34-9F51CF4E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DB5BD3-0160-4E53-924F-47057E35F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066096-BC9E-425A-B2B5-5E0874AF4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5DC91A-35FC-4832-ABEF-184619524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BE10B-0D00-4C94-9EA4-485ABF041F7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93717-E32B-448F-953A-FD35F165E2A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CBDA-E4D2-43AD-94C2-D8D57076FE4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72FC2-617B-4991-AF82-9922FF347D7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0F91B-4600-41FC-9A75-DB905E32642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A2A27-7605-4BA8-B258-4DA10513B95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C3E03-D81A-4C93-87A9-FFE7AA5C595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72422-2199-45A2-BE4B-0FD7176C70C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0.wm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14.gif"/><Relationship Id="rId7" Type="http://schemas.openxmlformats.org/officeDocument/2006/relationships/image" Target="../media/image14.gif"/><Relationship Id="rId8" Type="http://schemas.openxmlformats.org/officeDocument/2006/relationships/image" Target="../media/image15.png"/><Relationship Id="rId9" Type="http://schemas.openxmlformats.org/officeDocument/2006/relationships/audio" Target="../media/applause.wav"/><Relationship Id="rId10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16.gif"/><Relationship Id="rId6" Type="http://schemas.openxmlformats.org/officeDocument/2006/relationships/image" Target="../media/image9.gif"/><Relationship Id="rId7" Type="http://schemas.openxmlformats.org/officeDocument/2006/relationships/image" Target="../media/image17.pn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2.xml"/><Relationship Id="rId7" Type="http://schemas.openxmlformats.org/officeDocument/2006/relationships/slide" Target="slide13.xml"/><Relationship Id="rId8" Type="http://schemas.openxmlformats.org/officeDocument/2006/relationships/slide" Target="slide14.xml"/><Relationship Id="rId9" Type="http://schemas.openxmlformats.org/officeDocument/2006/relationships/slide" Target="slide15.xml"/><Relationship Id="rId10" Type="http://schemas.openxmlformats.org/officeDocument/2006/relationships/slide" Target="slide16.xml"/><Relationship Id="rId11" Type="http://schemas.openxmlformats.org/officeDocument/2006/relationships/slide" Target="slide17.xml"/><Relationship Id="rId12" Type="http://schemas.openxmlformats.org/officeDocument/2006/relationships/slide" Target="slide18.xml"/><Relationship Id="rId13" Type="http://schemas.openxmlformats.org/officeDocument/2006/relationships/slide" Target="slide19.xml"/><Relationship Id="rId14" Type="http://schemas.openxmlformats.org/officeDocument/2006/relationships/slide" Target="slide20.xml"/><Relationship Id="rId15" Type="http://schemas.openxmlformats.org/officeDocument/2006/relationships/slide" Target="slide22.xml"/><Relationship Id="rId16" Type="http://schemas.openxmlformats.org/officeDocument/2006/relationships/slide" Target="slide23.xml"/><Relationship Id="rId17" Type="http://schemas.openxmlformats.org/officeDocument/2006/relationships/slide" Target="slide24.xml"/><Relationship Id="rId18" Type="http://schemas.openxmlformats.org/officeDocument/2006/relationships/slide" Target="slide25.xml"/><Relationship Id="rId19" Type="http://schemas.openxmlformats.org/officeDocument/2006/relationships/slide" Target="slide26.xml"/><Relationship Id="rId20" Type="http://schemas.openxmlformats.org/officeDocument/2006/relationships/slide" Target="slide27.xml"/><Relationship Id="rId21" Type="http://schemas.openxmlformats.org/officeDocument/2006/relationships/slide" Target="slide31.xml"/><Relationship Id="rId2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Заголовок 1" descr=""/>
          <p:cNvPicPr/>
          <p:nvPr/>
        </p:nvPicPr>
        <p:blipFill>
          <a:blip r:embed="rId1"/>
          <a:stretch/>
        </p:blipFill>
        <p:spPr>
          <a:xfrm>
            <a:off x="1706400" y="1646280"/>
            <a:ext cx="7334280" cy="343224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1571760" y="46429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Georgia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TextBox 9"/>
          <p:cNvSpPr/>
          <p:nvPr/>
        </p:nvSpPr>
        <p:spPr>
          <a:xfrm>
            <a:off x="2975760" y="5072040"/>
            <a:ext cx="535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втор: учитель математики ГБОУ лицея №39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ервушкина Ирина Михайловн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Дата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47860-4F9C-4DB2-965E-44B0682F9787}" type="datetime">
              <a:rPr b="0" lang="ru-RU" sz="1000" spc="-1" strike="noStrike">
                <a:solidFill>
                  <a:srgbClr val="000000"/>
                </a:solidFill>
                <a:latin typeface="Tahom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Номер слайда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062A-E741-4547-9113-FBE12BCBAA81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TextBox 3"/>
          <p:cNvSpPr/>
          <p:nvPr/>
        </p:nvSpPr>
        <p:spPr>
          <a:xfrm>
            <a:off x="6143760" y="142920"/>
            <a:ext cx="27860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етические факт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TextBox 4"/>
          <p:cNvSpPr/>
          <p:nvPr/>
        </p:nvSpPr>
        <p:spPr>
          <a:xfrm>
            <a:off x="7500960" y="928800"/>
            <a:ext cx="135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10229"/>
                </a:solidFill>
                <a:latin typeface="Times New Roman"/>
                <a:ea typeface="Times New Roman"/>
              </a:rPr>
              <a:t>500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Прямоугольник 11">
            <a:hlinkClick r:id="rId1" action="ppaction://hlinksldjump"/>
          </p:cNvPr>
          <p:cNvSpPr/>
          <p:nvPr/>
        </p:nvSpPr>
        <p:spPr>
          <a:xfrm>
            <a:off x="3071880" y="4357800"/>
            <a:ext cx="578628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гда равны их действительные части и коэффициенты при мнимых частях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Rectangle 1"/>
          <p:cNvSpPr/>
          <p:nvPr/>
        </p:nvSpPr>
        <p:spPr>
          <a:xfrm>
            <a:off x="500040" y="2007000"/>
            <a:ext cx="7643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ва комплексных числа равны тогда и только тогда, когда …(продолжите фразу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AutoShape 43">
            <a:hlinkClick r:id="rId2" action="ppaction://hlinksldjump"/>
          </p:cNvPr>
          <p:cNvSpPr/>
          <p:nvPr/>
        </p:nvSpPr>
        <p:spPr>
          <a:xfrm>
            <a:off x="6500880" y="614376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3794"/>
                </a:moveTo>
                <a:lnTo>
                  <a:pt x="23998" y="10800"/>
                </a:lnTo>
                <a:lnTo>
                  <a:pt x="9985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WordArt 2"/>
          <p:cNvSpPr txBox="1"/>
          <p:nvPr/>
        </p:nvSpPr>
        <p:spPr>
          <a:xfrm>
            <a:off x="611280" y="765000"/>
            <a:ext cx="7920000" cy="511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29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ам достается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кот в мешке"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40" name="Picture 3" descr="j041076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411280" y="1916280"/>
            <a:ext cx="4089600" cy="3030480"/>
          </a:xfrm>
          <a:prstGeom prst="rect">
            <a:avLst/>
          </a:prstGeom>
          <a:ln w="0">
            <a:noFill/>
          </a:ln>
        </p:spPr>
      </p:pic>
      <p:sp>
        <p:nvSpPr>
          <p:cNvPr id="441" name="AutoShape 4">
            <a:hlinkClick r:id="" action="ppaction://hlinkshowjump?jump=nextslide"/>
          </p:cNvPr>
          <p:cNvSpPr/>
          <p:nvPr/>
        </p:nvSpPr>
        <p:spPr>
          <a:xfrm>
            <a:off x="8028000" y="616572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3794"/>
                </a:moveTo>
                <a:lnTo>
                  <a:pt x="20902" y="10800"/>
                </a:lnTo>
                <a:lnTo>
                  <a:pt x="6889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AutoShape 4">
            <a:hlinkClick r:id="rId1" action="ppaction://hlinksldjump"/>
          </p:cNvPr>
          <p:cNvSpPr/>
          <p:nvPr/>
        </p:nvSpPr>
        <p:spPr>
          <a:xfrm>
            <a:off x="817236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3794"/>
                </a:moveTo>
                <a:lnTo>
                  <a:pt x="23206" y="10800"/>
                </a:lnTo>
                <a:lnTo>
                  <a:pt x="9194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Прямоугольник 4"/>
          <p:cNvSpPr/>
          <p:nvPr/>
        </p:nvSpPr>
        <p:spPr>
          <a:xfrm>
            <a:off x="3500280" y="4071960"/>
            <a:ext cx="514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-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Прямоугольник 6"/>
          <p:cNvSpPr/>
          <p:nvPr/>
        </p:nvSpPr>
        <p:spPr>
          <a:xfrm>
            <a:off x="3000240" y="142920"/>
            <a:ext cx="585792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Действия с комплексными числам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TextBox 10"/>
          <p:cNvSpPr/>
          <p:nvPr/>
        </p:nvSpPr>
        <p:spPr>
          <a:xfrm>
            <a:off x="7572240" y="714240"/>
            <a:ext cx="135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10229"/>
                </a:solidFill>
                <a:latin typeface="Times New Roman"/>
                <a:ea typeface="Times New Roman"/>
              </a:rPr>
              <a:t>100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TextBox 7"/>
          <p:cNvSpPr/>
          <p:nvPr/>
        </p:nvSpPr>
        <p:spPr>
          <a:xfrm>
            <a:off x="833040" y="1785960"/>
            <a:ext cx="521136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Вычислить </a:t>
            </a:r>
            <a:r>
              <a:rPr b="0" i="1" lang="ru-RU" sz="4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4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 + </a:t>
            </a:r>
            <a:r>
              <a:rPr b="0" i="1" lang="ru-RU" sz="4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48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lus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AutoShape 5">
            <a:hlinkClick r:id="rId1" action="ppaction://hlinksldjump"/>
          </p:cNvPr>
          <p:cNvSpPr/>
          <p:nvPr/>
        </p:nvSpPr>
        <p:spPr>
          <a:xfrm>
            <a:off x="7812000" y="6165720"/>
            <a:ext cx="647640" cy="35892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8958" h="21600">
                <a:moveTo>
                  <a:pt x="0" y="0"/>
                </a:moveTo>
                <a:lnTo>
                  <a:pt x="38958" y="0"/>
                </a:lnTo>
                <a:lnTo>
                  <a:pt x="38958" y="21600"/>
                </a:lnTo>
                <a:lnTo>
                  <a:pt x="0" y="21600"/>
                </a:lnTo>
                <a:close/>
              </a:path>
              <a:path fill="lightenLess" w="38958" h="21600">
                <a:moveTo>
                  <a:pt x="0" y="0"/>
                </a:moveTo>
                <a:lnTo>
                  <a:pt x="38958" y="0"/>
                </a:lnTo>
                <a:lnTo>
                  <a:pt x="37558" y="1400"/>
                </a:lnTo>
                <a:lnTo>
                  <a:pt x="1400" y="1400"/>
                </a:lnTo>
                <a:close/>
              </a:path>
              <a:path fill="darken" w="38958" h="21600">
                <a:moveTo>
                  <a:pt x="38958" y="0"/>
                </a:moveTo>
                <a:lnTo>
                  <a:pt x="38958" y="21600"/>
                </a:lnTo>
                <a:lnTo>
                  <a:pt x="37558" y="20200"/>
                </a:lnTo>
                <a:lnTo>
                  <a:pt x="37558" y="1400"/>
                </a:lnTo>
                <a:close/>
              </a:path>
              <a:path fill="darkenLess" w="38958" h="21600">
                <a:moveTo>
                  <a:pt x="389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558" y="20200"/>
                </a:lnTo>
                <a:close/>
              </a:path>
              <a:path fill="lighten" w="389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958" h="21600">
                <a:moveTo>
                  <a:pt x="12472" y="3794"/>
                </a:moveTo>
                <a:lnTo>
                  <a:pt x="26485" y="10800"/>
                </a:lnTo>
                <a:lnTo>
                  <a:pt x="12472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Rectangle 6"/>
          <p:cNvSpPr/>
          <p:nvPr/>
        </p:nvSpPr>
        <p:spPr>
          <a:xfrm>
            <a:off x="4500720" y="3930840"/>
            <a:ext cx="428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Ответ: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1+2</a:t>
            </a: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Прямоугольник 7"/>
          <p:cNvSpPr/>
          <p:nvPr/>
        </p:nvSpPr>
        <p:spPr>
          <a:xfrm>
            <a:off x="2786040" y="357120"/>
            <a:ext cx="592920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Действия с комплексными числам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TextBox 9"/>
          <p:cNvSpPr/>
          <p:nvPr/>
        </p:nvSpPr>
        <p:spPr>
          <a:xfrm>
            <a:off x="7358040" y="857160"/>
            <a:ext cx="135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10229"/>
                </a:solidFill>
                <a:latin typeface="Times New Roman"/>
                <a:ea typeface="Times New Roman"/>
              </a:rPr>
              <a:t>200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TextBox 7"/>
          <p:cNvSpPr/>
          <p:nvPr/>
        </p:nvSpPr>
        <p:spPr>
          <a:xfrm>
            <a:off x="500040" y="2000160"/>
            <a:ext cx="842976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Найти произведение комплексных чисел </a:t>
            </a: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 = </a:t>
            </a: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i 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и</a:t>
            </a: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 z</a:t>
            </a:r>
            <a:r>
              <a:rPr b="0" i="1" lang="ru-RU" sz="36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 = 2 – i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lus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AutoShape 4"/>
          <p:cNvSpPr/>
          <p:nvPr/>
        </p:nvSpPr>
        <p:spPr>
          <a:xfrm>
            <a:off x="7596360" y="5950080"/>
            <a:ext cx="863280" cy="574560"/>
          </a:xfrm>
          <a:custGeom>
            <a:avLst/>
            <a:gdLst>
              <a:gd name="textAreaLeft" fmla="*/ 37080 w 863280"/>
              <a:gd name="textAreaRight" fmla="*/ 826200 w 86328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32447" h="21600">
                <a:moveTo>
                  <a:pt x="0" y="0"/>
                </a:moveTo>
                <a:lnTo>
                  <a:pt x="32447" y="0"/>
                </a:lnTo>
                <a:lnTo>
                  <a:pt x="32447" y="21600"/>
                </a:lnTo>
                <a:lnTo>
                  <a:pt x="0" y="21600"/>
                </a:lnTo>
                <a:close/>
              </a:path>
              <a:path fill="lightenLess" w="32447" h="21600">
                <a:moveTo>
                  <a:pt x="0" y="0"/>
                </a:moveTo>
                <a:lnTo>
                  <a:pt x="32447" y="0"/>
                </a:lnTo>
                <a:lnTo>
                  <a:pt x="31047" y="1400"/>
                </a:lnTo>
                <a:lnTo>
                  <a:pt x="1400" y="1400"/>
                </a:lnTo>
                <a:close/>
              </a:path>
              <a:path fill="darken" w="32447" h="21600">
                <a:moveTo>
                  <a:pt x="32447" y="0"/>
                </a:moveTo>
                <a:lnTo>
                  <a:pt x="32447" y="21600"/>
                </a:lnTo>
                <a:lnTo>
                  <a:pt x="31047" y="20200"/>
                </a:lnTo>
                <a:lnTo>
                  <a:pt x="31047" y="1400"/>
                </a:lnTo>
                <a:close/>
              </a:path>
              <a:path fill="darkenLess" w="32447" h="21600">
                <a:moveTo>
                  <a:pt x="32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7" y="20200"/>
                </a:lnTo>
                <a:close/>
              </a:path>
              <a:path fill="lighten" w="32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7" h="21600">
                <a:moveTo>
                  <a:pt x="9217" y="3794"/>
                </a:moveTo>
                <a:lnTo>
                  <a:pt x="23230" y="10800"/>
                </a:lnTo>
                <a:lnTo>
                  <a:pt x="9217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Rectangle 5"/>
          <p:cNvSpPr/>
          <p:nvPr/>
        </p:nvSpPr>
        <p:spPr>
          <a:xfrm>
            <a:off x="4071960" y="3980880"/>
            <a:ext cx="292896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Прямоугольник 5"/>
          <p:cNvSpPr/>
          <p:nvPr/>
        </p:nvSpPr>
        <p:spPr>
          <a:xfrm>
            <a:off x="2928960" y="142920"/>
            <a:ext cx="550080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Действия с комплексными числам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TextBox 6"/>
          <p:cNvSpPr/>
          <p:nvPr/>
        </p:nvSpPr>
        <p:spPr>
          <a:xfrm>
            <a:off x="7215120" y="714240"/>
            <a:ext cx="135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10229"/>
                </a:solidFill>
                <a:latin typeface="Times New Roman"/>
                <a:ea typeface="Times New Roman"/>
              </a:rPr>
              <a:t>300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TextBox 7"/>
          <p:cNvSpPr/>
          <p:nvPr/>
        </p:nvSpPr>
        <p:spPr>
          <a:xfrm>
            <a:off x="785880" y="1857240"/>
            <a:ext cx="7858080" cy="20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Вычислить частное комплексных чисел </a:t>
            </a:r>
            <a:r>
              <a:rPr b="0" i="1" lang="ru-RU" sz="4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 = </a:t>
            </a:r>
            <a:r>
              <a:rPr b="0" i="1" lang="ru-RU" sz="40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 + 1 и </a:t>
            </a:r>
            <a:r>
              <a:rPr b="0" i="1" lang="ru-RU" sz="4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 = 1 – </a:t>
            </a:r>
            <a:r>
              <a:rPr b="0" i="1" lang="ru-RU" sz="4000" spc="-1" strike="noStrike">
                <a:solidFill>
                  <a:srgbClr val="000000"/>
                </a:solidFill>
                <a:latin typeface="Tahoma"/>
              </a:rPr>
              <a:t>i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lus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AutoShape 4"/>
          <p:cNvSpPr/>
          <p:nvPr/>
        </p:nvSpPr>
        <p:spPr>
          <a:xfrm>
            <a:off x="7885080" y="6165720"/>
            <a:ext cx="647640" cy="43200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373" h="21600">
                <a:moveTo>
                  <a:pt x="0" y="0"/>
                </a:moveTo>
                <a:lnTo>
                  <a:pt x="32373" y="0"/>
                </a:lnTo>
                <a:lnTo>
                  <a:pt x="32373" y="21600"/>
                </a:lnTo>
                <a:lnTo>
                  <a:pt x="0" y="21600"/>
                </a:lnTo>
                <a:close/>
              </a:path>
              <a:path fill="lightenLess" w="32373" h="21600">
                <a:moveTo>
                  <a:pt x="0" y="0"/>
                </a:moveTo>
                <a:lnTo>
                  <a:pt x="32373" y="0"/>
                </a:lnTo>
                <a:lnTo>
                  <a:pt x="30973" y="1400"/>
                </a:lnTo>
                <a:lnTo>
                  <a:pt x="1400" y="1400"/>
                </a:lnTo>
                <a:close/>
              </a:path>
              <a:path fill="darken" w="32373" h="21600">
                <a:moveTo>
                  <a:pt x="32373" y="0"/>
                </a:moveTo>
                <a:lnTo>
                  <a:pt x="32373" y="21600"/>
                </a:lnTo>
                <a:lnTo>
                  <a:pt x="30973" y="20200"/>
                </a:lnTo>
                <a:lnTo>
                  <a:pt x="30973" y="1400"/>
                </a:lnTo>
                <a:close/>
              </a:path>
              <a:path fill="darkenLess" w="32373" h="21600">
                <a:moveTo>
                  <a:pt x="32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3" y="20200"/>
                </a:lnTo>
                <a:close/>
              </a:path>
              <a:path fill="lighten" w="32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3" h="21600">
                <a:moveTo>
                  <a:pt x="9180" y="3794"/>
                </a:moveTo>
                <a:lnTo>
                  <a:pt x="23193" y="10800"/>
                </a:lnTo>
                <a:lnTo>
                  <a:pt x="9180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Прямоугольник 4"/>
          <p:cNvSpPr/>
          <p:nvPr/>
        </p:nvSpPr>
        <p:spPr>
          <a:xfrm>
            <a:off x="4429080" y="4071960"/>
            <a:ext cx="335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-2+3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Прямоугольник 5"/>
          <p:cNvSpPr/>
          <p:nvPr/>
        </p:nvSpPr>
        <p:spPr>
          <a:xfrm>
            <a:off x="3143160" y="142920"/>
            <a:ext cx="535788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Действия с комплексными числам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TextBox 6"/>
          <p:cNvSpPr/>
          <p:nvPr/>
        </p:nvSpPr>
        <p:spPr>
          <a:xfrm>
            <a:off x="7286760" y="642960"/>
            <a:ext cx="135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10229"/>
                </a:solidFill>
                <a:latin typeface="Times New Roman"/>
                <a:ea typeface="Times New Roman"/>
              </a:rPr>
              <a:t>400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TextBox 7"/>
          <p:cNvSpPr/>
          <p:nvPr/>
        </p:nvSpPr>
        <p:spPr>
          <a:xfrm>
            <a:off x="1024200" y="1928880"/>
            <a:ext cx="634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Вычислить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i="1" lang="en-US" sz="40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(2 – </a:t>
            </a:r>
            <a:r>
              <a:rPr b="0" i="1" lang="en-US" sz="40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i="1" lang="en-US" sz="4000" spc="-1" strike="noStrike">
                <a:solidFill>
                  <a:srgbClr val="000000"/>
                </a:solidFill>
                <a:latin typeface="Tahoma"/>
              </a:rPr>
              <a:t> – 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(3 – </a:t>
            </a:r>
            <a:r>
              <a:rPr b="0" i="1" lang="en-US" sz="40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lus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AutoShape 4"/>
          <p:cNvSpPr/>
          <p:nvPr/>
        </p:nvSpPr>
        <p:spPr>
          <a:xfrm>
            <a:off x="7812000" y="6237360"/>
            <a:ext cx="720720" cy="43164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6054" h="21600">
                <a:moveTo>
                  <a:pt x="0" y="0"/>
                </a:moveTo>
                <a:lnTo>
                  <a:pt x="36054" y="0"/>
                </a:lnTo>
                <a:lnTo>
                  <a:pt x="36054" y="21600"/>
                </a:lnTo>
                <a:lnTo>
                  <a:pt x="0" y="21600"/>
                </a:lnTo>
                <a:close/>
              </a:path>
              <a:path fill="lightenLess" w="36054" h="21600">
                <a:moveTo>
                  <a:pt x="0" y="0"/>
                </a:moveTo>
                <a:lnTo>
                  <a:pt x="36054" y="0"/>
                </a:lnTo>
                <a:lnTo>
                  <a:pt x="34654" y="1400"/>
                </a:lnTo>
                <a:lnTo>
                  <a:pt x="1400" y="1400"/>
                </a:lnTo>
                <a:close/>
              </a:path>
              <a:path fill="darken" w="36054" h="21600">
                <a:moveTo>
                  <a:pt x="36054" y="0"/>
                </a:moveTo>
                <a:lnTo>
                  <a:pt x="36054" y="21600"/>
                </a:lnTo>
                <a:lnTo>
                  <a:pt x="34654" y="20200"/>
                </a:lnTo>
                <a:lnTo>
                  <a:pt x="34654" y="1400"/>
                </a:lnTo>
                <a:close/>
              </a:path>
              <a:path fill="darkenLess" w="36054" h="21600">
                <a:moveTo>
                  <a:pt x="36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54" y="20200"/>
                </a:lnTo>
                <a:close/>
              </a:path>
              <a:path fill="lighten" w="36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54" h="21600">
                <a:moveTo>
                  <a:pt x="11021" y="3794"/>
                </a:moveTo>
                <a:lnTo>
                  <a:pt x="25033" y="10800"/>
                </a:lnTo>
                <a:lnTo>
                  <a:pt x="11021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Прямоугольник 4"/>
          <p:cNvSpPr/>
          <p:nvPr/>
        </p:nvSpPr>
        <p:spPr>
          <a:xfrm>
            <a:off x="5214960" y="4572000"/>
            <a:ext cx="3286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Прямоугольник 5"/>
          <p:cNvSpPr/>
          <p:nvPr/>
        </p:nvSpPr>
        <p:spPr>
          <a:xfrm>
            <a:off x="2500200" y="142920"/>
            <a:ext cx="571500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Действия с комплексными числам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TextBox 6"/>
          <p:cNvSpPr/>
          <p:nvPr/>
        </p:nvSpPr>
        <p:spPr>
          <a:xfrm>
            <a:off x="7358040" y="714240"/>
            <a:ext cx="135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10229"/>
                </a:solidFill>
                <a:latin typeface="Times New Roman"/>
                <a:ea typeface="Times New Roman"/>
              </a:rPr>
              <a:t>500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Rectangle 10"/>
          <p:cNvSpPr/>
          <p:nvPr/>
        </p:nvSpPr>
        <p:spPr>
          <a:xfrm>
            <a:off x="428760" y="207612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При каком значении параметра 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а,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уравнение имеет бесконечно много корней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– 1)(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а 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+ 1)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х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= (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– 1)(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+ 2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lus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AutoShape 4"/>
          <p:cNvSpPr/>
          <p:nvPr/>
        </p:nvSpPr>
        <p:spPr>
          <a:xfrm>
            <a:off x="77407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3794"/>
                </a:moveTo>
                <a:lnTo>
                  <a:pt x="23998" y="10800"/>
                </a:lnTo>
                <a:lnTo>
                  <a:pt x="9985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Rectangle 6"/>
          <p:cNvSpPr/>
          <p:nvPr/>
        </p:nvSpPr>
        <p:spPr>
          <a:xfrm>
            <a:off x="4929120" y="47862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Rectangle 7"/>
          <p:cNvSpPr/>
          <p:nvPr/>
        </p:nvSpPr>
        <p:spPr>
          <a:xfrm>
            <a:off x="4189680" y="262800"/>
            <a:ext cx="37346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3171e"/>
                </a:solidFill>
                <a:latin typeface="Tahoma"/>
                <a:ea typeface="Tahoma"/>
              </a:rPr>
              <a:t>Применение знани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Rectangle 12"/>
          <p:cNvSpPr/>
          <p:nvPr/>
        </p:nvSpPr>
        <p:spPr>
          <a:xfrm>
            <a:off x="214200" y="142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Rectangle 13"/>
          <p:cNvSpPr/>
          <p:nvPr/>
        </p:nvSpPr>
        <p:spPr>
          <a:xfrm>
            <a:off x="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TextBox 9"/>
          <p:cNvSpPr/>
          <p:nvPr/>
        </p:nvSpPr>
        <p:spPr>
          <a:xfrm>
            <a:off x="7500960" y="785880"/>
            <a:ext cx="135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10229"/>
                </a:solidFill>
                <a:latin typeface="Times New Roman"/>
                <a:ea typeface="Times New Roman"/>
              </a:rPr>
              <a:t>100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Прямоугольник 12"/>
          <p:cNvSpPr/>
          <p:nvPr/>
        </p:nvSpPr>
        <p:spPr>
          <a:xfrm>
            <a:off x="4143240" y="4572000"/>
            <a:ext cx="46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противоположны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TextBox 10"/>
          <p:cNvSpPr/>
          <p:nvPr/>
        </p:nvSpPr>
        <p:spPr>
          <a:xfrm>
            <a:off x="709560" y="2071800"/>
            <a:ext cx="820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 называются эти числа (-2+3i) и (2-3i)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AutoShape 4"/>
          <p:cNvSpPr/>
          <p:nvPr/>
        </p:nvSpPr>
        <p:spPr>
          <a:xfrm>
            <a:off x="7596360" y="595008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3794"/>
                </a:moveTo>
                <a:lnTo>
                  <a:pt x="20902" y="10800"/>
                </a:lnTo>
                <a:lnTo>
                  <a:pt x="6889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Rectangle 5"/>
          <p:cNvSpPr/>
          <p:nvPr/>
        </p:nvSpPr>
        <p:spPr>
          <a:xfrm>
            <a:off x="5500800" y="414432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Ответ: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Z= -8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Прямоугольник 5"/>
          <p:cNvSpPr/>
          <p:nvPr/>
        </p:nvSpPr>
        <p:spPr>
          <a:xfrm>
            <a:off x="689400" y="357120"/>
            <a:ext cx="37346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3171e"/>
                </a:solidFill>
                <a:latin typeface="Tahoma"/>
                <a:ea typeface="Tahoma"/>
              </a:rPr>
              <a:t>Применение знани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TextBox 6"/>
          <p:cNvSpPr/>
          <p:nvPr/>
        </p:nvSpPr>
        <p:spPr>
          <a:xfrm>
            <a:off x="7000920" y="428760"/>
            <a:ext cx="135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10229"/>
                </a:solidFill>
                <a:latin typeface="Times New Roman"/>
                <a:ea typeface="Times New Roman"/>
              </a:rPr>
              <a:t>200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TextBox 7"/>
          <p:cNvSpPr/>
          <p:nvPr/>
        </p:nvSpPr>
        <p:spPr>
          <a:xfrm>
            <a:off x="520200" y="1857240"/>
            <a:ext cx="82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число является сопряженным для Z=8i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u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AutoShape 4"/>
          <p:cNvSpPr/>
          <p:nvPr/>
        </p:nvSpPr>
        <p:spPr>
          <a:xfrm>
            <a:off x="7596360" y="602136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7" h="21600">
                <a:moveTo>
                  <a:pt x="6497" y="3794"/>
                </a:moveTo>
                <a:lnTo>
                  <a:pt x="20510" y="10800"/>
                </a:lnTo>
                <a:lnTo>
                  <a:pt x="6497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Rectangle 5"/>
          <p:cNvSpPr/>
          <p:nvPr/>
        </p:nvSpPr>
        <p:spPr>
          <a:xfrm>
            <a:off x="3214800" y="485928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вет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Calibri"/>
              </a:rPr>
              <a:t>да, комплексны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Прямоугольник 5"/>
          <p:cNvSpPr/>
          <p:nvPr/>
        </p:nvSpPr>
        <p:spPr>
          <a:xfrm>
            <a:off x="403560" y="285840"/>
            <a:ext cx="37346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3171e"/>
                </a:solidFill>
                <a:latin typeface="Tahoma"/>
                <a:ea typeface="Tahoma"/>
              </a:rPr>
              <a:t>Применение знани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TextBox 6"/>
          <p:cNvSpPr/>
          <p:nvPr/>
        </p:nvSpPr>
        <p:spPr>
          <a:xfrm>
            <a:off x="7215120" y="357120"/>
            <a:ext cx="135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10229"/>
                </a:solidFill>
                <a:latin typeface="Times New Roman"/>
                <a:ea typeface="Times New Roman"/>
              </a:rPr>
              <a:t>300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TextBox 7"/>
          <p:cNvSpPr/>
          <p:nvPr/>
        </p:nvSpPr>
        <p:spPr>
          <a:xfrm>
            <a:off x="198360" y="1857240"/>
            <a:ext cx="801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 решении квадратного уравнения мы получили отрицательный дискриминант. Существуют ли корни такого уравнения (да или нет) и какие они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Прямоугольник 1"/>
          <p:cNvSpPr/>
          <p:nvPr/>
        </p:nvSpPr>
        <p:spPr>
          <a:xfrm>
            <a:off x="395280" y="1557360"/>
            <a:ext cx="820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На «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вопрос – аукцион»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право ответа имеет та команда, которая назначит большую сумму, если на счету игроков сумма, меньшая чем стоимость вопроса, то они могут предложить только номинал (стоимость вопроса)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Ставка вопроса «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кот в мешке» удваиваетс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Прямоугольник 2" descr=""/>
          <p:cNvPicPr/>
          <p:nvPr/>
        </p:nvPicPr>
        <p:blipFill>
          <a:blip r:embed="rId1"/>
          <a:stretch/>
        </p:blipFill>
        <p:spPr>
          <a:xfrm>
            <a:off x="324000" y="396720"/>
            <a:ext cx="8350200" cy="36147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3" descr="j0304691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4643280" y="2565360"/>
            <a:ext cx="3961080" cy="394488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3" descr="j0304691"/>
          <p:cNvPicPr/>
          <p:nvPr/>
        </p:nvPicPr>
        <p:blipFill>
          <a:blip r:embed="rId3"/>
          <a:stretch/>
        </p:blipFill>
        <p:spPr>
          <a:xfrm>
            <a:off x="4716360" y="2637000"/>
            <a:ext cx="3816360" cy="3801960"/>
          </a:xfrm>
          <a:prstGeom prst="rect">
            <a:avLst/>
          </a:prstGeom>
          <a:ln w="0">
            <a:noFill/>
          </a:ln>
        </p:spPr>
      </p:pic>
      <p:sp>
        <p:nvSpPr>
          <p:cNvPr id="488" name="AutoShape 6">
            <a:hlinkClick r:id="" action="ppaction://hlinkshowjump?jump=nextslide"/>
          </p:cNvPr>
          <p:cNvSpPr/>
          <p:nvPr/>
        </p:nvSpPr>
        <p:spPr>
          <a:xfrm>
            <a:off x="8101080" y="623736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3794"/>
                </a:moveTo>
                <a:lnTo>
                  <a:pt x="22431" y="10800"/>
                </a:lnTo>
                <a:lnTo>
                  <a:pt x="8418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AutoShape 4"/>
          <p:cNvSpPr/>
          <p:nvPr/>
        </p:nvSpPr>
        <p:spPr>
          <a:xfrm>
            <a:off x="7380360" y="6021360"/>
            <a:ext cx="792000" cy="57636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9676" h="21600">
                <a:moveTo>
                  <a:pt x="0" y="0"/>
                </a:moveTo>
                <a:lnTo>
                  <a:pt x="29676" y="0"/>
                </a:lnTo>
                <a:lnTo>
                  <a:pt x="29676" y="21600"/>
                </a:lnTo>
                <a:lnTo>
                  <a:pt x="0" y="21600"/>
                </a:lnTo>
                <a:close/>
              </a:path>
              <a:path fill="lightenLess" w="29676" h="21600">
                <a:moveTo>
                  <a:pt x="0" y="0"/>
                </a:moveTo>
                <a:lnTo>
                  <a:pt x="29676" y="0"/>
                </a:lnTo>
                <a:lnTo>
                  <a:pt x="28276" y="1400"/>
                </a:lnTo>
                <a:lnTo>
                  <a:pt x="1400" y="1400"/>
                </a:lnTo>
                <a:close/>
              </a:path>
              <a:path fill="darken" w="29676" h="21600">
                <a:moveTo>
                  <a:pt x="29676" y="0"/>
                </a:moveTo>
                <a:lnTo>
                  <a:pt x="29676" y="21600"/>
                </a:lnTo>
                <a:lnTo>
                  <a:pt x="28276" y="20200"/>
                </a:lnTo>
                <a:lnTo>
                  <a:pt x="28276" y="1400"/>
                </a:lnTo>
                <a:close/>
              </a:path>
              <a:path fill="darkenLess" w="29676" h="21600">
                <a:moveTo>
                  <a:pt x="296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6" y="20200"/>
                </a:lnTo>
                <a:close/>
              </a:path>
              <a:path fill="lighten" w="296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76" h="21600">
                <a:moveTo>
                  <a:pt x="7832" y="3794"/>
                </a:moveTo>
                <a:lnTo>
                  <a:pt x="21845" y="10800"/>
                </a:lnTo>
                <a:lnTo>
                  <a:pt x="7832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4071960" y="5288040"/>
            <a:ext cx="43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Ответ: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Прямоугольник 5"/>
          <p:cNvSpPr/>
          <p:nvPr/>
        </p:nvSpPr>
        <p:spPr>
          <a:xfrm>
            <a:off x="403560" y="357120"/>
            <a:ext cx="37346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3171e"/>
                </a:solidFill>
                <a:latin typeface="Tahoma"/>
                <a:ea typeface="Tahoma"/>
              </a:rPr>
              <a:t>Применение знани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TextBox 7"/>
          <p:cNvSpPr/>
          <p:nvPr/>
        </p:nvSpPr>
        <p:spPr>
          <a:xfrm>
            <a:off x="7358040" y="357120"/>
            <a:ext cx="135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10229"/>
                </a:solidFill>
                <a:latin typeface="Times New Roman"/>
                <a:ea typeface="Times New Roman"/>
              </a:rPr>
              <a:t>400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TextBox 7"/>
          <p:cNvSpPr/>
          <p:nvPr/>
        </p:nvSpPr>
        <p:spPr>
          <a:xfrm>
            <a:off x="500040" y="1357200"/>
            <a:ext cx="8286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 решении квадратного уравнения мы получили отрицательный дискриминант. Может ли один корень такого уравнения быть действительным, а другой комплексным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AutoShape 5"/>
          <p:cNvSpPr/>
          <p:nvPr/>
        </p:nvSpPr>
        <p:spPr>
          <a:xfrm>
            <a:off x="7885080" y="6093000"/>
            <a:ext cx="719280" cy="504720"/>
          </a:xfrm>
          <a:custGeom>
            <a:avLst/>
            <a:gdLst>
              <a:gd name="textAreaLeft" fmla="*/ 32400 w 719280"/>
              <a:gd name="textAreaRight" fmla="*/ 686880 w 719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0776" h="21600">
                <a:moveTo>
                  <a:pt x="0" y="0"/>
                </a:moveTo>
                <a:lnTo>
                  <a:pt x="30776" y="0"/>
                </a:lnTo>
                <a:lnTo>
                  <a:pt x="30776" y="21600"/>
                </a:lnTo>
                <a:lnTo>
                  <a:pt x="0" y="21600"/>
                </a:lnTo>
                <a:close/>
              </a:path>
              <a:path fill="lightenLess" w="30776" h="21600">
                <a:moveTo>
                  <a:pt x="0" y="0"/>
                </a:moveTo>
                <a:lnTo>
                  <a:pt x="30776" y="0"/>
                </a:lnTo>
                <a:lnTo>
                  <a:pt x="29376" y="1400"/>
                </a:lnTo>
                <a:lnTo>
                  <a:pt x="1400" y="1400"/>
                </a:lnTo>
                <a:close/>
              </a:path>
              <a:path fill="darken" w="30776" h="21600">
                <a:moveTo>
                  <a:pt x="30776" y="0"/>
                </a:moveTo>
                <a:lnTo>
                  <a:pt x="30776" y="21600"/>
                </a:lnTo>
                <a:lnTo>
                  <a:pt x="29376" y="20200"/>
                </a:lnTo>
                <a:lnTo>
                  <a:pt x="29376" y="1400"/>
                </a:lnTo>
                <a:close/>
              </a:path>
              <a:path fill="darkenLess" w="30776" h="21600">
                <a:moveTo>
                  <a:pt x="30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76" y="20200"/>
                </a:lnTo>
                <a:close/>
              </a:path>
              <a:path fill="lighten" w="30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76" h="21600">
                <a:moveTo>
                  <a:pt x="8381" y="3794"/>
                </a:moveTo>
                <a:lnTo>
                  <a:pt x="22394" y="10800"/>
                </a:lnTo>
                <a:lnTo>
                  <a:pt x="8381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Rectangle 6"/>
          <p:cNvSpPr/>
          <p:nvPr/>
        </p:nvSpPr>
        <p:spPr>
          <a:xfrm>
            <a:off x="4643280" y="4644720"/>
            <a:ext cx="42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вет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Прямоугольник 7"/>
          <p:cNvSpPr/>
          <p:nvPr/>
        </p:nvSpPr>
        <p:spPr>
          <a:xfrm>
            <a:off x="403560" y="142920"/>
            <a:ext cx="37346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3171e"/>
                </a:solidFill>
                <a:latin typeface="Tahoma"/>
                <a:ea typeface="Tahoma"/>
              </a:rPr>
              <a:t>Применение знани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TextBox 8"/>
          <p:cNvSpPr/>
          <p:nvPr/>
        </p:nvSpPr>
        <p:spPr>
          <a:xfrm>
            <a:off x="7143840" y="357120"/>
            <a:ext cx="135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10229"/>
                </a:solidFill>
                <a:latin typeface="Times New Roman"/>
                <a:ea typeface="Times New Roman"/>
              </a:rPr>
              <a:t>500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TextBox 9"/>
          <p:cNvSpPr/>
          <p:nvPr/>
        </p:nvSpPr>
        <p:spPr>
          <a:xfrm>
            <a:off x="1071720" y="2000160"/>
            <a:ext cx="757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Являются ли числа -2+3i и 2 -3i сопряженными (да или нет)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AutoShape 5"/>
          <p:cNvSpPr/>
          <p:nvPr/>
        </p:nvSpPr>
        <p:spPr>
          <a:xfrm>
            <a:off x="7885080" y="6165720"/>
            <a:ext cx="574560" cy="503280"/>
          </a:xfrm>
          <a:custGeom>
            <a:avLst/>
            <a:gdLst>
              <a:gd name="textAreaLeft" fmla="*/ 32400 w 574560"/>
              <a:gd name="textAreaRight" fmla="*/ 542160 w 5745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657" h="21600">
                <a:moveTo>
                  <a:pt x="0" y="0"/>
                </a:moveTo>
                <a:lnTo>
                  <a:pt x="24657" y="0"/>
                </a:lnTo>
                <a:lnTo>
                  <a:pt x="24657" y="21600"/>
                </a:lnTo>
                <a:lnTo>
                  <a:pt x="0" y="21600"/>
                </a:lnTo>
                <a:close/>
              </a:path>
              <a:path fill="lightenLess" w="24657" h="21600">
                <a:moveTo>
                  <a:pt x="0" y="0"/>
                </a:moveTo>
                <a:lnTo>
                  <a:pt x="24657" y="0"/>
                </a:lnTo>
                <a:lnTo>
                  <a:pt x="23257" y="1400"/>
                </a:lnTo>
                <a:lnTo>
                  <a:pt x="1400" y="1400"/>
                </a:lnTo>
                <a:close/>
              </a:path>
              <a:path fill="darken" w="24657" h="21600">
                <a:moveTo>
                  <a:pt x="24657" y="0"/>
                </a:moveTo>
                <a:lnTo>
                  <a:pt x="24657" y="21600"/>
                </a:lnTo>
                <a:lnTo>
                  <a:pt x="23257" y="20200"/>
                </a:lnTo>
                <a:lnTo>
                  <a:pt x="23257" y="1400"/>
                </a:lnTo>
                <a:close/>
              </a:path>
              <a:path fill="darkenLess" w="24657" h="21600">
                <a:moveTo>
                  <a:pt x="246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57" y="20200"/>
                </a:lnTo>
                <a:close/>
              </a:path>
              <a:path fill="lighten" w="246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57" h="21600">
                <a:moveTo>
                  <a:pt x="5322" y="3794"/>
                </a:moveTo>
                <a:lnTo>
                  <a:pt x="19335" y="10800"/>
                </a:lnTo>
                <a:lnTo>
                  <a:pt x="5322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Rectangle 6"/>
          <p:cNvSpPr/>
          <p:nvPr/>
        </p:nvSpPr>
        <p:spPr>
          <a:xfrm>
            <a:off x="3500280" y="4144680"/>
            <a:ext cx="52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Ответ: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ффик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Прямоугольник 8"/>
          <p:cNvSpPr/>
          <p:nvPr/>
        </p:nvSpPr>
        <p:spPr>
          <a:xfrm>
            <a:off x="3357720" y="142920"/>
            <a:ext cx="557208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ahoma"/>
                <a:ea typeface="Tahoma"/>
              </a:rPr>
              <a:t>Комплексные числа на координатной плоскост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TextBox 9"/>
          <p:cNvSpPr/>
          <p:nvPr/>
        </p:nvSpPr>
        <p:spPr>
          <a:xfrm>
            <a:off x="7500960" y="857160"/>
            <a:ext cx="135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10229"/>
                </a:solidFill>
                <a:latin typeface="Times New Roman"/>
                <a:ea typeface="Times New Roman"/>
              </a:rPr>
              <a:t>100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Rectangle 10"/>
          <p:cNvSpPr/>
          <p:nvPr/>
        </p:nvSpPr>
        <p:spPr>
          <a:xfrm>
            <a:off x="357120" y="2932200"/>
            <a:ext cx="742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к называется точка, соответствующая комплексному числу?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zoom dir="out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AutoShape 5"/>
          <p:cNvSpPr/>
          <p:nvPr/>
        </p:nvSpPr>
        <p:spPr>
          <a:xfrm>
            <a:off x="7740720" y="609300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3794"/>
                </a:moveTo>
                <a:lnTo>
                  <a:pt x="23206" y="10800"/>
                </a:lnTo>
                <a:lnTo>
                  <a:pt x="9194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Rectangle 6"/>
          <p:cNvSpPr/>
          <p:nvPr/>
        </p:nvSpPr>
        <p:spPr>
          <a:xfrm>
            <a:off x="642960" y="4719240"/>
            <a:ext cx="807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Ответ: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сь OX - действительная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OY - мнима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Прямоугольник 7"/>
          <p:cNvSpPr/>
          <p:nvPr/>
        </p:nvSpPr>
        <p:spPr>
          <a:xfrm>
            <a:off x="2108160" y="428760"/>
            <a:ext cx="585468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ahoma"/>
                <a:ea typeface="Tahoma"/>
              </a:rPr>
              <a:t>Комплексные числа на координатной плоскост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TextBox 8"/>
          <p:cNvSpPr/>
          <p:nvPr/>
        </p:nvSpPr>
        <p:spPr>
          <a:xfrm>
            <a:off x="7572240" y="857160"/>
            <a:ext cx="135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10229"/>
                </a:solidFill>
                <a:latin typeface="Times New Roman"/>
                <a:ea typeface="Times New Roman"/>
              </a:rPr>
              <a:t>200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Прямоугольник 9"/>
          <p:cNvSpPr/>
          <p:nvPr/>
        </p:nvSpPr>
        <p:spPr>
          <a:xfrm>
            <a:off x="714240" y="2214720"/>
            <a:ext cx="792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Как называются оси координат, OX и OY для комплексных чисел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zoom dir="out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AutoShape 5"/>
          <p:cNvSpPr/>
          <p:nvPr/>
        </p:nvSpPr>
        <p:spPr>
          <a:xfrm>
            <a:off x="7885080" y="6093000"/>
            <a:ext cx="647640" cy="50472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12" h="21600">
                <a:moveTo>
                  <a:pt x="0" y="0"/>
                </a:moveTo>
                <a:lnTo>
                  <a:pt x="27712" y="0"/>
                </a:lnTo>
                <a:lnTo>
                  <a:pt x="27712" y="21600"/>
                </a:lnTo>
                <a:lnTo>
                  <a:pt x="0" y="21600"/>
                </a:lnTo>
                <a:close/>
              </a:path>
              <a:path fill="lightenLess" w="27712" h="21600">
                <a:moveTo>
                  <a:pt x="0" y="0"/>
                </a:moveTo>
                <a:lnTo>
                  <a:pt x="27712" y="0"/>
                </a:lnTo>
                <a:lnTo>
                  <a:pt x="26312" y="1400"/>
                </a:lnTo>
                <a:lnTo>
                  <a:pt x="1400" y="1400"/>
                </a:lnTo>
                <a:close/>
              </a:path>
              <a:path fill="darken" w="27712" h="21600">
                <a:moveTo>
                  <a:pt x="27712" y="0"/>
                </a:moveTo>
                <a:lnTo>
                  <a:pt x="27712" y="21600"/>
                </a:lnTo>
                <a:lnTo>
                  <a:pt x="26312" y="20200"/>
                </a:lnTo>
                <a:lnTo>
                  <a:pt x="26312" y="1400"/>
                </a:lnTo>
                <a:close/>
              </a:path>
              <a:path fill="darkenLess" w="27712" h="21600">
                <a:moveTo>
                  <a:pt x="277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2" y="20200"/>
                </a:lnTo>
                <a:close/>
              </a:path>
              <a:path fill="lighten" w="277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2" h="21600">
                <a:moveTo>
                  <a:pt x="6850" y="3794"/>
                </a:moveTo>
                <a:lnTo>
                  <a:pt x="20863" y="10800"/>
                </a:lnTo>
                <a:lnTo>
                  <a:pt x="6850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Rectangle 6"/>
          <p:cNvSpPr/>
          <p:nvPr/>
        </p:nvSpPr>
        <p:spPr>
          <a:xfrm>
            <a:off x="3143160" y="3930480"/>
            <a:ext cx="542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Ответ: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исто мнимы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2643120" y="285840"/>
            <a:ext cx="4929120" cy="6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ahoma"/>
                <a:ea typeface="Tahoma"/>
              </a:rPr>
              <a:t>Комплексные числа на координатной плоскост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TextBox 8"/>
          <p:cNvSpPr/>
          <p:nvPr/>
        </p:nvSpPr>
        <p:spPr>
          <a:xfrm>
            <a:off x="7500960" y="142920"/>
            <a:ext cx="135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10229"/>
                </a:solidFill>
                <a:latin typeface="Times New Roman"/>
                <a:ea typeface="Times New Roman"/>
              </a:rPr>
              <a:t>300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Прямоугольник 9"/>
          <p:cNvSpPr/>
          <p:nvPr/>
        </p:nvSpPr>
        <p:spPr>
          <a:xfrm>
            <a:off x="1214280" y="2357280"/>
            <a:ext cx="657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Какие числа изображаются точками на мнимой оси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zoom dir="out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AutoShape 5"/>
          <p:cNvSpPr/>
          <p:nvPr/>
        </p:nvSpPr>
        <p:spPr>
          <a:xfrm>
            <a:off x="7740720" y="602136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3794"/>
                </a:moveTo>
                <a:lnTo>
                  <a:pt x="19374" y="10800"/>
                </a:lnTo>
                <a:lnTo>
                  <a:pt x="5361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Rectangle 6"/>
          <p:cNvSpPr/>
          <p:nvPr/>
        </p:nvSpPr>
        <p:spPr>
          <a:xfrm>
            <a:off x="500040" y="4434120"/>
            <a:ext cx="8286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ни изображаются точками, симметричными относительно оси OX, так как это сопряженные числ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Прямоугольник 7"/>
          <p:cNvSpPr/>
          <p:nvPr/>
        </p:nvSpPr>
        <p:spPr>
          <a:xfrm>
            <a:off x="2535120" y="142920"/>
            <a:ext cx="650088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ahoma"/>
                <a:ea typeface="Tahoma"/>
              </a:rPr>
              <a:t>Комплексные числа на координатной плоскост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TextBox 8"/>
          <p:cNvSpPr/>
          <p:nvPr/>
        </p:nvSpPr>
        <p:spPr>
          <a:xfrm>
            <a:off x="7572240" y="714240"/>
            <a:ext cx="135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10229"/>
                </a:solidFill>
                <a:latin typeface="Times New Roman"/>
                <a:ea typeface="Times New Roman"/>
              </a:rPr>
              <a:t>400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TextBox 10"/>
          <p:cNvSpPr/>
          <p:nvPr/>
        </p:nvSpPr>
        <p:spPr>
          <a:xfrm>
            <a:off x="785880" y="1857240"/>
            <a:ext cx="7643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лоскости изображены числа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+2i и 5-2i . Какова особенность их взаиморасположения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zoom dir="out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AutoShape 5"/>
          <p:cNvSpPr/>
          <p:nvPr/>
        </p:nvSpPr>
        <p:spPr>
          <a:xfrm>
            <a:off x="7956720" y="5805360"/>
            <a:ext cx="826920" cy="503280"/>
          </a:xfrm>
          <a:custGeom>
            <a:avLst/>
            <a:gdLst>
              <a:gd name="textAreaLeft" fmla="*/ 32400 w 826920"/>
              <a:gd name="textAreaRight" fmla="*/ 794520 w 826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5480" h="21600">
                <a:moveTo>
                  <a:pt x="0" y="0"/>
                </a:moveTo>
                <a:lnTo>
                  <a:pt x="35480" y="0"/>
                </a:lnTo>
                <a:lnTo>
                  <a:pt x="35480" y="21600"/>
                </a:lnTo>
                <a:lnTo>
                  <a:pt x="0" y="21600"/>
                </a:lnTo>
                <a:close/>
              </a:path>
              <a:path fill="lightenLess" w="35480" h="21600">
                <a:moveTo>
                  <a:pt x="0" y="0"/>
                </a:moveTo>
                <a:lnTo>
                  <a:pt x="35480" y="0"/>
                </a:lnTo>
                <a:lnTo>
                  <a:pt x="34080" y="1400"/>
                </a:lnTo>
                <a:lnTo>
                  <a:pt x="1400" y="1400"/>
                </a:lnTo>
                <a:close/>
              </a:path>
              <a:path fill="darken" w="35480" h="21600">
                <a:moveTo>
                  <a:pt x="35480" y="0"/>
                </a:moveTo>
                <a:lnTo>
                  <a:pt x="35480" y="21600"/>
                </a:lnTo>
                <a:lnTo>
                  <a:pt x="34080" y="20200"/>
                </a:lnTo>
                <a:lnTo>
                  <a:pt x="34080" y="1400"/>
                </a:lnTo>
                <a:close/>
              </a:path>
              <a:path fill="darkenLess" w="35480" h="21600">
                <a:moveTo>
                  <a:pt x="354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080" y="20200"/>
                </a:lnTo>
                <a:close/>
              </a:path>
              <a:path fill="lighten" w="354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480" h="21600">
                <a:moveTo>
                  <a:pt x="10734" y="3794"/>
                </a:moveTo>
                <a:lnTo>
                  <a:pt x="24747" y="10800"/>
                </a:lnTo>
                <a:lnTo>
                  <a:pt x="10734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Rectangle 6"/>
          <p:cNvSpPr/>
          <p:nvPr/>
        </p:nvSpPr>
        <p:spPr>
          <a:xfrm>
            <a:off x="500040" y="4506120"/>
            <a:ext cx="66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Ответ: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ни симметричны относительно начала координат, так как являются противоположным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Прямоугольник 7"/>
          <p:cNvSpPr/>
          <p:nvPr/>
        </p:nvSpPr>
        <p:spPr>
          <a:xfrm>
            <a:off x="3036960" y="142920"/>
            <a:ext cx="585468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ahoma"/>
                <a:ea typeface="Tahoma"/>
              </a:rPr>
              <a:t>Комплексные числа на координатной плоскост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TextBox 8"/>
          <p:cNvSpPr/>
          <p:nvPr/>
        </p:nvSpPr>
        <p:spPr>
          <a:xfrm>
            <a:off x="7500960" y="785880"/>
            <a:ext cx="135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10229"/>
                </a:solidFill>
                <a:latin typeface="Times New Roman"/>
                <a:ea typeface="Times New Roman"/>
              </a:rPr>
              <a:t>500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TextBox 9"/>
          <p:cNvSpPr/>
          <p:nvPr/>
        </p:nvSpPr>
        <p:spPr>
          <a:xfrm>
            <a:off x="500040" y="2000160"/>
            <a:ext cx="8215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и соответствуют числам -4-i и 4+i. Какова особенность их взаиморасположения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zoom dir="out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WordArt 2"/>
          <p:cNvSpPr txBox="1"/>
          <p:nvPr/>
        </p:nvSpPr>
        <p:spPr>
          <a:xfrm rot="21435600">
            <a:off x="899640" y="620280"/>
            <a:ext cx="7201080" cy="51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121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2862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Финальный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2862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2862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тур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2862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525" name="TextBox 2"/>
          <p:cNvSpPr/>
          <p:nvPr/>
        </p:nvSpPr>
        <p:spPr>
          <a:xfrm>
            <a:off x="1000080" y="5786280"/>
            <a:ext cx="657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художников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5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Box 1"/>
          <p:cNvSpPr/>
          <p:nvPr/>
        </p:nvSpPr>
        <p:spPr>
          <a:xfrm>
            <a:off x="357120" y="785880"/>
            <a:ext cx="82868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Легенда</a:t>
            </a:r>
            <a:br>
              <a:rPr sz="1800"/>
            </a:br>
            <a:br>
              <a:rPr sz="18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ревних греков существовала легенда о созвездиях Большой и Малой Медведиц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могущий бог Зевс решил взять себе в жены прекрасную нимфу Калисто, одну из служанок богини Афродиты, вопреки желанию последней. Чтобы избавить Калисто от преследований богини, Зевс обратил Калисто в Большую Медведицу, а её любимую собаку - в Малую Медведицу и взял их на небо.</a:t>
            </a:r>
            <a:br>
              <a:rPr sz="2400"/>
            </a:b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о данным числам постройте рисунки в прямоугольной системе координа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Цена вопроса: 1 – 500, 2 – 400, и т.д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Box 1"/>
          <p:cNvSpPr/>
          <p:nvPr/>
        </p:nvSpPr>
        <p:spPr>
          <a:xfrm>
            <a:off x="571680" y="1000080"/>
            <a:ext cx="8143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"Комплексное число 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это тонкое и поразительное средство божественного духа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очти амфибия между бытием и небытием"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Г. Лейбни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Рисунок 7" descr="f9.gif"/>
          <p:cNvPicPr/>
          <p:nvPr/>
        </p:nvPicPr>
        <p:blipFill>
          <a:blip r:embed="rId1"/>
          <a:stretch/>
        </p:blipFill>
        <p:spPr>
          <a:xfrm>
            <a:off x="2700360" y="3429000"/>
            <a:ext cx="3147840" cy="3083040"/>
          </a:xfrm>
          <a:prstGeom prst="rect">
            <a:avLst/>
          </a:prstGeom>
          <a:ln w="0">
            <a:noFill/>
          </a:ln>
        </p:spPr>
      </p:pic>
      <p:pic>
        <p:nvPicPr>
          <p:cNvPr id="528" name="Рисунок 8" descr="3.gif"/>
          <p:cNvPicPr/>
          <p:nvPr/>
        </p:nvPicPr>
        <p:blipFill>
          <a:blip r:embed="rId2"/>
          <a:stretch/>
        </p:blipFill>
        <p:spPr>
          <a:xfrm rot="4041600">
            <a:off x="5625720" y="3143160"/>
            <a:ext cx="971280" cy="2152440"/>
          </a:xfrm>
          <a:prstGeom prst="rect">
            <a:avLst/>
          </a:prstGeom>
          <a:ln w="0">
            <a:noFill/>
          </a:ln>
        </p:spPr>
      </p:pic>
      <p:pic>
        <p:nvPicPr>
          <p:cNvPr id="529" name="Рисунок 9" descr="3.gif"/>
          <p:cNvPicPr/>
          <p:nvPr/>
        </p:nvPicPr>
        <p:blipFill>
          <a:blip r:embed="rId3"/>
          <a:stretch/>
        </p:blipFill>
        <p:spPr>
          <a:xfrm rot="2229000">
            <a:off x="4979520" y="2568600"/>
            <a:ext cx="971640" cy="2152800"/>
          </a:xfrm>
          <a:prstGeom prst="rect">
            <a:avLst/>
          </a:prstGeom>
          <a:ln w="0">
            <a:noFill/>
          </a:ln>
        </p:spPr>
      </p:pic>
      <p:pic>
        <p:nvPicPr>
          <p:cNvPr id="530" name="Рисунок 10" descr="3.gif"/>
          <p:cNvPicPr/>
          <p:nvPr/>
        </p:nvPicPr>
        <p:blipFill>
          <a:blip r:embed="rId4"/>
          <a:stretch/>
        </p:blipFill>
        <p:spPr>
          <a:xfrm>
            <a:off x="4140360" y="2205000"/>
            <a:ext cx="971280" cy="2152800"/>
          </a:xfrm>
          <a:prstGeom prst="rect">
            <a:avLst/>
          </a:prstGeom>
          <a:ln w="0">
            <a:noFill/>
          </a:ln>
        </p:spPr>
      </p:pic>
      <p:pic>
        <p:nvPicPr>
          <p:cNvPr id="531" name="Рисунок 11" descr="3.gif"/>
          <p:cNvPicPr/>
          <p:nvPr/>
        </p:nvPicPr>
        <p:blipFill>
          <a:blip r:embed="rId5"/>
          <a:stretch/>
        </p:blipFill>
        <p:spPr>
          <a:xfrm rot="18540000">
            <a:off x="3139920" y="2110680"/>
            <a:ext cx="971640" cy="2152800"/>
          </a:xfrm>
          <a:prstGeom prst="rect">
            <a:avLst/>
          </a:prstGeom>
          <a:ln w="0">
            <a:noFill/>
          </a:ln>
        </p:spPr>
      </p:pic>
      <p:pic>
        <p:nvPicPr>
          <p:cNvPr id="532" name="Рисунок 14" descr="3.gif"/>
          <p:cNvPicPr/>
          <p:nvPr/>
        </p:nvPicPr>
        <p:blipFill>
          <a:blip r:embed="rId6"/>
          <a:stretch/>
        </p:blipFill>
        <p:spPr>
          <a:xfrm rot="17097600">
            <a:off x="2442960" y="2594880"/>
            <a:ext cx="971640" cy="2152800"/>
          </a:xfrm>
          <a:prstGeom prst="rect">
            <a:avLst/>
          </a:prstGeom>
          <a:ln w="0">
            <a:noFill/>
          </a:ln>
        </p:spPr>
      </p:pic>
      <p:pic>
        <p:nvPicPr>
          <p:cNvPr id="533" name="Рисунок 15" descr="3.gif"/>
          <p:cNvPicPr/>
          <p:nvPr/>
        </p:nvPicPr>
        <p:blipFill>
          <a:blip r:embed="rId7"/>
          <a:stretch/>
        </p:blipFill>
        <p:spPr>
          <a:xfrm rot="17097600">
            <a:off x="2011320" y="3460680"/>
            <a:ext cx="971280" cy="2152440"/>
          </a:xfrm>
          <a:prstGeom prst="rect">
            <a:avLst/>
          </a:prstGeom>
          <a:ln w="0">
            <a:noFill/>
          </a:ln>
        </p:spPr>
      </p:pic>
      <p:pic>
        <p:nvPicPr>
          <p:cNvPr id="534" name="Прямоугольник 19" descr=""/>
          <p:cNvPicPr/>
          <p:nvPr/>
        </p:nvPicPr>
        <p:blipFill>
          <a:blip r:embed="rId8"/>
          <a:stretch/>
        </p:blipFill>
        <p:spPr>
          <a:xfrm>
            <a:off x="749160" y="396720"/>
            <a:ext cx="7645680" cy="2127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9" name="applause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Box 1"/>
          <p:cNvSpPr/>
          <p:nvPr/>
        </p:nvSpPr>
        <p:spPr>
          <a:xfrm>
            <a:off x="214200" y="0"/>
            <a:ext cx="871560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нятие комплексного числа  значительно расширяет их применение, комплексные числа применяются в  решении  различных задач как алгебраического, так и геометрического содержания, в решении алгебраических уравнений любой степен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настоящее время стала бурно развиваться одна из важнейших ветвей математического анализа - теория функции комплексного переменног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етоды  этой теории функции комплексной переменной используется при построении фракталов. Фракталы находят применение, например,  в компьютерном дизайне, в алгоритмах сжатия информации, используются при анализе и классификации сигналов сложной формы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           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ольшое значение комплексных чисел в математике и её приложениях широко известно. Их изучение имеет самостоятельный интерес. Алгебру комплексных чисел можно успешно использовать в элементарной геометрии, тригонометрии, теории геометрических преобразований, а также в электротехнике и различных задачах с механическим и физическим содержание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етод комплексных чисел позволяет решать планиметрические задачи по готовым формулам.  Выбор этих формул диктуется условиями задачи и ее требованием. С помощью комплексных чисел исследуется течение воды, полет самолетов и ракет. Применяются они при вычерчивании географических карт, используются для изучения явлений в атомах и атомных ядрах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Рисунок 1" descr="1026a4f67ec5b78e31bda72a7d4bb186.gif"/>
          <p:cNvPicPr/>
          <p:nvPr/>
        </p:nvPicPr>
        <p:blipFill>
          <a:blip r:embed="rId1"/>
          <a:stretch/>
        </p:blipFill>
        <p:spPr>
          <a:xfrm rot="6165600">
            <a:off x="1740240" y="2712240"/>
            <a:ext cx="2890800" cy="3200400"/>
          </a:xfrm>
          <a:prstGeom prst="rect">
            <a:avLst/>
          </a:prstGeom>
          <a:ln w="0">
            <a:noFill/>
          </a:ln>
        </p:spPr>
      </p:pic>
      <p:pic>
        <p:nvPicPr>
          <p:cNvPr id="537" name="Рисунок 2" descr="1026a4f67ec5b78e31bda72a7d4bb186.gif"/>
          <p:cNvPicPr/>
          <p:nvPr/>
        </p:nvPicPr>
        <p:blipFill>
          <a:blip r:embed="rId2"/>
          <a:stretch/>
        </p:blipFill>
        <p:spPr>
          <a:xfrm rot="19585800">
            <a:off x="2711160" y="3833280"/>
            <a:ext cx="1020600" cy="1130400"/>
          </a:xfrm>
          <a:prstGeom prst="rect">
            <a:avLst/>
          </a:prstGeom>
          <a:ln w="0">
            <a:noFill/>
          </a:ln>
        </p:spPr>
      </p:pic>
      <p:pic>
        <p:nvPicPr>
          <p:cNvPr id="538" name="Рисунок 3" descr="1026a4f67ec5b78e31bda72a7d4bb186.gif"/>
          <p:cNvPicPr/>
          <p:nvPr/>
        </p:nvPicPr>
        <p:blipFill>
          <a:blip r:embed="rId3"/>
          <a:stretch/>
        </p:blipFill>
        <p:spPr>
          <a:xfrm rot="19585800">
            <a:off x="5845320" y="4470120"/>
            <a:ext cx="1022040" cy="1266840"/>
          </a:xfrm>
          <a:prstGeom prst="rect">
            <a:avLst/>
          </a:prstGeom>
          <a:ln w="0">
            <a:noFill/>
          </a:ln>
        </p:spPr>
      </p:pic>
      <p:pic>
        <p:nvPicPr>
          <p:cNvPr id="539" name="Рисунок 4" descr="1026a4f67ec5b78e31bda72a7d4bb186.gif"/>
          <p:cNvPicPr/>
          <p:nvPr/>
        </p:nvPicPr>
        <p:blipFill>
          <a:blip r:embed="rId4"/>
          <a:stretch/>
        </p:blipFill>
        <p:spPr>
          <a:xfrm rot="17983800">
            <a:off x="4711320" y="2593440"/>
            <a:ext cx="2892600" cy="3200400"/>
          </a:xfrm>
          <a:prstGeom prst="rect">
            <a:avLst/>
          </a:prstGeom>
          <a:ln w="0">
            <a:noFill/>
          </a:ln>
        </p:spPr>
      </p:pic>
      <p:pic>
        <p:nvPicPr>
          <p:cNvPr id="540" name="Содержимое 17" descr="Mouse32.gif"/>
          <p:cNvPicPr/>
          <p:nvPr/>
        </p:nvPicPr>
        <p:blipFill>
          <a:blip r:embed="rId5"/>
          <a:stretch/>
        </p:blipFill>
        <p:spPr>
          <a:xfrm>
            <a:off x="3851280" y="3645000"/>
            <a:ext cx="1905120" cy="1190520"/>
          </a:xfrm>
          <a:prstGeom prst="rect">
            <a:avLst/>
          </a:prstGeom>
          <a:ln w="0">
            <a:noFill/>
          </a:ln>
        </p:spPr>
      </p:pic>
      <p:pic>
        <p:nvPicPr>
          <p:cNvPr id="541" name="Рисунок 6" descr="1026a4f67ec5b78e31bda72a7d4bb186.gif"/>
          <p:cNvPicPr/>
          <p:nvPr/>
        </p:nvPicPr>
        <p:blipFill>
          <a:blip r:embed="rId6"/>
          <a:stretch/>
        </p:blipFill>
        <p:spPr>
          <a:xfrm rot="19585800">
            <a:off x="5511600" y="3569760"/>
            <a:ext cx="1110960" cy="1130400"/>
          </a:xfrm>
          <a:prstGeom prst="rect">
            <a:avLst/>
          </a:prstGeom>
          <a:ln w="0">
            <a:noFill/>
          </a:ln>
        </p:spPr>
      </p:pic>
      <p:pic>
        <p:nvPicPr>
          <p:cNvPr id="542" name="Прямоугольник 7" descr=""/>
          <p:cNvPicPr/>
          <p:nvPr/>
        </p:nvPicPr>
        <p:blipFill>
          <a:blip r:embed="rId7"/>
          <a:stretch/>
        </p:blipFill>
        <p:spPr>
          <a:xfrm>
            <a:off x="566640" y="920880"/>
            <a:ext cx="8369280" cy="18158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  <p:sndAc>
      <p:stSnd>
        <p:snd r:embed="rId8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Прямоугольник 1" descr=""/>
          <p:cNvPicPr/>
          <p:nvPr/>
        </p:nvPicPr>
        <p:blipFill>
          <a:blip r:embed="rId1"/>
          <a:stretch/>
        </p:blipFill>
        <p:spPr>
          <a:xfrm>
            <a:off x="285840" y="738360"/>
            <a:ext cx="8358120" cy="8661240"/>
          </a:xfrm>
          <a:prstGeom prst="rect">
            <a:avLst/>
          </a:prstGeom>
          <a:ln w="0">
            <a:noFill/>
          </a:ln>
        </p:spPr>
      </p:pic>
      <p:pic>
        <p:nvPicPr>
          <p:cNvPr id="383" name="Рисунок 2" descr="1026a4f67ec5b78e31bda72a7d4bb186.gif"/>
          <p:cNvPicPr/>
          <p:nvPr/>
        </p:nvPicPr>
        <p:blipFill>
          <a:blip r:embed="rId2"/>
          <a:stretch/>
        </p:blipFill>
        <p:spPr>
          <a:xfrm rot="19585800">
            <a:off x="6637320" y="4181040"/>
            <a:ext cx="1020960" cy="1266840"/>
          </a:xfrm>
          <a:prstGeom prst="rect">
            <a:avLst/>
          </a:prstGeom>
          <a:ln w="0">
            <a:noFill/>
          </a:ln>
        </p:spPr>
      </p:pic>
      <p:pic>
        <p:nvPicPr>
          <p:cNvPr id="384" name="Рисунок 3" descr="1026a4f67ec5b78e31bda72a7d4bb186.gif"/>
          <p:cNvPicPr/>
          <p:nvPr/>
        </p:nvPicPr>
        <p:blipFill>
          <a:blip r:embed="rId3"/>
          <a:stretch/>
        </p:blipFill>
        <p:spPr>
          <a:xfrm rot="19585800">
            <a:off x="6080040" y="3673080"/>
            <a:ext cx="2890800" cy="3200400"/>
          </a:xfrm>
          <a:prstGeom prst="rect">
            <a:avLst/>
          </a:prstGeom>
          <a:ln w="0">
            <a:noFill/>
          </a:ln>
        </p:spPr>
      </p:pic>
      <p:pic>
        <p:nvPicPr>
          <p:cNvPr id="385" name="Рисунок 4" descr="1026a4f67ec5b78e31bda72a7d4bb186.gif"/>
          <p:cNvPicPr/>
          <p:nvPr/>
        </p:nvPicPr>
        <p:blipFill>
          <a:blip r:embed="rId4"/>
          <a:stretch/>
        </p:blipFill>
        <p:spPr>
          <a:xfrm rot="19585800">
            <a:off x="6637320" y="4181040"/>
            <a:ext cx="1020960" cy="1266840"/>
          </a:xfrm>
          <a:prstGeom prst="rect">
            <a:avLst/>
          </a:prstGeom>
          <a:ln w="0">
            <a:noFill/>
          </a:ln>
        </p:spPr>
      </p:pic>
      <p:pic>
        <p:nvPicPr>
          <p:cNvPr id="386" name="Рисунок 4" descr="1026a4f67ec5b78e31bda72a7d4bb186.gif"/>
          <p:cNvPicPr/>
          <p:nvPr/>
        </p:nvPicPr>
        <p:blipFill>
          <a:blip r:embed="rId5"/>
          <a:stretch/>
        </p:blipFill>
        <p:spPr>
          <a:xfrm rot="19585800">
            <a:off x="7358040" y="364680"/>
            <a:ext cx="1020960" cy="1266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7" name=""/>
          <p:cNvGraphicFramePr/>
          <p:nvPr/>
        </p:nvGraphicFramePr>
        <p:xfrm>
          <a:off x="324000" y="836640"/>
          <a:ext cx="8424720" cy="4933800"/>
        </p:xfrm>
        <a:graphic>
          <a:graphicData uri="http://schemas.openxmlformats.org/drawingml/2006/table">
            <a:tbl>
              <a:tblPr/>
              <a:tblGrid>
                <a:gridCol w="3620880"/>
                <a:gridCol w="946080"/>
                <a:gridCol w="1022400"/>
                <a:gridCol w="1023840"/>
                <a:gridCol w="1024200"/>
                <a:gridCol w="787320"/>
              </a:tblGrid>
              <a:tr h="511200"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Темы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ту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Стоимость вопрос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2320"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Теоретические фак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f8119"/>
                          </a:solidFill>
                          <a:uFillTx/>
                          <a:latin typeface="Tahoma"/>
                          <a:ea typeface="Tahoma"/>
                          <a:hlinkClick r:id="rId1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f8119"/>
                          </a:solidFill>
                          <a:uFillTx/>
                          <a:latin typeface="Tahoma"/>
                          <a:ea typeface="Tahoma"/>
                          <a:hlinkClick r:id="rId2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f8119"/>
                          </a:solidFill>
                          <a:uFillTx/>
                          <a:latin typeface="Tahoma"/>
                          <a:ea typeface="Tahoma"/>
                          <a:hlinkClick r:id="rId3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f8119"/>
                          </a:solidFill>
                          <a:uFillTx/>
                          <a:latin typeface="Tahoma"/>
                          <a:ea typeface="Tahoma"/>
                          <a:hlinkClick r:id="rId4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f8119"/>
                          </a:solidFill>
                          <a:uFillTx/>
                          <a:latin typeface="Tahoma"/>
                          <a:ea typeface="Tahoma"/>
                          <a:hlinkClick r:id="rId5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3440"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Действия с комплексными числа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f8119"/>
                          </a:solidFill>
                          <a:uFillTx/>
                          <a:latin typeface="Tahoma"/>
                          <a:ea typeface="Tahoma"/>
                          <a:hlinkClick r:id="rId6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f8119"/>
                          </a:solidFill>
                          <a:uFillTx/>
                          <a:latin typeface="Tahoma"/>
                          <a:ea typeface="Tahoma"/>
                          <a:hlinkClick r:id="rId7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f8119"/>
                          </a:solidFill>
                          <a:uFillTx/>
                          <a:latin typeface="Tahoma"/>
                          <a:ea typeface="Tahoma"/>
                          <a:hlinkClick r:id="rId8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f8119"/>
                          </a:solidFill>
                          <a:uFillTx/>
                          <a:latin typeface="Tahoma"/>
                          <a:ea typeface="Tahoma"/>
                          <a:hlinkClick r:id="rId9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f8119"/>
                          </a:solidFill>
                          <a:uFillTx/>
                          <a:latin typeface="Tahoma"/>
                          <a:ea typeface="Tahoma"/>
                          <a:hlinkClick r:id="rId10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Применение зна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f8119"/>
                          </a:solidFill>
                          <a:uFillTx/>
                          <a:latin typeface="Tahoma"/>
                          <a:ea typeface="Tahoma"/>
                          <a:hlinkClick r:id="rId11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f8119"/>
                          </a:solidFill>
                          <a:uFillTx/>
                          <a:latin typeface="Tahoma"/>
                          <a:ea typeface="Tahoma"/>
                          <a:hlinkClick r:id="rId12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f8119"/>
                          </a:solidFill>
                          <a:uFillTx/>
                          <a:latin typeface="Tahoma"/>
                          <a:ea typeface="Tahoma"/>
                          <a:hlinkClick r:id="rId13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f8119"/>
                          </a:solidFill>
                          <a:uFillTx/>
                          <a:latin typeface="Tahoma"/>
                          <a:ea typeface="Tahoma"/>
                          <a:hlinkClick r:id="rId14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f8119"/>
                          </a:solidFill>
                          <a:uFillTx/>
                          <a:latin typeface="Tahoma"/>
                          <a:ea typeface="Tahoma"/>
                          <a:hlinkClick r:id="rId15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1800"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Комплексные числа на координатной плоск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f8119"/>
                          </a:solidFill>
                          <a:uFillTx/>
                          <a:latin typeface="Tahoma"/>
                          <a:ea typeface="Tahoma"/>
                          <a:hlinkClick r:id="rId16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f8119"/>
                          </a:solidFill>
                          <a:uFillTx/>
                          <a:latin typeface="Tahoma"/>
                          <a:ea typeface="Tahoma"/>
                          <a:hlinkClick r:id="rId17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f8119"/>
                          </a:solidFill>
                          <a:uFillTx/>
                          <a:latin typeface="Tahoma"/>
                          <a:ea typeface="Tahoma"/>
                          <a:hlinkClick r:id="rId18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f8119"/>
                          </a:solidFill>
                          <a:uFillTx/>
                          <a:latin typeface="Tahoma"/>
                          <a:ea typeface="Tahoma"/>
                          <a:hlinkClick r:id="rId19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f8119"/>
                          </a:solidFill>
                          <a:uFillTx/>
                          <a:latin typeface="Tahoma"/>
                          <a:ea typeface="Tahoma"/>
                          <a:hlinkClick r:id="rId20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8" name="AutoShape 43">
            <a:hlinkClick r:id="rId21" action="ppaction://hlinksldjump"/>
          </p:cNvPr>
          <p:cNvSpPr/>
          <p:nvPr/>
        </p:nvSpPr>
        <p:spPr>
          <a:xfrm>
            <a:off x="77407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3794"/>
                </a:moveTo>
                <a:lnTo>
                  <a:pt x="23998" y="10800"/>
                </a:lnTo>
                <a:lnTo>
                  <a:pt x="9985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Дата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F3F4E-157A-473F-9097-58862C6BB674}" type="datetime">
              <a:rPr b="0" lang="ru-RU" sz="1000" spc="-1" strike="noStrike">
                <a:solidFill>
                  <a:srgbClr val="000000"/>
                </a:solidFill>
                <a:latin typeface="Tahom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Номер слайда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C7AC8-F75D-41E7-B1F5-DECE259AF0D0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TextBox 3"/>
          <p:cNvSpPr/>
          <p:nvPr/>
        </p:nvSpPr>
        <p:spPr>
          <a:xfrm>
            <a:off x="2786040" y="0"/>
            <a:ext cx="4500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етические факт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TextBox 4"/>
          <p:cNvSpPr/>
          <p:nvPr/>
        </p:nvSpPr>
        <p:spPr>
          <a:xfrm>
            <a:off x="7215120" y="785880"/>
            <a:ext cx="135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10229"/>
                </a:solidFill>
                <a:latin typeface="Times New Roman"/>
                <a:ea typeface="Times New Roman"/>
              </a:rPr>
              <a:t>100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Прямоугольник 11">
            <a:hlinkClick r:id="rId1" action="ppaction://hlinksldjump"/>
          </p:cNvPr>
          <p:cNvSpPr/>
          <p:nvPr/>
        </p:nvSpPr>
        <p:spPr>
          <a:xfrm>
            <a:off x="3929040" y="407196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элемент </a:t>
            </a: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 = -1</a:t>
            </a:r>
            <a:r>
              <a:rPr b="1" i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Rectangle 1">
            <a:hlinkClick r:id="rId2" action="ppaction://hlinksldjump"/>
          </p:cNvPr>
          <p:cNvSpPr/>
          <p:nvPr/>
        </p:nvSpPr>
        <p:spPr>
          <a:xfrm>
            <a:off x="500040" y="1872720"/>
            <a:ext cx="8286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мнимая единица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AutoShape 43">
            <a:hlinkClick r:id="rId3" action="ppaction://hlinksldjump"/>
          </p:cNvPr>
          <p:cNvSpPr/>
          <p:nvPr/>
        </p:nvSpPr>
        <p:spPr>
          <a:xfrm>
            <a:off x="6500880" y="614376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3794"/>
                </a:moveTo>
                <a:lnTo>
                  <a:pt x="23998" y="10800"/>
                </a:lnTo>
                <a:lnTo>
                  <a:pt x="9985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Дата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E192D-1927-423B-8746-830302733639}" type="datetime">
              <a:rPr b="0" lang="ru-RU" sz="1000" spc="-1" strike="noStrike">
                <a:solidFill>
                  <a:srgbClr val="000000"/>
                </a:solidFill>
                <a:latin typeface="Tahom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Номер слайда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193A6-E950-4CD9-88C4-F4920F945351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TextBox 3"/>
          <p:cNvSpPr/>
          <p:nvPr/>
        </p:nvSpPr>
        <p:spPr>
          <a:xfrm>
            <a:off x="2786040" y="0"/>
            <a:ext cx="4071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етические факт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TextBox 4"/>
          <p:cNvSpPr/>
          <p:nvPr/>
        </p:nvSpPr>
        <p:spPr>
          <a:xfrm>
            <a:off x="7500960" y="428760"/>
            <a:ext cx="135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10229"/>
                </a:solidFill>
                <a:latin typeface="Times New Roman"/>
                <a:ea typeface="Times New Roman"/>
              </a:rPr>
              <a:t>200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Прямоугольник 11">
            <a:hlinkClick r:id="rId1" action="ppaction://hlinksldjump"/>
          </p:cNvPr>
          <p:cNvSpPr/>
          <p:nvPr/>
        </p:nvSpPr>
        <p:spPr>
          <a:xfrm>
            <a:off x="3786120" y="3786120"/>
            <a:ext cx="5143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вет: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нимыми или комплексным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Rectangle 1"/>
          <p:cNvSpPr/>
          <p:nvPr/>
        </p:nvSpPr>
        <p:spPr>
          <a:xfrm>
            <a:off x="357120" y="1437840"/>
            <a:ext cx="7643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ими числами являются корни четной степени из отрицательных чисел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AutoShape 43">
            <a:hlinkClick r:id="rId2" action="ppaction://hlinksldjump"/>
          </p:cNvPr>
          <p:cNvSpPr/>
          <p:nvPr/>
        </p:nvSpPr>
        <p:spPr>
          <a:xfrm>
            <a:off x="6500880" y="614376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3794"/>
                </a:moveTo>
                <a:lnTo>
                  <a:pt x="23998" y="10800"/>
                </a:lnTo>
                <a:lnTo>
                  <a:pt x="9985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Дата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B96CE-E794-4BE4-93A0-2C8B51EF97BA}" type="datetime">
              <a:rPr b="0" lang="ru-RU" sz="1000" spc="-1" strike="noStrike">
                <a:solidFill>
                  <a:srgbClr val="000000"/>
                </a:solidFill>
                <a:latin typeface="Tahom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Номер слайда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97B4C-EB31-4806-8C4C-BBCB3B8F0CDD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TextBox 3"/>
          <p:cNvSpPr/>
          <p:nvPr/>
        </p:nvSpPr>
        <p:spPr>
          <a:xfrm>
            <a:off x="2428920" y="214200"/>
            <a:ext cx="42148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етические факт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TextBox 4"/>
          <p:cNvSpPr/>
          <p:nvPr/>
        </p:nvSpPr>
        <p:spPr>
          <a:xfrm>
            <a:off x="7643880" y="214200"/>
            <a:ext cx="135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10229"/>
                </a:solidFill>
                <a:latin typeface="Times New Roman"/>
                <a:ea typeface="Times New Roman"/>
              </a:rPr>
              <a:t>300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Прямоугольник 11">
            <a:hlinkClick r:id="rId1" action="ppaction://hlinksldjump"/>
          </p:cNvPr>
          <p:cNvSpPr/>
          <p:nvPr/>
        </p:nvSpPr>
        <p:spPr>
          <a:xfrm>
            <a:off x="4643280" y="5072040"/>
            <a:ext cx="413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вет: Нет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Rectangle 1"/>
          <p:cNvSpPr/>
          <p:nvPr/>
        </p:nvSpPr>
        <p:spPr>
          <a:xfrm>
            <a:off x="357120" y="1937880"/>
            <a:ext cx="8358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рни четной степени из отрицательных чисел являются числами действительными (да или нет)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AutoShape 43">
            <a:hlinkClick r:id="rId2" action="ppaction://hlinksldjump"/>
          </p:cNvPr>
          <p:cNvSpPr/>
          <p:nvPr/>
        </p:nvSpPr>
        <p:spPr>
          <a:xfrm>
            <a:off x="6500880" y="614376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3794"/>
                </a:moveTo>
                <a:lnTo>
                  <a:pt x="23998" y="10800"/>
                </a:lnTo>
                <a:lnTo>
                  <a:pt x="9985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Дата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2B0F8-CEB4-43C6-B6EC-2705FAB8FEC5}" type="datetime">
              <a:rPr b="0" lang="ru-RU" sz="1000" spc="-1" strike="noStrike">
                <a:solidFill>
                  <a:srgbClr val="000000"/>
                </a:solidFill>
                <a:latin typeface="Tahom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Номер слайда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63DED-900C-4604-BAC7-447642F6E1A9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TextBox 3"/>
          <p:cNvSpPr/>
          <p:nvPr/>
        </p:nvSpPr>
        <p:spPr>
          <a:xfrm>
            <a:off x="2571840" y="0"/>
            <a:ext cx="39290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етические факт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TextBox 4"/>
          <p:cNvSpPr/>
          <p:nvPr/>
        </p:nvSpPr>
        <p:spPr>
          <a:xfrm>
            <a:off x="7500960" y="714240"/>
            <a:ext cx="135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10229"/>
                </a:solidFill>
                <a:latin typeface="Times New Roman"/>
                <a:ea typeface="Times New Roman"/>
              </a:rPr>
              <a:t>400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Прямоугольник 11">
            <a:hlinkClick r:id="rId1" action="ppaction://hlinksldjump"/>
          </p:cNvPr>
          <p:cNvSpPr/>
          <p:nvPr/>
        </p:nvSpPr>
        <p:spPr>
          <a:xfrm>
            <a:off x="4500720" y="5286240"/>
            <a:ext cx="42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вет: Нет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Rectangle 1"/>
          <p:cNvSpPr/>
          <p:nvPr/>
        </p:nvSpPr>
        <p:spPr>
          <a:xfrm>
            <a:off x="642960" y="1937880"/>
            <a:ext cx="7643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ожно ли сказать, какое из двух комплексных чисел больше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AutoShape 43">
            <a:hlinkClick r:id="rId2" action="ppaction://hlinksldjump"/>
          </p:cNvPr>
          <p:cNvSpPr/>
          <p:nvPr/>
        </p:nvSpPr>
        <p:spPr>
          <a:xfrm>
            <a:off x="6500880" y="614376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3794"/>
                </a:moveTo>
                <a:lnTo>
                  <a:pt x="23998" y="10800"/>
                </a:lnTo>
                <a:lnTo>
                  <a:pt x="9985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9:03:08Z</dcterms:created>
  <dc:creator>ученик</dc:creator>
  <dc:description/>
  <dc:language>en-US</dc:language>
  <cp:lastModifiedBy>ИРИНА</cp:lastModifiedBy>
  <dcterms:modified xsi:type="dcterms:W3CDTF">2019-05-31T21:31:04Z</dcterms:modified>
  <cp:revision>182</cp:revision>
  <dc:subject/>
  <dc:title>Слайд 1</dc:title>
</cp:coreProperties>
</file>