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0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24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6B7E-C2C8-435F-AE4B-7C96D35DB8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A080-720C-4C3F-B34F-1B4E9BDA6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D915-857F-41D3-8A78-EFA92CA26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322C-EE22-4F52-A926-87EF6D480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5375-FE83-4C26-9EDA-2F3246488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4794-E9E0-49E3-A9CB-4154F7F659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821-2FDD-4790-89ED-3E7478C4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341-C122-42EA-9E67-F16C8172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65F2F-9A7E-4C10-85A1-2156847E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23B7A-535E-41C0-BDE3-11913853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8663E-C54F-4F90-AA78-D3215106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D6969-F7F7-4259-A373-C2608B55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CA841-FC59-410E-9C9F-C080522A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51ED4-3CE8-4AF6-8AEA-482C33E4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9D037-AACF-492C-BA3D-9E99E1F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6736C-B255-49DA-A082-545DD735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548AF-2080-40D7-8A42-E6045186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9BA1A-37E3-4810-8F61-C981AF3C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02B-4692-47DE-BBE3-FBD0ADA8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CE045-C87B-4A46-B3AF-EF8DD2E5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EABCC-736E-4913-B308-B35CEAE8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D2405-7F6D-4AFF-9FB0-DB30323D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C58C6-B0CB-4819-A435-5E2AA3AF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56B9F-D301-4E70-B1DB-DEDF11F0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15C2D-FD78-4569-A37B-A84BFEC5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BA157-F4FE-4990-A743-BD9BDFD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76013-022F-4AD8-B475-BB2E58E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37B25-D8C1-4DF1-A314-A47AD414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C519D-8781-475C-BB8A-88CB194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A97-0FF4-49EF-A073-8D7F0710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9FEF6-AEC0-499B-ACF1-67BA88FD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FE655-8F44-4E84-B4EF-609E35FB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2AC0C-B411-462F-99C8-DDE5C1E4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F9CD9-07FA-4A12-8A75-BE09D5DD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E6F2C-3184-42D4-911D-A60FDD3E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6210A-B4AF-4ADE-A469-D1A0877E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F373D-12AE-4C7B-AC66-29D9FABE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E0898-4D27-4D6F-9A03-00AD92D2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0C7C1-696C-4DEC-8997-B579C993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300B7-7004-4F5D-824D-44DCB4B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A666-D311-4D26-97D3-7A847135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ACCE4-FC96-4664-AFD8-C9483BAC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9C36C-18ED-4808-999E-0C14066B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79460-0F37-4951-BD43-F26C1927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44585-B093-44F4-B834-A4F8BFC5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A7A51-84F0-40E9-BCAE-5649B1E4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F501A-5CE5-40D7-8967-1F6E2020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9EABC-4DF8-4FF5-BEB0-BB2F8947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54105-2BD3-428A-A50E-B415D8B2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97A55-793D-4BBB-8CFD-88183EC5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84681-3470-4108-9866-02C4BB8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E887-7BFE-4EAD-AC67-C4D32CEA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428F6-FA92-44E3-8DB1-F286954A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31FA1-EBF3-48F0-87F3-FF17D11C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3A7B2-B56B-490F-B6B5-F45C13EC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B591C-E689-4A0D-9EBD-2AF6902B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00C96-53A0-4DC4-9F1F-F52552E0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2F34-14B7-434A-8B1A-3542B961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BE29-4F4F-4A35-A5C5-44F0C7A5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AECF-99F8-42F0-A053-B8E2BBE1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7152-AF47-4396-84A0-F1A2FB39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BDAA-C7A3-4753-A574-40E38E8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97F-C406-4CC8-9BDB-820D8267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6857-DE4A-42B1-9DDE-11B447E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0EEC-F8C6-4789-BCC3-703F686A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4E4-5AD6-4906-AB4A-3346B633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780E-0BA1-432E-9639-65B953C7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24B7-0AA3-4F45-8CB1-7C9265CE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7213-4F57-4028-B5B3-D9D03DD0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0658-362B-47A2-A4AE-1CE7CC32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F2BD-6D5A-45CD-A72E-38F49F4B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4C6D-0F1C-45AB-9B1C-46D79703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4137-BA05-44B0-9B61-4F4B38BE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2E2-09E7-496F-B0D7-8EC6FD41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38D5-99BF-492D-A7DF-6EF7B4D4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BB56-2E13-4D23-9CC3-83EB7E8F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C722-C7F1-4538-A057-C1466D4F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063D-D4CC-4004-848F-59031B3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5FC1-CE0E-426A-B15B-36D90502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FBF0-0D79-4EFB-A7D1-06F7A8A1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3948-06C8-4938-B22C-803135FB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C5DFE-8182-49DB-A37B-2284E9AD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FEEE2-1749-4DEF-AB93-D4DF282E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EFA6F-4E36-4F8F-8DCC-BF5C9E6E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542-0813-44C4-9291-045ECB8F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D3623-F2F9-4B99-9CDA-33114EBC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C7BAD-A1D5-4FF5-80A6-6E156066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F7D81-E7D9-484C-B1CD-519513B2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E925-C59E-42B1-AB3F-88F9DE8C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BC87-F5E9-49D1-B65A-5E5CE71D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90893-D918-467B-B78F-1A6B50B9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4AE5-D1F4-4A94-BCF2-5267A9EA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DD9B8-4710-4583-9308-ED73A5A5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6FF72-08C5-4576-973B-F3BB7A22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AE9D3-7775-4091-946E-0835DB88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6AC-1206-4042-AA70-196C4E5C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9698-A5B2-41EE-B8F6-8FF4355A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72533-3265-4B24-BD96-FC7FE4D7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66C04-6179-4DC2-94E3-A3921AEA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D4D3D-56BD-4D4D-B13B-59A2788E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0BAE-4417-4D3B-BD0C-7D6F8AC3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55FE3-3802-491B-9B7C-44332DD1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EE69B-28A3-4361-A81C-519E135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2857-D68F-45DB-8C97-6696BA70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061F3-AC58-47B1-9CBC-8494D09A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F6212-4894-4166-BC40-71DE8C25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F59-ADC1-4D23-92B4-7DA8EC9C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BF1B-C887-406F-AC4A-6695D2EB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DAAF-EC10-4C43-A52D-8DCC4A7F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53192-8521-402D-B9CA-4EA993B0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0CB11-8852-435D-A1BC-6A9910E8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FD25A-945E-4B94-8908-BEB1E8BA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7CB5E-C9E5-4CCA-BD56-53574F56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316C1-D810-4851-ACC9-728583F2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69AF1-B34C-46F8-A78D-1B9F114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77607-DC5E-401E-91A3-CDAEE87D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6B825-BF64-475B-88DC-AC65A8DC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17E-C1E1-4754-9C68-BC223B4A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CB8CC-AE4A-4692-90AA-DBB13FBF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1BDDD-556E-4F2A-A407-0833B657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5E8C1-F696-4439-9B19-38C55371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71C3E-4B9C-427E-8A1D-A31AD544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76092-D2AD-45F1-88AA-DF24555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734B9-5B04-4E7C-919E-81D73199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DDB08-C707-4C7D-911A-839B5BF7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94B50-B874-42C9-B9FE-A1102B80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EE444-B1D3-418D-B84A-F549D61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F3A84-1C73-4F16-90A7-3D61B935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83D-2888-4696-AD21-EC79D79F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36E6C-8635-480D-B222-51AB6D2C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BB8ED-6A4C-4E86-AA9D-616274E0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2F9F1-4E0F-4641-B40E-092D7199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0D2A4-90B9-4CA4-A215-C9E0349E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9818C-CB93-45AF-9C6E-092631A3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3608D-7A70-4037-827F-2EE385AE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CB31E-42F5-4AA8-8907-D8CFC4B0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5F56F-57D6-466A-930E-C09EC2A4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FBB7D-FF3C-411D-96F0-988FF75E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3C6BF-519C-498E-98BD-9EF9575B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D12-0CB6-41BD-840F-5C31D2E6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32796-C732-4534-96C5-8CA5947C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AE748-1FCA-4624-A39F-7E1F890A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210E4-68A2-45B8-B588-034788DE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04852-7ECD-486B-90D0-B41319E1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15345-B0C9-4956-8555-6D26E820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1DCF8-CD3C-49EC-BA70-C83F31BA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0E1A7-BFEB-43E0-8749-086E9A46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49A7F-FED2-416F-8AAA-2ADC92C5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AA1F0-950E-48AF-B555-FF4E10B3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A247A-7D5E-4317-9709-16FF3449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A994-7EC8-4107-9B56-64FDC1FAD5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3912-6D40-42B4-945A-1A30AE8ACB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E0FD-D2C2-4DD0-B1F7-EBFA2E542A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E3AB-8BE4-445F-B3E1-C40F9D0EDE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0D68-7BC2-4D4A-A1E8-F87E13DB0F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1D0C-171C-4307-BF50-0E2D3EB1FD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1E0E-AE61-4B71-9C06-08C4E7C4FC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2CBA-1BC5-4454-A710-BD6D6CCE17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28F-45FD-4722-A5E3-7A884E9489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1E3-A9F2-4FF6-9BBB-E78DEED2CB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08D1-3ADF-4397-BF24-C128B6B49E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49B1-771C-4042-BFD9-522C9E7F4A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17560" y="476280"/>
            <a:ext cx="7175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ие ИКТ при обучении учащихся исследованию функции по графику производ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6699240" cy="12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втор: Палто А. 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У «Волосовская СОШ №1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 рисунке изображены график функции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и касательная к нему в точке с абсциссой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 Найдите значение производной функции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в точке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895560" cy="3871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"/>
          <p:cNvPicPr/>
          <p:nvPr/>
        </p:nvPicPr>
        <p:blipFill>
          <a:blip r:embed="rId2"/>
          <a:stretch/>
        </p:blipFill>
        <p:spPr>
          <a:xfrm>
            <a:off x="4716360" y="1978200"/>
            <a:ext cx="3672000" cy="39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 рисунке изображены график функции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и касательная к нему в точке с абсциссой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 Найдите значение производной функции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в точке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569880" y="2205000"/>
            <a:ext cx="3854520" cy="3610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" descr=""/>
          <p:cNvPicPr/>
          <p:nvPr/>
        </p:nvPicPr>
        <p:blipFill>
          <a:blip r:embed="rId2"/>
          <a:stretch/>
        </p:blipFill>
        <p:spPr>
          <a:xfrm>
            <a:off x="4716360" y="2287440"/>
            <a:ext cx="420372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рисунке изображен график                                                                              производной функции f(x)  на интервале (-8;8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14200" y="114300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ромежутков    возрастания имеет функция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длину наибольшего из них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точек экстремума имеет функция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количество точек максимума,  минимум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количество точек, в которых касательная параллельна прямой у=2х+3 ;   у = -0,5х+1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Рисунок 12" descr=""/>
          <p:cNvPicPr/>
          <p:nvPr/>
        </p:nvPicPr>
        <p:blipFill>
          <a:blip r:embed="rId1"/>
          <a:stretch/>
        </p:blipFill>
        <p:spPr>
          <a:xfrm>
            <a:off x="642960" y="1146240"/>
            <a:ext cx="3281400" cy="24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На рисунке изображен график   производной функции       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f(x) </a:t>
            </a:r>
            <a:r>
              <a:rPr b="0" lang="ru-RU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, определенной на интервале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-11;3)</a:t>
            </a:r>
            <a:r>
              <a:rPr b="0" lang="ru-RU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. Найдите промежутки возрастания функции   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f(x)</a:t>
            </a:r>
            <a:r>
              <a:rPr b="0" lang="ru-RU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. В ответе укажите длину наибольшего из них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Содержимое 3" descr="task-7/ps/task-7.1"/>
          <p:cNvPicPr/>
          <p:nvPr/>
        </p:nvPicPr>
        <p:blipFill>
          <a:blip r:embed="rId1"/>
          <a:stretch/>
        </p:blipFill>
        <p:spPr>
          <a:xfrm>
            <a:off x="755640" y="3213000"/>
            <a:ext cx="4321080" cy="316872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Объект 2"/>
              <p:cNvSpPr txBox="1"/>
              <p:nvPr/>
            </p:nvSpPr>
            <p:spPr>
              <a:xfrm>
                <a:off x="1735200" y="2421000"/>
                <a:ext cx="59324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≻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озрастае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Прямоугольник 5"/>
          <p:cNvSpPr/>
          <p:nvPr/>
        </p:nvSpPr>
        <p:spPr>
          <a:xfrm>
            <a:off x="1187280" y="3860640"/>
            <a:ext cx="204840" cy="128124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2124000" y="3860640"/>
            <a:ext cx="1430280" cy="128124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7"/>
          <p:cNvSpPr/>
          <p:nvPr/>
        </p:nvSpPr>
        <p:spPr>
          <a:xfrm>
            <a:off x="4316400" y="3860640"/>
            <a:ext cx="204840" cy="128124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8" descr=""/>
          <p:cNvPicPr/>
          <p:nvPr/>
        </p:nvPicPr>
        <p:blipFill>
          <a:blip r:embed="rId2"/>
          <a:stretch/>
        </p:blipFill>
        <p:spPr>
          <a:xfrm>
            <a:off x="2763720" y="5300640"/>
            <a:ext cx="5938920" cy="4968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9" descr=""/>
          <p:cNvPicPr/>
          <p:nvPr/>
        </p:nvPicPr>
        <p:blipFill>
          <a:blip r:embed="rId3"/>
          <a:stretch/>
        </p:blipFill>
        <p:spPr>
          <a:xfrm>
            <a:off x="4417920" y="5394240"/>
            <a:ext cx="5938920" cy="4968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0" descr=""/>
          <p:cNvPicPr/>
          <p:nvPr/>
        </p:nvPicPr>
        <p:blipFill>
          <a:blip r:embed="rId4"/>
          <a:stretch/>
        </p:blipFill>
        <p:spPr>
          <a:xfrm>
            <a:off x="1123920" y="5319720"/>
            <a:ext cx="5938920" cy="496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1" descr=""/>
          <p:cNvPicPr/>
          <p:nvPr/>
        </p:nvPicPr>
        <p:blipFill>
          <a:blip r:embed="rId5"/>
          <a:stretch/>
        </p:blipFill>
        <p:spPr>
          <a:xfrm>
            <a:off x="6170760" y="5584680"/>
            <a:ext cx="5938560" cy="4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476280" y="2303640"/>
            <a:ext cx="6867360" cy="39780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0"/>
          <p:cNvSpPr/>
          <p:nvPr/>
        </p:nvSpPr>
        <p:spPr>
          <a:xfrm>
            <a:off x="7228080" y="1898640"/>
            <a:ext cx="13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 ’ (x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1"/>
          <p:cNvSpPr/>
          <p:nvPr/>
        </p:nvSpPr>
        <p:spPr>
          <a:xfrm>
            <a:off x="1438200" y="2168640"/>
            <a:ext cx="3689280" cy="2160360"/>
          </a:xfrm>
          <a:prstGeom prst="rect">
            <a:avLst/>
          </a:prstGeom>
          <a:solidFill>
            <a:srgbClr val="00008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2"/>
          <p:cNvSpPr/>
          <p:nvPr/>
        </p:nvSpPr>
        <p:spPr>
          <a:xfrm flipV="1">
            <a:off x="1606680" y="324972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3"/>
          <p:cNvSpPr/>
          <p:nvPr/>
        </p:nvSpPr>
        <p:spPr>
          <a:xfrm flipV="1">
            <a:off x="1962000" y="3630600"/>
            <a:ext cx="8604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4"/>
          <p:cNvSpPr/>
          <p:nvPr/>
        </p:nvSpPr>
        <p:spPr>
          <a:xfrm flipV="1">
            <a:off x="2317680" y="39099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5"/>
          <p:cNvSpPr/>
          <p:nvPr/>
        </p:nvSpPr>
        <p:spPr>
          <a:xfrm flipV="1">
            <a:off x="2698920" y="3375720"/>
            <a:ext cx="85680" cy="8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6"/>
          <p:cNvSpPr/>
          <p:nvPr/>
        </p:nvSpPr>
        <p:spPr>
          <a:xfrm flipV="1">
            <a:off x="3079800" y="2918520"/>
            <a:ext cx="85680" cy="8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7"/>
          <p:cNvSpPr/>
          <p:nvPr/>
        </p:nvSpPr>
        <p:spPr>
          <a:xfrm flipV="1">
            <a:off x="3422520" y="380844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8"/>
          <p:cNvSpPr/>
          <p:nvPr/>
        </p:nvSpPr>
        <p:spPr>
          <a:xfrm flipV="1">
            <a:off x="3790800" y="4125960"/>
            <a:ext cx="8604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19"/>
          <p:cNvSpPr/>
          <p:nvPr/>
        </p:nvSpPr>
        <p:spPr>
          <a:xfrm flipV="1">
            <a:off x="4146480" y="39099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20"/>
          <p:cNvSpPr/>
          <p:nvPr/>
        </p:nvSpPr>
        <p:spPr>
          <a:xfrm flipV="1">
            <a:off x="4514760" y="34275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21"/>
          <p:cNvSpPr/>
          <p:nvPr/>
        </p:nvSpPr>
        <p:spPr>
          <a:xfrm flipV="1">
            <a:off x="4883040" y="3693240"/>
            <a:ext cx="85680" cy="8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5"/>
          <p:cNvSpPr/>
          <p:nvPr/>
        </p:nvSpPr>
        <p:spPr>
          <a:xfrm>
            <a:off x="476280" y="260280"/>
            <a:ext cx="81248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Calibri"/>
              </a:rPr>
              <a:t>На рисунке изображен график  производной функции, определенной на интервале (-7,5;7). Найдите промежутки возрастания функции. В ответе запишите количество целых точек, входящих в эти промеж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0.00191 0.1463 E">
                                      <p:cBhvr>
                                        <p:cTn id="242" dur="5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0.00017 0.09398 E">
                                      <p:cBhvr>
                                        <p:cTn id="245" dur="5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2.77778E-007 0.05023 E">
                                      <p:cBhvr>
                                        <p:cTn id="248" dur="5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00017 0.12847 E">
                                      <p:cBhvr>
                                        <p:cTn id="251" dur="5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0.00035 0.20231 E">
                                      <p:cBhvr>
                                        <p:cTn id="254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0.00018 0.06945 E">
                                      <p:cBhvr>
                                        <p:cTn id="257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3.7037E-007 L -8.33333E-007 0.02338 E">
                                      <p:cBhvr>
                                        <p:cTn id="260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00017 0.05162 E">
                                      <p:cBhvr>
                                        <p:cTn id="263" dur="5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00104 0.12199 E">
                                      <p:cBhvr>
                                        <p:cTn id="266" dur="5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9259E-006 L -0.00018 0.08264 E">
                                      <p:cBhvr>
                                        <p:cTn id="269" dur="5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6" descr=""/>
          <p:cNvPicPr/>
          <p:nvPr/>
        </p:nvPicPr>
        <p:blipFill>
          <a:blip r:embed="rId1"/>
          <a:stretch/>
        </p:blipFill>
        <p:spPr>
          <a:xfrm>
            <a:off x="958680" y="1673280"/>
            <a:ext cx="7226640" cy="433872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7"/>
          <p:cNvSpPr/>
          <p:nvPr/>
        </p:nvSpPr>
        <p:spPr>
          <a:xfrm>
            <a:off x="2637000" y="2492280"/>
            <a:ext cx="1504800" cy="10796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3133800" y="27957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9"/>
          <p:cNvSpPr/>
          <p:nvPr/>
        </p:nvSpPr>
        <p:spPr>
          <a:xfrm>
            <a:off x="5742000" y="2492280"/>
            <a:ext cx="671400" cy="10796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5846760" y="2897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7"/>
          <p:cNvSpPr/>
          <p:nvPr/>
        </p:nvSpPr>
        <p:spPr>
          <a:xfrm flipV="1">
            <a:off x="3000240" y="3526560"/>
            <a:ext cx="86040" cy="8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8"/>
          <p:cNvSpPr/>
          <p:nvPr/>
        </p:nvSpPr>
        <p:spPr>
          <a:xfrm flipV="1">
            <a:off x="3530520" y="35211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9"/>
          <p:cNvSpPr/>
          <p:nvPr/>
        </p:nvSpPr>
        <p:spPr>
          <a:xfrm flipV="1">
            <a:off x="4089240" y="3546360"/>
            <a:ext cx="8604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20"/>
          <p:cNvSpPr/>
          <p:nvPr/>
        </p:nvSpPr>
        <p:spPr>
          <a:xfrm flipV="1">
            <a:off x="5727600" y="35463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21"/>
          <p:cNvSpPr/>
          <p:nvPr/>
        </p:nvSpPr>
        <p:spPr>
          <a:xfrm flipV="1">
            <a:off x="6273720" y="35211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2"/>
          <p:cNvSpPr/>
          <p:nvPr/>
        </p:nvSpPr>
        <p:spPr>
          <a:xfrm>
            <a:off x="1555920" y="601488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1 + (-2) + (-3)+ 2 + 3 =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1"/>
          <p:cNvSpPr/>
          <p:nvPr/>
        </p:nvSpPr>
        <p:spPr>
          <a:xfrm>
            <a:off x="539640" y="115920"/>
            <a:ext cx="79200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Calibri"/>
              </a:rPr>
              <a:t>На рисунке изображен график   производной функции, определенной на интервале (-5;5). Найдите промежутки возрастания функции. В ответе запишите сумму целых точек, входящих в эти промеж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5" descr=""/>
          <p:cNvPicPr/>
          <p:nvPr/>
        </p:nvPicPr>
        <p:blipFill>
          <a:blip r:embed="rId1"/>
          <a:stretch/>
        </p:blipFill>
        <p:spPr>
          <a:xfrm>
            <a:off x="297000" y="1808280"/>
            <a:ext cx="7226280" cy="433836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13"/>
          <p:cNvSpPr/>
          <p:nvPr/>
        </p:nvSpPr>
        <p:spPr>
          <a:xfrm>
            <a:off x="1974960" y="2617920"/>
            <a:ext cx="1504800" cy="1079280"/>
          </a:xfrm>
          <a:prstGeom prst="rect">
            <a:avLst/>
          </a:prstGeom>
          <a:solidFill>
            <a:srgbClr val="ff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4"/>
          <p:cNvSpPr/>
          <p:nvPr/>
        </p:nvSpPr>
        <p:spPr>
          <a:xfrm>
            <a:off x="5111640" y="2617920"/>
            <a:ext cx="642960" cy="1079280"/>
          </a:xfrm>
          <a:prstGeom prst="rect">
            <a:avLst/>
          </a:prstGeom>
          <a:solidFill>
            <a:srgbClr val="ff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5"/>
          <p:cNvSpPr/>
          <p:nvPr/>
        </p:nvSpPr>
        <p:spPr>
          <a:xfrm>
            <a:off x="3448080" y="3697200"/>
            <a:ext cx="1676520" cy="1125720"/>
          </a:xfrm>
          <a:prstGeom prst="rect">
            <a:avLst/>
          </a:prstGeom>
          <a:solidFill>
            <a:srgbClr val="00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2341440" y="3649680"/>
            <a:ext cx="3367080" cy="90360"/>
            <a:chOff x="2341440" y="3649680"/>
            <a:chExt cx="3367080" cy="90360"/>
          </a:xfrm>
        </p:grpSpPr>
        <p:sp>
          <p:nvSpPr>
            <p:cNvPr id="665" name="Line 6"/>
            <p:cNvSpPr/>
            <p:nvPr/>
          </p:nvSpPr>
          <p:spPr>
            <a:xfrm>
              <a:off x="2379600" y="3697200"/>
              <a:ext cx="32655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2341440" y="3649680"/>
              <a:ext cx="90720" cy="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5618160" y="3649680"/>
              <a:ext cx="90360" cy="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16"/>
          <p:cNvSpPr/>
          <p:nvPr/>
        </p:nvSpPr>
        <p:spPr>
          <a:xfrm>
            <a:off x="2471760" y="29210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5172120" y="30225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4329000" y="360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9"/>
          <p:cNvSpPr/>
          <p:nvPr/>
        </p:nvSpPr>
        <p:spPr>
          <a:xfrm flipV="1">
            <a:off x="3414600" y="365220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4033800" y="603900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 =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1"/>
          <p:cNvSpPr/>
          <p:nvPr/>
        </p:nvSpPr>
        <p:spPr>
          <a:xfrm>
            <a:off x="611280" y="33336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Calibri"/>
                <a:ea typeface="Calibri"/>
              </a:rPr>
              <a:t>На рисунке изображен график   производной функции                   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Calibri"/>
                <a:ea typeface="Calibri"/>
              </a:rPr>
              <a:t>определенной на интервале (-5;5). Найдите точку максимума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Calibri"/>
                <a:ea typeface="Calibri"/>
              </a:rPr>
              <a:t>                          </a:t>
            </a:r>
            <a:r>
              <a:rPr b="0" lang="ru-RU" sz="2000" spc="-1" strike="noStrike">
                <a:solidFill>
                  <a:srgbClr val="080808"/>
                </a:solidFill>
                <a:latin typeface="Calibri"/>
                <a:ea typeface="Calibri"/>
              </a:rPr>
              <a:t>на интервале (-3;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7" descr=""/>
          <p:cNvPicPr/>
          <p:nvPr/>
        </p:nvPicPr>
        <p:blipFill>
          <a:blip r:embed="rId2"/>
          <a:stretch/>
        </p:blipFill>
        <p:spPr>
          <a:xfrm>
            <a:off x="981000" y="988920"/>
            <a:ext cx="1015920" cy="3589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8" descr=""/>
          <p:cNvPicPr/>
          <p:nvPr/>
        </p:nvPicPr>
        <p:blipFill>
          <a:blip r:embed="rId3"/>
          <a:stretch/>
        </p:blipFill>
        <p:spPr>
          <a:xfrm>
            <a:off x="6875640" y="338040"/>
            <a:ext cx="10112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ен график  производной функции                 , определенной на интервале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7;14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Найдите количество точек экстремума функции                   , принадлежащих отрезку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6;9]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Содержимое 3" descr="task-5/ps/task-5.1"/>
          <p:cNvPicPr/>
          <p:nvPr/>
        </p:nvPicPr>
        <p:blipFill>
          <a:blip r:embed="rId1"/>
          <a:stretch/>
        </p:blipFill>
        <p:spPr>
          <a:xfrm>
            <a:off x="684360" y="2349360"/>
            <a:ext cx="4483080" cy="21607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Объект 2"/>
              <p:cNvSpPr txBox="1"/>
              <p:nvPr/>
            </p:nvSpPr>
            <p:spPr>
              <a:xfrm>
                <a:off x="6588000" y="2205000"/>
                <a:ext cx="2000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Овал 5"/>
          <p:cNvSpPr/>
          <p:nvPr/>
        </p:nvSpPr>
        <p:spPr>
          <a:xfrm>
            <a:off x="3419640" y="3435480"/>
            <a:ext cx="161640" cy="117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6"/>
          <p:cNvSpPr/>
          <p:nvPr/>
        </p:nvSpPr>
        <p:spPr>
          <a:xfrm>
            <a:off x="3924360" y="3435480"/>
            <a:ext cx="160200" cy="117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7"/>
          <p:cNvSpPr/>
          <p:nvPr/>
        </p:nvSpPr>
        <p:spPr>
          <a:xfrm>
            <a:off x="4284720" y="3435480"/>
            <a:ext cx="160200" cy="117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8"/>
          <p:cNvSpPr/>
          <p:nvPr/>
        </p:nvSpPr>
        <p:spPr>
          <a:xfrm>
            <a:off x="1139760" y="2751120"/>
            <a:ext cx="2711520" cy="148428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8" descr=""/>
          <p:cNvPicPr/>
          <p:nvPr/>
        </p:nvPicPr>
        <p:blipFill>
          <a:blip r:embed="rId2"/>
          <a:stretch/>
        </p:blipFill>
        <p:spPr>
          <a:xfrm>
            <a:off x="6804000" y="3154320"/>
            <a:ext cx="8132760" cy="6793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0" descr=""/>
          <p:cNvPicPr/>
          <p:nvPr/>
        </p:nvPicPr>
        <p:blipFill>
          <a:blip r:embed="rId3"/>
          <a:stretch/>
        </p:blipFill>
        <p:spPr>
          <a:xfrm>
            <a:off x="3363840" y="1557360"/>
            <a:ext cx="1011240" cy="3603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"/>
          <p:cNvPicPr/>
          <p:nvPr/>
        </p:nvPicPr>
        <p:blipFill>
          <a:blip r:embed="rId4"/>
          <a:stretch/>
        </p:blipFill>
        <p:spPr>
          <a:xfrm>
            <a:off x="7380360" y="836640"/>
            <a:ext cx="1011240" cy="3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"/>
          <p:cNvPicPr/>
          <p:nvPr/>
        </p:nvPicPr>
        <p:blipFill>
          <a:blip r:embed="rId1"/>
          <a:stretch/>
        </p:blipFill>
        <p:spPr>
          <a:xfrm>
            <a:off x="760320" y="1981080"/>
            <a:ext cx="7623360" cy="424836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6"/>
          <p:cNvSpPr/>
          <p:nvPr/>
        </p:nvSpPr>
        <p:spPr>
          <a:xfrm>
            <a:off x="1670040" y="4272120"/>
            <a:ext cx="1082520" cy="166500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4211640" y="4238640"/>
            <a:ext cx="2565360" cy="15746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7497720" y="4284720"/>
            <a:ext cx="360360" cy="15746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9"/>
          <p:cNvSpPr/>
          <p:nvPr/>
        </p:nvSpPr>
        <p:spPr>
          <a:xfrm>
            <a:off x="1963440" y="432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0"/>
          <p:cNvSpPr/>
          <p:nvPr/>
        </p:nvSpPr>
        <p:spPr>
          <a:xfrm>
            <a:off x="5570280" y="44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1"/>
          <p:cNvSpPr/>
          <p:nvPr/>
        </p:nvSpPr>
        <p:spPr>
          <a:xfrm>
            <a:off x="7466040" y="4103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4257720" y="4329000"/>
            <a:ext cx="2530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>
            <a:off x="1704960" y="4303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Group 16"/>
          <p:cNvGrpSpPr/>
          <p:nvPr/>
        </p:nvGrpSpPr>
        <p:grpSpPr>
          <a:xfrm>
            <a:off x="7508880" y="4238640"/>
            <a:ext cx="392040" cy="88920"/>
            <a:chOff x="7508880" y="4238640"/>
            <a:chExt cx="392040" cy="88920"/>
          </a:xfrm>
        </p:grpSpPr>
        <p:sp>
          <p:nvSpPr>
            <p:cNvPr id="697" name="Line 14"/>
            <p:cNvSpPr/>
            <p:nvPr/>
          </p:nvSpPr>
          <p:spPr>
            <a:xfrm>
              <a:off x="7508880" y="4284720"/>
              <a:ext cx="349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5"/>
            <p:cNvSpPr/>
            <p:nvPr/>
          </p:nvSpPr>
          <p:spPr>
            <a:xfrm>
              <a:off x="7812000" y="423864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 Box 17"/>
          <p:cNvSpPr/>
          <p:nvPr/>
        </p:nvSpPr>
        <p:spPr>
          <a:xfrm>
            <a:off x="2076840" y="387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8"/>
          <p:cNvSpPr/>
          <p:nvPr/>
        </p:nvSpPr>
        <p:spPr>
          <a:xfrm>
            <a:off x="5294520" y="382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9"/>
          <p:cNvSpPr/>
          <p:nvPr/>
        </p:nvSpPr>
        <p:spPr>
          <a:xfrm>
            <a:off x="7504200" y="381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"/>
          <p:cNvSpPr/>
          <p:nvPr/>
        </p:nvSpPr>
        <p:spPr>
          <a:xfrm>
            <a:off x="539640" y="189000"/>
            <a:ext cx="79930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Calibri"/>
              </a:rPr>
              <a:t>На рисунке изображен график   производной функции                         , определенной на интервале (-2;16). Найдите промежутки убывания функции                      . В ответе укажите длину наибольшего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Объект 2"/>
              <p:cNvSpPr txBox="1"/>
              <p:nvPr/>
            </p:nvSpPr>
            <p:spPr>
              <a:xfrm>
                <a:off x="1962000" y="1343160"/>
                <a:ext cx="4626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≺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убывает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4" name="Picture 21" descr=""/>
          <p:cNvPicPr/>
          <p:nvPr/>
        </p:nvPicPr>
        <p:blipFill>
          <a:blip r:embed="rId2"/>
          <a:stretch/>
        </p:blipFill>
        <p:spPr>
          <a:xfrm>
            <a:off x="1893960" y="907920"/>
            <a:ext cx="1011240" cy="360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1" descr=""/>
          <p:cNvPicPr/>
          <p:nvPr/>
        </p:nvPicPr>
        <p:blipFill>
          <a:blip r:embed="rId3"/>
          <a:stretch/>
        </p:blipFill>
        <p:spPr>
          <a:xfrm>
            <a:off x="6688080" y="225360"/>
            <a:ext cx="10112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Прямоугольник 3" descr=""/>
          <p:cNvPicPr/>
          <p:nvPr/>
        </p:nvPicPr>
        <p:blipFill>
          <a:blip r:embed="rId1"/>
          <a:stretch/>
        </p:blipFill>
        <p:spPr>
          <a:xfrm>
            <a:off x="347760" y="2798640"/>
            <a:ext cx="8448480" cy="14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 Black"/>
              </a:rPr>
              <a:t>Пробл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533160" y="1447560"/>
            <a:ext cx="830556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ак сделать обучение 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гарантирующи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езульта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ть наглядный материал по исследованию функций с использованием И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3410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ыяснить, в чем состоит геометрический смысл произв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яснить, как найти промежутки возрастания и убывания функции, точки экстремума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оставить алгоритм действий в каждом конкретном случа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Создать наглядный материал, который  поможет хорошо усвоить т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http://xn--i1abbnckbmcl9fb.xn--p1ai/%D1%81%D1%82%D0%B0%D1%82%D1%8C%D0%B8/636008/presentation/17.JPG"/>
          <p:cNvPicPr/>
          <p:nvPr/>
        </p:nvPicPr>
        <p:blipFill>
          <a:blip r:embed="rId2"/>
          <a:stretch/>
        </p:blipFill>
        <p:spPr>
          <a:xfrm>
            <a:off x="0" y="189000"/>
            <a:ext cx="8893080" cy="65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4440240" y="2197080"/>
            <a:ext cx="4228200" cy="4431960"/>
            <a:chOff x="4440240" y="2197080"/>
            <a:chExt cx="4228200" cy="4431960"/>
          </a:xfrm>
        </p:grpSpPr>
        <p:grpSp>
          <p:nvGrpSpPr>
            <p:cNvPr id="511" name="Group 3"/>
            <p:cNvGrpSpPr/>
            <p:nvPr/>
          </p:nvGrpSpPr>
          <p:grpSpPr>
            <a:xfrm>
              <a:off x="4630320" y="2273400"/>
              <a:ext cx="2679480" cy="4355640"/>
              <a:chOff x="4630320" y="2273400"/>
              <a:chExt cx="2679480" cy="4355640"/>
            </a:xfrm>
          </p:grpSpPr>
          <p:sp>
            <p:nvSpPr>
              <p:cNvPr id="512" name="Line 4"/>
              <p:cNvSpPr/>
              <p:nvPr/>
            </p:nvSpPr>
            <p:spPr>
              <a:xfrm>
                <a:off x="677304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5"/>
              <p:cNvSpPr/>
              <p:nvPr/>
            </p:nvSpPr>
            <p:spPr>
              <a:xfrm>
                <a:off x="730980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6"/>
              <p:cNvSpPr/>
              <p:nvPr/>
            </p:nvSpPr>
            <p:spPr>
              <a:xfrm>
                <a:off x="489852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7"/>
              <p:cNvSpPr/>
              <p:nvPr/>
            </p:nvSpPr>
            <p:spPr>
              <a:xfrm>
                <a:off x="516672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8"/>
              <p:cNvSpPr/>
              <p:nvPr/>
            </p:nvSpPr>
            <p:spPr>
              <a:xfrm>
                <a:off x="543492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9"/>
              <p:cNvSpPr/>
              <p:nvPr/>
            </p:nvSpPr>
            <p:spPr>
              <a:xfrm>
                <a:off x="570168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0"/>
              <p:cNvSpPr/>
              <p:nvPr/>
            </p:nvSpPr>
            <p:spPr>
              <a:xfrm>
                <a:off x="623808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1"/>
              <p:cNvSpPr/>
              <p:nvPr/>
            </p:nvSpPr>
            <p:spPr>
              <a:xfrm>
                <a:off x="650664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2"/>
              <p:cNvSpPr/>
              <p:nvPr/>
            </p:nvSpPr>
            <p:spPr>
              <a:xfrm>
                <a:off x="704304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3"/>
              <p:cNvSpPr/>
              <p:nvPr/>
            </p:nvSpPr>
            <p:spPr>
              <a:xfrm>
                <a:off x="5965200" y="2284920"/>
                <a:ext cx="6120" cy="43437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4"/>
              <p:cNvSpPr/>
              <p:nvPr/>
            </p:nvSpPr>
            <p:spPr>
              <a:xfrm>
                <a:off x="4630320" y="2284920"/>
                <a:ext cx="1440" cy="434088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Line 15"/>
            <p:cNvSpPr/>
            <p:nvPr/>
          </p:nvSpPr>
          <p:spPr>
            <a:xfrm>
              <a:off x="7845120" y="2197080"/>
              <a:ext cx="0" cy="4356360"/>
            </a:xfrm>
            <a:prstGeom prst="line">
              <a:avLst/>
            </a:prstGeom>
            <a:ln cap="rnd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6"/>
            <p:cNvSpPr/>
            <p:nvPr/>
          </p:nvSpPr>
          <p:spPr>
            <a:xfrm>
              <a:off x="8113320" y="2197080"/>
              <a:ext cx="0" cy="4356360"/>
            </a:xfrm>
            <a:prstGeom prst="line">
              <a:avLst/>
            </a:prstGeom>
            <a:ln cap="rnd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7"/>
            <p:cNvSpPr/>
            <p:nvPr/>
          </p:nvSpPr>
          <p:spPr>
            <a:xfrm>
              <a:off x="8381880" y="2197080"/>
              <a:ext cx="0" cy="4356360"/>
            </a:xfrm>
            <a:prstGeom prst="line">
              <a:avLst/>
            </a:prstGeom>
            <a:ln cap="rnd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8"/>
            <p:cNvSpPr/>
            <p:nvPr/>
          </p:nvSpPr>
          <p:spPr>
            <a:xfrm>
              <a:off x="8648280" y="2197080"/>
              <a:ext cx="0" cy="4356360"/>
            </a:xfrm>
            <a:prstGeom prst="line">
              <a:avLst/>
            </a:prstGeom>
            <a:ln cap="rnd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7576920" y="2210040"/>
              <a:ext cx="1080" cy="4340160"/>
            </a:xfrm>
            <a:custGeom>
              <a:avLst/>
              <a:gdLst/>
              <a:ahLst/>
              <a:rect l="l" t="t" r="r" b="b"/>
              <a:pathLst>
                <a:path w="1" h="2175">
                  <a:moveTo>
                    <a:pt x="0" y="2175"/>
                  </a:move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20"/>
            <p:cNvGrpSpPr/>
            <p:nvPr/>
          </p:nvGrpSpPr>
          <p:grpSpPr>
            <a:xfrm>
              <a:off x="4440240" y="2273400"/>
              <a:ext cx="4228200" cy="4273560"/>
              <a:chOff x="4440240" y="2273400"/>
              <a:chExt cx="4228200" cy="4273560"/>
            </a:xfrm>
          </p:grpSpPr>
          <p:grpSp>
            <p:nvGrpSpPr>
              <p:cNvPr id="529" name="Group 21"/>
              <p:cNvGrpSpPr/>
              <p:nvPr/>
            </p:nvGrpSpPr>
            <p:grpSpPr>
              <a:xfrm>
                <a:off x="4637520" y="2273400"/>
                <a:ext cx="4030920" cy="2260440"/>
                <a:chOff x="4637520" y="2273400"/>
                <a:chExt cx="4030920" cy="2260440"/>
              </a:xfrm>
            </p:grpSpPr>
            <p:sp>
              <p:nvSpPr>
                <p:cNvPr id="530" name="Freeform 22"/>
                <p:cNvSpPr/>
                <p:nvPr/>
              </p:nvSpPr>
              <p:spPr>
                <a:xfrm>
                  <a:off x="4637520" y="3778200"/>
                  <a:ext cx="4028760" cy="1800"/>
                </a:xfrm>
                <a:custGeom>
                  <a:avLst/>
                  <a:gdLst/>
                  <a:ahLst/>
                  <a:rect l="l" t="t" r="r" b="b"/>
                  <a:pathLst>
                    <a:path w="2449" h="1">
                      <a:moveTo>
                        <a:pt x="0" y="0"/>
                      </a:moveTo>
                      <a:lnTo>
                        <a:pt x="2449" y="0"/>
                      </a:lnTo>
                    </a:path>
                  </a:pathLst>
                </a:custGeom>
                <a:noFill/>
                <a:ln w="324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23"/>
                <p:cNvSpPr/>
                <p:nvPr/>
              </p:nvSpPr>
              <p:spPr>
                <a:xfrm>
                  <a:off x="4637520" y="227340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24"/>
                <p:cNvSpPr/>
                <p:nvPr/>
              </p:nvSpPr>
              <p:spPr>
                <a:xfrm>
                  <a:off x="4637520" y="453384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25"/>
                <p:cNvSpPr/>
                <p:nvPr/>
              </p:nvSpPr>
              <p:spPr>
                <a:xfrm>
                  <a:off x="4637520" y="252396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26"/>
                <p:cNvSpPr/>
                <p:nvPr/>
              </p:nvSpPr>
              <p:spPr>
                <a:xfrm>
                  <a:off x="4637520" y="277488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27"/>
                <p:cNvSpPr/>
                <p:nvPr/>
              </p:nvSpPr>
              <p:spPr>
                <a:xfrm>
                  <a:off x="4637520" y="302580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28"/>
                <p:cNvSpPr/>
                <p:nvPr/>
              </p:nvSpPr>
              <p:spPr>
                <a:xfrm>
                  <a:off x="4637520" y="327816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29"/>
                <p:cNvSpPr/>
                <p:nvPr/>
              </p:nvSpPr>
              <p:spPr>
                <a:xfrm>
                  <a:off x="4637520" y="352908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0"/>
                <p:cNvSpPr/>
                <p:nvPr/>
              </p:nvSpPr>
              <p:spPr>
                <a:xfrm>
                  <a:off x="4637520" y="403236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1"/>
                <p:cNvSpPr/>
                <p:nvPr/>
              </p:nvSpPr>
              <p:spPr>
                <a:xfrm>
                  <a:off x="4637520" y="428292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Line 32"/>
              <p:cNvSpPr/>
              <p:nvPr/>
            </p:nvSpPr>
            <p:spPr>
              <a:xfrm>
                <a:off x="4440240" y="4289400"/>
                <a:ext cx="421884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"/>
              <p:cNvSpPr/>
              <p:nvPr/>
            </p:nvSpPr>
            <p:spPr>
              <a:xfrm>
                <a:off x="4558680" y="6292800"/>
                <a:ext cx="4029480" cy="180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34"/>
              <p:cNvSpPr/>
              <p:nvPr/>
            </p:nvSpPr>
            <p:spPr>
              <a:xfrm>
                <a:off x="4558680" y="478800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35"/>
              <p:cNvSpPr/>
              <p:nvPr/>
            </p:nvSpPr>
            <p:spPr>
              <a:xfrm>
                <a:off x="4558680" y="503892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36"/>
              <p:cNvSpPr/>
              <p:nvPr/>
            </p:nvSpPr>
            <p:spPr>
              <a:xfrm>
                <a:off x="4558680" y="528948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37"/>
              <p:cNvSpPr/>
              <p:nvPr/>
            </p:nvSpPr>
            <p:spPr>
              <a:xfrm>
                <a:off x="4558680" y="554040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38"/>
              <p:cNvSpPr/>
              <p:nvPr/>
            </p:nvSpPr>
            <p:spPr>
              <a:xfrm>
                <a:off x="4558680" y="579276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9"/>
              <p:cNvSpPr/>
              <p:nvPr/>
            </p:nvSpPr>
            <p:spPr>
              <a:xfrm>
                <a:off x="4558680" y="604368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40"/>
              <p:cNvSpPr/>
              <p:nvPr/>
            </p:nvSpPr>
            <p:spPr>
              <a:xfrm>
                <a:off x="4558680" y="654696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Freeform 41"/>
          <p:cNvSpPr/>
          <p:nvPr/>
        </p:nvSpPr>
        <p:spPr>
          <a:xfrm>
            <a:off x="6750000" y="2259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42"/>
          <p:cNvSpPr/>
          <p:nvPr/>
        </p:nvSpPr>
        <p:spPr>
          <a:xfrm>
            <a:off x="6757920" y="2266920"/>
            <a:ext cx="6480" cy="4336920"/>
          </a:xfrm>
          <a:custGeom>
            <a:avLst/>
            <a:gdLst/>
            <a:ahLst/>
            <a:rect l="l" t="t" r="r" b="b"/>
            <a:pathLst>
              <a:path w="4" h="2732">
                <a:moveTo>
                  <a:pt x="4" y="273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3"/>
          <p:cNvSpPr/>
          <p:nvPr/>
        </p:nvSpPr>
        <p:spPr>
          <a:xfrm>
            <a:off x="457200" y="291960"/>
            <a:ext cx="8458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рисунке изображены график функции у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касательная к этому графику, проведенная в точке с абсциссой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Найдите значение производной функц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8218440" y="3809880"/>
            <a:ext cx="6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45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554" name="Freeform 46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7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8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0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3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54"/>
          <p:cNvSpPr/>
          <p:nvPr/>
        </p:nvSpPr>
        <p:spPr>
          <a:xfrm>
            <a:off x="7505640" y="4267080"/>
            <a:ext cx="67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5"/>
          <p:cNvSpPr/>
          <p:nvPr/>
        </p:nvSpPr>
        <p:spPr>
          <a:xfrm>
            <a:off x="6694560" y="2182680"/>
            <a:ext cx="6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6"/>
          <p:cNvSpPr/>
          <p:nvPr/>
        </p:nvSpPr>
        <p:spPr>
          <a:xfrm>
            <a:off x="304920" y="1231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7"/>
          <p:cNvSpPr/>
          <p:nvPr/>
        </p:nvSpPr>
        <p:spPr>
          <a:xfrm>
            <a:off x="4343400" y="2971800"/>
            <a:ext cx="4495680" cy="1066680"/>
          </a:xfrm>
          <a:custGeom>
            <a:avLst/>
            <a:gdLst/>
            <a:ahLst/>
            <a:rect l="l" t="t" r="r" b="b"/>
            <a:pathLst>
              <a:path w="2832" h="672">
                <a:moveTo>
                  <a:pt x="2832" y="0"/>
                </a:moveTo>
                <a:lnTo>
                  <a:pt x="0" y="672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8"/>
          <p:cNvSpPr/>
          <p:nvPr/>
        </p:nvSpPr>
        <p:spPr>
          <a:xfrm>
            <a:off x="7683480" y="3251160"/>
            <a:ext cx="12600" cy="1028880"/>
          </a:xfrm>
          <a:custGeom>
            <a:avLst/>
            <a:gdLst/>
            <a:ahLst/>
            <a:rect l="l" t="t" r="r" b="b"/>
            <a:pathLst>
              <a:path w="8" h="648">
                <a:moveTo>
                  <a:pt x="0" y="0"/>
                </a:moveTo>
                <a:lnTo>
                  <a:pt x="8" y="6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9"/>
          <p:cNvSpPr/>
          <p:nvPr/>
        </p:nvSpPr>
        <p:spPr>
          <a:xfrm>
            <a:off x="643896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60"/>
          <p:cNvSpPr/>
          <p:nvPr/>
        </p:nvSpPr>
        <p:spPr>
          <a:xfrm>
            <a:off x="4381560" y="3193920"/>
            <a:ext cx="4216320" cy="3102120"/>
          </a:xfrm>
          <a:custGeom>
            <a:avLst/>
            <a:gdLst/>
            <a:ahLst/>
            <a:rect l="l" t="t" r="r" b="b"/>
            <a:pathLst>
              <a:path w="2656" h="1954">
                <a:moveTo>
                  <a:pt x="2656" y="500"/>
                </a:moveTo>
                <a:cubicBezTo>
                  <a:pt x="2617" y="485"/>
                  <a:pt x="2519" y="488"/>
                  <a:pt x="2424" y="412"/>
                </a:cubicBezTo>
                <a:cubicBezTo>
                  <a:pt x="2329" y="336"/>
                  <a:pt x="2212" y="0"/>
                  <a:pt x="2088" y="44"/>
                </a:cubicBezTo>
                <a:cubicBezTo>
                  <a:pt x="1964" y="88"/>
                  <a:pt x="1872" y="365"/>
                  <a:pt x="1680" y="676"/>
                </a:cubicBezTo>
                <a:cubicBezTo>
                  <a:pt x="1488" y="987"/>
                  <a:pt x="1216" y="1862"/>
                  <a:pt x="936" y="1908"/>
                </a:cubicBezTo>
                <a:cubicBezTo>
                  <a:pt x="656" y="1954"/>
                  <a:pt x="195" y="1150"/>
                  <a:pt x="0" y="951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61"/>
          <p:cNvSpPr/>
          <p:nvPr/>
        </p:nvSpPr>
        <p:spPr>
          <a:xfrm>
            <a:off x="7658280" y="3213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2"/>
          <p:cNvSpPr/>
          <p:nvPr/>
        </p:nvSpPr>
        <p:spPr>
          <a:xfrm>
            <a:off x="5332680" y="5562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3"/>
          <p:cNvSpPr/>
          <p:nvPr/>
        </p:nvSpPr>
        <p:spPr>
          <a:xfrm>
            <a:off x="558720" y="50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5"/>
          <p:cNvSpPr/>
          <p:nvPr/>
        </p:nvSpPr>
        <p:spPr>
          <a:xfrm>
            <a:off x="6935760" y="4229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87"/>
          <p:cNvSpPr/>
          <p:nvPr/>
        </p:nvSpPr>
        <p:spPr>
          <a:xfrm>
            <a:off x="5397480" y="3746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8"/>
          <p:cNvSpPr/>
          <p:nvPr/>
        </p:nvSpPr>
        <p:spPr>
          <a:xfrm>
            <a:off x="152280" y="1279440"/>
            <a:ext cx="86868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. Угол, который составляет касательная с положительным направлением оси Ох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р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отя он и не помещается в пределах чертежа). Значит, значение производной в точке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9"/>
          <p:cNvSpPr/>
          <p:nvPr/>
        </p:nvSpPr>
        <p:spPr>
          <a:xfrm>
            <a:off x="152280" y="25750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). Найдем тангенс этого угла. Для этого подберем треугольник с катетами-целыми чис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0"/>
          <p:cNvSpPr/>
          <p:nvPr/>
        </p:nvSpPr>
        <p:spPr>
          <a:xfrm>
            <a:off x="152280" y="35654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найти несколько удобных треугольников, например,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1"/>
          <p:cNvSpPr/>
          <p:nvPr/>
        </p:nvSpPr>
        <p:spPr>
          <a:xfrm>
            <a:off x="152280" y="43434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). Найдем тангенс угла – это отношение 3: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93"/>
          <p:cNvSpPr/>
          <p:nvPr/>
        </p:nvSpPr>
        <p:spPr>
          <a:xfrm>
            <a:off x="5410080" y="3022560"/>
            <a:ext cx="3251160" cy="755640"/>
          </a:xfrm>
          <a:custGeom>
            <a:avLst/>
            <a:gdLst/>
            <a:ahLst/>
            <a:rect l="l" t="t" r="r" b="b"/>
            <a:pathLst>
              <a:path w="2048" h="476">
                <a:moveTo>
                  <a:pt x="2048" y="0"/>
                </a:moveTo>
                <a:lnTo>
                  <a:pt x="2040" y="472"/>
                </a:lnTo>
                <a:lnTo>
                  <a:pt x="0" y="476"/>
                </a:lnTo>
                <a:lnTo>
                  <a:pt x="2048" y="0"/>
                </a:lnTo>
                <a:close/>
              </a:path>
            </a:pathLst>
          </a:cu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00"/>
          <p:cNvGrpSpPr/>
          <p:nvPr/>
        </p:nvGrpSpPr>
        <p:grpSpPr>
          <a:xfrm>
            <a:off x="3327480" y="3962520"/>
            <a:ext cx="1104840" cy="366120"/>
            <a:chOff x="3327480" y="3962520"/>
            <a:chExt cx="1104840" cy="366120"/>
          </a:xfrm>
        </p:grpSpPr>
        <p:sp>
          <p:nvSpPr>
            <p:cNvPr id="580" name="Rectangle 94"/>
            <p:cNvSpPr/>
            <p:nvPr/>
          </p:nvSpPr>
          <p:spPr>
            <a:xfrm>
              <a:off x="4076640" y="3962520"/>
              <a:ext cx="34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3352680" y="4292640"/>
              <a:ext cx="1079640" cy="1440"/>
            </a:xfrm>
            <a:custGeom>
              <a:avLst/>
              <a:gdLst/>
              <a:ahLst/>
              <a:rect l="l" t="t" r="r" b="b"/>
              <a:pathLst>
                <a:path w="680" h="1">
                  <a:moveTo>
                    <a:pt x="68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3327480" y="4038480"/>
              <a:ext cx="1054080" cy="266760"/>
            </a:xfrm>
            <a:custGeom>
              <a:avLst/>
              <a:gdLst/>
              <a:ahLst/>
              <a:rect l="l" t="t" r="r" b="b"/>
              <a:pathLst>
                <a:path w="664" h="168">
                  <a:moveTo>
                    <a:pt x="664" y="0"/>
                  </a:move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98"/>
          <p:cNvSpPr/>
          <p:nvPr/>
        </p:nvSpPr>
        <p:spPr>
          <a:xfrm>
            <a:off x="4076640" y="3962520"/>
            <a:ext cx="34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99"/>
          <p:cNvSpPr/>
          <p:nvPr/>
        </p:nvSpPr>
        <p:spPr>
          <a:xfrm>
            <a:off x="8610480" y="2984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116"/>
          <p:cNvGrpSpPr/>
          <p:nvPr/>
        </p:nvGrpSpPr>
        <p:grpSpPr>
          <a:xfrm>
            <a:off x="7088760" y="3200400"/>
            <a:ext cx="1873800" cy="967680"/>
            <a:chOff x="7088760" y="3200400"/>
            <a:chExt cx="1873800" cy="967680"/>
          </a:xfrm>
        </p:grpSpPr>
        <p:sp>
          <p:nvSpPr>
            <p:cNvPr id="586" name="Rectangle 101"/>
            <p:cNvSpPr/>
            <p:nvPr/>
          </p:nvSpPr>
          <p:spPr>
            <a:xfrm>
              <a:off x="86126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02"/>
            <p:cNvSpPr/>
            <p:nvPr/>
          </p:nvSpPr>
          <p:spPr>
            <a:xfrm>
              <a:off x="7088760" y="3708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103"/>
          <p:cNvGrpSpPr/>
          <p:nvPr/>
        </p:nvGrpSpPr>
        <p:grpSpPr>
          <a:xfrm>
            <a:off x="2590920" y="4724280"/>
            <a:ext cx="1155600" cy="838080"/>
            <a:chOff x="2590920" y="4724280"/>
            <a:chExt cx="1155600" cy="838080"/>
          </a:xfrm>
        </p:grpSpPr>
        <p:sp>
          <p:nvSpPr>
            <p:cNvPr id="589" name="Freeform 104"/>
            <p:cNvSpPr/>
            <p:nvPr/>
          </p:nvSpPr>
          <p:spPr>
            <a:xfrm>
              <a:off x="3441960" y="5024520"/>
              <a:ext cx="304560" cy="4680"/>
            </a:xfrm>
            <a:custGeom>
              <a:avLst/>
              <a:gdLst/>
              <a:ahLst/>
              <a:rect l="l" t="t" r="r" b="b"/>
              <a:pathLst>
                <a:path w="192" h="3">
                  <a:moveTo>
                    <a:pt x="0" y="0"/>
                  </a:moveTo>
                  <a:lnTo>
                    <a:pt x="192" y="3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05"/>
            <p:cNvSpPr/>
            <p:nvPr/>
          </p:nvSpPr>
          <p:spPr>
            <a:xfrm>
              <a:off x="3445920" y="50353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06"/>
            <p:cNvSpPr/>
            <p:nvPr/>
          </p:nvSpPr>
          <p:spPr>
            <a:xfrm>
              <a:off x="3534840" y="472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07"/>
            <p:cNvSpPr/>
            <p:nvPr/>
          </p:nvSpPr>
          <p:spPr>
            <a:xfrm>
              <a:off x="2590920" y="47368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ga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15"/>
          <p:cNvGrpSpPr/>
          <p:nvPr/>
        </p:nvGrpSpPr>
        <p:grpSpPr>
          <a:xfrm>
            <a:off x="152280" y="5257800"/>
            <a:ext cx="3048120" cy="780120"/>
            <a:chOff x="152280" y="5257800"/>
            <a:chExt cx="3048120" cy="780120"/>
          </a:xfrm>
        </p:grpSpPr>
        <p:sp>
          <p:nvSpPr>
            <p:cNvPr id="594" name="Text Box 108"/>
            <p:cNvSpPr/>
            <p:nvPr/>
          </p:nvSpPr>
          <p:spPr>
            <a:xfrm>
              <a:off x="152280" y="5334120"/>
              <a:ext cx="304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). Переведем дроб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десятичную запис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114"/>
            <p:cNvGrpSpPr/>
            <p:nvPr/>
          </p:nvGrpSpPr>
          <p:grpSpPr>
            <a:xfrm>
              <a:off x="2819520" y="5257800"/>
              <a:ext cx="304560" cy="616680"/>
              <a:chOff x="2819520" y="5257800"/>
              <a:chExt cx="304560" cy="616680"/>
            </a:xfrm>
          </p:grpSpPr>
          <p:sp>
            <p:nvSpPr>
              <p:cNvPr id="596" name="Freeform 110"/>
              <p:cNvSpPr/>
              <p:nvPr/>
            </p:nvSpPr>
            <p:spPr>
              <a:xfrm>
                <a:off x="2819520" y="5558040"/>
                <a:ext cx="304560" cy="4680"/>
              </a:xfrm>
              <a:custGeom>
                <a:avLst/>
                <a:gdLst/>
                <a:ahLst/>
                <a:rect l="l" t="t" r="r" b="b"/>
                <a:pathLst>
                  <a:path w="192" h="3">
                    <a:moveTo>
                      <a:pt x="0" y="0"/>
                    </a:moveTo>
                    <a:lnTo>
                      <a:pt x="192" y="3"/>
                    </a:ln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111"/>
              <p:cNvSpPr/>
              <p:nvPr/>
            </p:nvSpPr>
            <p:spPr>
              <a:xfrm>
                <a:off x="2823120" y="5569200"/>
                <a:ext cx="212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12"/>
              <p:cNvSpPr/>
              <p:nvPr/>
            </p:nvSpPr>
            <p:spPr>
              <a:xfrm>
                <a:off x="2912040" y="5257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9" name="Picture 112" descr=""/>
          <p:cNvPicPr/>
          <p:nvPr/>
        </p:nvPicPr>
        <p:blipFill>
          <a:blip r:embed="rId1"/>
          <a:stretch/>
        </p:blipFill>
        <p:spPr>
          <a:xfrm>
            <a:off x="1611360" y="6164280"/>
            <a:ext cx="16503480" cy="9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3681 -0.04144 L 0.22292 -0.07477 E">
                                      <p:cBhvr>
                                        <p:cTn id="54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акой угол между касательной и положительным направлением оси Ох, острый или туп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йти тангенс этого угла. Для этого нужно подобрать треугольник, катеты которого целые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числить тангенс угла и дать ответ в виде десятичной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и  касательная к этому графику, проведенная в точке с абсциссой 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 Найдите значение производной функции f(x) в точке 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9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Содержимое 3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4306680" cy="3824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2"/>
          <a:stretch/>
        </p:blipFill>
        <p:spPr>
          <a:xfrm>
            <a:off x="3467160" y="2178000"/>
            <a:ext cx="1711440" cy="10666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5"/>
          <p:cNvSpPr/>
          <p:nvPr/>
        </p:nvSpPr>
        <p:spPr>
          <a:xfrm>
            <a:off x="4147920" y="3244680"/>
            <a:ext cx="222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(4;-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Объект 7"/>
              <p:cNvSpPr txBox="1"/>
              <p:nvPr/>
            </p:nvSpPr>
            <p:spPr>
              <a:xfrm>
                <a:off x="5867280" y="2467080"/>
                <a:ext cx="2867040" cy="27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8" name="Прямоугольник 11"/>
          <p:cNvSpPr/>
          <p:nvPr/>
        </p:nvSpPr>
        <p:spPr>
          <a:xfrm>
            <a:off x="6377040" y="5737320"/>
            <a:ext cx="27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вет: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координаты точек, выделенных на координатной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тавить в формулу для нахождений значения углового коэффициента касательной координаты 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ить значение полученной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2505240" y="3716280"/>
            <a:ext cx="30034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2T18:01:18Z</dcterms:created>
  <dc:creator>Антонина</dc:creator>
  <dc:description/>
  <dc:language>en-US</dc:language>
  <cp:lastModifiedBy>Антонина</cp:lastModifiedBy>
  <dcterms:modified xsi:type="dcterms:W3CDTF">2018-11-20T20:08:20Z</dcterms:modified>
  <cp:revision>40</cp:revision>
  <dc:subject/>
  <dc:title>Использование ИКТ при обучении учащихся исследованию функций по графику производной</dc:title>
</cp:coreProperties>
</file>