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EB7-9A16-43C0-B8B1-F3EAC54FE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42AA-46DF-4C3E-A871-D0E5815BB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38A-6647-4AF9-A673-425889FA9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D009-F2EF-49DE-BAB6-213735E97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E85C-649D-4E47-A6A4-9C972A40A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2B88-5D21-4693-9171-F01353799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905-45AE-4F65-A2CF-8D1222DA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ECA-F15C-44AD-AF88-973A4EA0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66439-B7A9-480D-8E85-834AA42B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901F-F61C-451C-9B66-21FA090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0D74E-8A5D-41E5-B523-771BCA9E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3A63E-1A11-496A-B6E6-8822DAA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28C6-4E53-4952-8E07-D8C88E7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DBA71-ECE6-4B87-A4C5-444BAC20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6156A-0AD7-467B-8129-A9D3078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9B37-E325-4B56-BC4F-72AD14BA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0F958-783E-44F5-9582-380C33F3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8F831-3B4D-4EAB-956A-80FE2F79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2FD-4A32-488E-9FCE-20BE5398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49A98-2363-4138-B89A-414FAAC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B25F-846A-4C14-880D-8766C07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1F8A5-9E4E-4303-A868-D25745F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F749-D36F-45F8-8FDF-03758D9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D5AFD-6E5D-41D6-8CAA-94C67BB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1B6CA-877E-4A92-97CE-FA906AC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15DFA-488A-4BF6-9DBF-B036C94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986C2-F548-4FCC-ABDB-18C4772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E3072-554C-4555-B175-4DFAFEF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25C6-A452-4A0A-9649-40BADF93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547-B79D-488A-9E42-AD89402E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4D592-9680-4E16-92BF-58026404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8F223-68C6-4340-8935-CEC71771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47EF6-860F-44FA-8048-19ADE4E2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0781-0A7F-4B68-9F45-0B98041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7A42-DF5A-4F85-8B65-6915B173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A0288-BB01-442F-AABC-89927A1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530E3-07FA-4F57-B0AA-11F0CA24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7DE8-A224-4B84-BD7F-D0264D5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13B2B-F3BF-4815-964E-6697732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88260-A9DB-4506-B2F3-BC1A65C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718-4987-4EE3-A53F-8B775B5D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84F9B-EA89-4773-86D7-00CAE79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C988B-904B-41CD-BC96-3A2D0D1C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05041-5112-46D8-BA2C-B53810A0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BA304-015A-4A83-86A6-B585D65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70171-4D85-4F29-B1EC-6F76C78B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CE03-B876-40AE-9F2B-18B4FAB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D8223-7443-466B-A2C5-D59A475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E3A3-327A-4485-923D-E528255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1B600-B3B9-46BD-B79C-B7570974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C2B69-852F-4A3E-AAE3-F838279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4FCF-E248-4BE6-A557-E6225654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264E5-2C82-4154-9EB7-DE149EE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348C3-3A0C-4C11-883C-4C4BEBDE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479AE-F91E-4CEA-93C9-67151C1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5C5F0-A053-47B4-831B-D52C18CE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93146-797D-4BC0-AA56-C4112175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3BB-2113-44A1-A2B1-267B298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E089-A535-46AA-8D49-942BE62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894E-7DEE-42AC-826E-7E1EBE9C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2180-BEA2-42A8-8C87-EEE9CFD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AE3B-00E7-4E35-A8E2-B6D41C3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13B-8183-4E0F-B192-50229E7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45C-C248-4B80-9128-F3F68FB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F0F-61EA-43C6-8D00-B8332AD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255A-61C8-4C1B-9B34-6FA28757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2EEC-E2AB-44C8-9278-DA476711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BE8-B50C-4EE7-973E-D9C17D2C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9DA3-4585-4B87-BE15-3976D6EF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A2BD-310A-42B8-96AB-D9380407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EE37-14E7-4159-966B-4935007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E5D9-2E14-458A-8AF7-7A2AF34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DA38-01CF-4924-A838-BB4A108A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A41-AB7A-4561-8D4E-7962557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BAA0-F82B-450F-8543-58870C9A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F2C1-7CDB-4EA9-B5F1-2D460E7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408C-4478-4222-B784-9FD892D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9D51-8266-4A58-99D6-24D7016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27EE-62C9-4B01-B6BD-69282084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EA3C-CC7E-48ED-8EE6-35213D4C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1BD0-27CB-440A-A1A6-A2AA49F2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6DCC-32EA-49F7-8FFF-0178417A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31C9-F10B-4CD9-8287-B5786FE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0D00-6F3B-4D16-859D-E3F4A4A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3BB-A23F-4C3D-8A40-6507A91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320B-3101-4987-8C25-CF8BB853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E52F4-A8AB-45A6-A739-611991F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D39D-348E-41C1-99F4-ACA4AF4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4D32C-9DBB-4E1C-8E45-65979B2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19E8-5C49-41F0-B9EF-5F5F96B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33D85-BD1D-4D7D-A56F-4F5DD63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7BFA-D822-431A-880F-CA6F2E52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C910-7B61-47C3-9063-7D637797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1E6C-5379-4875-9C74-C63208D2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5DD7-62E5-44E8-B11D-B2B29C78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592-4BB5-46F6-9174-729475F9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6CC6-BB35-4E71-A688-A7C6BE7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D10A-3345-4BD6-ABC7-654D29AF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523D-BA98-437C-AEFB-5A3865B2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63D3-D1A0-445B-BA44-EEA18CB0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6857-11FB-4242-919E-65448DE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F242-490A-48B0-8D43-13A187D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9115-C9CF-4005-9864-FBD1868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7202-C5E8-49AC-A278-7B2DEEF8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9897-5B63-471C-97C4-0B020B96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AC15-78C2-4A53-80B6-1DDC38F4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04E-6C07-48A1-823E-564A926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ADFE-73E1-4C83-9F26-AAAD1F1B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95B2-AA11-4691-B3A5-654CBF56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525D-1298-4CB3-B536-1B6075CE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8C5D-9445-461F-8560-BB39492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B2398-6B08-41AF-AAAB-8FF9764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F8AA4-DD26-45AC-8048-C98AE6BE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B0BA-CBA8-4872-B8FC-555AF5D3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88F8-1EED-4BEE-B825-08772EF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3A26-357E-402E-83B9-9B49AB3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F091-2DA3-4562-BCFC-E84AFE9F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2B2-DADF-4E72-A7D7-4F3333E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C0DBB-BB0E-4CA1-ABED-6D32806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32AA-6ABD-4790-894E-62386890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6FEFA-4906-47E8-9B05-F9B94391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A3C6-1A1E-45E0-8980-E5CE0ACA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ECCD-85F0-4EEE-93AC-9381060D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260A1-13AF-4A1B-9E7C-24CFC8C2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285BD-2811-4A7F-8093-091A02F1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5E65-470E-4DA7-B23B-B7222DAB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4B882-05FA-4E18-83B4-C90FA4A1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5E225-200C-438B-89E5-0656725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A29-9A10-4B2E-B734-B553BF2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D9FB-EAF8-459B-A021-823D65C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3AF2-898C-49FE-813F-0F1F28B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8FB7-B14D-4A69-9B4E-534E025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993D5-36A8-4B10-A42B-CE7780B3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F2EB9-1C6A-409F-A9D7-DC2FFBBE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27B2-BC1D-45C5-B438-4C345CD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9AC5-D674-4811-BA16-E93A6AE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010E6-A7E7-4717-A654-C90A87E7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3811-F395-44D6-A215-30812FA8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0AD10-EAF3-46F6-8087-BCC0337E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78F-B6C2-4C63-B430-5A6B0C87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30EFB-D1D5-42DA-A9B5-30A70DD1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6A84-B37F-4862-B70E-24A5A94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A88C5-B9FE-43B2-AC4A-B10006E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3F07-58FE-4C97-85B5-6D227CE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6978-6CC2-43D4-9DEE-5F14988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9615-1393-4C8A-A86D-E816F447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2B85B-1A88-4124-8EC1-7EB6C48C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ACE14-8B78-438D-8FD9-A55973A9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16DF2-BD52-4C8C-A123-66F9D3D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BF7F1-092A-4CE7-A3BC-69F5A589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8FF-F73D-436F-A95C-08F9971EA3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923D-306C-44B7-9A0E-C2DA8317C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1FF-2DFF-4242-8EDA-C74EA15AC0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4D2-D13E-4291-A265-F7090BC60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B51A-DD86-43CB-80A7-24B13740C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A02-F174-48F0-928F-5EE134B728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EC57-574A-47C4-998B-25D6780B29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BBD-4AAC-43C4-88B5-5CC200DB1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D3E8-9C0C-45AD-BC55-0E955C2F55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505-AD07-4A34-A33D-CA0C65EF30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8B10-4987-4E15-997D-09A2204DC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F7A-CAD0-43F6-A242-9043D83526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17560" y="476280"/>
            <a:ext cx="7175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ИКТ при обучении учащихся исследованию функции по графику производ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669924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втор: Палто А.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У «Волосовская СОШ №1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рисунке изображены график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и касательная к нему в точке с абсциссой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Найдите значение производной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в точке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895560" cy="3871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"/>
          <p:cNvPicPr/>
          <p:nvPr/>
        </p:nvPicPr>
        <p:blipFill>
          <a:blip r:embed="rId2"/>
          <a:stretch/>
        </p:blipFill>
        <p:spPr>
          <a:xfrm>
            <a:off x="4716360" y="1978200"/>
            <a:ext cx="3672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 рисунке изображены график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и касательная к нему в точке с абсциссой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 Найдите значение производной функции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 в точке 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569880" y="2205000"/>
            <a:ext cx="3854520" cy="3610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2"/>
          <a:stretch/>
        </p:blipFill>
        <p:spPr>
          <a:xfrm>
            <a:off x="4716360" y="2287440"/>
            <a:ext cx="420372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рисунке изображен график                                                                              производной функции f(x)  на интервале (-8;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межутков    возрастания имеет функция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длину наибольшего из ни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точек экстремума имеет функция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точек максимума,  минимум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количество точек, в которых касательная параллельна прямой у=2х+3 ;   у = -0,5х+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Рисунок 12" descr=""/>
          <p:cNvPicPr/>
          <p:nvPr/>
        </p:nvPicPr>
        <p:blipFill>
          <a:blip r:embed="rId1"/>
          <a:stretch/>
        </p:blipFill>
        <p:spPr>
          <a:xfrm>
            <a:off x="642960" y="1146240"/>
            <a:ext cx="328140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 рисунке изображен график   производной функции       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(x) 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, определенной на интервале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-11;3)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. Найдите промежутки возрастания функции    </a:t>
            </a:r>
            <a:r>
              <a:rPr b="0" lang="en-US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f(x)</a:t>
            </a:r>
            <a:r>
              <a:rPr b="0" lang="ru-RU" sz="27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 . В ответе укажите длину наибольшего из н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Содержимое 3" descr="task-7/ps/task-7.1"/>
          <p:cNvPicPr/>
          <p:nvPr/>
        </p:nvPicPr>
        <p:blipFill>
          <a:blip r:embed="rId1"/>
          <a:stretch/>
        </p:blipFill>
        <p:spPr>
          <a:xfrm>
            <a:off x="755640" y="321300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Объект 2"/>
              <p:cNvSpPr txBox="1"/>
              <p:nvPr/>
            </p:nvSpPr>
            <p:spPr>
              <a:xfrm>
                <a:off x="1735200" y="2421000"/>
                <a:ext cx="5932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озрастае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Прямоугольник 5"/>
          <p:cNvSpPr/>
          <p:nvPr/>
        </p:nvSpPr>
        <p:spPr>
          <a:xfrm>
            <a:off x="1187280" y="3860640"/>
            <a:ext cx="20484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2124000" y="3860640"/>
            <a:ext cx="143028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7"/>
          <p:cNvSpPr/>
          <p:nvPr/>
        </p:nvSpPr>
        <p:spPr>
          <a:xfrm>
            <a:off x="4316400" y="3860640"/>
            <a:ext cx="204840" cy="128124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8" descr=""/>
          <p:cNvPicPr/>
          <p:nvPr/>
        </p:nvPicPr>
        <p:blipFill>
          <a:blip r:embed="rId2"/>
          <a:stretch/>
        </p:blipFill>
        <p:spPr>
          <a:xfrm>
            <a:off x="2763720" y="530064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9" descr=""/>
          <p:cNvPicPr/>
          <p:nvPr/>
        </p:nvPicPr>
        <p:blipFill>
          <a:blip r:embed="rId3"/>
          <a:stretch/>
        </p:blipFill>
        <p:spPr>
          <a:xfrm>
            <a:off x="4417920" y="539424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0" descr=""/>
          <p:cNvPicPr/>
          <p:nvPr/>
        </p:nvPicPr>
        <p:blipFill>
          <a:blip r:embed="rId4"/>
          <a:stretch/>
        </p:blipFill>
        <p:spPr>
          <a:xfrm>
            <a:off x="1123920" y="5319720"/>
            <a:ext cx="5938920" cy="4968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1" descr=""/>
          <p:cNvPicPr/>
          <p:nvPr/>
        </p:nvPicPr>
        <p:blipFill>
          <a:blip r:embed="rId5"/>
          <a:stretch/>
        </p:blipFill>
        <p:spPr>
          <a:xfrm>
            <a:off x="6170760" y="5584680"/>
            <a:ext cx="5938560" cy="4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476280" y="2303640"/>
            <a:ext cx="6867360" cy="3978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7228080" y="1898640"/>
            <a:ext cx="13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 ’ 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1"/>
          <p:cNvSpPr/>
          <p:nvPr/>
        </p:nvSpPr>
        <p:spPr>
          <a:xfrm>
            <a:off x="1438200" y="2168640"/>
            <a:ext cx="3689280" cy="2160360"/>
          </a:xfrm>
          <a:prstGeom prst="rect">
            <a:avLst/>
          </a:prstGeom>
          <a:solidFill>
            <a:srgbClr val="00008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2"/>
          <p:cNvSpPr/>
          <p:nvPr/>
        </p:nvSpPr>
        <p:spPr>
          <a:xfrm flipV="1">
            <a:off x="1606680" y="324972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3"/>
          <p:cNvSpPr/>
          <p:nvPr/>
        </p:nvSpPr>
        <p:spPr>
          <a:xfrm flipV="1">
            <a:off x="1962000" y="363060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4"/>
          <p:cNvSpPr/>
          <p:nvPr/>
        </p:nvSpPr>
        <p:spPr>
          <a:xfrm flipV="1">
            <a:off x="2317680" y="39099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5"/>
          <p:cNvSpPr/>
          <p:nvPr/>
        </p:nvSpPr>
        <p:spPr>
          <a:xfrm flipV="1">
            <a:off x="2698920" y="337572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6"/>
          <p:cNvSpPr/>
          <p:nvPr/>
        </p:nvSpPr>
        <p:spPr>
          <a:xfrm flipV="1">
            <a:off x="3079800" y="291852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7"/>
          <p:cNvSpPr/>
          <p:nvPr/>
        </p:nvSpPr>
        <p:spPr>
          <a:xfrm flipV="1">
            <a:off x="3422520" y="380844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8"/>
          <p:cNvSpPr/>
          <p:nvPr/>
        </p:nvSpPr>
        <p:spPr>
          <a:xfrm flipV="1">
            <a:off x="3790800" y="412596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19"/>
          <p:cNvSpPr/>
          <p:nvPr/>
        </p:nvSpPr>
        <p:spPr>
          <a:xfrm flipV="1">
            <a:off x="4146480" y="39099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20"/>
          <p:cNvSpPr/>
          <p:nvPr/>
        </p:nvSpPr>
        <p:spPr>
          <a:xfrm flipV="1">
            <a:off x="4514760" y="34275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21"/>
          <p:cNvSpPr/>
          <p:nvPr/>
        </p:nvSpPr>
        <p:spPr>
          <a:xfrm flipV="1">
            <a:off x="4883040" y="3693240"/>
            <a:ext cx="8568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5"/>
          <p:cNvSpPr/>
          <p:nvPr/>
        </p:nvSpPr>
        <p:spPr>
          <a:xfrm>
            <a:off x="476280" y="260280"/>
            <a:ext cx="81248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производной функции, определенной на интервале (-7,5;7). Найдите промежутки возрастания функции. В ответе запишите количество целых точек, входящих в эти промеж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00191 0.1463 E">
                                      <p:cBhvr>
                                        <p:cTn id="242" dur="5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0.00017 0.09398 E">
                                      <p:cBhvr>
                                        <p:cTn id="245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2.77778E-007 0.05023 E">
                                      <p:cBhvr>
                                        <p:cTn id="248" dur="5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00017 0.12847 E">
                                      <p:cBhvr>
                                        <p:cTn id="251" dur="5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85185E-006 L 0.00035 0.20231 E">
                                      <p:cBhvr>
                                        <p:cTn id="254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0.00018 0.06945 E">
                                      <p:cBhvr>
                                        <p:cTn id="257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3.7037E-007 L -8.33333E-007 0.02338 E">
                                      <p:cBhvr>
                                        <p:cTn id="260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00017 0.05162 E">
                                      <p:cBhvr>
                                        <p:cTn id="26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0104 0.12199 E">
                                      <p:cBhvr>
                                        <p:cTn id="266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0018 0.08264 E">
                                      <p:cBhvr>
                                        <p:cTn id="269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6" descr=""/>
          <p:cNvPicPr/>
          <p:nvPr/>
        </p:nvPicPr>
        <p:blipFill>
          <a:blip r:embed="rId1"/>
          <a:stretch/>
        </p:blipFill>
        <p:spPr>
          <a:xfrm>
            <a:off x="958680" y="1673280"/>
            <a:ext cx="7226640" cy="43387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7"/>
          <p:cNvSpPr/>
          <p:nvPr/>
        </p:nvSpPr>
        <p:spPr>
          <a:xfrm>
            <a:off x="2637000" y="2492280"/>
            <a:ext cx="150480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3133800" y="27957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9"/>
          <p:cNvSpPr/>
          <p:nvPr/>
        </p:nvSpPr>
        <p:spPr>
          <a:xfrm>
            <a:off x="5742000" y="2492280"/>
            <a:ext cx="671400" cy="1079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5846760" y="2897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7"/>
          <p:cNvSpPr/>
          <p:nvPr/>
        </p:nvSpPr>
        <p:spPr>
          <a:xfrm flipV="1">
            <a:off x="3000240" y="3526560"/>
            <a:ext cx="86040" cy="8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8"/>
          <p:cNvSpPr/>
          <p:nvPr/>
        </p:nvSpPr>
        <p:spPr>
          <a:xfrm flipV="1">
            <a:off x="3530520" y="35211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9"/>
          <p:cNvSpPr/>
          <p:nvPr/>
        </p:nvSpPr>
        <p:spPr>
          <a:xfrm flipV="1">
            <a:off x="4089240" y="3546360"/>
            <a:ext cx="8604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20"/>
          <p:cNvSpPr/>
          <p:nvPr/>
        </p:nvSpPr>
        <p:spPr>
          <a:xfrm flipV="1">
            <a:off x="5727600" y="35463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1"/>
          <p:cNvSpPr/>
          <p:nvPr/>
        </p:nvSpPr>
        <p:spPr>
          <a:xfrm flipV="1">
            <a:off x="6273720" y="3521160"/>
            <a:ext cx="8568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1555920" y="60148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1 + (-2) + (-3)+ 2 + 3 =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1"/>
          <p:cNvSpPr/>
          <p:nvPr/>
        </p:nvSpPr>
        <p:spPr>
          <a:xfrm>
            <a:off x="539640" y="115920"/>
            <a:ext cx="7920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 производной функции, определенной на интервале (-5;5). Найдите промежутки возрастания функции. В ответе запишите сумму целых точек, входящих в эти промеж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5" descr=""/>
          <p:cNvPicPr/>
          <p:nvPr/>
        </p:nvPicPr>
        <p:blipFill>
          <a:blip r:embed="rId1"/>
          <a:stretch/>
        </p:blipFill>
        <p:spPr>
          <a:xfrm>
            <a:off x="297000" y="1808280"/>
            <a:ext cx="7226280" cy="43383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13"/>
          <p:cNvSpPr/>
          <p:nvPr/>
        </p:nvSpPr>
        <p:spPr>
          <a:xfrm>
            <a:off x="1974960" y="2617920"/>
            <a:ext cx="1504800" cy="107928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4"/>
          <p:cNvSpPr/>
          <p:nvPr/>
        </p:nvSpPr>
        <p:spPr>
          <a:xfrm>
            <a:off x="5111640" y="2617920"/>
            <a:ext cx="642960" cy="1079280"/>
          </a:xfrm>
          <a:prstGeom prst="rect">
            <a:avLst/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5"/>
          <p:cNvSpPr/>
          <p:nvPr/>
        </p:nvSpPr>
        <p:spPr>
          <a:xfrm>
            <a:off x="3448080" y="3697200"/>
            <a:ext cx="1676520" cy="1125720"/>
          </a:xfrm>
          <a:prstGeom prst="rect">
            <a:avLst/>
          </a:prstGeom>
          <a:solidFill>
            <a:srgbClr val="00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2341440" y="3649680"/>
            <a:ext cx="3367080" cy="90360"/>
            <a:chOff x="2341440" y="3649680"/>
            <a:chExt cx="3367080" cy="90360"/>
          </a:xfrm>
        </p:grpSpPr>
        <p:sp>
          <p:nvSpPr>
            <p:cNvPr id="665" name="Line 6"/>
            <p:cNvSpPr/>
            <p:nvPr/>
          </p:nvSpPr>
          <p:spPr>
            <a:xfrm>
              <a:off x="2379600" y="3697200"/>
              <a:ext cx="32655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0"/>
            <p:cNvSpPr/>
            <p:nvPr/>
          </p:nvSpPr>
          <p:spPr>
            <a:xfrm>
              <a:off x="2341440" y="3649680"/>
              <a:ext cx="9072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5618160" y="3649680"/>
              <a:ext cx="9036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16"/>
          <p:cNvSpPr/>
          <p:nvPr/>
        </p:nvSpPr>
        <p:spPr>
          <a:xfrm>
            <a:off x="2471760" y="29210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5172120" y="30225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4329000" y="36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9"/>
          <p:cNvSpPr/>
          <p:nvPr/>
        </p:nvSpPr>
        <p:spPr>
          <a:xfrm flipV="1">
            <a:off x="3414600" y="3652200"/>
            <a:ext cx="135000" cy="13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4033800" y="6039000"/>
            <a:ext cx="13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 =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"/>
          <p:cNvSpPr/>
          <p:nvPr/>
        </p:nvSpPr>
        <p:spPr>
          <a:xfrm>
            <a:off x="611280" y="333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На рисунке изображен график   производной функции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определенной на интервале (-5;5). Найдите точку максимума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Calibri"/>
                <a:ea typeface="Calibri"/>
              </a:rPr>
              <a:t>на интервале (-3;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7" descr=""/>
          <p:cNvPicPr/>
          <p:nvPr/>
        </p:nvPicPr>
        <p:blipFill>
          <a:blip r:embed="rId2"/>
          <a:stretch/>
        </p:blipFill>
        <p:spPr>
          <a:xfrm>
            <a:off x="981000" y="988920"/>
            <a:ext cx="1015920" cy="358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8" descr=""/>
          <p:cNvPicPr/>
          <p:nvPr/>
        </p:nvPicPr>
        <p:blipFill>
          <a:blip r:embed="rId3"/>
          <a:stretch/>
        </p:blipFill>
        <p:spPr>
          <a:xfrm>
            <a:off x="6875640" y="338040"/>
            <a:ext cx="10112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 производной функции                 , определенной на интервале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7;14)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Найдите количество точек экстремума функции                   , принадлежащих отрезк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-6;9]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Содержимое 3" descr="task-5/ps/task-5.1"/>
          <p:cNvPicPr/>
          <p:nvPr/>
        </p:nvPicPr>
        <p:blipFill>
          <a:blip r:embed="rId1"/>
          <a:stretch/>
        </p:blipFill>
        <p:spPr>
          <a:xfrm>
            <a:off x="684360" y="2349360"/>
            <a:ext cx="4483080" cy="21607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Объект 2"/>
              <p:cNvSpPr txBox="1"/>
              <p:nvPr/>
            </p:nvSpPr>
            <p:spPr>
              <a:xfrm>
                <a:off x="6588000" y="2205000"/>
                <a:ext cx="2000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Овал 5"/>
          <p:cNvSpPr/>
          <p:nvPr/>
        </p:nvSpPr>
        <p:spPr>
          <a:xfrm>
            <a:off x="3419640" y="3435480"/>
            <a:ext cx="16164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6"/>
          <p:cNvSpPr/>
          <p:nvPr/>
        </p:nvSpPr>
        <p:spPr>
          <a:xfrm>
            <a:off x="3924360" y="3435480"/>
            <a:ext cx="16020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7"/>
          <p:cNvSpPr/>
          <p:nvPr/>
        </p:nvSpPr>
        <p:spPr>
          <a:xfrm>
            <a:off x="4284720" y="3435480"/>
            <a:ext cx="160200" cy="117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8"/>
          <p:cNvSpPr/>
          <p:nvPr/>
        </p:nvSpPr>
        <p:spPr>
          <a:xfrm>
            <a:off x="1139760" y="2751120"/>
            <a:ext cx="2711520" cy="148428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8" descr=""/>
          <p:cNvPicPr/>
          <p:nvPr/>
        </p:nvPicPr>
        <p:blipFill>
          <a:blip r:embed="rId2"/>
          <a:stretch/>
        </p:blipFill>
        <p:spPr>
          <a:xfrm>
            <a:off x="6804000" y="3154320"/>
            <a:ext cx="8132760" cy="6793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0" descr=""/>
          <p:cNvPicPr/>
          <p:nvPr/>
        </p:nvPicPr>
        <p:blipFill>
          <a:blip r:embed="rId3"/>
          <a:stretch/>
        </p:blipFill>
        <p:spPr>
          <a:xfrm>
            <a:off x="3363840" y="1557360"/>
            <a:ext cx="1011240" cy="360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"/>
          <p:cNvPicPr/>
          <p:nvPr/>
        </p:nvPicPr>
        <p:blipFill>
          <a:blip r:embed="rId4"/>
          <a:stretch/>
        </p:blipFill>
        <p:spPr>
          <a:xfrm>
            <a:off x="7380360" y="836640"/>
            <a:ext cx="10112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"/>
          <p:cNvPicPr/>
          <p:nvPr/>
        </p:nvPicPr>
        <p:blipFill>
          <a:blip r:embed="rId1"/>
          <a:stretch/>
        </p:blipFill>
        <p:spPr>
          <a:xfrm>
            <a:off x="760320" y="1981080"/>
            <a:ext cx="7623360" cy="424836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6"/>
          <p:cNvSpPr/>
          <p:nvPr/>
        </p:nvSpPr>
        <p:spPr>
          <a:xfrm>
            <a:off x="1670040" y="4272120"/>
            <a:ext cx="1082520" cy="166500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4211640" y="4238640"/>
            <a:ext cx="2565360" cy="1574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7497720" y="4284720"/>
            <a:ext cx="360360" cy="157464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1963440" y="432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557028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1"/>
          <p:cNvSpPr/>
          <p:nvPr/>
        </p:nvSpPr>
        <p:spPr>
          <a:xfrm>
            <a:off x="7466040" y="4103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4257720" y="4329000"/>
            <a:ext cx="2530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1704960" y="4303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16"/>
          <p:cNvGrpSpPr/>
          <p:nvPr/>
        </p:nvGrpSpPr>
        <p:grpSpPr>
          <a:xfrm>
            <a:off x="7508880" y="4238640"/>
            <a:ext cx="392040" cy="88920"/>
            <a:chOff x="7508880" y="4238640"/>
            <a:chExt cx="392040" cy="88920"/>
          </a:xfrm>
        </p:grpSpPr>
        <p:sp>
          <p:nvSpPr>
            <p:cNvPr id="697" name="Line 14"/>
            <p:cNvSpPr/>
            <p:nvPr/>
          </p:nvSpPr>
          <p:spPr>
            <a:xfrm>
              <a:off x="7508880" y="4284720"/>
              <a:ext cx="349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5"/>
            <p:cNvSpPr/>
            <p:nvPr/>
          </p:nvSpPr>
          <p:spPr>
            <a:xfrm>
              <a:off x="7812000" y="4238640"/>
              <a:ext cx="88920" cy="8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 Box 17"/>
          <p:cNvSpPr/>
          <p:nvPr/>
        </p:nvSpPr>
        <p:spPr>
          <a:xfrm>
            <a:off x="2076840" y="387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5294520" y="382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9"/>
          <p:cNvSpPr/>
          <p:nvPr/>
        </p:nvSpPr>
        <p:spPr>
          <a:xfrm>
            <a:off x="7504200" y="381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"/>
          <p:cNvSpPr/>
          <p:nvPr/>
        </p:nvSpPr>
        <p:spPr>
          <a:xfrm>
            <a:off x="539640" y="189000"/>
            <a:ext cx="799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  <a:ea typeface="Calibri"/>
              </a:rPr>
              <a:t>На рисунке изображен график   производной функции                         , определенной на интервале (-2;16). Найдите промежутки убывания функции                     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Объект 2"/>
              <p:cNvSpPr txBox="1"/>
              <p:nvPr/>
            </p:nvSpPr>
            <p:spPr>
              <a:xfrm>
                <a:off x="1962000" y="1343160"/>
                <a:ext cx="462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≺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убывае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4" name="Picture 21" descr=""/>
          <p:cNvPicPr/>
          <p:nvPr/>
        </p:nvPicPr>
        <p:blipFill>
          <a:blip r:embed="rId2"/>
          <a:stretch/>
        </p:blipFill>
        <p:spPr>
          <a:xfrm>
            <a:off x="1893960" y="907920"/>
            <a:ext cx="1011240" cy="360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1" descr=""/>
          <p:cNvPicPr/>
          <p:nvPr/>
        </p:nvPicPr>
        <p:blipFill>
          <a:blip r:embed="rId3"/>
          <a:stretch/>
        </p:blipFill>
        <p:spPr>
          <a:xfrm>
            <a:off x="6688080" y="225360"/>
            <a:ext cx="10112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Прямоугольник 3" descr=""/>
          <p:cNvPicPr/>
          <p:nvPr/>
        </p:nvPicPr>
        <p:blipFill>
          <a:blip r:embed="rId1"/>
          <a:stretch/>
        </p:blipFill>
        <p:spPr>
          <a:xfrm>
            <a:off x="347760" y="2798640"/>
            <a:ext cx="8448480" cy="14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 Black"/>
              </a:rPr>
              <a:t>Пробл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33160" y="1447560"/>
            <a:ext cx="83055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ак сделать обучение 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гарантирующи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зульта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ть наглядный материал по исследованию функций с использованием И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3410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яснить, в чем состоит геометр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яснить, как найти промежутки возрастания и убывания функции, точки экстремума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ставить алгоритм действий в каждом конкретном случа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оздать наглядный материал, который  поможет хорошо усвоить 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http://xn--i1abbnckbmcl9fb.xn--p1ai/%D1%81%D1%82%D0%B0%D1%82%D1%8C%D0%B8/636008/presentation/17.JPG"/>
          <p:cNvPicPr/>
          <p:nvPr/>
        </p:nvPicPr>
        <p:blipFill>
          <a:blip r:embed="rId2"/>
          <a:stretch/>
        </p:blipFill>
        <p:spPr>
          <a:xfrm>
            <a:off x="0" y="189000"/>
            <a:ext cx="8893080" cy="65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4440240" y="2197080"/>
            <a:ext cx="4228200" cy="4431960"/>
            <a:chOff x="4440240" y="2197080"/>
            <a:chExt cx="4228200" cy="4431960"/>
          </a:xfrm>
        </p:grpSpPr>
        <p:grpSp>
          <p:nvGrpSpPr>
            <p:cNvPr id="511" name="Group 3"/>
            <p:cNvGrpSpPr/>
            <p:nvPr/>
          </p:nvGrpSpPr>
          <p:grpSpPr>
            <a:xfrm>
              <a:off x="4630320" y="2273400"/>
              <a:ext cx="2679480" cy="4355640"/>
              <a:chOff x="4630320" y="2273400"/>
              <a:chExt cx="2679480" cy="4355640"/>
            </a:xfrm>
          </p:grpSpPr>
          <p:sp>
            <p:nvSpPr>
              <p:cNvPr id="512" name="Line 4"/>
              <p:cNvSpPr/>
              <p:nvPr/>
            </p:nvSpPr>
            <p:spPr>
              <a:xfrm>
                <a:off x="67730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"/>
              <p:cNvSpPr/>
              <p:nvPr/>
            </p:nvSpPr>
            <p:spPr>
              <a:xfrm>
                <a:off x="730980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"/>
              <p:cNvSpPr/>
              <p:nvPr/>
            </p:nvSpPr>
            <p:spPr>
              <a:xfrm>
                <a:off x="48985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7"/>
              <p:cNvSpPr/>
              <p:nvPr/>
            </p:nvSpPr>
            <p:spPr>
              <a:xfrm>
                <a:off x="51667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8"/>
              <p:cNvSpPr/>
              <p:nvPr/>
            </p:nvSpPr>
            <p:spPr>
              <a:xfrm>
                <a:off x="543492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"/>
              <p:cNvSpPr/>
              <p:nvPr/>
            </p:nvSpPr>
            <p:spPr>
              <a:xfrm>
                <a:off x="570168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0"/>
              <p:cNvSpPr/>
              <p:nvPr/>
            </p:nvSpPr>
            <p:spPr>
              <a:xfrm>
                <a:off x="623808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1"/>
              <p:cNvSpPr/>
              <p:nvPr/>
            </p:nvSpPr>
            <p:spPr>
              <a:xfrm>
                <a:off x="65066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2"/>
              <p:cNvSpPr/>
              <p:nvPr/>
            </p:nvSpPr>
            <p:spPr>
              <a:xfrm>
                <a:off x="7043040" y="2273400"/>
                <a:ext cx="0" cy="435564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5965200" y="2284920"/>
                <a:ext cx="6120" cy="43437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4630320" y="2284920"/>
                <a:ext cx="1440" cy="43408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Line 15"/>
            <p:cNvSpPr/>
            <p:nvPr/>
          </p:nvSpPr>
          <p:spPr>
            <a:xfrm>
              <a:off x="784512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6"/>
            <p:cNvSpPr/>
            <p:nvPr/>
          </p:nvSpPr>
          <p:spPr>
            <a:xfrm>
              <a:off x="811332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7"/>
            <p:cNvSpPr/>
            <p:nvPr/>
          </p:nvSpPr>
          <p:spPr>
            <a:xfrm>
              <a:off x="838188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8"/>
            <p:cNvSpPr/>
            <p:nvPr/>
          </p:nvSpPr>
          <p:spPr>
            <a:xfrm>
              <a:off x="8648280" y="2197080"/>
              <a:ext cx="0" cy="4356360"/>
            </a:xfrm>
            <a:prstGeom prst="line">
              <a:avLst/>
            </a:prstGeom>
            <a:ln cap="rnd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7576920" y="2210040"/>
              <a:ext cx="1080" cy="4340160"/>
            </a:xfrm>
            <a:custGeom>
              <a:avLst/>
              <a:gdLst/>
              <a:ahLst/>
              <a:rect l="l" t="t" r="r" b="b"/>
              <a:pathLst>
                <a:path w="1" h="2175">
                  <a:moveTo>
                    <a:pt x="0" y="2175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20"/>
            <p:cNvGrpSpPr/>
            <p:nvPr/>
          </p:nvGrpSpPr>
          <p:grpSpPr>
            <a:xfrm>
              <a:off x="4440240" y="2273400"/>
              <a:ext cx="4228200" cy="4273560"/>
              <a:chOff x="4440240" y="2273400"/>
              <a:chExt cx="4228200" cy="4273560"/>
            </a:xfrm>
          </p:grpSpPr>
          <p:grpSp>
            <p:nvGrpSpPr>
              <p:cNvPr id="529" name="Group 21"/>
              <p:cNvGrpSpPr/>
              <p:nvPr/>
            </p:nvGrpSpPr>
            <p:grpSpPr>
              <a:xfrm>
                <a:off x="4637520" y="2273400"/>
                <a:ext cx="4030920" cy="2260440"/>
                <a:chOff x="4637520" y="2273400"/>
                <a:chExt cx="4030920" cy="2260440"/>
              </a:xfrm>
            </p:grpSpPr>
            <p:sp>
              <p:nvSpPr>
                <p:cNvPr id="530" name="Freeform 22"/>
                <p:cNvSpPr/>
                <p:nvPr/>
              </p:nvSpPr>
              <p:spPr>
                <a:xfrm>
                  <a:off x="4637520" y="3778200"/>
                  <a:ext cx="4028760" cy="1800"/>
                </a:xfrm>
                <a:custGeom>
                  <a:avLst/>
                  <a:gdLst/>
                  <a:ahLst/>
                  <a:rect l="l" t="t" r="r" b="b"/>
                  <a:pathLst>
                    <a:path w="2449" h="1">
                      <a:moveTo>
                        <a:pt x="0" y="0"/>
                      </a:moveTo>
                      <a:lnTo>
                        <a:pt x="2449" y="0"/>
                      </a:lnTo>
                    </a:path>
                  </a:pathLst>
                </a:custGeom>
                <a:noFill/>
                <a:ln w="32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23"/>
                <p:cNvSpPr/>
                <p:nvPr/>
              </p:nvSpPr>
              <p:spPr>
                <a:xfrm>
                  <a:off x="4637520" y="227340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24"/>
                <p:cNvSpPr/>
                <p:nvPr/>
              </p:nvSpPr>
              <p:spPr>
                <a:xfrm>
                  <a:off x="4637520" y="453384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25"/>
                <p:cNvSpPr/>
                <p:nvPr/>
              </p:nvSpPr>
              <p:spPr>
                <a:xfrm>
                  <a:off x="4637520" y="25239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26"/>
                <p:cNvSpPr/>
                <p:nvPr/>
              </p:nvSpPr>
              <p:spPr>
                <a:xfrm>
                  <a:off x="4637520" y="277488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27"/>
                <p:cNvSpPr/>
                <p:nvPr/>
              </p:nvSpPr>
              <p:spPr>
                <a:xfrm>
                  <a:off x="4637520" y="302580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28"/>
                <p:cNvSpPr/>
                <p:nvPr/>
              </p:nvSpPr>
              <p:spPr>
                <a:xfrm>
                  <a:off x="4637520" y="32781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29"/>
                <p:cNvSpPr/>
                <p:nvPr/>
              </p:nvSpPr>
              <p:spPr>
                <a:xfrm>
                  <a:off x="4637520" y="352908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0"/>
                <p:cNvSpPr/>
                <p:nvPr/>
              </p:nvSpPr>
              <p:spPr>
                <a:xfrm>
                  <a:off x="4637520" y="403236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1"/>
                <p:cNvSpPr/>
                <p:nvPr/>
              </p:nvSpPr>
              <p:spPr>
                <a:xfrm>
                  <a:off x="4637520" y="4282920"/>
                  <a:ext cx="4030920" cy="0"/>
                </a:xfrm>
                <a:prstGeom prst="line">
                  <a:avLst/>
                </a:prstGeom>
                <a:ln cap="rnd"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Line 32"/>
              <p:cNvSpPr/>
              <p:nvPr/>
            </p:nvSpPr>
            <p:spPr>
              <a:xfrm>
                <a:off x="4440240" y="4289400"/>
                <a:ext cx="421884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"/>
              <p:cNvSpPr/>
              <p:nvPr/>
            </p:nvSpPr>
            <p:spPr>
              <a:xfrm>
                <a:off x="4558680" y="6292800"/>
                <a:ext cx="4029480" cy="180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34"/>
              <p:cNvSpPr/>
              <p:nvPr/>
            </p:nvSpPr>
            <p:spPr>
              <a:xfrm>
                <a:off x="4558680" y="478800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35"/>
              <p:cNvSpPr/>
              <p:nvPr/>
            </p:nvSpPr>
            <p:spPr>
              <a:xfrm>
                <a:off x="4558680" y="503892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36"/>
              <p:cNvSpPr/>
              <p:nvPr/>
            </p:nvSpPr>
            <p:spPr>
              <a:xfrm>
                <a:off x="4558680" y="528948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37"/>
              <p:cNvSpPr/>
              <p:nvPr/>
            </p:nvSpPr>
            <p:spPr>
              <a:xfrm>
                <a:off x="4558680" y="554040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38"/>
              <p:cNvSpPr/>
              <p:nvPr/>
            </p:nvSpPr>
            <p:spPr>
              <a:xfrm>
                <a:off x="4558680" y="579276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39"/>
              <p:cNvSpPr/>
              <p:nvPr/>
            </p:nvSpPr>
            <p:spPr>
              <a:xfrm>
                <a:off x="4558680" y="604368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0"/>
              <p:cNvSpPr/>
              <p:nvPr/>
            </p:nvSpPr>
            <p:spPr>
              <a:xfrm>
                <a:off x="4558680" y="6546960"/>
                <a:ext cx="4031280" cy="0"/>
              </a:xfrm>
              <a:prstGeom prst="line">
                <a:avLst/>
              </a:prstGeom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Freeform 41"/>
          <p:cNvSpPr/>
          <p:nvPr/>
        </p:nvSpPr>
        <p:spPr>
          <a:xfrm>
            <a:off x="6750000" y="2259000"/>
            <a:ext cx="9720" cy="3762360"/>
          </a:xfrm>
          <a:custGeom>
            <a:avLst/>
            <a:gdLst/>
            <a:ahLst/>
            <a:rect l="l" t="t" r="r" b="b"/>
            <a:pathLst>
              <a:path w="3" h="1281">
                <a:moveTo>
                  <a:pt x="0" y="0"/>
                </a:moveTo>
                <a:lnTo>
                  <a:pt x="3" y="1281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42"/>
          <p:cNvSpPr/>
          <p:nvPr/>
        </p:nvSpPr>
        <p:spPr>
          <a:xfrm>
            <a:off x="6757920" y="2266920"/>
            <a:ext cx="6480" cy="4336920"/>
          </a:xfrm>
          <a:custGeom>
            <a:avLst/>
            <a:gdLst/>
            <a:ahLst/>
            <a:rect l="l" t="t" r="r" b="b"/>
            <a:pathLst>
              <a:path w="4" h="2732">
                <a:moveTo>
                  <a:pt x="4" y="27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457200" y="291960"/>
            <a:ext cx="8458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изображены график функции 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касательная к этому графику, проведенная в точке с абсциссой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значение производной функц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точке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8218440" y="380988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45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554" name="Freeform 46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54"/>
          <p:cNvSpPr/>
          <p:nvPr/>
        </p:nvSpPr>
        <p:spPr>
          <a:xfrm>
            <a:off x="7505640" y="4267080"/>
            <a:ext cx="67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5"/>
          <p:cNvSpPr/>
          <p:nvPr/>
        </p:nvSpPr>
        <p:spPr>
          <a:xfrm>
            <a:off x="6694560" y="2182680"/>
            <a:ext cx="6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6"/>
          <p:cNvSpPr/>
          <p:nvPr/>
        </p:nvSpPr>
        <p:spPr>
          <a:xfrm>
            <a:off x="304920" y="1231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7"/>
          <p:cNvSpPr/>
          <p:nvPr/>
        </p:nvSpPr>
        <p:spPr>
          <a:xfrm>
            <a:off x="4343400" y="2971800"/>
            <a:ext cx="4495680" cy="1066680"/>
          </a:xfrm>
          <a:custGeom>
            <a:avLst/>
            <a:gdLst/>
            <a:ahLst/>
            <a:rect l="l" t="t" r="r" b="b"/>
            <a:pathLst>
              <a:path w="2832" h="672">
                <a:moveTo>
                  <a:pt x="2832" y="0"/>
                </a:moveTo>
                <a:lnTo>
                  <a:pt x="0" y="67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8"/>
          <p:cNvSpPr/>
          <p:nvPr/>
        </p:nvSpPr>
        <p:spPr>
          <a:xfrm>
            <a:off x="7683480" y="3251160"/>
            <a:ext cx="12600" cy="1028880"/>
          </a:xfrm>
          <a:custGeom>
            <a:avLst/>
            <a:gdLst/>
            <a:ahLst/>
            <a:rect l="l" t="t" r="r" b="b"/>
            <a:pathLst>
              <a:path w="8" h="648">
                <a:moveTo>
                  <a:pt x="0" y="0"/>
                </a:moveTo>
                <a:lnTo>
                  <a:pt x="8" y="648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9"/>
          <p:cNvSpPr/>
          <p:nvPr/>
        </p:nvSpPr>
        <p:spPr>
          <a:xfrm>
            <a:off x="643896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60"/>
          <p:cNvSpPr/>
          <p:nvPr/>
        </p:nvSpPr>
        <p:spPr>
          <a:xfrm>
            <a:off x="4381560" y="3193920"/>
            <a:ext cx="4216320" cy="3102120"/>
          </a:xfrm>
          <a:custGeom>
            <a:avLst/>
            <a:gdLst/>
            <a:ahLst/>
            <a:rect l="l" t="t" r="r" b="b"/>
            <a:pathLst>
              <a:path w="2656" h="1954">
                <a:moveTo>
                  <a:pt x="2656" y="500"/>
                </a:moveTo>
                <a:cubicBezTo>
                  <a:pt x="2617" y="485"/>
                  <a:pt x="2519" y="488"/>
                  <a:pt x="2424" y="412"/>
                </a:cubicBezTo>
                <a:cubicBezTo>
                  <a:pt x="2329" y="336"/>
                  <a:pt x="2212" y="0"/>
                  <a:pt x="2088" y="44"/>
                </a:cubicBezTo>
                <a:cubicBezTo>
                  <a:pt x="1964" y="88"/>
                  <a:pt x="1872" y="365"/>
                  <a:pt x="1680" y="676"/>
                </a:cubicBezTo>
                <a:cubicBezTo>
                  <a:pt x="1488" y="987"/>
                  <a:pt x="1216" y="1862"/>
                  <a:pt x="936" y="1908"/>
                </a:cubicBezTo>
                <a:cubicBezTo>
                  <a:pt x="656" y="1954"/>
                  <a:pt x="195" y="1150"/>
                  <a:pt x="0" y="95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1"/>
          <p:cNvSpPr/>
          <p:nvPr/>
        </p:nvSpPr>
        <p:spPr>
          <a:xfrm>
            <a:off x="7658280" y="3213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2"/>
          <p:cNvSpPr/>
          <p:nvPr/>
        </p:nvSpPr>
        <p:spPr>
          <a:xfrm>
            <a:off x="5332680" y="5562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558720" y="50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5"/>
          <p:cNvSpPr/>
          <p:nvPr/>
        </p:nvSpPr>
        <p:spPr>
          <a:xfrm>
            <a:off x="6935760" y="4229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87"/>
          <p:cNvSpPr/>
          <p:nvPr/>
        </p:nvSpPr>
        <p:spPr>
          <a:xfrm>
            <a:off x="5397480" y="3746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8"/>
          <p:cNvSpPr/>
          <p:nvPr/>
        </p:nvSpPr>
        <p:spPr>
          <a:xfrm>
            <a:off x="152280" y="1279440"/>
            <a:ext cx="86868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 Угол, который составляет касательная с положительным направлением оси О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р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отя он и не помещается в пределах чертежа). Значит, значение производной в точке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9"/>
          <p:cNvSpPr/>
          <p:nvPr/>
        </p:nvSpPr>
        <p:spPr>
          <a:xfrm>
            <a:off x="152280" y="25750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). Найдем тангенс этого угла. Для этого подберем треугольник с катетами-целыми чис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0"/>
          <p:cNvSpPr/>
          <p:nvPr/>
        </p:nvSpPr>
        <p:spPr>
          <a:xfrm>
            <a:off x="152280" y="35654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найти несколько удобных треугольников, например,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1"/>
          <p:cNvSpPr/>
          <p:nvPr/>
        </p:nvSpPr>
        <p:spPr>
          <a:xfrm>
            <a:off x="152280" y="43434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). Найдем тангенс угла – это отношение 3: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93"/>
          <p:cNvSpPr/>
          <p:nvPr/>
        </p:nvSpPr>
        <p:spPr>
          <a:xfrm>
            <a:off x="5410080" y="3022560"/>
            <a:ext cx="3251160" cy="755640"/>
          </a:xfrm>
          <a:custGeom>
            <a:avLst/>
            <a:gdLst/>
            <a:ahLst/>
            <a:rect l="l" t="t" r="r" b="b"/>
            <a:pathLst>
              <a:path w="2048" h="476">
                <a:moveTo>
                  <a:pt x="2048" y="0"/>
                </a:moveTo>
                <a:lnTo>
                  <a:pt x="2040" y="472"/>
                </a:lnTo>
                <a:lnTo>
                  <a:pt x="0" y="476"/>
                </a:lnTo>
                <a:lnTo>
                  <a:pt x="2048" y="0"/>
                </a:lnTo>
                <a:close/>
              </a:path>
            </a:pathLst>
          </a:cu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00"/>
          <p:cNvGrpSpPr/>
          <p:nvPr/>
        </p:nvGrpSpPr>
        <p:grpSpPr>
          <a:xfrm>
            <a:off x="3327480" y="3962520"/>
            <a:ext cx="1104840" cy="366120"/>
            <a:chOff x="3327480" y="3962520"/>
            <a:chExt cx="1104840" cy="366120"/>
          </a:xfrm>
        </p:grpSpPr>
        <p:sp>
          <p:nvSpPr>
            <p:cNvPr id="580" name="Rectangle 94"/>
            <p:cNvSpPr/>
            <p:nvPr/>
          </p:nvSpPr>
          <p:spPr>
            <a:xfrm>
              <a:off x="4076640" y="3962520"/>
              <a:ext cx="34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3352680" y="4292640"/>
              <a:ext cx="1079640" cy="1440"/>
            </a:xfrm>
            <a:custGeom>
              <a:avLst/>
              <a:gdLst/>
              <a:ahLst/>
              <a:rect l="l" t="t" r="r" b="b"/>
              <a:pathLst>
                <a:path w="680" h="1">
                  <a:moveTo>
                    <a:pt x="68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3327480" y="4038480"/>
              <a:ext cx="1054080" cy="266760"/>
            </a:xfrm>
            <a:custGeom>
              <a:avLst/>
              <a:gdLst/>
              <a:ahLst/>
              <a:rect l="l" t="t" r="r" b="b"/>
              <a:pathLst>
                <a:path w="664" h="168">
                  <a:moveTo>
                    <a:pt x="664" y="0"/>
                  </a:moveTo>
                  <a:lnTo>
                    <a:pt x="0" y="1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98"/>
          <p:cNvSpPr/>
          <p:nvPr/>
        </p:nvSpPr>
        <p:spPr>
          <a:xfrm>
            <a:off x="4076640" y="3962520"/>
            <a:ext cx="34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99"/>
          <p:cNvSpPr/>
          <p:nvPr/>
        </p:nvSpPr>
        <p:spPr>
          <a:xfrm>
            <a:off x="8610480" y="2984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16"/>
          <p:cNvGrpSpPr/>
          <p:nvPr/>
        </p:nvGrpSpPr>
        <p:grpSpPr>
          <a:xfrm>
            <a:off x="7088760" y="3200400"/>
            <a:ext cx="1873800" cy="967680"/>
            <a:chOff x="7088760" y="3200400"/>
            <a:chExt cx="1873800" cy="967680"/>
          </a:xfrm>
        </p:grpSpPr>
        <p:sp>
          <p:nvSpPr>
            <p:cNvPr id="586" name="Rectangle 101"/>
            <p:cNvSpPr/>
            <p:nvPr/>
          </p:nvSpPr>
          <p:spPr>
            <a:xfrm>
              <a:off x="86126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02"/>
            <p:cNvSpPr/>
            <p:nvPr/>
          </p:nvSpPr>
          <p:spPr>
            <a:xfrm>
              <a:off x="7088760" y="370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03"/>
          <p:cNvGrpSpPr/>
          <p:nvPr/>
        </p:nvGrpSpPr>
        <p:grpSpPr>
          <a:xfrm>
            <a:off x="2590920" y="4724280"/>
            <a:ext cx="1155600" cy="838080"/>
            <a:chOff x="2590920" y="4724280"/>
            <a:chExt cx="1155600" cy="838080"/>
          </a:xfrm>
        </p:grpSpPr>
        <p:sp>
          <p:nvSpPr>
            <p:cNvPr id="589" name="Freeform 104"/>
            <p:cNvSpPr/>
            <p:nvPr/>
          </p:nvSpPr>
          <p:spPr>
            <a:xfrm>
              <a:off x="3441960" y="5024520"/>
              <a:ext cx="304560" cy="4680"/>
            </a:xfrm>
            <a:custGeom>
              <a:avLst/>
              <a:gdLst/>
              <a:ahLst/>
              <a:rect l="l" t="t" r="r" b="b"/>
              <a:pathLst>
                <a:path w="192" h="3">
                  <a:moveTo>
                    <a:pt x="0" y="0"/>
                  </a:moveTo>
                  <a:lnTo>
                    <a:pt x="192" y="3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05"/>
            <p:cNvSpPr/>
            <p:nvPr/>
          </p:nvSpPr>
          <p:spPr>
            <a:xfrm>
              <a:off x="3445920" y="5035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06"/>
            <p:cNvSpPr/>
            <p:nvPr/>
          </p:nvSpPr>
          <p:spPr>
            <a:xfrm>
              <a:off x="353484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07"/>
            <p:cNvSpPr/>
            <p:nvPr/>
          </p:nvSpPr>
          <p:spPr>
            <a:xfrm>
              <a:off x="2590920" y="473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ga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15"/>
          <p:cNvGrpSpPr/>
          <p:nvPr/>
        </p:nvGrpSpPr>
        <p:grpSpPr>
          <a:xfrm>
            <a:off x="152280" y="5257800"/>
            <a:ext cx="3048120" cy="780120"/>
            <a:chOff x="152280" y="5257800"/>
            <a:chExt cx="3048120" cy="780120"/>
          </a:xfrm>
        </p:grpSpPr>
        <p:sp>
          <p:nvSpPr>
            <p:cNvPr id="594" name="Text Box 108"/>
            <p:cNvSpPr/>
            <p:nvPr/>
          </p:nvSpPr>
          <p:spPr>
            <a:xfrm>
              <a:off x="152280" y="5334120"/>
              <a:ext cx="304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). Переведем дроб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десятичную запис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114"/>
            <p:cNvGrpSpPr/>
            <p:nvPr/>
          </p:nvGrpSpPr>
          <p:grpSpPr>
            <a:xfrm>
              <a:off x="2819520" y="5257800"/>
              <a:ext cx="304560" cy="616680"/>
              <a:chOff x="2819520" y="5257800"/>
              <a:chExt cx="304560" cy="616680"/>
            </a:xfrm>
          </p:grpSpPr>
          <p:sp>
            <p:nvSpPr>
              <p:cNvPr id="596" name="Freeform 110"/>
              <p:cNvSpPr/>
              <p:nvPr/>
            </p:nvSpPr>
            <p:spPr>
              <a:xfrm>
                <a:off x="2819520" y="5558040"/>
                <a:ext cx="304560" cy="4680"/>
              </a:xfrm>
              <a:custGeom>
                <a:avLst/>
                <a:gdLst/>
                <a:ahLst/>
                <a:rect l="l" t="t" r="r" b="b"/>
                <a:pathLst>
                  <a:path w="192" h="3">
                    <a:moveTo>
                      <a:pt x="0" y="0"/>
                    </a:moveTo>
                    <a:lnTo>
                      <a:pt x="192" y="3"/>
                    </a:ln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111"/>
              <p:cNvSpPr/>
              <p:nvPr/>
            </p:nvSpPr>
            <p:spPr>
              <a:xfrm>
                <a:off x="2823120" y="5569200"/>
                <a:ext cx="212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12"/>
              <p:cNvSpPr/>
              <p:nvPr/>
            </p:nvSpPr>
            <p:spPr>
              <a:xfrm>
                <a:off x="2912040" y="5257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9" name="Picture 112" descr=""/>
          <p:cNvPicPr/>
          <p:nvPr/>
        </p:nvPicPr>
        <p:blipFill>
          <a:blip r:embed="rId1"/>
          <a:stretch/>
        </p:blipFill>
        <p:spPr>
          <a:xfrm>
            <a:off x="1611360" y="6164280"/>
            <a:ext cx="16503480" cy="9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3681 -0.04144 L 0.22292 -0.07477 E">
                                      <p:cBhvr>
                                        <p:cTn id="54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ой угол между касательной и положительным направлением оси Ох, острый или туп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йти тангенс этого угла. Для этого нужно подобрать треугольник, катеты которого целые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числить тангенс угла и дать ответ в виде десятичной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 рисунке изображен график функции 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и  касательная к этому графику, проведенная в точке с абсциссой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 Найдите значение производной функции f(x) в точке 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9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Содержимое 3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4306680" cy="3824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2"/>
          <a:stretch/>
        </p:blipFill>
        <p:spPr>
          <a:xfrm>
            <a:off x="3467160" y="2178000"/>
            <a:ext cx="1711440" cy="10666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5"/>
          <p:cNvSpPr/>
          <p:nvPr/>
        </p:nvSpPr>
        <p:spPr>
          <a:xfrm>
            <a:off x="4147920" y="3244680"/>
            <a:ext cx="22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(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Объект 7"/>
              <p:cNvSpPr txBox="1"/>
              <p:nvPr/>
            </p:nvSpPr>
            <p:spPr>
              <a:xfrm>
                <a:off x="5867280" y="2467080"/>
                <a:ext cx="2867040" cy="27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8" name="Прямоугольник 11"/>
          <p:cNvSpPr/>
          <p:nvPr/>
        </p:nvSpPr>
        <p:spPr>
          <a:xfrm>
            <a:off x="6377040" y="5737320"/>
            <a:ext cx="27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вет: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оординаты точек, выделенных на координат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тавить в формулу для нахождений значения углового коэффициента касательной координаты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ить значение полученной дро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505240" y="3716280"/>
            <a:ext cx="30034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2T18:01:18Z</dcterms:created>
  <dc:creator>Антонина</dc:creator>
  <dc:description/>
  <dc:language>en-US</dc:language>
  <cp:lastModifiedBy>Антонина</cp:lastModifiedBy>
  <dcterms:modified xsi:type="dcterms:W3CDTF">2018-11-20T20:08:20Z</dcterms:modified>
  <cp:revision>40</cp:revision>
  <dc:subject/>
  <dc:title>Использование ИКТ при обучении учащихся исследованию функций по графику производной</dc:title>
</cp:coreProperties>
</file>