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0EA-FD52-4EE3-9341-77FC3EF7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247-7071-4581-861E-84D5CF1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17E-802C-4718-91BC-2836CAE6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19D-F5F7-4AF2-BD5A-978E3F02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415-17E8-4C20-BC17-CA5F047C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978-531D-41C1-9F68-4659F6F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B31-6024-46CF-993E-56A2B96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CE7-58CD-4561-8795-64D6D8E3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377-384B-48AA-866A-F180B64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316-7329-4434-8C75-A9519AB1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53B-4447-4962-A7C9-0DD79F3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435-E4FA-4E6B-8DD6-2E990AD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5859-8779-4C24-878E-0ECEEDDE3A3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Artistik"/>
              </a:rPr>
              <a:t>Тууына бер көн кала бала </a:t>
            </a:r>
            <a:r>
              <a:rPr b="1" lang="ru-RU" sz="4800" spc="-1" strike="noStrike">
                <a:solidFill>
                  <a:srgbClr val="ffffff"/>
                </a:solidFill>
                <a:latin typeface="Artistik"/>
              </a:rPr>
              <a:t>Аллаһ белән очраша</a:t>
            </a:r>
            <a:r>
              <a:rPr b="1" lang="en-AU" sz="4800" spc="-1" strike="noStrike">
                <a:solidFill>
                  <a:srgbClr val="ffffff"/>
                </a:solidFill>
                <a:latin typeface="Artistik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80880"/>
            <a:ext cx="3200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tistik"/>
              </a:rPr>
              <a:t>* </a:t>
            </a:r>
            <a:r>
              <a:rPr b="1" lang="tt-RU" sz="4800" spc="-1" strike="noStrike">
                <a:solidFill>
                  <a:srgbClr val="000000"/>
                </a:solidFill>
                <a:latin typeface="Artistik"/>
              </a:rPr>
              <a:t>Аның исеме бик мөһим түгел</a:t>
            </a:r>
            <a:r>
              <a:rPr b="1" lang="en-US" sz="4800" spc="-1" strike="noStrike">
                <a:solidFill>
                  <a:srgbClr val="000000"/>
                </a:solidFill>
                <a:latin typeface="Artistik"/>
              </a:rPr>
              <a:t>;</a:t>
            </a:r>
            <a:r>
              <a:rPr b="1" lang="en-AU" sz="48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533520"/>
            <a:ext cx="85345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tistik"/>
              </a:rPr>
              <a:t>Әмма син ан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20968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tistik"/>
              </a:rPr>
              <a:t>ӘНИЕ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0384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tistik"/>
              </a:rPr>
              <a:t>дип б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Картинка 3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Картинка 0 из 71529"/>
          <p:cNvPicPr/>
          <p:nvPr/>
        </p:nvPicPr>
        <p:blipFill>
          <a:blip r:embed="rId1"/>
          <a:srcRect l="0" t="11083" r="0" b="10000"/>
          <a:stretch/>
        </p:blipFill>
        <p:spPr>
          <a:xfrm>
            <a:off x="175248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Картинка 19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Картинка 27 из 94872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Картинка 53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Картинка 115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00ffff"/>
                </a:solidFill>
                <a:latin typeface="Artistik"/>
              </a:rPr>
              <a:t>“</a:t>
            </a:r>
            <a:r>
              <a:rPr b="1" lang="ru-RU" sz="6000" spc="-1" strike="noStrike">
                <a:solidFill>
                  <a:srgbClr val="00ffff"/>
                </a:solidFill>
                <a:latin typeface="Artistik"/>
              </a:rPr>
              <a:t>Аллаһым, мин дөнь</a:t>
            </a:r>
            <a:r>
              <a:rPr b="1" lang="tt-RU" sz="6000" spc="-1" strike="noStrike">
                <a:solidFill>
                  <a:srgbClr val="00ffff"/>
                </a:solidFill>
                <a:latin typeface="Artistik"/>
              </a:rPr>
              <a:t>яга китәм</a:t>
            </a:r>
            <a:r>
              <a:rPr b="1" lang="ru-RU" sz="6000" spc="-1" strike="noStrike">
                <a:solidFill>
                  <a:srgbClr val="00ffff"/>
                </a:solidFill>
                <a:latin typeface="Artistik"/>
              </a:rPr>
              <a:t>, анда нишлим, берәр киңәш бир.</a:t>
            </a:r>
            <a:r>
              <a:rPr b="1" lang="en-AU" sz="6000" spc="-1" strike="noStrike">
                <a:solidFill>
                  <a:srgbClr val="00ffff"/>
                </a:solidFill>
                <a:latin typeface="Artistik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200 из 115851"/>
          <p:cNvPicPr/>
          <p:nvPr/>
        </p:nvPicPr>
        <p:blipFill>
          <a:blip r:embed="rId1"/>
          <a:srcRect l="0" t="10003" r="0" b="13337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52280"/>
            <a:ext cx="807732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12547"/>
                </a:solidFill>
                <a:latin typeface="Artistik"/>
              </a:rPr>
              <a:t>* </a:t>
            </a:r>
            <a:r>
              <a:rPr b="1" lang="tt-RU" sz="4000" spc="-1" strike="noStrike">
                <a:solidFill>
                  <a:srgbClr val="f12547"/>
                </a:solidFill>
                <a:latin typeface="Artistik"/>
              </a:rPr>
              <a:t>Мин сиңа бер фәрештә яраттым, ул яклаучың булы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tistik"/>
              </a:rPr>
              <a:t>“</a:t>
            </a:r>
            <a:r>
              <a:rPr b="1" lang="ru-RU" sz="3600" spc="-1" strike="noStrike">
                <a:solidFill>
                  <a:srgbClr val="003300"/>
                </a:solidFill>
                <a:latin typeface="Artistik"/>
              </a:rPr>
              <a:t>Аллаһым, мин аларның телен белмим бит, алар белән ничек аралашырмын соң</a:t>
            </a:r>
            <a:r>
              <a:rPr b="1" lang="en-AU" sz="3600" spc="-1" strike="noStrike">
                <a:solidFill>
                  <a:srgbClr val="003300"/>
                </a:solidFill>
                <a:latin typeface="Artistik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403848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tistik"/>
              </a:rPr>
              <a:t>* </a:t>
            </a:r>
            <a:r>
              <a:rPr b="1" lang="tt-RU" sz="4000" spc="-1" strike="noStrike">
                <a:solidFill>
                  <a:srgbClr val="ffffff"/>
                </a:solidFill>
                <a:latin typeface="Artistik"/>
              </a:rPr>
              <a:t>Яныңдагы фәрештә сиңа аларның телен өйрә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43434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“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Аллаһым, дөн</a:t>
            </a:r>
            <a:r>
              <a:rPr b="1" lang="ru-RU" sz="4800" spc="-1" strike="noStrike">
                <a:solidFill>
                  <a:srgbClr val="0000ff"/>
                </a:solidFill>
                <a:latin typeface="Artistik"/>
              </a:rPr>
              <a:t>ь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яда золым күп дип ишеттем,аңа каршы ничек торырмын</a:t>
            </a:r>
            <a:r>
              <a:rPr b="1" lang="en-US" sz="4800" spc="-1" strike="noStrike">
                <a:solidFill>
                  <a:srgbClr val="0000ff"/>
                </a:solidFill>
                <a:latin typeface="Artistik"/>
              </a:rPr>
              <a:t>?</a:t>
            </a: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8915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* </a:t>
            </a:r>
            <a:r>
              <a:rPr b="1" lang="tt-RU" sz="4800" spc="-1" strike="noStrike">
                <a:solidFill>
                  <a:srgbClr val="00ffff"/>
                </a:solidFill>
                <a:latin typeface="Artistik"/>
              </a:rPr>
              <a:t>Борчылма, фәрештәң сиңа һәрвакыт ярдәм кулын сузырга әз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“</a:t>
            </a:r>
            <a:r>
              <a:rPr b="1" lang="tt-RU" sz="4800" spc="-1" strike="noStrike">
                <a:solidFill>
                  <a:srgbClr val="00ffff"/>
                </a:solidFill>
                <a:latin typeface="Artistik"/>
              </a:rPr>
              <a:t>Аллаһым, сиңа кире ничек кайтырмын соң</a:t>
            </a:r>
            <a:r>
              <a:rPr b="1" lang="en-US" sz="4800" spc="-1" strike="noStrike">
                <a:solidFill>
                  <a:srgbClr val="00ffff"/>
                </a:solidFill>
                <a:latin typeface="Artistik"/>
              </a:rPr>
              <a:t>?</a:t>
            </a: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5 из 115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029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*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Фәрештәң миңа кайтыр юлны күрсәт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152280"/>
            <a:ext cx="838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Шулчак фәрештәләр килеп баланың җир йөзенә китәр вакыты җитүен белдерәлә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Аларга ияреп дөнь</a:t>
            </a:r>
            <a:r>
              <a:rPr b="1" lang="tt-RU" sz="3600" spc="-1" strike="noStrike">
                <a:solidFill>
                  <a:srgbClr val="ffffff"/>
                </a:solidFill>
                <a:latin typeface="Artistik"/>
              </a:rPr>
              <a:t>яга юл алган сабый борылып Аллаһка соңгы соравын бирә</a:t>
            </a:r>
            <a:r>
              <a:rPr b="1" lang="en-US" sz="3600" spc="-1" strike="noStrike">
                <a:solidFill>
                  <a:srgbClr val="ffffff"/>
                </a:solidFill>
                <a:latin typeface="Artisti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2057400"/>
            <a:ext cx="403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“</a:t>
            </a:r>
            <a:r>
              <a:rPr b="1" lang="ru-RU" sz="4800" spc="-1" strike="noStrike">
                <a:solidFill>
                  <a:srgbClr val="0000ff"/>
                </a:solidFill>
                <a:latin typeface="Artistik"/>
              </a:rPr>
              <a:t>Алла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һым, янымдагы ул фәрештәгә кем дип эндәшим</a:t>
            </a:r>
            <a:r>
              <a:rPr b="1" lang="en-US" sz="4800" spc="-1" strike="noStrike">
                <a:solidFill>
                  <a:srgbClr val="0000ff"/>
                </a:solidFill>
                <a:latin typeface="Artistik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1:57:35Z</dcterms:created>
  <dc:creator>SWORD</dc:creator>
  <dc:description/>
  <dc:language>en-US</dc:language>
  <cp:lastModifiedBy>Customer</cp:lastModifiedBy>
  <dcterms:modified xsi:type="dcterms:W3CDTF">2011-11-23T18:45:30Z</dcterms:modified>
  <cp:revision>19</cp:revision>
  <dc:subject/>
  <dc:title>Slayt Başlığı Yok</dc:title>
</cp:coreProperties>
</file>