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517-8B3C-4538-93A3-A0F4825C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350-66E3-4F9B-8C6D-67CCE808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A91-395E-4C84-96AF-EB3793B8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55B-5A08-4E56-A039-263B46E4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F5C-FD81-4148-82B9-55E347F4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9C6-2B78-41B8-8FC0-3F823691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28F-9F29-433F-95BB-08E900BB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A31-0272-430F-BD6E-48C74AF3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83A-D2F6-401F-A190-F77BA3FF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22C-5E72-4DC1-86F5-904533F6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004-7459-451B-A7E1-6A698D8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599-7C18-4727-8903-FDBB9EC4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C782-7F33-4A43-8B25-93C37351002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ffff"/>
                </a:solidFill>
                <a:latin typeface="Artistik"/>
              </a:rPr>
              <a:t>Тууына бер көн кала бала </a:t>
            </a:r>
            <a:r>
              <a:rPr b="1" lang="ru-RU" sz="4800" spc="-1" strike="noStrike">
                <a:solidFill>
                  <a:srgbClr val="ffffff"/>
                </a:solidFill>
                <a:latin typeface="Artistik"/>
              </a:rPr>
              <a:t>Аллаһ белән очраша</a:t>
            </a:r>
            <a:r>
              <a:rPr b="1" lang="en-AU" sz="4800" spc="-1" strike="noStrike">
                <a:solidFill>
                  <a:srgbClr val="ffffff"/>
                </a:solidFill>
                <a:latin typeface="Artistik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380880"/>
            <a:ext cx="3200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tistik"/>
              </a:rPr>
              <a:t>* </a:t>
            </a:r>
            <a:r>
              <a:rPr b="1" lang="tt-RU" sz="4800" spc="-1" strike="noStrike">
                <a:solidFill>
                  <a:srgbClr val="000000"/>
                </a:solidFill>
                <a:latin typeface="Artistik"/>
              </a:rPr>
              <a:t>Аның исеме бик мөһим түгел</a:t>
            </a:r>
            <a:r>
              <a:rPr b="1" lang="en-US" sz="4800" spc="-1" strike="noStrike">
                <a:solidFill>
                  <a:srgbClr val="000000"/>
                </a:solidFill>
                <a:latin typeface="Artistik"/>
              </a:rPr>
              <a:t>;</a:t>
            </a:r>
            <a:r>
              <a:rPr b="1" lang="en-AU" sz="4800" spc="-1" strike="noStrike">
                <a:solidFill>
                  <a:srgbClr val="000000"/>
                </a:solidFill>
                <a:latin typeface="Artisti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533520"/>
            <a:ext cx="853452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tistik"/>
              </a:rPr>
              <a:t>Әмма син ан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220968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tistik"/>
              </a:rPr>
              <a:t>ӘНИЕ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0384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tistik"/>
              </a:rPr>
              <a:t>дип бе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Картинка 3 из 3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Картинка 0 из 71529"/>
          <p:cNvPicPr/>
          <p:nvPr/>
        </p:nvPicPr>
        <p:blipFill>
          <a:blip r:embed="rId1"/>
          <a:srcRect l="0" t="11083" r="0" b="10000"/>
          <a:stretch/>
        </p:blipFill>
        <p:spPr>
          <a:xfrm>
            <a:off x="1752480" y="0"/>
            <a:ext cx="58309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Картинка 19 из 3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Картинка 27 из 94872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Картинка 53 из 94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Картинка 115 из 94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572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00ffff"/>
                </a:solidFill>
                <a:latin typeface="Artistik"/>
              </a:rPr>
              <a:t>“</a:t>
            </a:r>
            <a:r>
              <a:rPr b="1" lang="ru-RU" sz="6000" spc="-1" strike="noStrike">
                <a:solidFill>
                  <a:srgbClr val="00ffff"/>
                </a:solidFill>
                <a:latin typeface="Artistik"/>
              </a:rPr>
              <a:t>Аллаһым, мин дөнь</a:t>
            </a:r>
            <a:r>
              <a:rPr b="1" lang="tt-RU" sz="6000" spc="-1" strike="noStrike">
                <a:solidFill>
                  <a:srgbClr val="00ffff"/>
                </a:solidFill>
                <a:latin typeface="Artistik"/>
              </a:rPr>
              <a:t>яга китәм</a:t>
            </a:r>
            <a:r>
              <a:rPr b="1" lang="ru-RU" sz="6000" spc="-1" strike="noStrike">
                <a:solidFill>
                  <a:srgbClr val="00ffff"/>
                </a:solidFill>
                <a:latin typeface="Artistik"/>
              </a:rPr>
              <a:t>, анда нишлим, берәр киңәш бир.</a:t>
            </a:r>
            <a:r>
              <a:rPr b="1" lang="en-AU" sz="6000" spc="-1" strike="noStrike">
                <a:solidFill>
                  <a:srgbClr val="00ffff"/>
                </a:solidFill>
                <a:latin typeface="Artistik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200 из 115851"/>
          <p:cNvPicPr/>
          <p:nvPr/>
        </p:nvPicPr>
        <p:blipFill>
          <a:blip r:embed="rId1"/>
          <a:srcRect l="0" t="10003" r="0" b="13337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52280"/>
            <a:ext cx="807732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12547"/>
                </a:solidFill>
                <a:latin typeface="Artistik"/>
              </a:rPr>
              <a:t>* </a:t>
            </a:r>
            <a:r>
              <a:rPr b="1" lang="tt-RU" sz="4000" spc="-1" strike="noStrike">
                <a:solidFill>
                  <a:srgbClr val="f12547"/>
                </a:solidFill>
                <a:latin typeface="Artistik"/>
              </a:rPr>
              <a:t>Мин сиңа бер фәрештә яраттым, ул яклаучың булы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3300"/>
                </a:solidFill>
                <a:latin typeface="Artistik"/>
              </a:rPr>
              <a:t>“</a:t>
            </a:r>
            <a:r>
              <a:rPr b="1" lang="ru-RU" sz="3600" spc="-1" strike="noStrike">
                <a:solidFill>
                  <a:srgbClr val="003300"/>
                </a:solidFill>
                <a:latin typeface="Artistik"/>
              </a:rPr>
              <a:t>Аллаһым, мин аларның телен белмим бит, алар белән ничек аралашырмын соң</a:t>
            </a:r>
            <a:r>
              <a:rPr b="1" lang="en-AU" sz="3600" spc="-1" strike="noStrike">
                <a:solidFill>
                  <a:srgbClr val="003300"/>
                </a:solidFill>
                <a:latin typeface="Artistik"/>
              </a:rPr>
              <a:t>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8320" y="4038480"/>
            <a:ext cx="432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tistik"/>
              </a:rPr>
              <a:t>* </a:t>
            </a:r>
            <a:r>
              <a:rPr b="1" lang="tt-RU" sz="4000" spc="-1" strike="noStrike">
                <a:solidFill>
                  <a:srgbClr val="ffffff"/>
                </a:solidFill>
                <a:latin typeface="Artistik"/>
              </a:rPr>
              <a:t>Яныңдагы фәрештә сиңа аларның телен өйрәте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434340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Artistik"/>
              </a:rPr>
              <a:t>“</a:t>
            </a:r>
            <a:r>
              <a:rPr b="1" lang="tt-RU" sz="4800" spc="-1" strike="noStrike">
                <a:solidFill>
                  <a:srgbClr val="0000ff"/>
                </a:solidFill>
                <a:latin typeface="Artistik"/>
              </a:rPr>
              <a:t>Аллаһым, дөн</a:t>
            </a:r>
            <a:r>
              <a:rPr b="1" lang="ru-RU" sz="4800" spc="-1" strike="noStrike">
                <a:solidFill>
                  <a:srgbClr val="0000ff"/>
                </a:solidFill>
                <a:latin typeface="Artistik"/>
              </a:rPr>
              <a:t>ь</a:t>
            </a:r>
            <a:r>
              <a:rPr b="1" lang="tt-RU" sz="4800" spc="-1" strike="noStrike">
                <a:solidFill>
                  <a:srgbClr val="0000ff"/>
                </a:solidFill>
                <a:latin typeface="Artistik"/>
              </a:rPr>
              <a:t>яда золым күп дип ишеттем,аңа каршы ничек торырмын</a:t>
            </a:r>
            <a:r>
              <a:rPr b="1" lang="en-US" sz="4800" spc="-1" strike="noStrike">
                <a:solidFill>
                  <a:srgbClr val="0000ff"/>
                </a:solidFill>
                <a:latin typeface="Artistik"/>
              </a:rPr>
              <a:t>?</a:t>
            </a:r>
            <a:r>
              <a:rPr b="1" lang="en-AU" sz="4800" spc="-1" strike="noStrike">
                <a:solidFill>
                  <a:srgbClr val="0000ff"/>
                </a:solidFill>
                <a:latin typeface="Artistik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89154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ffff"/>
                </a:solidFill>
                <a:latin typeface="Artistik"/>
              </a:rPr>
              <a:t>* </a:t>
            </a:r>
            <a:r>
              <a:rPr b="1" lang="tt-RU" sz="4800" spc="-1" strike="noStrike">
                <a:solidFill>
                  <a:srgbClr val="00ffff"/>
                </a:solidFill>
                <a:latin typeface="Artistik"/>
              </a:rPr>
              <a:t>Борчылма, фәрештәң сиңа һәрвакыт ярдәм кулын сузырга әзер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ffff"/>
                </a:solidFill>
                <a:latin typeface="Artistik"/>
              </a:rPr>
              <a:t>“</a:t>
            </a:r>
            <a:r>
              <a:rPr b="1" lang="tt-RU" sz="4800" spc="-1" strike="noStrike">
                <a:solidFill>
                  <a:srgbClr val="00ffff"/>
                </a:solidFill>
                <a:latin typeface="Artistik"/>
              </a:rPr>
              <a:t>Аллаһым, сиңа кире ничек кайтырмын соң</a:t>
            </a:r>
            <a:r>
              <a:rPr b="1" lang="en-US" sz="4800" spc="-1" strike="noStrike">
                <a:solidFill>
                  <a:srgbClr val="00ffff"/>
                </a:solidFill>
                <a:latin typeface="Artistik"/>
              </a:rPr>
              <a:t>?</a:t>
            </a:r>
            <a:r>
              <a:rPr b="1" lang="en-AU" sz="4800" spc="-1" strike="noStrike">
                <a:solidFill>
                  <a:srgbClr val="00ffff"/>
                </a:solidFill>
                <a:latin typeface="Artistik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25 из 1158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5029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Artistik"/>
              </a:rPr>
              <a:t>*</a:t>
            </a:r>
            <a:r>
              <a:rPr b="1" lang="tt-RU" sz="4800" spc="-1" strike="noStrike">
                <a:solidFill>
                  <a:srgbClr val="0000ff"/>
                </a:solidFill>
                <a:latin typeface="Artistik"/>
              </a:rPr>
              <a:t>Фәрештәң миңа кайтыр юлны күрсәтер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152280"/>
            <a:ext cx="8381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tistik"/>
              </a:rPr>
              <a:t>Шулчак фәрештәләр килеп баланың җир йөзенә китәр вакыты җитүен белдерәлә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tistik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tistik"/>
              </a:rPr>
              <a:t>Аларга ияреп дөнь</a:t>
            </a:r>
            <a:r>
              <a:rPr b="1" lang="tt-RU" sz="3600" spc="-1" strike="noStrike">
                <a:solidFill>
                  <a:srgbClr val="ffffff"/>
                </a:solidFill>
                <a:latin typeface="Artistik"/>
              </a:rPr>
              <a:t>яга юл алган сабый борылып Аллаһка соңгы соравын бирә</a:t>
            </a:r>
            <a:r>
              <a:rPr b="1" lang="en-US" sz="3600" spc="-1" strike="noStrike">
                <a:solidFill>
                  <a:srgbClr val="ffffff"/>
                </a:solidFill>
                <a:latin typeface="Artisti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2057400"/>
            <a:ext cx="403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ff"/>
                </a:solidFill>
                <a:latin typeface="Artistik"/>
              </a:rPr>
              <a:t>“</a:t>
            </a:r>
            <a:r>
              <a:rPr b="1" lang="ru-RU" sz="4800" spc="-1" strike="noStrike">
                <a:solidFill>
                  <a:srgbClr val="0000ff"/>
                </a:solidFill>
                <a:latin typeface="Artistik"/>
              </a:rPr>
              <a:t>Алла</a:t>
            </a:r>
            <a:r>
              <a:rPr b="1" lang="tt-RU" sz="4800" spc="-1" strike="noStrike">
                <a:solidFill>
                  <a:srgbClr val="0000ff"/>
                </a:solidFill>
                <a:latin typeface="Artistik"/>
              </a:rPr>
              <a:t>һым, янымдагы ул фәрештәгә кем дип эндәшим</a:t>
            </a:r>
            <a:r>
              <a:rPr b="1" lang="en-US" sz="4800" spc="-1" strike="noStrike">
                <a:solidFill>
                  <a:srgbClr val="0000ff"/>
                </a:solidFill>
                <a:latin typeface="Artistik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21:57:35Z</dcterms:created>
  <dc:creator>SWORD</dc:creator>
  <dc:description/>
  <dc:language>en-US</dc:language>
  <cp:lastModifiedBy>Customer</cp:lastModifiedBy>
  <dcterms:modified xsi:type="dcterms:W3CDTF">2011-11-23T18:45:30Z</dcterms:modified>
  <cp:revision>19</cp:revision>
  <dc:subject/>
  <dc:title>Slayt Başlığı Yok</dc:title>
</cp:coreProperties>
</file>