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23C4-8700-4AC6-9F84-C098208DF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5151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E5FD-982D-4A66-A307-1E945D4A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5151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1B31-9367-48CD-8400-4A1F4C443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5151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8515-335D-481C-8268-60D8297A1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E1CD-DA74-4AD3-B751-E3E153FB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515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EBAA-5BFC-4A64-8176-BAD56281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515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69C2-8A15-49F5-93EC-BC0C4817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5151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81EE-55FE-493C-AAE9-84D6C6F3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515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CFEE-55F7-48DE-BFDE-F8BE4E21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0286-BC7F-4770-A4A9-3257F323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5151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2035-C92B-455A-88C8-4D71D5C1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5151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9605-4E06-47EC-B4E4-8496967D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5151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085A-3E3B-465E-B1AB-F78108FD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5151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D372-F1BD-47DC-893F-096C9A8A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5151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0669-3586-45E9-85F8-06CD9EF1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5151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4C42-0E7C-4474-A914-5125A2980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5151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C2E3-C3FC-4DA6-9B22-F1ABA27E6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5151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E1F8-23BA-4E53-8FB2-48D8FCA1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5151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FC38-E06B-40A7-96F7-652EE180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515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C8AF-753B-4051-97F9-ABD70E1A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9BEB-64E6-4AB5-84AF-5FAA7C7C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5151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511B-77AB-44F0-A838-8E96F835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5151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D0B6-0F46-436D-BDD5-41D3C3D3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5151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9140-DB04-4FE5-A2B8-1B2E12AF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5151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175151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93d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d3c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2f6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d3c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d8d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d3c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d8d9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d3c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d3c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d3c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d3c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61D4-1BF3-46D4-978A-247397161623}" type="slidenum">
              <a:rPr b="0" lang="ru-RU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5151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175151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93d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d3c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2f6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d3c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d8d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d3c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d8d9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d3c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d3c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d3c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d3c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B641-07D9-4395-99A9-C6197EC8A0C7}" type="slidenum">
              <a:rPr b="0" lang="ru-RU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F:\Ассоциация\Сертификат\Сертификаты удостоверения\Основной Логотип.bmp"/>
          <p:cNvPicPr/>
          <p:nvPr/>
        </p:nvPicPr>
        <p:blipFill>
          <a:blip r:embed="rId1"/>
          <a:stretch/>
        </p:blipFill>
        <p:spPr>
          <a:xfrm>
            <a:off x="214200" y="285840"/>
            <a:ext cx="2571840" cy="335736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>
            <a:off x="3000240" y="1643040"/>
            <a:ext cx="6143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«</a:t>
            </a:r>
            <a:r>
              <a:rPr b="1" i="1" lang="ru-RU" sz="2800" spc="-1" strike="noStrike">
                <a:solidFill>
                  <a:srgbClr val="3333cc"/>
                </a:solidFill>
                <a:latin typeface="Constantia"/>
              </a:rPr>
              <a:t>Членство в Ассоциации – од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Constantia"/>
              </a:rPr>
              <a:t> </a:t>
            </a:r>
            <a:r>
              <a:rPr b="1" i="1" lang="ru-RU" sz="2800" spc="-1" strike="noStrike">
                <a:solidFill>
                  <a:srgbClr val="3333cc"/>
                </a:solidFill>
                <a:latin typeface="Constantia"/>
              </a:rPr>
              <a:t>из   важнейших         мом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Constantia"/>
              </a:rPr>
              <a:t> </a:t>
            </a:r>
            <a:r>
              <a:rPr b="1" i="1" lang="ru-RU" sz="2800" spc="-1" strike="noStrike">
                <a:solidFill>
                  <a:srgbClr val="3333cc"/>
                </a:solidFill>
                <a:latin typeface="Constantia"/>
              </a:rPr>
              <a:t>оценивания   профессиональ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Constantia"/>
              </a:rPr>
              <a:t>деятельности        учител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3643200" y="4929120"/>
            <a:ext cx="56642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уководитель   Ассоциации   учителей физической    культуры   г. о.  Хим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арусяк  Лариса Анатольев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читель  МБОУ Лицей №11 г. Хим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175151"/>
                </a:solidFill>
                <a:latin typeface="Times New Roman"/>
                <a:ea typeface="Calibri"/>
              </a:rPr>
              <a:t>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Ассоциация учителей физической культуры 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 «ЛИДЕР»</a:t>
            </a:r>
            <a:br>
              <a:rPr sz="2900"/>
            </a:br>
            <a:endParaRPr b="1" lang="en-US" sz="2400" spc="-1" strike="noStrike">
              <a:solidFill>
                <a:srgbClr val="175151"/>
              </a:solidFill>
              <a:latin typeface="Century Gothic"/>
            </a:endParaRPr>
          </a:p>
        </p:txBody>
      </p:sp>
      <p:pic>
        <p:nvPicPr>
          <p:cNvPr id="86" name="Picture 3" descr="F:\Ассоциация\Сертификат\Сертификаты удостоверения\Основной Логотип.bmp"/>
          <p:cNvPicPr/>
          <p:nvPr/>
        </p:nvPicPr>
        <p:blipFill>
          <a:blip r:embed="rId1"/>
          <a:stretch/>
        </p:blipFill>
        <p:spPr>
          <a:xfrm>
            <a:off x="214200" y="14400"/>
            <a:ext cx="2071800" cy="170028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3"/>
          <p:cNvSpPr/>
          <p:nvPr/>
        </p:nvSpPr>
        <p:spPr>
          <a:xfrm>
            <a:off x="0" y="1714680"/>
            <a:ext cx="9144000" cy="54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mbria"/>
                <a:ea typeface="Cambria"/>
              </a:rPr>
              <a:t>В марте 2015 году кафедрой человековедения и физической культурой была создана Ассоциация учителей физической культуры «Лидер», которая создана в целях представления и защиты общих, в том числе профессиональных, интересов своих членов, достижения общественно полезных целей, в том числе для объединения учителей физической культуры, для содействия улучшению качества преподавания физической культуры в учебных заведениях Подмосковья путем активизации обмена педагогическим опытом работы, современными методиками, технологиями, информацией среди учителей физической культуры Подмосков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mbria"/>
                <a:ea typeface="Cambria"/>
              </a:rPr>
              <a:t>Цели Ассоциа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mbria"/>
                <a:ea typeface="Cambria"/>
              </a:rPr>
              <a:t> • </a:t>
            </a:r>
            <a:r>
              <a:rPr b="1" lang="ru-RU" sz="1600" spc="-1" strike="noStrike">
                <a:solidFill>
                  <a:srgbClr val="002060"/>
                </a:solidFill>
                <a:latin typeface="Cambria"/>
                <a:ea typeface="Cambria"/>
              </a:rPr>
              <a:t>координация профессиональной деятельности учителей физической культуры</a:t>
            </a:r>
            <a:r>
              <a:rPr b="0" lang="ru-RU" sz="1600" spc="-1" strike="noStrike">
                <a:solidFill>
                  <a:srgbClr val="002060"/>
                </a:solidFill>
                <a:latin typeface="Cambria"/>
                <a:ea typeface="Cambria"/>
              </a:rPr>
              <a:t>; • содействие развитию образования в Московской области, повышению его качества, доступности, конкурентоспособност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mbria"/>
                <a:ea typeface="Cambria"/>
              </a:rPr>
              <a:t>• </a:t>
            </a:r>
            <a:r>
              <a:rPr b="1" lang="ru-RU" sz="1600" spc="-1" strike="noStrike">
                <a:solidFill>
                  <a:srgbClr val="002060"/>
                </a:solidFill>
                <a:latin typeface="Cambria"/>
                <a:ea typeface="Cambria"/>
              </a:rPr>
              <a:t>содействие развитию инновационного потенциала системы образования </a:t>
            </a:r>
            <a:r>
              <a:rPr b="0" lang="ru-RU" sz="1600" spc="-1" strike="noStrike">
                <a:solidFill>
                  <a:srgbClr val="002060"/>
                </a:solidFill>
                <a:latin typeface="Cambria"/>
                <a:ea typeface="Cambria"/>
              </a:rPr>
              <a:t>Московской области через создание, распространение и внедрение образовательных инноваций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mbria"/>
                <a:ea typeface="Cambria"/>
              </a:rPr>
              <a:t>• </a:t>
            </a:r>
            <a:r>
              <a:rPr b="1" lang="ru-RU" sz="1600" spc="-1" strike="noStrike">
                <a:solidFill>
                  <a:srgbClr val="002060"/>
                </a:solidFill>
                <a:latin typeface="Cambria"/>
                <a:ea typeface="Cambria"/>
              </a:rPr>
              <a:t>содействие улучшению качества преподавания физической культуры </a:t>
            </a:r>
            <a:r>
              <a:rPr b="0" lang="ru-RU" sz="1600" spc="-1" strike="noStrike">
                <a:solidFill>
                  <a:srgbClr val="002060"/>
                </a:solidFill>
                <a:latin typeface="Cambria"/>
                <a:ea typeface="Cambria"/>
              </a:rPr>
              <a:t>в учебных заведениях Подмосковья путем активизации обмена педагогическим опытом работы, современными методиками, технологиями, информацией среди учителей физической культуры Подмосков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28800" y="18864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исок учителей физической культуры г.о. Химки,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тупивших в Ассоциацию учителей физической культуры «Лидер».</a:t>
            </a:r>
            <a:br>
              <a:rPr sz="2200"/>
            </a:br>
            <a:endParaRPr b="1" lang="en-US" sz="2400" spc="-1" strike="noStrike">
              <a:solidFill>
                <a:srgbClr val="175151"/>
              </a:solidFill>
              <a:latin typeface="Century Gothic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7640" y="0"/>
            <a:ext cx="1182600" cy="1182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571680" y="1214280"/>
          <a:ext cx="8215200" cy="5559480"/>
        </p:xfrm>
        <a:graphic>
          <a:graphicData uri="http://schemas.openxmlformats.org/drawingml/2006/table">
            <a:tbl>
              <a:tblPr/>
              <a:tblGrid>
                <a:gridCol w="642600"/>
                <a:gridCol w="1428840"/>
                <a:gridCol w="1928880"/>
                <a:gridCol w="1928880"/>
                <a:gridCol w="2286000"/>
              </a:tblGrid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ниципальное образ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О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лжност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</a:tr>
              <a:tr h="32076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о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Лицей №11 г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ической культу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усяк Лариса Анатолье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</a:tr>
              <a:tr h="32076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о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ОУ Лицей №17 г. 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ической культу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исова Альфия Рахимжано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</a:tr>
              <a:tr h="23940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о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СОШ №8  г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ической культу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рофеева Ольга Юрье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</a:tr>
              <a:tr h="32076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о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Гимназия №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ической культу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рсанова Ольга Николае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</a:tr>
              <a:tr h="23976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о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СОШ  №3   г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ической культу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ьцов Сергей Борисови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</a:tr>
              <a:tr h="32076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о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СОШ №8  г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ической культу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машов Николай Михайлови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</a:tr>
              <a:tr h="32076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о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Гимназия №16 г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ической культу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сянкин  Александр Борисови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</a:tr>
              <a:tr h="32040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о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СОШ №19  г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ической культу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манова Валентина Георгие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</a:tr>
              <a:tr h="32076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о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СОШ  №3   г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ической культу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илова Анастасия Владимиро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</a:tr>
              <a:tr h="32076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о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СОШ  №26   г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ической культу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никова Наталия Владимиро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</a:tr>
              <a:tr h="32076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о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СОШ  №25   г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ической культу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анин Константин Юрьеви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</a:tr>
              <a:tr h="23940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о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СОШ  №14   г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ической культу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арец Наталья Павло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</a:tr>
              <a:tr h="32076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о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СОШ  №29   г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ической культу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риллова Наталья Владимиро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</a:tr>
              <a:tr h="32076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о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СОШ  №29   г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ической культу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омарёва Александра Денисо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</a:tr>
              <a:tr h="32076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о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Лицей №6 г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ической культу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рипова Дильрабо Нумано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</a:tr>
              <a:tr h="32076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о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СОШ №8  г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ической культу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мова Елена Анатолье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</a:tr>
              <a:tr h="32040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о.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ОУ Лицей №17 г.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ической культу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истова Наталия Юрье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</a:tr>
            </a:tbl>
          </a:graphicData>
        </a:graphic>
      </p:graphicFrame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5151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Ассоциация учителей физической культуры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 «ЛИДЕР»</a:t>
            </a:r>
            <a:br>
              <a:rPr sz="3200"/>
            </a:br>
            <a:endParaRPr b="1" lang="en-US" sz="2800" spc="-1" strike="noStrike">
              <a:solidFill>
                <a:srgbClr val="175151"/>
              </a:solidFill>
              <a:latin typeface="Century Gothic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33480" y="14400"/>
            <a:ext cx="1182600" cy="118260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1"/>
          <p:cNvSpPr/>
          <p:nvPr/>
        </p:nvSpPr>
        <p:spPr>
          <a:xfrm>
            <a:off x="1214280" y="1000080"/>
            <a:ext cx="767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mbria"/>
                <a:ea typeface="Times New Roman"/>
              </a:rPr>
              <a:t>Всего членов Ассоциации – 143 челове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mbria"/>
                <a:ea typeface="Times New Roman"/>
              </a:rPr>
              <a:t>г.о.Химки – </a:t>
            </a:r>
            <a:r>
              <a:rPr b="1" lang="ru-RU" sz="2400" spc="-1" strike="noStrike">
                <a:solidFill>
                  <a:srgbClr val="002060"/>
                </a:solidFill>
                <a:latin typeface="Cambria"/>
                <a:ea typeface="Times New Roman"/>
              </a:rPr>
              <a:t>17 человек 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mbria"/>
                <a:ea typeface="Times New Roman"/>
              </a:rPr>
              <a:t>Одинцовский м.р. – 34 челове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mbri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  <a:ea typeface="Times New Roman"/>
              </a:rPr>
              <a:t>г.о. Балашиха – 6 человек; остальные округа по 4 – 3 – 2 – 1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4" descr="IMG_9338-24-04-19-09-27.JPG"/>
          <p:cNvPicPr/>
          <p:nvPr/>
        </p:nvPicPr>
        <p:blipFill>
          <a:blip r:embed="rId2"/>
          <a:stretch/>
        </p:blipFill>
        <p:spPr>
          <a:xfrm>
            <a:off x="1901880" y="2779560"/>
            <a:ext cx="5340240" cy="3870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Вступительные и членские взносы.</a:t>
            </a:r>
            <a:br>
              <a:rPr sz="2400"/>
            </a:br>
            <a:endParaRPr b="1" lang="en-US" sz="2400" spc="-1" strike="noStrike">
              <a:solidFill>
                <a:srgbClr val="175151"/>
              </a:solidFill>
              <a:latin typeface="Century Gothic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25560" y="0"/>
            <a:ext cx="1182600" cy="11826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1"/>
          <p:cNvSpPr/>
          <p:nvPr/>
        </p:nvSpPr>
        <p:spPr>
          <a:xfrm>
            <a:off x="0" y="9810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</a:rPr>
              <a:t>Согласно  устава Ассоци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</a:rPr>
              <a:t>3.2. Члены Ассоциации обязаны своевременно уплачивать следующие взносы: вступительные, ежегодные, целевые, единовреме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</a:rPr>
              <a:t>Вступительные и ежегодные членские взносы используются на содержание органов управления Ассоциации, выплаты и компенсации сотрудникам Ассоциации, выплату вознаграждения и компенсации Председателю Ассоциации, на проведение Общих собраний членов Ассоциации, финансирование утвержденных Общим собранием проектов и мероприят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</a:rPr>
              <a:t>3.3. Целевые и единовременные (дополнительные) взносы предназначаются для финансирования конкретных мероприятий, проектов и программ Ассоциации, не обеспеченных текущим финансовым планом, основанным на членских взносах. Единовременные взносы могут быть направлены на содержание органов управления Ассоциации в случае перерасхода по ранее утвержденной сме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</a:rPr>
              <a:t>3.4. Членские взносы, а также другое переданное Ассоциации имущество при добровольном выходе или исключении из членов Ассоциации не возвращаются, за исключением случаев, установленных зако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тановление собрания членов Ассоциации «ЛИДЕР»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 27 сентября 2018 г.:</a:t>
            </a:r>
            <a:endParaRPr b="1" lang="en-US" sz="2000" spc="-1" strike="noStrike">
              <a:solidFill>
                <a:srgbClr val="175151"/>
              </a:solidFill>
              <a:latin typeface="Century Gothic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7640" y="0"/>
            <a:ext cx="1314360" cy="14382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1"/>
          <p:cNvSpPr/>
          <p:nvPr/>
        </p:nvSpPr>
        <p:spPr>
          <a:xfrm>
            <a:off x="0" y="1268280"/>
            <a:ext cx="903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684360" y="184464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1e4576"/>
                </a:solidFill>
                <a:uFillTx/>
                <a:latin typeface="Cambria"/>
                <a:ea typeface="Times New Roman"/>
              </a:rPr>
              <a:t>Оплачивать членские взносы ежегодно, 1 раз в </a:t>
            </a:r>
            <a:r>
              <a:rPr b="1" lang="en-US" sz="1800" spc="-1" strike="noStrike" u="sng">
                <a:solidFill>
                  <a:srgbClr val="1e4576"/>
                </a:solidFill>
                <a:uFillTx/>
                <a:latin typeface="Cambria"/>
                <a:ea typeface="Times New Roman"/>
              </a:rPr>
              <a:t>I</a:t>
            </a:r>
            <a:r>
              <a:rPr b="1" lang="ru-RU" sz="1800" spc="-1" strike="noStrike" u="sng">
                <a:solidFill>
                  <a:srgbClr val="1e4576"/>
                </a:solidFill>
                <a:uFillTx/>
                <a:latin typeface="Cambria"/>
                <a:ea typeface="Times New Roman"/>
              </a:rPr>
              <a:t> квартале  ( мар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2340000" y="2708280"/>
            <a:ext cx="4608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Планы на 2019/2020 учебный год :</a:t>
            </a: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857520" y="3645000"/>
            <a:ext cx="7050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</a:rPr>
              <a:t>Семинары и мастер – классы  ( предлож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</a:rPr>
              <a:t>Турнир «Памяти  В.П. Морозова» ( г. о. Одинцово) – ос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</a:rPr>
              <a:t>( среди учителей или учащихся – наше мнение)</a:t>
            </a:r>
            <a:r>
              <a:rPr b="0" lang="ru-RU" sz="1800" spc="-1" strike="noStrike">
                <a:solidFill>
                  <a:srgbClr val="1e4576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mbr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</a:rPr>
              <a:t>«БЛАГОДАРНОСТЬ»  от Ассоциации  МО «Лиде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</a:rPr>
              <a:t>  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</a:rPr>
              <a:t>( к аттестации дополнительные 150 балло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0" y="20520"/>
            <a:ext cx="1908000" cy="190512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1"/>
          <p:cNvSpPr/>
          <p:nvPr/>
        </p:nvSpPr>
        <p:spPr>
          <a:xfrm>
            <a:off x="2556000" y="836640"/>
            <a:ext cx="51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4a04"/>
                </a:solidFill>
                <a:latin typeface="Garamond"/>
              </a:rPr>
              <a:t>Спасибо за внимание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2" descr=""/>
          <p:cNvPicPr/>
          <p:nvPr/>
        </p:nvPicPr>
        <p:blipFill>
          <a:blip r:embed="rId2"/>
          <a:stretch/>
        </p:blipFill>
        <p:spPr>
          <a:xfrm>
            <a:off x="2908440" y="1596960"/>
            <a:ext cx="3900240" cy="49071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1T07:49:05Z</dcterms:created>
  <dc:creator>Сергей</dc:creator>
  <dc:description/>
  <dc:language>en-US</dc:language>
  <cp:lastModifiedBy>Лариса</cp:lastModifiedBy>
  <dcterms:modified xsi:type="dcterms:W3CDTF">2019-06-03T19:13:36Z</dcterms:modified>
  <cp:revision>55</cp:revision>
  <dc:subject/>
  <dc:title>Слайд 1</dc:title>
</cp:coreProperties>
</file>