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684-501C-4C91-B52B-8D8111E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B2A-0B4A-4A37-B863-7E23C01A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98D-F6FD-4CDF-A6BA-02CE3953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2F3-6F51-4CC9-A757-3D4DD410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DA5B-1A87-4896-8C87-9C314004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545-07B6-4A48-8D4D-46D2D8B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A1F4-0ADD-4CB6-9D59-9CA4E14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18EB-0152-428D-A993-280BD57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663D-C28E-4DF0-854E-9C117D3E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ADD-09E0-41D9-A0EC-6F35CB7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BDD-6E5C-4C62-862A-CAF9DBF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7C6-1682-40FE-9335-1974B11A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CDF9-0F45-45A7-974B-8BB9171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1DC-E5EC-4E7A-8E61-0720257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8446-9703-4740-9E23-DBED17F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441-A373-433B-A32F-4FBDE879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981-BB55-4852-8D16-2009AE2C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1AB-21D7-4E3C-A178-839297E4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885-3C09-4921-9BD0-8107FF0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EDC-0D2B-44EB-BD13-F2881A9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D9F-03B2-4090-B8EF-3AB09F9C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7F9-1ABA-4006-AE1D-827600E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786-5805-4F61-B11C-23B0A33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2FC-1CDD-4328-AB49-804ABC7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5151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d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f6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d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d8d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9E8-C711-458F-A398-8BE36E4591BA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5151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17515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3d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f6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3d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3d8d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d3c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93d3c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127-4411-49D7-AC22-9FD3BCDF4DB1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F:\Ассоциация\Сертификат\Сертификаты удостоверения\Основной Логотип.bmp"/>
          <p:cNvPicPr/>
          <p:nvPr/>
        </p:nvPicPr>
        <p:blipFill>
          <a:blip r:embed="rId1"/>
          <a:stretch/>
        </p:blipFill>
        <p:spPr>
          <a:xfrm>
            <a:off x="214200" y="285840"/>
            <a:ext cx="257184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3000240" y="164304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Членство в Ассоциации –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из   важнейших         мо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оценивания   профессион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деятельности        учи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643200" y="4929120"/>
            <a:ext cx="5664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ководитель   Ассоциации   учителей физической    культуры   г. о.  Хим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арусяк  Лариса Анатоль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ль  МБОУ Лицей №11 г. Хи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75151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ссоциация учителей физической культуры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«ЛИДЕР»</a:t>
            </a:r>
            <a:br>
              <a:rPr sz="29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86" name="Picture 3" descr="F:\Ассоциация\Сертификат\Сертификаты удостоверения\Основной Логотип.bmp"/>
          <p:cNvPicPr/>
          <p:nvPr/>
        </p:nvPicPr>
        <p:blipFill>
          <a:blip r:embed="rId1"/>
          <a:stretch/>
        </p:blipFill>
        <p:spPr>
          <a:xfrm>
            <a:off x="214200" y="14400"/>
            <a:ext cx="2071800" cy="1700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0" y="1714680"/>
            <a:ext cx="9144000" cy="54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В марте 2015 году кафедрой человековедения и физической культурой была создана Ассоциация учителей физической культуры «Лидер», которая создана в целях представления и защиты общих, в том числе профессиональных, интересов своих членов, достижения общественно полезных целей, в том числе для объединения учителей физической культуры, для содействия улучшению качества преподавания физической культуры в учебных заведениях Подмосковья путем активизации обмена педагогическим опытом работы, современными методиками, технологиями, информацией среди учителей физической культуры Подмос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Цели Ассоци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 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координация профессиональной деятельности учителей физической культуры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; • содействие развитию образования в Московской области, повышению его качества, доступности, конкурентоспособ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содействие развитию инновационного потенциала системы образования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Московской области через создание, распространение и внедрение образовательных инноваций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• </a:t>
            </a:r>
            <a:r>
              <a:rPr b="1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содействие улучшению качества преподавания физической культуры </a:t>
            </a:r>
            <a:r>
              <a:rPr b="0" lang="ru-RU" sz="1600" spc="-1" strike="noStrike">
                <a:solidFill>
                  <a:srgbClr val="002060"/>
                </a:solidFill>
                <a:latin typeface="Cambria"/>
                <a:ea typeface="Cambria"/>
              </a:rPr>
              <a:t>в учебных заведениях Подмосковья путем активизации обмена педагогическим опытом работы, современными методиками, технологиями, информацией среди учителей физической культуры Подмоск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1886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учителей физической культуры г.о. Химки,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ивших в Ассоциацию учителей физической культуры «Лидер».</a:t>
            </a:r>
            <a:br>
              <a:rPr sz="22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118260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71680" y="1214280"/>
          <a:ext cx="8215200" cy="5559480"/>
        </p:xfrm>
        <a:graphic>
          <a:graphicData uri="http://schemas.openxmlformats.org/drawingml/2006/table">
            <a:tbl>
              <a:tblPr/>
              <a:tblGrid>
                <a:gridCol w="642600"/>
                <a:gridCol w="1428840"/>
                <a:gridCol w="1928880"/>
                <a:gridCol w="1928880"/>
                <a:gridCol w="2286000"/>
              </a:tblGrid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е образ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11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усяк Лариса Анатол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Лицей №17 г. 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сова Альфия Рахимж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239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офеева Ольга Ю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санова Ольга Никола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3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ьцов Сергей Борис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шов Николай Михайл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Гимназия №16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янкин  Александр Борисо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19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ова Валентина Георги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3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лова Анастаси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6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никова Натали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5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анин Константин Юрьеви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239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14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ец Наталья Павл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9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ллова Наталья Владимир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 №29 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омарёва Александра Денис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Лицей №6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пова Дильрабо Нумано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8  г. 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ова Елена Анатол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ec"/>
                    </a:solidFill>
                  </a:tcPr>
                </a:tc>
              </a:tr>
              <a:tr h="32040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о.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Лицей №17 г.Хим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ической культу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стова Наталия Юрьев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d7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5151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ссоциация учителей физической культуры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«ЛИДЕР»</a:t>
            </a:r>
            <a:br>
              <a:rPr sz="3200"/>
            </a:br>
            <a:endParaRPr b="1" lang="en-US" sz="28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480" y="14400"/>
            <a:ext cx="1182600" cy="11826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"/>
          <p:cNvSpPr/>
          <p:nvPr/>
        </p:nvSpPr>
        <p:spPr>
          <a:xfrm>
            <a:off x="1214280" y="100008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Всего членов Ассоциации – 143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г.о.Химки – </a:t>
            </a:r>
            <a:r>
              <a:rPr b="1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17 человек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Одинцовский м.р. – 34 челов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mbria"/>
                <a:ea typeface="Times New Roman"/>
              </a:rPr>
              <a:t>г.о. Балашиха – 6 человек; остальные округа по 4 – 3 – 2 – 1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IMG_9338-24-04-19-09-27.JPG"/>
          <p:cNvPicPr/>
          <p:nvPr/>
        </p:nvPicPr>
        <p:blipFill>
          <a:blip r:embed="rId2"/>
          <a:stretch/>
        </p:blipFill>
        <p:spPr>
          <a:xfrm>
            <a:off x="1901880" y="2779560"/>
            <a:ext cx="53402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ступительные и членские взносы.</a:t>
            </a:r>
            <a:br>
              <a:rPr sz="2400"/>
            </a:br>
            <a:endParaRPr b="1" lang="en-US" sz="24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5560" y="0"/>
            <a:ext cx="1182600" cy="1182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Согласно  устава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2. Члены Ассоциации обязаны своевременно уплачивать следующие взносы: вступительные, ежегодные, целевые, единовре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Вступительные и ежегодные членские взносы используются на содержание органов управления Ассоциации, выплаты и компенсации сотрудникам Ассоциации, выплату вознаграждения и компенсации Председателю Ассоциации, на проведение Общих собраний членов Ассоциации, финансирование утвержденных Общим собранием проектов и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3. Целевые и единовременные (дополнительные) взносы предназначаются для финансирования конкретных мероприятий, проектов и программ Ассоциации, не обеспеченных текущим финансовым планом, основанным на членских взносах. Единовременные взносы могут быть направлены на содержание органов управления Ассоциации в случае перерасхода по ранее утвержденной см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3.4. Членские взносы, а также другое переданное Ассоциации имущество при добровольном выходе или исключении из членов Ассоциации не возвращаются, за исключением случаев, установленных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ление собрания членов Ассоциации «ЛИДЕР»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27 сентября 2018 г.:</a:t>
            </a:r>
            <a:endParaRPr b="1" lang="en-US" sz="2000" spc="-1" strike="noStrike">
              <a:solidFill>
                <a:srgbClr val="175151"/>
              </a:solidFill>
              <a:latin typeface="Century Gothic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1314360" cy="1438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0" y="126828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84360" y="1844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Оплачивать членские взносы ежегодно, 1 раз в </a:t>
            </a:r>
            <a:r>
              <a:rPr b="1" lang="en-US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1e4576"/>
                </a:solidFill>
                <a:uFillTx/>
                <a:latin typeface="Cambria"/>
                <a:ea typeface="Times New Roman"/>
              </a:rPr>
              <a:t> квартале  ( мар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340000" y="27082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ы на 2019/2020 учебный год :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857520" y="3645000"/>
            <a:ext cx="70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Семинары и мастер – классы  ( пред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Турнир «Памяти  В.П. Морозова» ( г. о. Одинцово) – ос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( среди учителей или учащихся – наше мнение)</a:t>
            </a:r>
            <a:r>
              <a:rPr b="0" lang="ru-RU" sz="1800" spc="-1" strike="noStrike">
                <a:solidFill>
                  <a:srgbClr val="1e4576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mbr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«БЛАГОДАРНОСТЬ»  от Ассоциации  МО «Лид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Cambria"/>
              </a:rPr>
              <a:t>( к аттестации дополнительные 150 бал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0520"/>
            <a:ext cx="19080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2556000" y="8366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4a04"/>
                </a:solidFill>
                <a:latin typeface="Garamond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2908440" y="1596960"/>
            <a:ext cx="3900240" cy="4907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1T07:49:05Z</dcterms:created>
  <dc:creator>Сергей</dc:creator>
  <dc:description/>
  <dc:language>en-US</dc:language>
  <cp:lastModifiedBy>Лариса</cp:lastModifiedBy>
  <dcterms:modified xsi:type="dcterms:W3CDTF">2019-06-03T19:13:36Z</dcterms:modified>
  <cp:revision>55</cp:revision>
  <dc:subject/>
  <dc:title>Слайд 1</dc:title>
</cp:coreProperties>
</file>