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7F4D-25AB-48EC-8AFE-BE0550CE1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C059-D9DF-4D08-9D61-F734544762C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1927-7BA0-45B7-8321-7DFA3EAE3B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599D-D1A7-4EDD-99AA-C0F48C030C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CFCD-E244-4613-8E81-359E137F0D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E992-C02F-4551-AD4D-4ED8F7F3389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. Л. Рубинштейна, которое он высказал еще в 1935 г., одаренность опред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ется комплексом свойств личности. И этому есть ряд веских доказательств. Одна из газ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ала о биологе, который опубликовал научный труд, включавший обширную библиог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ю – 300 названий, которую он продиктовал машинистке по памяти и без единой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заурядная память не сделала этого биолога незаурядным уче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Р. Лурия (1968) в течение многих лет исследовал феноменальную память од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етного репортера. Опыты показали, что этот репортер мог моментально запомнит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громадные ряды слов и чисел в прямом и обратном порядке и начиная с лю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на этих рядов. Он воспроизводил их без всякого труда через месяц, год и даже через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 после запоминания. Однако во всех других отношениях репортер был заурядным чел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ом, сменил за свою жизнь много профессий, но так ничего в ней и не доби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0072-7292-4F1D-B90F-C9F3A3C3EF9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F04C-E8EF-4E8D-B557-7866B15A21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EFA1-C48A-41F8-A9FC-E1BCE54434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C735-1FBE-4D82-A519-E2818362ED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5239-4A13-4879-933A-87066A573A1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и и педагогике весьма распространено представл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бщих и спец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ьных способностях и одарен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ервым относят те, что отвечают требованиям ср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х видов деятельности (например, интеллектуальные способности). Специальные 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ют требованиям только конкретной деятельности (например, худож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наличие певческого голоса). Начало таким представлениям положено Ч. Спир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67AB-FA52-4D0A-889E-0CB514B15A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29F3-B42C-4304-951A-DE8F0AD9FD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9073-0780-42A5-8F01-58F3C68153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22FC-05AA-4313-888A-D152D50403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3A85-47DF-42E7-A01F-4D61B707A39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227F-8DDE-4333-AF0F-3511B5DB641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инская школа (итал. Scuola di Atene) — фреска работы Рафаэля в станце делла Сеньятура Ватиканского д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vakin.livejournal.com/151214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1DB7-4922-450C-9889-05EB4DA3EF9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BFD-2F2E-44E5-B788-A7AD6446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7A3-177E-432A-825E-2F6347D3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A1A-5817-432F-B544-7CE96746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D71-F4C8-4BC4-B724-701BC928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249-C95F-478A-BC21-1FEEEE3E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2EF-8EA5-45A1-82E8-8DEF981E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D99-618D-46EF-9019-C865B65E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558-3A40-4750-80FB-DD55BD53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3BA-D3BE-431B-9582-0D03B336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E59-58F2-4BFB-A3BA-BD5FD77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2B2-6400-4816-9B20-E74B17D1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171-893A-47B7-B230-D0C0D0C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8EB4-B2D2-4174-A9E9-7C0D9FE9DF9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ofijashatalova.jimdo.com/" TargetMode="External"/><Relationship Id="rId2" Type="http://schemas.openxmlformats.org/officeDocument/2006/relationships/hyperlink" Target="https://www.facebook.com/sonya.shatalova?fref=nf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molin.ru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85880" y="870120"/>
            <a:ext cx="764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ация в образовании в условиях требований ФГОС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ативность образовательного процесса: индивидуальные образовательные траектории и маршруты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39401669_501000077030315_7145795308084002816_n.jpg"/>
          <p:cNvPicPr/>
          <p:nvPr/>
        </p:nvPicPr>
        <p:blipFill>
          <a:blip r:embed="rId1"/>
          <a:stretch/>
        </p:blipFill>
        <p:spPr>
          <a:xfrm>
            <a:off x="2867040" y="552600"/>
            <a:ext cx="340992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428760" y="4044960"/>
            <a:ext cx="82864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… одаренность является не только предпосылкой, но и результатом всестороннего развития личност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.Л. Рубинштей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28760" y="577800"/>
            <a:ext cx="82864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Одарённость человека — это маленький росточек, едва проклюнувшийся из земли и требующий к себе огромного внимания. Необходимо холить и лелеять, ухаживать за ним, сделать все необходимое, чтобы он вырос и дал обильный плод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.А. Сухомлинск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95280" y="620640"/>
            <a:ext cx="828684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Одаренность – это результат работы с детьми, а не результат их поиска, которым в последнее время мы увлекаемся. Для системного развития одаренности необходима система, ориентированная на пробуждение и развитие творческого ресурса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.Г. Сайбедин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родный учитель Р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каз Президента Российской Федерации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от 7 мая 2018 г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«О национальных целях и стратегических задачах развития Российской Федерации на период до 2024 год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50920" y="105264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хождение РФ в число 10 ведущих стран мира по качеству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формирование эффективной системы выявления, поддержки и развития способностей и талантов у детей и молодё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овременной и безопасной цифровой образовательной среды, обеспечивающей высокое качество и доступность образования всех видов и уровн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едрение национальной системы профессионального роста педагогических работников, охватывающей не менее 50 процентов учителей общеобразователь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развития наставничества, поддержки общественных инициатив и проектов, в том числе в сфере добровольчества (волонтёр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стижение 100-процентной доступности (к 2021 году) дошкольного образования для детей в возрасте до трёх л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57120" y="604800"/>
            <a:ext cx="842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. Характеристика основных мероприятий под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мероприятие 3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«Оказание государственной поддержки, поощрение одаренных де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ходе реализации основного мероприятия будет осуществляться материальное поощрение победителей и призеров регионального этапа всероссийской олимпиады школьников и обеспечение участия одаренных детей, оказавшихся в трудной жизненной ситуации, из многодетных и приемных семей во всероссийской новогодней ел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ализация основного мероприятия направлена на стимулирование одаренных детей в их стремлении к новым достижениям, ежегодное подтверждение заинтересованности Саратовской области в оказании поддержки одаренны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50920" y="1714680"/>
            <a:ext cx="87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пособ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индивидуальные особенности, которые являются условиями успешного выполнения какой-либо одной или нескольких деятель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дарё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это системно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щееся в течение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 по сравнению с другими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Талан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от гре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lant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– высокая степень одарённости, реализованная человеком в определённ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Ге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 лат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ius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у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сшая творческая способность в научной или художестве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6" descr=""/>
          <p:cNvPicPr/>
          <p:nvPr/>
        </p:nvPicPr>
        <p:blipFill>
          <a:blip r:embed="rId1"/>
          <a:stretch/>
        </p:blipFill>
        <p:spPr>
          <a:xfrm>
            <a:off x="604800" y="87480"/>
            <a:ext cx="1158840" cy="1685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"/>
          <p:cNvPicPr/>
          <p:nvPr/>
        </p:nvPicPr>
        <p:blipFill>
          <a:blip r:embed="rId2"/>
          <a:stretch/>
        </p:blipFill>
        <p:spPr>
          <a:xfrm>
            <a:off x="5219640" y="112680"/>
            <a:ext cx="1128600" cy="16606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1908000" y="755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.Д. Шад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6516720" y="755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.Б. Богоявл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95280" y="419040"/>
            <a:ext cx="82803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Модель» одаренного ребенка Дж. Рензул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ллект выше средне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льная увлеченность задач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сокий творческий потенци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личие только одного из этих компонент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елает ребенка одар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ÐÐ°ÑÑÐ¸Ð½ÐºÐ¸ Ð¿Ð¾ Ð·Ð°Ð¿ÑÐ¾ÑÑ ÑÐµÐ½Ð·ÑÐ»Ð»Ð¸"/>
          <p:cNvPicPr/>
          <p:nvPr/>
        </p:nvPicPr>
        <p:blipFill>
          <a:blip r:embed="rId1"/>
          <a:stretch/>
        </p:blipFill>
        <p:spPr>
          <a:xfrm>
            <a:off x="7226280" y="682560"/>
            <a:ext cx="1378080" cy="1378080"/>
          </a:xfrm>
          <a:prstGeom prst="rect">
            <a:avLst/>
          </a:prstGeom>
          <a:ln w="0">
            <a:noFill/>
          </a:ln>
        </p:spPr>
      </p:pic>
      <p:grpSp>
        <p:nvGrpSpPr>
          <p:cNvPr id="77" name="Группа 3"/>
          <p:cNvGrpSpPr/>
          <p:nvPr/>
        </p:nvGrpSpPr>
        <p:grpSpPr>
          <a:xfrm>
            <a:off x="2268360" y="2924280"/>
            <a:ext cx="6551640" cy="3744720"/>
            <a:chOff x="2268360" y="2924280"/>
            <a:chExt cx="6551640" cy="3744720"/>
          </a:xfrm>
        </p:grpSpPr>
        <p:grpSp>
          <p:nvGrpSpPr>
            <p:cNvPr id="78" name="Группа 11"/>
            <p:cNvGrpSpPr/>
            <p:nvPr/>
          </p:nvGrpSpPr>
          <p:grpSpPr>
            <a:xfrm>
              <a:off x="2268360" y="2924280"/>
              <a:ext cx="6551640" cy="3739320"/>
              <a:chOff x="2268360" y="2924280"/>
              <a:chExt cx="6551640" cy="3739320"/>
            </a:xfrm>
          </p:grpSpPr>
          <p:sp>
            <p:nvSpPr>
              <p:cNvPr id="79" name="Овал 11"/>
              <p:cNvSpPr/>
              <p:nvPr/>
            </p:nvSpPr>
            <p:spPr>
              <a:xfrm>
                <a:off x="3979440" y="4146840"/>
                <a:ext cx="1890720" cy="1805400"/>
              </a:xfrm>
              <a:prstGeom prst="ellipse">
                <a:avLst/>
              </a:prstGeom>
              <a:noFill/>
              <a:ln w="1908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\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Овал 12"/>
              <p:cNvSpPr/>
              <p:nvPr/>
            </p:nvSpPr>
            <p:spPr>
              <a:xfrm>
                <a:off x="5200560" y="4135680"/>
                <a:ext cx="1892160" cy="1805400"/>
              </a:xfrm>
              <a:prstGeom prst="ellipse">
                <a:avLst/>
              </a:prstGeom>
              <a:noFill/>
              <a:ln w="1908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\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Овал 13"/>
              <p:cNvSpPr/>
              <p:nvPr/>
            </p:nvSpPr>
            <p:spPr>
              <a:xfrm>
                <a:off x="4571640" y="4850280"/>
                <a:ext cx="1892160" cy="1806840"/>
              </a:xfrm>
              <a:prstGeom prst="ellipse">
                <a:avLst/>
              </a:prstGeom>
              <a:noFill/>
              <a:ln w="1908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\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7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Равнобедренный треугольник 14"/>
              <p:cNvSpPr/>
              <p:nvPr/>
            </p:nvSpPr>
            <p:spPr>
              <a:xfrm>
                <a:off x="2268360" y="2924280"/>
                <a:ext cx="6551640" cy="373932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Надпись 7"/>
            <p:cNvSpPr/>
            <p:nvPr/>
          </p:nvSpPr>
          <p:spPr>
            <a:xfrm>
              <a:off x="5929200" y="4595040"/>
              <a:ext cx="1207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7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Креативност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Надпись 8"/>
            <p:cNvSpPr/>
            <p:nvPr/>
          </p:nvSpPr>
          <p:spPr>
            <a:xfrm>
              <a:off x="4755240" y="6075360"/>
              <a:ext cx="157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Мотивац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Надпись 9"/>
            <p:cNvSpPr/>
            <p:nvPr/>
          </p:nvSpPr>
          <p:spPr>
            <a:xfrm>
              <a:off x="4073040" y="4497480"/>
              <a:ext cx="12816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Интеллектуальные способност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выш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среднег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Надпись 9"/>
            <p:cNvSpPr/>
            <p:nvPr/>
          </p:nvSpPr>
          <p:spPr>
            <a:xfrm>
              <a:off x="4924440" y="3587040"/>
              <a:ext cx="1226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Сверстник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Надпись 9"/>
            <p:cNvSpPr/>
            <p:nvPr/>
          </p:nvSpPr>
          <p:spPr>
            <a:xfrm>
              <a:off x="2846880" y="6108480"/>
              <a:ext cx="1226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Семь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Надпись 9"/>
            <p:cNvSpPr/>
            <p:nvPr/>
          </p:nvSpPr>
          <p:spPr>
            <a:xfrm>
              <a:off x="7030440" y="6120720"/>
              <a:ext cx="12261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Segoe UI"/>
                  <a:ea typeface="Calibri"/>
                </a:rPr>
                <a:t>Школ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428760" y="720720"/>
            <a:ext cx="8358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ессандро Воль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етстве имел слабые умственные способности, первое слово произнес  в 4 года,  нормально заговорил в 7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.Э. Циолковс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шел в гимназию в 12 лет. Во втором классе был оставлен на повторный курс. В третьем классе был исключен из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ж. Максвел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школе учился очень плохо и его считали туп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жеймс Уат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лся в школе очень пло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не Дека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обще не любил учиться до 17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масу Эдисон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вынесен диагноз «умственная недоразвитость» и его не рекомендовали обучать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albert-einstein-hd-wallpaper-iphone.jpg"/>
          <p:cNvPicPr/>
          <p:nvPr/>
        </p:nvPicPr>
        <p:blipFill>
          <a:blip r:embed="rId1"/>
          <a:srcRect l="22224" t="0" r="16164" b="0"/>
          <a:stretch/>
        </p:blipFill>
        <p:spPr>
          <a:xfrm>
            <a:off x="6286680" y="3591000"/>
            <a:ext cx="26431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0.jpg"/>
          <p:cNvPicPr/>
          <p:nvPr/>
        </p:nvPicPr>
        <p:blipFill>
          <a:blip r:embed="rId2"/>
          <a:stretch/>
        </p:blipFill>
        <p:spPr>
          <a:xfrm>
            <a:off x="617400" y="380880"/>
            <a:ext cx="2097360" cy="276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da-vinci_thumb2.jpg"/>
          <p:cNvPicPr/>
          <p:nvPr/>
        </p:nvPicPr>
        <p:blipFill>
          <a:blip r:embed="rId3"/>
          <a:stretch/>
        </p:blipFill>
        <p:spPr>
          <a:xfrm>
            <a:off x="5786280" y="35712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forumfullimg~general~1371926546927~1374581359773.jpg"/>
          <p:cNvPicPr/>
          <p:nvPr/>
        </p:nvPicPr>
        <p:blipFill>
          <a:blip r:embed="rId4"/>
          <a:srcRect l="0" t="6252" r="0" b="9373"/>
          <a:stretch/>
        </p:blipFill>
        <p:spPr>
          <a:xfrm>
            <a:off x="214200" y="3568680"/>
            <a:ext cx="2417760" cy="3075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Winston-Churchill.jpg"/>
          <p:cNvPicPr/>
          <p:nvPr/>
        </p:nvPicPr>
        <p:blipFill>
          <a:blip r:embed="rId5"/>
          <a:stretch/>
        </p:blipFill>
        <p:spPr>
          <a:xfrm>
            <a:off x="3195720" y="514440"/>
            <a:ext cx="2233440" cy="3128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42962_original.jpeg"/>
          <p:cNvPicPr/>
          <p:nvPr/>
        </p:nvPicPr>
        <p:blipFill>
          <a:blip r:embed="rId6"/>
          <a:stretch/>
        </p:blipFill>
        <p:spPr>
          <a:xfrm>
            <a:off x="2786040" y="4098960"/>
            <a:ext cx="3286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428760" y="604800"/>
            <a:ext cx="828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иды одар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214280" y="1457280"/>
            <a:ext cx="664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моторная или спорт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каде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ллекту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ая или лид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Саламанкская декларация о принципах, политике и практической деятельности в сфере образования лиц  с особыми потребност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280" y="1142640"/>
            <a:ext cx="883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ламанка, Испания, 7—10 июня 1994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ждый ребенок имеет основное право на образование и должен иметь возможность получать и поддерживать приемлемый уровень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ждый ребенок имеет уникальные особенности, интересы, способности и учебные потреб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разрабатывать системы образования и выполнять образовательные программы так, чтобы принимать во внимание широкое разнообразие этих особенностей и потреб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Лица, имеющие особые потребности в области образования, должны иметь доступ к обучению в обычных школах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ычные школы должны создать им условия на основе педагогических методов, ориентированных прежде всего на детей с целью удовлетворения этих потреб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ычные школы с такой инклюзивной ориентацией являются наиболее эффективным средством борьбы с дискриминационными воззрениями, создания благоприятной атмосферы в общинах, построения инклюзивного общества и обеспечения образования для всех; более того, они обеспечивают реальное образование для большинства детей и повышают эффективность и, в конечном счете, рентабельность системы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428760" y="328680"/>
            <a:ext cx="828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Палитра» одар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0040" y="1044720"/>
            <a:ext cx="82868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ипу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ир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общая и специальна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интенсивности прояв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повышенная готовность к обучению, одаренные, высоко одаренные, исключительно одаре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виду прояв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явная и скрыт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временным характеристика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с нормальным темпом, возрастного развития, с опережением (вундеркинды) или отставани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возрастным особенностя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стабильная и времен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степени сформирован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актуальная и потенциаль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28760" y="214200"/>
            <a:ext cx="828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ели работы учителей с одаренными обучающими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00040" y="85716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общей среды для проявления и развития способностей каждого 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одаренны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, способствующих их оптимальному разви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428760" y="2928960"/>
            <a:ext cx="828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рабо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00040" y="3500280"/>
            <a:ext cx="82868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держка одаренных учащихся (гранты, стипендии, прем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дение областной (и муниципальных) школ для одар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стие в профильных школах других реги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валификации педагогов, распространение передового опыта; поддержка учителей, демонстрирующих эффективность работы с одарен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верь в себя.jpg"/>
          <p:cNvPicPr/>
          <p:nvPr/>
        </p:nvPicPr>
        <p:blipFill>
          <a:blip r:embed="rId1"/>
          <a:stretch/>
        </p:blipFill>
        <p:spPr>
          <a:xfrm>
            <a:off x="1143000" y="0"/>
            <a:ext cx="6892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5429160" y="42876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ерь в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515040" y="4005000"/>
            <a:ext cx="56534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ывки из дневника Сони Шаталово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У нее есть </a:t>
            </a:r>
            <a:r>
              <a:rPr b="0" lang="ru-RU" sz="2300" spc="-1" strike="noStrike" u="sng">
                <a:solidFill>
                  <a:srgbClr val="0070c0"/>
                </a:solidFill>
                <a:uFillTx/>
                <a:latin typeface="Arial"/>
                <a:ea typeface="Times New Roman"/>
                <a:hlinkClick r:id="rId1"/>
              </a:rPr>
              <a:t>свой сай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 и своя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70c0"/>
                </a:solidFill>
                <a:uFillTx/>
                <a:latin typeface="Arial"/>
                <a:ea typeface="Times New Roman"/>
                <a:hlinkClick r:id="rId2"/>
              </a:rPr>
              <a:t>страничка в Facebook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rirka"/>
          <p:cNvPicPr/>
          <p:nvPr/>
        </p:nvPicPr>
        <p:blipFill>
          <a:blip r:embed="rId3"/>
          <a:stretch/>
        </p:blipFill>
        <p:spPr>
          <a:xfrm>
            <a:off x="0" y="3276720"/>
            <a:ext cx="3476520" cy="3581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08bc0af51659ad2d3f2696fb02ba24b5-600x351"/>
          <p:cNvPicPr/>
          <p:nvPr/>
        </p:nvPicPr>
        <p:blipFill>
          <a:blip r:embed="rId4"/>
          <a:stretch/>
        </p:blipFill>
        <p:spPr>
          <a:xfrm>
            <a:off x="142920" y="71280"/>
            <a:ext cx="52862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435640" y="561960"/>
            <a:ext cx="34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молин Олег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  <a:hlinkClick r:id="rId1"/>
              </a:rPr>
              <a:t>www.smolin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image.jpg"/>
          <p:cNvPicPr/>
          <p:nvPr/>
        </p:nvPicPr>
        <p:blipFill>
          <a:blip r:embed="rId2"/>
          <a:stretch/>
        </p:blipFill>
        <p:spPr>
          <a:xfrm>
            <a:off x="576360" y="404640"/>
            <a:ext cx="4572000" cy="3006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250920" y="3789360"/>
            <a:ext cx="86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путат Госдумы, первый зампред Комитета по образованию и нау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ктор философских наук, академик РА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едатель Общероссийского общественного движения «Образование – для всех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це-президент Паралимпийского комитета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це-президент Всероссийского общества слеп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571680" y="260280"/>
            <a:ext cx="8001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ение детей с ОВЗ по формам (местам) обучения (по данным Минобрнауки России, 2016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УГ. Инклюзия\Рис.2. Распределение детей с ОВЗ по формам (местам) обучения (по данным Минобрнауки России, 2016 г.).jpg"/>
          <p:cNvPicPr/>
          <p:nvPr/>
        </p:nvPicPr>
        <p:blipFill>
          <a:blip r:embed="rId1"/>
          <a:stretch/>
        </p:blipFill>
        <p:spPr>
          <a:xfrm>
            <a:off x="23760" y="1341360"/>
            <a:ext cx="90964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60440" y="476280"/>
            <a:ext cx="82152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обучающихся с ОВ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слуха (глухие, слабослышащие, позднооглохши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зрения (слепые, слабовидящи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речи (логопат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опорно-двигательного аппара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умственной отсталость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задержкой психического разви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нарушением поведения и общ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ти с комплексными нарушениями психофизического развития, с так называемыми сложными дефектами (слепоглухонемые, глухие или слепые дети с умственной отсталостью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50920" y="260280"/>
            <a:ext cx="868356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ать специальное обучение ребенка сразу же после выявления первичного нарушения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сти в содержание обучения ребенка специальные разделы, не присутствующие в программах образования нормально развивающихся свер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специальные методы, приемы и средства обучения, обеспечивающие реализацию «обходных путей»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изировать обучение в большей степени чем требуется для нормально развивающегос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ть особую пространственную и временную организацию образовательной среды;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 раздвинуть образовательное пространство за пределы образовательной орган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95280" y="404640"/>
            <a:ext cx="84978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ильмы – участники фестиваля «Кино без барьеров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Интервьюер» реж. Женевьева Клей-Смит и Робин Брайан, Австралия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Звёздочки на земле» реж. Аамир Кхан, Амол Губтэ, Индия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Антон тут рядом» реж. Любовь Аркус, Россия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Мой маленький братик с Луны» реж. Фредерик Филиба, Фран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Путешествие Марии» реж. Мигель Галлардо, Испания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леймо» реж. Ольга Арлаускас, Россия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Академия специалистов» реж. Мигель Галлардо, Испания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Ольга» реж. Григорий Шум, Россия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1024px-Raffael_058.jpg"/>
          <p:cNvPicPr/>
          <p:nvPr/>
        </p:nvPicPr>
        <p:blipFill>
          <a:blip r:embed="rId1"/>
          <a:stretch/>
        </p:blipFill>
        <p:spPr>
          <a:xfrm>
            <a:off x="1440" y="476280"/>
            <a:ext cx="91425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0:10:31Z</dcterms:created>
  <dc:creator>Karasev</dc:creator>
  <dc:description/>
  <dc:language>en-US</dc:language>
  <cp:lastModifiedBy>Венера Мусинова</cp:lastModifiedBy>
  <dcterms:modified xsi:type="dcterms:W3CDTF">2019-06-03T18:25:21Z</dcterms:modified>
  <cp:revision>652</cp:revision>
  <dc:subject/>
  <dc:title>Слайд 1</dc:title>
</cp:coreProperties>
</file>