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B82B-8EDE-4BCC-BA32-7CD0CBBC79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AF5-B68F-4CBB-AE4D-008E8865BF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7DE2-256B-45E2-B3EA-7B33938EA8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076-D2F3-420A-9934-B89F58FA24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CF76-B801-4385-B7A2-BE93272E79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D249-9E14-46E3-A692-6B5CCDAAF2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. Л. Рубинштейна, которое он высказал еще в 1935 г., одаренность опред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комплексом свойств личности. И этому есть ряд веских доказательств. Одна из газ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ала о биологе, который опубликовал научный труд, включавший обширную библиог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ю – 300 названий, которую он продиктовал машинистке по памяти и без единой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заурядная память не сделала этого биолога незаурядным уче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Р. Лурия (1968) в течение многих лет исследовал феноменальную память од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етного репортера. Опыты показали, что этот репортер мог моментально запомни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громадные ряды слов и чисел в прямом и обратном порядке и начиная с лю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а этих рядов. Он воспроизводил их без всякого труда через месяц, год и даже через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 после запоминания. Однако во всех других отношениях репортер был заурядным че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ом, сменил за свою жизнь много профессий, но так ничего в ней и не доби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DA90-3E09-4A7C-B02C-DF97ACA146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F1DC-1ECA-4E7D-90AB-D578040D3C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A831-D5C9-489B-B5E9-B4BF6FD2CA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413-6452-4FB0-8205-F1A08FEB15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98E-620B-4E03-A52B-898FEA5949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и и педагогике весьма распространено представл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бщих и спец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ьных способностях и одарен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ервым относят те, что отвечают требованиям ср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х видов деятельности (например, интеллектуальные способности). Специальные 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ют требованиям только конкретной деятельности (например, худож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наличие певческого голоса). Начало таким представлениям положено Ч. Спи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E90-1F38-4D10-857A-E6725CD0D4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B60A-5A7C-45FE-A3AF-117AC1973E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82C4-0821-4AA6-B5A4-AA62E7A047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DE2B-5626-43AA-A645-9D1FD0D63D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2C44-C291-4A16-B727-D531A19C2E2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2FB6-6CF0-42C6-B699-7A1D6E0970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инская школа (итал. Scuola di Atene) — фреска работы Рафаэля в станце делла Сеньятура Ватиканского д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vakin.livejournal.com/151214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CED7-1294-45BD-A7AE-DB793346E4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9ED-1ABB-44DA-A812-18115452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DE8-D8F8-4D30-BE5B-9D1B28D6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C46-1DE3-4064-89B0-3E88072A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BAA-ED25-4378-9A61-43C8E2B4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EF3-7C96-4488-B8DA-9CB5D002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978-9302-4C13-8447-2232D34E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924-0E61-46E1-BFAD-99510D1C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38E-54B1-4D28-B39D-D7122A11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5B5-AB16-42CB-9F7C-AC05228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A99-9A45-4C13-9835-46BEACE5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CAC-A194-4062-B656-8A1409F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DE8-E093-41B9-8E6B-35A33D0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05F3-E05D-4F05-B191-6BB869A9DE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ofijashatalova.jimdo.com/" TargetMode="External"/><Relationship Id="rId2" Type="http://schemas.openxmlformats.org/officeDocument/2006/relationships/hyperlink" Target="https://www.facebook.com/sonya.shatalova?fref=nf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molin.ru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85880" y="87012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я в образовании в условиях требований ФГОС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образовательного процесса: индивидуальные образовательные траектории и маршруты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39401669_501000077030315_7145795308084002816_n.jpg"/>
          <p:cNvPicPr/>
          <p:nvPr/>
        </p:nvPicPr>
        <p:blipFill>
          <a:blip r:embed="rId1"/>
          <a:stretch/>
        </p:blipFill>
        <p:spPr>
          <a:xfrm>
            <a:off x="2867040" y="552600"/>
            <a:ext cx="34099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428760" y="4044960"/>
            <a:ext cx="82864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… одаренность является не только предпосылкой, но и результатом всестороннего развития личност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.Л. Рубинштей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28760" y="577800"/>
            <a:ext cx="82864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Одарённость человека —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А. Сухомлин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95280" y="620640"/>
            <a:ext cx="82868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Одаренность – это результат работы с детьми, а не результат их поиска, которым в последнее время мы увлекаемся. Для системного развития одаренности необходима система, ориентированная на пробуждение и развитие творческого ресурса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.Г. Сайбедин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родный учитель 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каз Президента Российской Федерации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т 7 мая 2018 г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«О национальных целях и стратегических задачах развития Российской Федерации на период до 2024 го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50920" y="105264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хождение РФ в число 10 ведущих стран мира по качеству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эффективной системы выявления, поддержки и развития способностей и талантов у детей и молодё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временной и безопасной цифровой образовательной среды, обеспечивающей высокое качество и доступность образования всех видов и уров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национальной системы профессионального роста педагогических работников, охватывающей не менее 50 процентов учителей обще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развития наставничества, поддержки общественных инициатив и проектов, в том числе в сфере добровольчества (волонтёр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стижение 100-процентной доступности (к 2021 году) дошкольного образования для детей в возрасте до трёх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57120" y="604800"/>
            <a:ext cx="842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Характеристика основных мероприятий под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мероприятие 3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«Оказание государственной поддержки, поощрение одаренных де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ходе реализации основного мероприятия будет осуществляться материальное поощрение победителей и призеров регионального этапа всероссийской олимпиады школьников и обеспечение участия одаренных детей, оказавшихся в трудной жизненной ситуации, из многодетных и приемных семей во всероссийской новогодней ел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ализация основного мероприятия направлена на стимулирование одаренных детей в их стремлении к новым достижениям, ежегодное подтверждение заинтересованности Саратовской области в оказании поддержки одаренны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50920" y="1714680"/>
            <a:ext cx="87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индивидуальные особенности, которые являются условиями успешного выполнения какой-либо одной или нескольких деятель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дарё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то системно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ееся в течение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алан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lant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– высокая степень одарённости, реализованная человеком в определён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ius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у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шая творческая способность в научной или худож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"/>
          <p:cNvPicPr/>
          <p:nvPr/>
        </p:nvPicPr>
        <p:blipFill>
          <a:blip r:embed="rId1"/>
          <a:stretch/>
        </p:blipFill>
        <p:spPr>
          <a:xfrm>
            <a:off x="604800" y="87480"/>
            <a:ext cx="1158840" cy="1685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"/>
          <p:cNvPicPr/>
          <p:nvPr/>
        </p:nvPicPr>
        <p:blipFill>
          <a:blip r:embed="rId2"/>
          <a:stretch/>
        </p:blipFill>
        <p:spPr>
          <a:xfrm>
            <a:off x="5219640" y="112680"/>
            <a:ext cx="1128600" cy="1660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1908000" y="755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.Д. Шад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6516720" y="755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.Б. Богоявл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95280" y="419040"/>
            <a:ext cx="82803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Модель» одаренного ребенка Дж. Рензул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ллект выше средне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льная увлеченность задач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окий творческий потенци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только одного из этих компонент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елает ребенка одар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ÐÐ°ÑÑÐ¸Ð½ÐºÐ¸ Ð¿Ð¾ Ð·Ð°Ð¿ÑÐ¾ÑÑ ÑÐµÐ½Ð·ÑÐ»Ð»Ð¸"/>
          <p:cNvPicPr/>
          <p:nvPr/>
        </p:nvPicPr>
        <p:blipFill>
          <a:blip r:embed="rId1"/>
          <a:stretch/>
        </p:blipFill>
        <p:spPr>
          <a:xfrm>
            <a:off x="7226280" y="682560"/>
            <a:ext cx="13780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7" name="Группа 3"/>
          <p:cNvGrpSpPr/>
          <p:nvPr/>
        </p:nvGrpSpPr>
        <p:grpSpPr>
          <a:xfrm>
            <a:off x="2268360" y="2924280"/>
            <a:ext cx="6551640" cy="3744720"/>
            <a:chOff x="2268360" y="2924280"/>
            <a:chExt cx="6551640" cy="3744720"/>
          </a:xfrm>
        </p:grpSpPr>
        <p:grpSp>
          <p:nvGrpSpPr>
            <p:cNvPr id="78" name="Группа 11"/>
            <p:cNvGrpSpPr/>
            <p:nvPr/>
          </p:nvGrpSpPr>
          <p:grpSpPr>
            <a:xfrm>
              <a:off x="2268360" y="2924280"/>
              <a:ext cx="6551640" cy="3739320"/>
              <a:chOff x="2268360" y="2924280"/>
              <a:chExt cx="6551640" cy="3739320"/>
            </a:xfrm>
          </p:grpSpPr>
          <p:sp>
            <p:nvSpPr>
              <p:cNvPr id="79" name="Овал 11"/>
              <p:cNvSpPr/>
              <p:nvPr/>
            </p:nvSpPr>
            <p:spPr>
              <a:xfrm>
                <a:off x="3979440" y="4146840"/>
                <a:ext cx="1890720" cy="1805400"/>
              </a:xfrm>
              <a:prstGeom prst="ellipse">
                <a:avLst/>
              </a:prstGeom>
              <a:noFill/>
              <a:ln w="1908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\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Овал 12"/>
              <p:cNvSpPr/>
              <p:nvPr/>
            </p:nvSpPr>
            <p:spPr>
              <a:xfrm>
                <a:off x="5200560" y="4135680"/>
                <a:ext cx="1892160" cy="1805400"/>
              </a:xfrm>
              <a:prstGeom prst="ellipse">
                <a:avLst/>
              </a:prstGeom>
              <a:noFill/>
              <a:ln w="1908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\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Овал 13"/>
              <p:cNvSpPr/>
              <p:nvPr/>
            </p:nvSpPr>
            <p:spPr>
              <a:xfrm>
                <a:off x="4571640" y="4850280"/>
                <a:ext cx="1892160" cy="1806840"/>
              </a:xfrm>
              <a:prstGeom prst="ellipse">
                <a:avLst/>
              </a:prstGeom>
              <a:noFill/>
              <a:ln w="1908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\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Равнобедренный треугольник 14"/>
              <p:cNvSpPr/>
              <p:nvPr/>
            </p:nvSpPr>
            <p:spPr>
              <a:xfrm>
                <a:off x="2268360" y="2924280"/>
                <a:ext cx="6551640" cy="37393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Надпись 7"/>
            <p:cNvSpPr/>
            <p:nvPr/>
          </p:nvSpPr>
          <p:spPr>
            <a:xfrm>
              <a:off x="5929200" y="4595040"/>
              <a:ext cx="1207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7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Креативност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Надпись 8"/>
            <p:cNvSpPr/>
            <p:nvPr/>
          </p:nvSpPr>
          <p:spPr>
            <a:xfrm>
              <a:off x="4755240" y="6075360"/>
              <a:ext cx="157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Мотив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Надпись 9"/>
            <p:cNvSpPr/>
            <p:nvPr/>
          </p:nvSpPr>
          <p:spPr>
            <a:xfrm>
              <a:off x="4073040" y="4497480"/>
              <a:ext cx="12816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Интеллектуальные способност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выш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среднег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Надпись 9"/>
            <p:cNvSpPr/>
            <p:nvPr/>
          </p:nvSpPr>
          <p:spPr>
            <a:xfrm>
              <a:off x="4924440" y="3587040"/>
              <a:ext cx="1226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Сверстник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Надпись 9"/>
            <p:cNvSpPr/>
            <p:nvPr/>
          </p:nvSpPr>
          <p:spPr>
            <a:xfrm>
              <a:off x="2846880" y="6108480"/>
              <a:ext cx="1226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Семь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Надпись 9"/>
            <p:cNvSpPr/>
            <p:nvPr/>
          </p:nvSpPr>
          <p:spPr>
            <a:xfrm>
              <a:off x="7030440" y="6120720"/>
              <a:ext cx="1226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Школ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428760" y="720720"/>
            <a:ext cx="8358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ессандро Воль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етстве имел слабые умственные способности, первое слово произнес  в 4 года,  нормально заговорил в 7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.Э. Циолков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шел в гимназию в 12 лет. Во втором классе был оставлен на повторный курс. В третьем классе был исключен из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ж. Максвел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школе учился очень плохо и его считали туп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жеймс Уат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лся в школе очень пло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не Дека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обще не любил учиться до 17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масу Эдисон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вынесен диагноз «умственная недоразвитость» и его не рекомендовали обучать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albert-einstein-hd-wallpaper-iphone.jpg"/>
          <p:cNvPicPr/>
          <p:nvPr/>
        </p:nvPicPr>
        <p:blipFill>
          <a:blip r:embed="rId1"/>
          <a:srcRect l="22224" t="0" r="16164" b="0"/>
          <a:stretch/>
        </p:blipFill>
        <p:spPr>
          <a:xfrm>
            <a:off x="6286680" y="3591000"/>
            <a:ext cx="26431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0.jpg"/>
          <p:cNvPicPr/>
          <p:nvPr/>
        </p:nvPicPr>
        <p:blipFill>
          <a:blip r:embed="rId2"/>
          <a:stretch/>
        </p:blipFill>
        <p:spPr>
          <a:xfrm>
            <a:off x="617400" y="380880"/>
            <a:ext cx="2097360" cy="276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da-vinci_thumb2.jpg"/>
          <p:cNvPicPr/>
          <p:nvPr/>
        </p:nvPicPr>
        <p:blipFill>
          <a:blip r:embed="rId3"/>
          <a:stretch/>
        </p:blipFill>
        <p:spPr>
          <a:xfrm>
            <a:off x="5786280" y="35712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forumfullimg~general~1371926546927~1374581359773.jpg"/>
          <p:cNvPicPr/>
          <p:nvPr/>
        </p:nvPicPr>
        <p:blipFill>
          <a:blip r:embed="rId4"/>
          <a:srcRect l="0" t="6252" r="0" b="9373"/>
          <a:stretch/>
        </p:blipFill>
        <p:spPr>
          <a:xfrm>
            <a:off x="214200" y="3568680"/>
            <a:ext cx="2417760" cy="3075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Winston-Churchill.jpg"/>
          <p:cNvPicPr/>
          <p:nvPr/>
        </p:nvPicPr>
        <p:blipFill>
          <a:blip r:embed="rId5"/>
          <a:stretch/>
        </p:blipFill>
        <p:spPr>
          <a:xfrm>
            <a:off x="3195720" y="514440"/>
            <a:ext cx="2233440" cy="3128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42962_original.jpeg"/>
          <p:cNvPicPr/>
          <p:nvPr/>
        </p:nvPicPr>
        <p:blipFill>
          <a:blip r:embed="rId6"/>
          <a:stretch/>
        </p:blipFill>
        <p:spPr>
          <a:xfrm>
            <a:off x="2786040" y="4098960"/>
            <a:ext cx="3286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428760" y="60480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ды одар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214280" y="1457280"/>
            <a:ext cx="664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моторная или спор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аде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ллекту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ая или лид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аламанкская декларация о принципах, политике и практической деятельности в сфере образования лиц  с особыми потребност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280" y="1142640"/>
            <a:ext cx="883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ламанка, Испания, 7—10 июня 199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ребенок имеет основное право на образование и должен иметь возможность получать и поддерживать приемлемый уровень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ребенок имеет уникальные особенности, интересы, способности и учебные потре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разрабатывать системы образования и выполнять образовательные программы так, чтобы принимать во внимание широкое разнообразие этих особенностей и потреб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Лица, имеющие особые потребности в области образования, должны иметь доступ к обучению в обычных школах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ычные школы должны создать им условия на основе педагогических методов, ориентированных прежде всего на детей с целью удовлетворения этих потреб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ычные школы с такой инклюзивной ориентацией являются наиболее эффективным средством борьбы с дискриминационными воззрениями, создания благоприятной атмосферы в общинах, построения инклюзивного общества и обеспечения образования для всех; более того, они обеспечивают реальное образование для большинства детей и повышают эффективность и, в конечном счете, рентабельность системы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428760" y="32868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Палитра» одар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0040" y="1044720"/>
            <a:ext cx="82868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ипу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ир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общая и специальна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интенсивности прояв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повышенная готовность к обучению, одаренные, высоко одаренные, исключительно одаре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иду прояв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явная и скрыт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ременным характеристика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с нормальным темпом, возрастного развития, с опережением (вундеркинды) или отстава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озрастным особенностя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стабильная и време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степени сформирован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актуальная и потенциаль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28760" y="21420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ели работы учителей с одаренными обучающими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00040" y="8571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общей среды для проявления и развития способностей кажд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одаренны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, способствующих их оптимальному разви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428760" y="292896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рабо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00040" y="3500280"/>
            <a:ext cx="8286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держка одаренных учащихся (гранты, стипендии, прем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областной (и муниципальных) школ для одар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ие в профильных школах других реги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 педагогов, распространение передового опыта; поддержка учителей, демонстрирующих эффективность работы с одарен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верь в себя.jpg"/>
          <p:cNvPicPr/>
          <p:nvPr/>
        </p:nvPicPr>
        <p:blipFill>
          <a:blip r:embed="rId1"/>
          <a:stretch/>
        </p:blipFill>
        <p:spPr>
          <a:xfrm>
            <a:off x="1143000" y="0"/>
            <a:ext cx="6892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429160" y="42876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ерь в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15040" y="4005000"/>
            <a:ext cx="5653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ывки из дневника Сони Шаталово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У нее есть </a:t>
            </a:r>
            <a:r>
              <a:rPr b="0" lang="ru-RU" sz="2300" spc="-1" strike="noStrike" u="sng">
                <a:solidFill>
                  <a:srgbClr val="0070c0"/>
                </a:solidFill>
                <a:uFillTx/>
                <a:latin typeface="Arial"/>
                <a:ea typeface="Times New Roman"/>
                <a:hlinkClick r:id="rId1"/>
              </a:rPr>
              <a:t>свой сай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 и своя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70c0"/>
                </a:solidFill>
                <a:uFillTx/>
                <a:latin typeface="Arial"/>
                <a:ea typeface="Times New Roman"/>
                <a:hlinkClick r:id="rId2"/>
              </a:rPr>
              <a:t>страничка в Facebook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rirka"/>
          <p:cNvPicPr/>
          <p:nvPr/>
        </p:nvPicPr>
        <p:blipFill>
          <a:blip r:embed="rId3"/>
          <a:stretch/>
        </p:blipFill>
        <p:spPr>
          <a:xfrm>
            <a:off x="0" y="3276720"/>
            <a:ext cx="3476520" cy="3581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08bc0af51659ad2d3f2696fb02ba24b5-600x351"/>
          <p:cNvPicPr/>
          <p:nvPr/>
        </p:nvPicPr>
        <p:blipFill>
          <a:blip r:embed="rId4"/>
          <a:stretch/>
        </p:blipFill>
        <p:spPr>
          <a:xfrm>
            <a:off x="142920" y="71280"/>
            <a:ext cx="52862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435640" y="561960"/>
            <a:ext cx="34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молин Олег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  <a:hlinkClick r:id="rId1"/>
              </a:rPr>
              <a:t>www.smolin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image.jpg"/>
          <p:cNvPicPr/>
          <p:nvPr/>
        </p:nvPicPr>
        <p:blipFill>
          <a:blip r:embed="rId2"/>
          <a:stretch/>
        </p:blipFill>
        <p:spPr>
          <a:xfrm>
            <a:off x="576360" y="404640"/>
            <a:ext cx="4572000" cy="3006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250920" y="3789360"/>
            <a:ext cx="86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путат Госдумы, первый зампред Комитета по образованию и нау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тор философских наук, академик РА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едатель Общероссийского общественного движения «Образование – для всех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це-президент Паралимпийского комитета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це-президент Всероссийского общества слеп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571680" y="260280"/>
            <a:ext cx="8001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ение детей с ОВЗ по формам (местам) обучения (по данным Минобрнауки России, 2016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УГ. Инклюзия\Рис.2. Распределение детей с ОВЗ по формам (местам) обучения (по данным Минобрнауки России, 2016 г.).jpg"/>
          <p:cNvPicPr/>
          <p:nvPr/>
        </p:nvPicPr>
        <p:blipFill>
          <a:blip r:embed="rId1"/>
          <a:stretch/>
        </p:blipFill>
        <p:spPr>
          <a:xfrm>
            <a:off x="23760" y="1341360"/>
            <a:ext cx="90964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60440" y="476280"/>
            <a:ext cx="82152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обучающихся с ОВ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слуха (глухие, слабослышащие, позднооглохш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зрения (слепые, слабовидящ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речи (логопат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опорно-двигательного аппара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умственной отсталост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задержкой психического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поведения и об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комплексными нарушениями психофизического развития, с так называемыми сложными дефектами (слепоглухонемые, глухие или слепые дети с умственной отсталостью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50920" y="260280"/>
            <a:ext cx="868356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ать специальное обучение ребенка сразу же после выявления первичного нарушения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сти в содержание обучения ребенка специальные разделы, не присутствующие в программах образования нормально развивающихся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специальные методы, приемы и средства обучения, обеспечивающие реализацию «обходных путей»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ировать обучение в большей степени чем требуется для нормально развивающегос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ть особую пространственную и временную организацию образовательной среды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 раздвинуть образовательное пространство за пределы образовательной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95280" y="404640"/>
            <a:ext cx="84978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ильмы – участники фестиваля «Кино без барьеров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Интервьюер» реж. Женевьева Клей-Смит и Робин Брайан, Австрал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Звёздочки на земле» реж. Аамир Кхан, Амол Губтэ, Инд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Антон тут рядом» реж. Любовь Аркус, Росс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Мой маленький братик с Луны» реж. Фредерик Филиба, Фран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Путешествие Марии» реж. Мигель Галлардо, Испан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леймо» реж. Ольга Арлаускас, Россия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Академия специалистов» реж. Мигель Галлардо, Испан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Ольга» реж. Григорий Шум, Россия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1024px-Raffael_058.jpg"/>
          <p:cNvPicPr/>
          <p:nvPr/>
        </p:nvPicPr>
        <p:blipFill>
          <a:blip r:embed="rId1"/>
          <a:stretch/>
        </p:blipFill>
        <p:spPr>
          <a:xfrm>
            <a:off x="1440" y="476280"/>
            <a:ext cx="91425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0:10:31Z</dcterms:created>
  <dc:creator>Karasev</dc:creator>
  <dc:description/>
  <dc:language>en-US</dc:language>
  <cp:lastModifiedBy>Венера Мусинова</cp:lastModifiedBy>
  <dcterms:modified xsi:type="dcterms:W3CDTF">2019-06-03T18:25:21Z</dcterms:modified>
  <cp:revision>652</cp:revision>
  <dc:subject/>
  <dc:title>Слайд 1</dc:title>
</cp:coreProperties>
</file>