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0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9ED7-6AD2-4628-909C-4C84F0B456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езультат дел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 Лучи образующие уго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 Точка, из которой выходят лучи образующие уго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 Угол, который образуют два дополнительных друг другу лу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 Результат сл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 Угол, который составляет половину развернутого уг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.  Инструмент, который используют для построения прямого уг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.  Угол, меньше прямог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9.  Угол, больше прямого, но меньше развернутог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Результат умн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Результат выч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B60D-8534-4667-8A01-F97370B76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8C5-54C7-40EC-BADD-4C70FDAF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6E9-A517-482F-A9BD-2E34F8B6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B87-D801-47B2-B170-3C1B39CD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103-57C2-45A7-B557-65A117E1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A64B-86E9-467C-80A4-537B5829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2579-4E24-4EC2-A715-16000214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2445-9BF3-48C7-8445-ADDD6C32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F317-7BC6-45E9-AFC2-45C39A7E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F5A3-C13E-48B4-9ED8-4E1A27CF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67D6-B94F-453A-9D33-224CE6AA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DB92-4807-4C4B-9D01-542EF6CD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0D5-21D1-4A19-9F94-38939484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ABA5-B9D9-4AF0-9588-5AA3050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0EE1-C565-45C8-8FBB-B9650558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6325-CC5A-4BD4-82BD-2569F3D8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5080-C0E6-4EA3-B5D5-071155D8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F826-74B5-40A6-8B75-E5249089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BABF-0014-4371-A5E0-206C3F61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12E09-60F6-4A75-B59E-F1A6ED26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0919-E6BF-48F1-89D2-4D29727D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24C5-7305-47BE-B8DE-191F9AE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B9D9-8E69-4B1E-B9DA-F7BC402C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DAD-5149-46DD-9905-82D8A227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35AFF-6457-4BDA-B682-ED5217C2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C3282-18C2-4698-B78C-F6628390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27DF-B807-43F5-A5F8-1D5BD8F0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BFC1-EC74-45D4-A1DC-A0C63EB3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7B08-B026-4781-BB55-5B0F71E3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E3D7-E27F-454C-9301-79CC54EA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E499-1028-40B9-8535-4D6F84C9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FFB1F-1F65-4E1A-B958-44958C38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B74A-5603-4117-A8A7-15295BC1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2166-604F-4E8A-9835-C66726A1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62B-836B-4890-92FF-8EEE04F5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1102-9D5C-455D-AF6A-6BDBB416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BCA19-900D-412D-B677-72B80BB7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6998-C7EE-4B6B-BD99-D887AD1A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896B-DE75-4B66-B6F2-76D62490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BF895-F1A6-49DB-B9E0-68085FC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F2EA-3653-4B44-89BB-118B22A2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02A81-A11A-47EE-9133-B1C5AD0C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9E46-34F8-469D-AA23-85ABF310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6719-79CF-455D-991F-3687565D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4BA2E-3714-4C70-ABB1-A66D871A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FDC-45B7-4180-811C-46FE6620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34D09-22E9-492E-9EA5-8195F04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FE66-F1B8-4045-8141-662EE447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40793-5AE0-4495-8281-3B5FD427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18B1-BB65-4AC8-A32D-D9D35E15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EE501-C925-44DB-94A5-F9F0F2E4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D3D65-9103-446A-960D-BEA6832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A859-7EE8-494C-9ADE-0E8A8B86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0DE4F-9A7E-40B0-ABDC-399EAFC4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BA37-5621-467F-A9B3-A26C5D83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0CF3-D6E0-4047-9CC4-D01FE9EC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4D0-7C02-4DC4-AD4D-C03E6D15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A416E-7003-4609-9FB5-49CD2F95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C8ED3-612B-4483-A64C-0664BF54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C6849-5E6E-4C36-A185-87374BF5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4E18-DB51-4CCD-8203-C614A782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AC27-59DB-4155-845C-2F3BE49C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8739-0373-4C65-8E3C-6C05C217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959DD-819A-4B14-A89B-ADC35E04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02CE7-7723-4D52-A42C-36B56FA3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7D753-3277-4D2D-A4B6-B125A78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1C85B-0307-4F34-85A8-6FDBF54F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BBA-12E3-4DCA-9EDF-A39F86DE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07291-396D-4CC1-8D90-DD899B19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7FF2-7E86-4DBE-82D8-7880F95E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8C3E4-FB3A-46FC-B7E4-647599B8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632-48E5-41B1-9C84-F0F7C6BF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A87-2E44-4880-9E4F-49A761F8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4AC3-5850-448A-ADF9-DEE78615CD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53B1-5728-4C45-A7E4-E8B3EB984B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37EE-2697-4591-8B5C-7B78D1CF9D2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8030-4BE6-4EAF-ACE8-F9BF203B2F5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F47E-903B-408E-9B46-82B6348D6B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5552-7EAF-40D2-B5F4-41F732DA650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davaiknam.ru/text/ugol-izmerenie-uglov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chit.rastu.ru/education/2/10/1532/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etod-kopilka.ru/plankonspekt-uroka-izmerenie-uglov-transportir-klass-60145.html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j0299125"/>
          <p:cNvPicPr/>
          <p:nvPr/>
        </p:nvPicPr>
        <p:blipFill>
          <a:blip r:embed="rId1"/>
          <a:stretch/>
        </p:blipFill>
        <p:spPr>
          <a:xfrm flipH="1">
            <a:off x="7667640" y="260280"/>
            <a:ext cx="123984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395280" y="260280"/>
          <a:ext cx="8497800" cy="6370560"/>
        </p:xfrm>
        <a:graphic>
          <a:graphicData uri="http://schemas.openxmlformats.org/drawingml/2006/table">
            <a:tbl>
              <a:tblPr/>
              <a:tblGrid>
                <a:gridCol w="538200"/>
                <a:gridCol w="560520"/>
                <a:gridCol w="536400"/>
                <a:gridCol w="558720"/>
                <a:gridCol w="561960"/>
                <a:gridCol w="576360"/>
                <a:gridCol w="558720"/>
                <a:gridCol w="611280"/>
                <a:gridCol w="592200"/>
                <a:gridCol w="608040"/>
                <a:gridCol w="609480"/>
                <a:gridCol w="557280"/>
                <a:gridCol w="547560"/>
                <a:gridCol w="542880"/>
                <a:gridCol w="538200"/>
              </a:tblGrid>
              <a:tr h="543240">
                <a:tc gridSpan="3"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gridSpan="6"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12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440">
                <a:tc gridSpan="6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24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 gridSpan="6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Rectangle 268"/>
          <p:cNvSpPr/>
          <p:nvPr/>
        </p:nvSpPr>
        <p:spPr>
          <a:xfrm>
            <a:off x="2124000" y="333360"/>
            <a:ext cx="3888000" cy="43164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69"/>
          <p:cNvSpPr/>
          <p:nvPr/>
        </p:nvSpPr>
        <p:spPr>
          <a:xfrm>
            <a:off x="2124000" y="907920"/>
            <a:ext cx="3888000" cy="432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70"/>
          <p:cNvSpPr/>
          <p:nvPr/>
        </p:nvSpPr>
        <p:spPr>
          <a:xfrm>
            <a:off x="468360" y="1484280"/>
            <a:ext cx="3708360" cy="468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1"/>
          <p:cNvSpPr/>
          <p:nvPr/>
        </p:nvSpPr>
        <p:spPr>
          <a:xfrm>
            <a:off x="468360" y="2060640"/>
            <a:ext cx="6156360" cy="468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72"/>
          <p:cNvSpPr/>
          <p:nvPr/>
        </p:nvSpPr>
        <p:spPr>
          <a:xfrm>
            <a:off x="3816360" y="2637000"/>
            <a:ext cx="2844720" cy="468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3"/>
          <p:cNvSpPr/>
          <p:nvPr/>
        </p:nvSpPr>
        <p:spPr>
          <a:xfrm>
            <a:off x="3816360" y="3213000"/>
            <a:ext cx="3419640" cy="468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74"/>
          <p:cNvSpPr/>
          <p:nvPr/>
        </p:nvSpPr>
        <p:spPr>
          <a:xfrm>
            <a:off x="1008000" y="3789360"/>
            <a:ext cx="6156360" cy="468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5"/>
          <p:cNvSpPr/>
          <p:nvPr/>
        </p:nvSpPr>
        <p:spPr>
          <a:xfrm>
            <a:off x="2124000" y="4365720"/>
            <a:ext cx="3311640" cy="43164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6"/>
          <p:cNvSpPr/>
          <p:nvPr/>
        </p:nvSpPr>
        <p:spPr>
          <a:xfrm>
            <a:off x="3851280" y="4976640"/>
            <a:ext cx="2773440" cy="4320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7"/>
          <p:cNvSpPr/>
          <p:nvPr/>
        </p:nvSpPr>
        <p:spPr>
          <a:xfrm>
            <a:off x="2050920" y="5516640"/>
            <a:ext cx="6769080" cy="46836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78"/>
          <p:cNvSpPr/>
          <p:nvPr/>
        </p:nvSpPr>
        <p:spPr>
          <a:xfrm>
            <a:off x="3851280" y="6093000"/>
            <a:ext cx="4392720" cy="43164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826920" y="441360"/>
            <a:ext cx="7944120" cy="1378080"/>
          </a:xfrm>
          <a:prstGeom prst="rect">
            <a:avLst/>
          </a:prstGeom>
          <a:ln w="0">
            <a:noFill/>
          </a:ln>
        </p:spPr>
      </p:pic>
      <p:pic>
        <p:nvPicPr>
          <p:cNvPr id="321" name="preview-image" descr="http://davaiknam.ru/texts/1030/1029574/1029574_html_66ef6daf.png">
            <a:hlinkClick r:id="rId2"/>
          </p:cNvPr>
          <p:cNvPicPr/>
          <p:nvPr/>
        </p:nvPicPr>
        <p:blipFill>
          <a:blip r:embed="rId3"/>
          <a:srcRect l="0" t="5263" r="0" b="0"/>
          <a:stretch/>
        </p:blipFill>
        <p:spPr>
          <a:xfrm>
            <a:off x="1368360" y="1808280"/>
            <a:ext cx="6480360" cy="450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1"/>
          <p:cNvSpPr/>
          <p:nvPr/>
        </p:nvSpPr>
        <p:spPr>
          <a:xfrm>
            <a:off x="426960" y="476280"/>
            <a:ext cx="8390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лег измерил угол MON по алгорит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Совместить вершину угла с центром транспорт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Расположить транспортир так, чтобы сторона угла проходила через начало отсчета на шкале транспорт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Найти штрих на шкале, через который проходит вторая сторона уг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review-image" descr="http://go1.imgsmail.ru/imgpreview?key=4f76dbfa9d37503&amp;mb=imgdb_preview_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2629080"/>
            <a:ext cx="4537080" cy="2850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431640" y="558972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результате у него получилось, что угол равен 30° . Прав ли он? Если нет, то объясни, в чем его ошибка?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ttps://open-lesson.net/uploads/files/2014-10/4_7.png"/>
          <p:cNvPicPr/>
          <p:nvPr/>
        </p:nvPicPr>
        <p:blipFill>
          <a:blip r:embed="rId1"/>
          <a:stretch/>
        </p:blipFill>
        <p:spPr>
          <a:xfrm>
            <a:off x="179280" y="324000"/>
            <a:ext cx="8713800" cy="626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review-image" descr="http://www.metod-kopilka.ru/images/doc/59/60145/hello_html_m3317d70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557360"/>
            <a:ext cx="6788160" cy="496404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826920" y="434880"/>
            <a:ext cx="7669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ьте углы, изображенные на рисунке и запишите их градус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2"/>
          <p:cNvSpPr/>
          <p:nvPr/>
        </p:nvSpPr>
        <p:spPr>
          <a:xfrm>
            <a:off x="407880" y="517680"/>
            <a:ext cx="817272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вас на листе представлены табло электронных часов. Ваша задача отобразить это же время на циферблате механических часов. Какие углы у вас получились? Измерьте их. Запишите велич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5" descr="http://clipart-library.com/data_images/445666.jpg"/>
          <p:cNvPicPr/>
          <p:nvPr/>
        </p:nvPicPr>
        <p:blipFill>
          <a:blip r:embed="rId1"/>
          <a:stretch/>
        </p:blipFill>
        <p:spPr>
          <a:xfrm>
            <a:off x="6588000" y="3541680"/>
            <a:ext cx="2049480" cy="20480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http://clipart-library.com/data_images/445666.jpg"/>
          <p:cNvPicPr/>
          <p:nvPr/>
        </p:nvPicPr>
        <p:blipFill>
          <a:blip r:embed="rId2"/>
          <a:stretch/>
        </p:blipFill>
        <p:spPr>
          <a:xfrm>
            <a:off x="793800" y="3459240"/>
            <a:ext cx="2130480" cy="21304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"/>
          <p:cNvSpPr/>
          <p:nvPr/>
        </p:nvSpPr>
        <p:spPr>
          <a:xfrm>
            <a:off x="1237320" y="2352600"/>
            <a:ext cx="1233720" cy="72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15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6995880" y="2314440"/>
            <a:ext cx="1233720" cy="72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18: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4081320" y="2352600"/>
            <a:ext cx="1233720" cy="72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07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https://pixy.org/src/49/thumbs350/494487.jpg"/>
          <p:cNvPicPr/>
          <p:nvPr/>
        </p:nvPicPr>
        <p:blipFill>
          <a:blip r:embed="rId3"/>
          <a:stretch/>
        </p:blipFill>
        <p:spPr>
          <a:xfrm>
            <a:off x="3222720" y="3089160"/>
            <a:ext cx="2950920" cy="29527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6"/>
          <p:cNvSpPr/>
          <p:nvPr/>
        </p:nvSpPr>
        <p:spPr>
          <a:xfrm>
            <a:off x="1077120" y="5956200"/>
            <a:ext cx="15523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3921840" y="5927760"/>
            <a:ext cx="15523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8"/>
          <p:cNvSpPr/>
          <p:nvPr/>
        </p:nvSpPr>
        <p:spPr>
          <a:xfrm>
            <a:off x="6759720" y="5927760"/>
            <a:ext cx="15523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оле 1" descr=""/>
          <p:cNvPicPr/>
          <p:nvPr/>
        </p:nvPicPr>
        <p:blipFill>
          <a:blip r:embed="rId1"/>
          <a:stretch/>
        </p:blipFill>
        <p:spPr>
          <a:xfrm>
            <a:off x="1957320" y="689040"/>
            <a:ext cx="5241960" cy="1603440"/>
          </a:xfrm>
          <a:prstGeom prst="rect">
            <a:avLst/>
          </a:prstGeom>
          <a:ln w="0">
            <a:noFill/>
          </a:ln>
        </p:spPr>
      </p:pic>
      <p:pic>
        <p:nvPicPr>
          <p:cNvPr id="339" name="Поле 1" descr=""/>
          <p:cNvPicPr/>
          <p:nvPr/>
        </p:nvPicPr>
        <p:blipFill>
          <a:blip r:embed="rId2"/>
          <a:stretch/>
        </p:blipFill>
        <p:spPr>
          <a:xfrm>
            <a:off x="938160" y="2577960"/>
            <a:ext cx="3530520" cy="963720"/>
          </a:xfrm>
          <a:prstGeom prst="rect">
            <a:avLst/>
          </a:prstGeom>
          <a:ln w="0">
            <a:noFill/>
          </a:ln>
        </p:spPr>
      </p:pic>
      <p:pic>
        <p:nvPicPr>
          <p:cNvPr id="340" name="Поле 1" descr=""/>
          <p:cNvPicPr/>
          <p:nvPr/>
        </p:nvPicPr>
        <p:blipFill>
          <a:blip r:embed="rId3"/>
          <a:stretch/>
        </p:blipFill>
        <p:spPr>
          <a:xfrm>
            <a:off x="938160" y="3852720"/>
            <a:ext cx="4273560" cy="963720"/>
          </a:xfrm>
          <a:prstGeom prst="rect">
            <a:avLst/>
          </a:prstGeom>
          <a:ln w="0">
            <a:noFill/>
          </a:ln>
        </p:spPr>
      </p:pic>
      <p:pic>
        <p:nvPicPr>
          <p:cNvPr id="341" name="Поле 1" descr=""/>
          <p:cNvPicPr/>
          <p:nvPr/>
        </p:nvPicPr>
        <p:blipFill>
          <a:blip r:embed="rId4"/>
          <a:stretch/>
        </p:blipFill>
        <p:spPr>
          <a:xfrm>
            <a:off x="920880" y="4973760"/>
            <a:ext cx="7248240" cy="96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096920" y="1376280"/>
          <a:ext cx="6950160" cy="4510080"/>
        </p:xfrm>
        <a:graphic>
          <a:graphicData uri="http://schemas.openxmlformats.org/drawingml/2006/table">
            <a:tbl>
              <a:tblPr/>
              <a:tblGrid>
                <a:gridCol w="3529080"/>
                <a:gridCol w="1152360"/>
                <a:gridCol w="1116000"/>
                <a:gridCol w="1152720"/>
              </a:tblGrid>
              <a:tr h="1125720"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н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ме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мневаю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5360"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 определить к какому типу относится у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3640"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к построить и измерить угол  заданной градусной 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5360"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то такое транспортир и как с ним работ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66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43" name="Прямоугольник 5" descr=""/>
          <p:cNvPicPr/>
          <p:nvPr/>
        </p:nvPicPr>
        <p:blipFill>
          <a:blip r:embed="rId1"/>
          <a:stretch/>
        </p:blipFill>
        <p:spPr>
          <a:xfrm>
            <a:off x="1133640" y="158760"/>
            <a:ext cx="6846840" cy="151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WordArt 6" descr=""/>
          <p:cNvPicPr/>
          <p:nvPr/>
        </p:nvPicPr>
        <p:blipFill>
          <a:blip r:embed="rId1"/>
          <a:stretch/>
        </p:blipFill>
        <p:spPr>
          <a:xfrm>
            <a:off x="701640" y="762120"/>
            <a:ext cx="7740720" cy="4645080"/>
          </a:xfrm>
          <a:prstGeom prst="rect">
            <a:avLst/>
          </a:prstGeom>
          <a:ln w="0">
            <a:noFill/>
          </a:ln>
        </p:spPr>
      </p:pic>
      <p:pic>
        <p:nvPicPr>
          <p:cNvPr id="286" name="Прямоугольник 3" descr=""/>
          <p:cNvPicPr/>
          <p:nvPr/>
        </p:nvPicPr>
        <p:blipFill>
          <a:blip r:embed="rId2"/>
          <a:stretch/>
        </p:blipFill>
        <p:spPr>
          <a:xfrm>
            <a:off x="285840" y="1805040"/>
            <a:ext cx="8692920" cy="184608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3"/>
          <a:stretch/>
        </p:blipFill>
        <p:spPr>
          <a:xfrm>
            <a:off x="1200240" y="2944800"/>
            <a:ext cx="6705360" cy="18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Прямоугольник 1" descr=""/>
          <p:cNvPicPr/>
          <p:nvPr/>
        </p:nvPicPr>
        <p:blipFill>
          <a:blip r:embed="rId1"/>
          <a:stretch/>
        </p:blipFill>
        <p:spPr>
          <a:xfrm>
            <a:off x="523800" y="938160"/>
            <a:ext cx="8199360" cy="538344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291960"/>
            <a:ext cx="3882960" cy="184788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5" descr=""/>
          <p:cNvPicPr/>
          <p:nvPr/>
        </p:nvPicPr>
        <p:blipFill>
          <a:blip r:embed="rId3"/>
          <a:stretch/>
        </p:blipFill>
        <p:spPr>
          <a:xfrm>
            <a:off x="493560" y="2852640"/>
            <a:ext cx="3859200" cy="18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867760" y="1015920"/>
            <a:ext cx="32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Градус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Прямоугольник 2" descr=""/>
          <p:cNvPicPr/>
          <p:nvPr/>
        </p:nvPicPr>
        <p:blipFill>
          <a:blip r:embed="rId1"/>
          <a:stretch/>
        </p:blipFill>
        <p:spPr>
          <a:xfrm>
            <a:off x="615960" y="2023920"/>
            <a:ext cx="8058240" cy="981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http://cliparts.co/cliparts/Acb/rna/AcbrnaE9i.png"/>
          <p:cNvPicPr/>
          <p:nvPr/>
        </p:nvPicPr>
        <p:blipFill>
          <a:blip r:embed="rId2"/>
          <a:stretch/>
        </p:blipFill>
        <p:spPr>
          <a:xfrm>
            <a:off x="1808280" y="3249720"/>
            <a:ext cx="5668920" cy="30128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ая соединительная линия 4"/>
          <p:cNvSpPr/>
          <p:nvPr/>
        </p:nvSpPr>
        <p:spPr>
          <a:xfrm flipV="1">
            <a:off x="4641840" y="6000840"/>
            <a:ext cx="3494160" cy="79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15"/>
          <p:cNvSpPr/>
          <p:nvPr/>
        </p:nvSpPr>
        <p:spPr>
          <a:xfrm>
            <a:off x="4626000" y="6080040"/>
            <a:ext cx="3510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8"/>
          <p:cNvSpPr/>
          <p:nvPr/>
        </p:nvSpPr>
        <p:spPr>
          <a:xfrm>
            <a:off x="8264520" y="5738760"/>
            <a:ext cx="5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171440" y="220680"/>
            <a:ext cx="8766360" cy="1103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611280" y="1376280"/>
            <a:ext cx="2401920" cy="2395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14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617400" y="4462560"/>
            <a:ext cx="2448000" cy="107928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  <p:pic>
        <p:nvPicPr>
          <p:cNvPr id="300" name="Picture 6" descr=""/>
          <p:cNvPicPr/>
          <p:nvPr/>
        </p:nvPicPr>
        <p:blipFill>
          <a:blip r:embed="rId4"/>
          <a:stretch/>
        </p:blipFill>
        <p:spPr>
          <a:xfrm>
            <a:off x="3897360" y="5727600"/>
            <a:ext cx="4127400" cy="6397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"/>
          <p:cNvSpPr/>
          <p:nvPr/>
        </p:nvSpPr>
        <p:spPr>
          <a:xfrm>
            <a:off x="3348000" y="1038960"/>
            <a:ext cx="5351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о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«градус»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латинское, означает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«шаг»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«ступень»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Измерение углов в градусах появилось более 3 тыс. лет назад в Вавило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авилонские математики и астрономы, а вслед за ними греческие и индийские, полный оборот (окружность) делили на 360 частей – градусов, каждый градус - на 60 минут, а минуту - на 60 секу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968400" y="8510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1318d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18db"/>
                </a:solidFill>
                <a:latin typeface="Calibri"/>
              </a:rPr>
              <a:t>развернутый угол рав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968400" y="1859040"/>
            <a:ext cx="60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1318d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18db"/>
                </a:solidFill>
                <a:latin typeface="Calibri"/>
              </a:rPr>
              <a:t>прямой угол рав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4"/>
          <p:cNvSpPr/>
          <p:nvPr/>
        </p:nvSpPr>
        <p:spPr>
          <a:xfrm>
            <a:off x="1020600" y="3033720"/>
            <a:ext cx="35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1318d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18db"/>
                </a:solidFill>
                <a:latin typeface="Calibri"/>
              </a:rPr>
              <a:t>острый уго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5"/>
          <p:cNvSpPr/>
          <p:nvPr/>
        </p:nvSpPr>
        <p:spPr>
          <a:xfrm>
            <a:off x="1033560" y="4179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1318d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318db"/>
                </a:solidFill>
                <a:latin typeface="Calibri"/>
              </a:rPr>
              <a:t>тупой уго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6"/>
          <p:cNvSpPr/>
          <p:nvPr/>
        </p:nvSpPr>
        <p:spPr>
          <a:xfrm>
            <a:off x="6634080" y="836640"/>
            <a:ext cx="11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18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5813280" y="1859040"/>
            <a:ext cx="11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9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4608360" y="30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еньше 90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4119480" y="3903840"/>
            <a:ext cx="37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ольше 90°, но меньше 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https://xn--i1abbnckbmcl9fb.xn--p1ai/%D1%81%D1%82%D0%B0%D1%82%D1%8C%D0%B8/617592/img3.jpg"/>
          <p:cNvPicPr/>
          <p:nvPr/>
        </p:nvPicPr>
        <p:blipFill>
          <a:blip r:embed="rId1"/>
          <a:srcRect l="0" t="0" r="50004" b="0"/>
          <a:stretch/>
        </p:blipFill>
        <p:spPr>
          <a:xfrm>
            <a:off x="1584360" y="692280"/>
            <a:ext cx="5832360" cy="554508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ая соединительная линия 2"/>
          <p:cNvSpPr/>
          <p:nvPr/>
        </p:nvSpPr>
        <p:spPr>
          <a:xfrm>
            <a:off x="7416720" y="692280"/>
            <a:ext cx="0" cy="554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2"/>
          <p:cNvSpPr/>
          <p:nvPr/>
        </p:nvSpPr>
        <p:spPr>
          <a:xfrm>
            <a:off x="719280" y="476280"/>
            <a:ext cx="79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кой угол образуют часовая и минутная стрелки часов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https://pescetarianpoet.files.wordpress.com/2017/06/2017-06-08-midnight-poetry-prompt-a-lai.gif"/>
          <p:cNvPicPr/>
          <p:nvPr/>
        </p:nvPicPr>
        <p:blipFill>
          <a:blip r:embed="rId1"/>
          <a:stretch/>
        </p:blipFill>
        <p:spPr>
          <a:xfrm>
            <a:off x="612720" y="2276640"/>
            <a:ext cx="1851120" cy="1857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ttps://in.toluna.com/dpolls_images/2018/02/01/7b8f3165-6e4d-422d-8635-732d4a6bde43.jpg"/>
          <p:cNvPicPr/>
          <p:nvPr/>
        </p:nvPicPr>
        <p:blipFill>
          <a:blip r:embed="rId2"/>
          <a:stretch/>
        </p:blipFill>
        <p:spPr>
          <a:xfrm>
            <a:off x="3384720" y="227664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https://etc.usf.edu/clipart/17500/17516/1100_17516_lg.gif"/>
          <p:cNvPicPr/>
          <p:nvPr/>
        </p:nvPicPr>
        <p:blipFill>
          <a:blip r:embed="rId3"/>
          <a:stretch/>
        </p:blipFill>
        <p:spPr>
          <a:xfrm>
            <a:off x="6048360" y="2309760"/>
            <a:ext cx="1712880" cy="1719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https://etc.usf.edu/clipart/17500/17511/600_17511_lg.gif"/>
          <p:cNvPicPr/>
          <p:nvPr/>
        </p:nvPicPr>
        <p:blipFill>
          <a:blip r:embed="rId4"/>
          <a:stretch/>
        </p:blipFill>
        <p:spPr>
          <a:xfrm>
            <a:off x="2016000" y="4508640"/>
            <a:ext cx="1743120" cy="1720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http://www.clipartbest.com/cliparts/di6/Lan/di6Lan64T.gif"/>
          <p:cNvPicPr/>
          <p:nvPr/>
        </p:nvPicPr>
        <p:blipFill>
          <a:blip r:embed="rId5"/>
          <a:stretch/>
        </p:blipFill>
        <p:spPr>
          <a:xfrm>
            <a:off x="4707000" y="4508640"/>
            <a:ext cx="1752480" cy="173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s://otvet.imgsmail.ru/download/u_f988dc60fdfef6d04416f46c65df3391_800.jpg"/>
          <p:cNvPicPr/>
          <p:nvPr/>
        </p:nvPicPr>
        <p:blipFill>
          <a:blip r:embed="rId1"/>
          <a:srcRect l="0" t="0" r="0" b="4534"/>
          <a:stretch/>
        </p:blipFill>
        <p:spPr>
          <a:xfrm>
            <a:off x="2060640" y="441360"/>
            <a:ext cx="5365800" cy="30956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395280" y="3681360"/>
            <a:ext cx="8245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ужно вершину угла совместить с центром транспорт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а сторона угла должна проходить через нулевую отметку (0° по шкал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торая сторона угла должна пересекать шкалу. Нужно посмотреть, через какую отметку проходит вторая сторона угла. Это и есть величина этого уг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20:18:32Z</dcterms:created>
  <dc:creator>Юля</dc:creator>
  <dc:description/>
  <dc:language>en-US</dc:language>
  <cp:lastModifiedBy>ПК</cp:lastModifiedBy>
  <dcterms:modified xsi:type="dcterms:W3CDTF">2019-06-03T10:54:33Z</dcterms:modified>
  <cp:revision>204</cp:revision>
  <dc:subject/>
  <dc:title>Кто с детских лет занимается математикой, тот развивает мозг,  свою волю, воспитывает в себе настойчивость и упорство в достижении цели.                  А. Маркушевич</dc:title>
</cp:coreProperties>
</file>