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0006-858D-473B-B8CD-F58D295402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езультат де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 Лучи образующие уго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 Точка, из которой выходят лучи образующие уго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 Угол, который образуют два дополнительных друг другу лу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 Результат сл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 Угол, который составляет половину развернутого уг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 Инструмент, который используют для построения прямого уг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  Угол, меньше прям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.  Угол, больше прямого, но меньше развернут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Результат умн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Результат выч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08D-A96D-4D4E-BF07-0D7604711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241-61E0-4120-B08D-C0EEA839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2AE-88E2-4A69-8D56-CA675EA7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978-E14F-4FDD-A52E-E1FD852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39E-1F4A-4365-86FB-6C76AA96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916A-5238-40B5-862A-7832A3C2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5A0-D0FD-4862-8398-5A9C59F5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D39-C72F-4EED-9751-E041F3B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7DD-77AC-4BD7-B109-7DD31AE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296-925C-4CFC-A0EC-FA035883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A3D-D5FC-4315-AE6B-2797BE0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FB8D-F1D4-4836-A45A-7F8DDAE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9F5-2653-4F76-946D-2C96C13B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1F52-0732-41D2-99C3-9B2C078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D018-387E-4B18-A352-A9CD056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7AC-B8CA-46B8-AC7F-81E91401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8E48-740C-4C80-B2FD-565481EF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A983-B8D0-426F-9417-FD97B5AB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3CCF-0272-4ADB-8CA4-0DBECEA2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9B92-42A2-4F78-84B4-EA370CF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BDD4-7414-4D59-A4B9-F32E133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21B6-8205-4223-A2F3-C51FC5D8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8918-A584-44F3-91C0-745910E6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457-F882-4BEB-A26A-3EFD8B09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2338-7ED1-4ABF-9CB4-18B61CE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17B6-E3B1-4D7A-A3DC-65606ED4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59F1-FFF6-49D0-9A2A-30A7547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8DB7-108B-4716-84F8-17F365C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DA6C-02D4-430A-8B77-2141E0D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9653-53D0-4C0B-9216-8BB5BE72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A600-2CED-49CA-8136-97ACE57F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84FF-6967-4466-A38B-D3B4737A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E1E1-6291-4120-9750-6B074E2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56C5D-C739-4019-B49C-2CF2F7C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774-592C-454E-B5DD-C0D5A81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EBC8-39D6-43BA-BF77-DDB62A2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EC2F-814B-4F8B-B903-2B005056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4AB3-78E6-4D9B-8A2F-770BFAF6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F026-1635-4F67-8130-6182096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21C5-F14E-4DBF-ABC0-BA40D7E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A3D2-6185-4487-97C4-CA5976C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9CB3-BCCC-47AD-8E26-01D4442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ECF2-CA8F-4776-9FA2-C7E48E09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16C5-6E75-4135-B638-676269E3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0D96-116C-4DD9-9486-6B956A20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AE6-73C4-482C-8B45-6165F1D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A50B-CDA7-4735-8B82-DEAD7E3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2696-37CA-4CDE-8767-22C7E55E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4CC4-C2FA-4E58-8938-5F3D952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4190-29AC-4368-A74D-31EE4311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16EE-1C90-462F-AF69-D68573F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45C4-B1E9-4739-AF3B-AA3B28B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4FAC-7417-4FC4-8A28-0D16DFB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B0C06-8ED9-4FEB-AE70-A827CC2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1199-133C-4F1D-AC15-13690B00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CC0E-E4FF-460A-8AB3-33D21A42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3C2-72A6-4166-889E-AC523CB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9B08-E23F-4204-8597-031D9A72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64E11-B3F4-4285-B7E9-7961AE5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BDD1-1DBC-4B31-AFD9-8F741B5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80A8-ADB9-452A-8E3C-1276374A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11DA-2399-414B-8AAA-81856650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ED737-A048-4822-BEC8-AD1CCAD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7CCE-C4EA-42D7-9BD4-6D4E91A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0BA5-2F3F-48EE-9331-A3B27D3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365EF-CA50-43DD-9056-9698532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1A4D-F3F9-4B6A-BD8C-3858212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0C9-57CA-481F-B070-D7F89D9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9C83-514D-4A8A-B5F9-8C91F3F7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9897-D1A7-476D-8E9A-C60689CD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E7C2-4C7D-4CE1-82BE-A28E3ECD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B47-1751-4508-9C08-2CA7330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CFC-5AB5-4DAC-9CEF-616AF78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713F-EB0F-4EE7-A6B7-D7FB7A3926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0A1-2850-4396-BC8D-BBE0B77A2BA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C2C-E83A-4C03-AEC6-9F25CDB1EC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AA94-28FB-4304-8041-F59AED0F37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DFC-978D-48A9-8A01-7C79F2F493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84A0-E537-43BF-BEB6-26356E77BE4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davaiknam.ru/text/ugol-izmerenie-uglov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chit.rastu.ru/education/2/10/1532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tod-kopilka.ru/plankonspekt-uroka-izmerenie-uglov-transportir-klass-60145.html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j0299125"/>
          <p:cNvPicPr/>
          <p:nvPr/>
        </p:nvPicPr>
        <p:blipFill>
          <a:blip r:embed="rId1"/>
          <a:stretch/>
        </p:blipFill>
        <p:spPr>
          <a:xfrm flipH="1">
            <a:off x="7667640" y="260280"/>
            <a:ext cx="123984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395280" y="260280"/>
          <a:ext cx="8497800" cy="6370560"/>
        </p:xfrm>
        <a:graphic>
          <a:graphicData uri="http://schemas.openxmlformats.org/drawingml/2006/table">
            <a:tbl>
              <a:tblPr/>
              <a:tblGrid>
                <a:gridCol w="538200"/>
                <a:gridCol w="560520"/>
                <a:gridCol w="536400"/>
                <a:gridCol w="558720"/>
                <a:gridCol w="561960"/>
                <a:gridCol w="576360"/>
                <a:gridCol w="558720"/>
                <a:gridCol w="611280"/>
                <a:gridCol w="592200"/>
                <a:gridCol w="608040"/>
                <a:gridCol w="609480"/>
                <a:gridCol w="557280"/>
                <a:gridCol w="547560"/>
                <a:gridCol w="542880"/>
                <a:gridCol w="538200"/>
              </a:tblGrid>
              <a:tr h="543240"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6"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440">
                <a:tc grid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268"/>
          <p:cNvSpPr/>
          <p:nvPr/>
        </p:nvSpPr>
        <p:spPr>
          <a:xfrm>
            <a:off x="2124000" y="333360"/>
            <a:ext cx="388800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69"/>
          <p:cNvSpPr/>
          <p:nvPr/>
        </p:nvSpPr>
        <p:spPr>
          <a:xfrm>
            <a:off x="2124000" y="907920"/>
            <a:ext cx="3888000" cy="432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70"/>
          <p:cNvSpPr/>
          <p:nvPr/>
        </p:nvSpPr>
        <p:spPr>
          <a:xfrm>
            <a:off x="468360" y="1484280"/>
            <a:ext cx="3708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1"/>
          <p:cNvSpPr/>
          <p:nvPr/>
        </p:nvSpPr>
        <p:spPr>
          <a:xfrm>
            <a:off x="468360" y="2060640"/>
            <a:ext cx="6156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2"/>
          <p:cNvSpPr/>
          <p:nvPr/>
        </p:nvSpPr>
        <p:spPr>
          <a:xfrm>
            <a:off x="3816360" y="2637000"/>
            <a:ext cx="2844720" cy="468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3"/>
          <p:cNvSpPr/>
          <p:nvPr/>
        </p:nvSpPr>
        <p:spPr>
          <a:xfrm>
            <a:off x="3816360" y="3213000"/>
            <a:ext cx="341964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4"/>
          <p:cNvSpPr/>
          <p:nvPr/>
        </p:nvSpPr>
        <p:spPr>
          <a:xfrm>
            <a:off x="1008000" y="3789360"/>
            <a:ext cx="6156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5"/>
          <p:cNvSpPr/>
          <p:nvPr/>
        </p:nvSpPr>
        <p:spPr>
          <a:xfrm>
            <a:off x="2124000" y="4365720"/>
            <a:ext cx="331164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6"/>
          <p:cNvSpPr/>
          <p:nvPr/>
        </p:nvSpPr>
        <p:spPr>
          <a:xfrm>
            <a:off x="3851280" y="4976640"/>
            <a:ext cx="2773440" cy="432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7"/>
          <p:cNvSpPr/>
          <p:nvPr/>
        </p:nvSpPr>
        <p:spPr>
          <a:xfrm>
            <a:off x="2050920" y="5516640"/>
            <a:ext cx="676908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8"/>
          <p:cNvSpPr/>
          <p:nvPr/>
        </p:nvSpPr>
        <p:spPr>
          <a:xfrm>
            <a:off x="3851280" y="6093000"/>
            <a:ext cx="439272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26920" y="441360"/>
            <a:ext cx="7944120" cy="1378080"/>
          </a:xfrm>
          <a:prstGeom prst="rect">
            <a:avLst/>
          </a:prstGeom>
          <a:ln w="0">
            <a:noFill/>
          </a:ln>
        </p:spPr>
      </p:pic>
      <p:pic>
        <p:nvPicPr>
          <p:cNvPr id="321" name="preview-image" descr="http://davaiknam.ru/texts/1030/1029574/1029574_html_66ef6daf.png">
            <a:hlinkClick r:id="rId2"/>
          </p:cNvPr>
          <p:cNvPicPr/>
          <p:nvPr/>
        </p:nvPicPr>
        <p:blipFill>
          <a:blip r:embed="rId3"/>
          <a:srcRect l="0" t="5263" r="0" b="0"/>
          <a:stretch/>
        </p:blipFill>
        <p:spPr>
          <a:xfrm>
            <a:off x="1368360" y="1808280"/>
            <a:ext cx="6480360" cy="450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426960" y="476280"/>
            <a:ext cx="8390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ег измерил угол MON по алгорит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Совместить вершину угла с центром транспорт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Расположить транспортир так, чтобы сторона угла проходила через начало отсчета на шкале транспорт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Найти штрих на шкале, через который проходит вторая сторона уг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review-image" descr="http://go1.imgsmail.ru/imgpreview?key=4f76dbfa9d37503&amp;mb=imgdb_preview_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2629080"/>
            <a:ext cx="4537080" cy="2850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431640" y="55897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результате у него получилось, что угол равен 30° . Прав ли он? Если нет, то объясни, в чем его ошибка?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s://open-lesson.net/uploads/files/2014-10/4_7.png"/>
          <p:cNvPicPr/>
          <p:nvPr/>
        </p:nvPicPr>
        <p:blipFill>
          <a:blip r:embed="rId1"/>
          <a:stretch/>
        </p:blipFill>
        <p:spPr>
          <a:xfrm>
            <a:off x="179280" y="324000"/>
            <a:ext cx="8713800" cy="626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review-image" descr="http://www.metod-kopilka.ru/images/doc/59/60145/hello_html_m3317d70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788160" cy="496404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826920" y="434880"/>
            <a:ext cx="7669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ьте углы, изображенные на рисунке и запишите их градус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407880" y="517680"/>
            <a:ext cx="8172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вас на листе представлены табло электронных часов. Ваша задача отобразить это же время на циферблате механических часов. Какие углы у вас получились? Измерьте их. Запишите ве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http://clipart-library.com/data_images/445666.jpg"/>
          <p:cNvPicPr/>
          <p:nvPr/>
        </p:nvPicPr>
        <p:blipFill>
          <a:blip r:embed="rId1"/>
          <a:stretch/>
        </p:blipFill>
        <p:spPr>
          <a:xfrm>
            <a:off x="6588000" y="3541680"/>
            <a:ext cx="2049480" cy="2048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http://clipart-library.com/data_images/445666.jpg"/>
          <p:cNvPicPr/>
          <p:nvPr/>
        </p:nvPicPr>
        <p:blipFill>
          <a:blip r:embed="rId2"/>
          <a:stretch/>
        </p:blipFill>
        <p:spPr>
          <a:xfrm>
            <a:off x="793800" y="3459240"/>
            <a:ext cx="2130480" cy="21304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"/>
          <p:cNvSpPr/>
          <p:nvPr/>
        </p:nvSpPr>
        <p:spPr>
          <a:xfrm>
            <a:off x="1237320" y="235260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5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6995880" y="231444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8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4081320" y="235260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07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https://pixy.org/src/49/thumbs350/494487.jpg"/>
          <p:cNvPicPr/>
          <p:nvPr/>
        </p:nvPicPr>
        <p:blipFill>
          <a:blip r:embed="rId3"/>
          <a:stretch/>
        </p:blipFill>
        <p:spPr>
          <a:xfrm>
            <a:off x="3222720" y="3089160"/>
            <a:ext cx="2950920" cy="29527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1077120" y="595620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3921840" y="592776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8"/>
          <p:cNvSpPr/>
          <p:nvPr/>
        </p:nvSpPr>
        <p:spPr>
          <a:xfrm>
            <a:off x="6759720" y="592776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оле 1" descr=""/>
          <p:cNvPicPr/>
          <p:nvPr/>
        </p:nvPicPr>
        <p:blipFill>
          <a:blip r:embed="rId1"/>
          <a:stretch/>
        </p:blipFill>
        <p:spPr>
          <a:xfrm>
            <a:off x="1957320" y="689040"/>
            <a:ext cx="5241960" cy="1603440"/>
          </a:xfrm>
          <a:prstGeom prst="rect">
            <a:avLst/>
          </a:prstGeom>
          <a:ln w="0">
            <a:noFill/>
          </a:ln>
        </p:spPr>
      </p:pic>
      <p:pic>
        <p:nvPicPr>
          <p:cNvPr id="339" name="Поле 1" descr=""/>
          <p:cNvPicPr/>
          <p:nvPr/>
        </p:nvPicPr>
        <p:blipFill>
          <a:blip r:embed="rId2"/>
          <a:stretch/>
        </p:blipFill>
        <p:spPr>
          <a:xfrm>
            <a:off x="938160" y="2577960"/>
            <a:ext cx="3530520" cy="963720"/>
          </a:xfrm>
          <a:prstGeom prst="rect">
            <a:avLst/>
          </a:prstGeom>
          <a:ln w="0">
            <a:noFill/>
          </a:ln>
        </p:spPr>
      </p:pic>
      <p:pic>
        <p:nvPicPr>
          <p:cNvPr id="340" name="Поле 1" descr=""/>
          <p:cNvPicPr/>
          <p:nvPr/>
        </p:nvPicPr>
        <p:blipFill>
          <a:blip r:embed="rId3"/>
          <a:stretch/>
        </p:blipFill>
        <p:spPr>
          <a:xfrm>
            <a:off x="938160" y="3852720"/>
            <a:ext cx="4273560" cy="963720"/>
          </a:xfrm>
          <a:prstGeom prst="rect">
            <a:avLst/>
          </a:prstGeom>
          <a:ln w="0">
            <a:noFill/>
          </a:ln>
        </p:spPr>
      </p:pic>
      <p:pic>
        <p:nvPicPr>
          <p:cNvPr id="341" name="Поле 1" descr=""/>
          <p:cNvPicPr/>
          <p:nvPr/>
        </p:nvPicPr>
        <p:blipFill>
          <a:blip r:embed="rId4"/>
          <a:stretch/>
        </p:blipFill>
        <p:spPr>
          <a:xfrm>
            <a:off x="920880" y="4973760"/>
            <a:ext cx="7248240" cy="96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096920" y="1376280"/>
          <a:ext cx="6950160" cy="4510080"/>
        </p:xfrm>
        <a:graphic>
          <a:graphicData uri="http://schemas.openxmlformats.org/drawingml/2006/table">
            <a:tbl>
              <a:tblPr/>
              <a:tblGrid>
                <a:gridCol w="3529080"/>
                <a:gridCol w="1152360"/>
                <a:gridCol w="1116000"/>
                <a:gridCol w="1152720"/>
              </a:tblGrid>
              <a:tr h="112572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ме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мневаю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536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определить к какому типу относится у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построить и измерить угол  заданной градусной 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536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такое транспортир и как с ним работ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43" name="Прямоугольник 5" descr=""/>
          <p:cNvPicPr/>
          <p:nvPr/>
        </p:nvPicPr>
        <p:blipFill>
          <a:blip r:embed="rId1"/>
          <a:stretch/>
        </p:blipFill>
        <p:spPr>
          <a:xfrm>
            <a:off x="1133640" y="158760"/>
            <a:ext cx="6846840" cy="15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WordArt 6" descr=""/>
          <p:cNvPicPr/>
          <p:nvPr/>
        </p:nvPicPr>
        <p:blipFill>
          <a:blip r:embed="rId1"/>
          <a:stretch/>
        </p:blipFill>
        <p:spPr>
          <a:xfrm>
            <a:off x="701640" y="762120"/>
            <a:ext cx="7740720" cy="464508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1805040"/>
            <a:ext cx="8692920" cy="184608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3"/>
          <a:stretch/>
        </p:blipFill>
        <p:spPr>
          <a:xfrm>
            <a:off x="1200240" y="2944800"/>
            <a:ext cx="670536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938160"/>
            <a:ext cx="8199360" cy="53834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291960"/>
            <a:ext cx="3882960" cy="18478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5" descr=""/>
          <p:cNvPicPr/>
          <p:nvPr/>
        </p:nvPicPr>
        <p:blipFill>
          <a:blip r:embed="rId3"/>
          <a:stretch/>
        </p:blipFill>
        <p:spPr>
          <a:xfrm>
            <a:off x="493560" y="2852640"/>
            <a:ext cx="3859200" cy="18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867760" y="101592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Градус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2" descr=""/>
          <p:cNvPicPr/>
          <p:nvPr/>
        </p:nvPicPr>
        <p:blipFill>
          <a:blip r:embed="rId1"/>
          <a:stretch/>
        </p:blipFill>
        <p:spPr>
          <a:xfrm>
            <a:off x="615960" y="2023920"/>
            <a:ext cx="8058240" cy="981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cliparts.co/cliparts/Acb/rna/AcbrnaE9i.png"/>
          <p:cNvPicPr/>
          <p:nvPr/>
        </p:nvPicPr>
        <p:blipFill>
          <a:blip r:embed="rId2"/>
          <a:stretch/>
        </p:blipFill>
        <p:spPr>
          <a:xfrm>
            <a:off x="1808280" y="3249720"/>
            <a:ext cx="5668920" cy="30128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4"/>
          <p:cNvSpPr/>
          <p:nvPr/>
        </p:nvSpPr>
        <p:spPr>
          <a:xfrm flipV="1">
            <a:off x="4641840" y="6000840"/>
            <a:ext cx="3494160" cy="79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5"/>
          <p:cNvSpPr/>
          <p:nvPr/>
        </p:nvSpPr>
        <p:spPr>
          <a:xfrm>
            <a:off x="4626000" y="6080040"/>
            <a:ext cx="351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8"/>
          <p:cNvSpPr/>
          <p:nvPr/>
        </p:nvSpPr>
        <p:spPr>
          <a:xfrm>
            <a:off x="8264520" y="573876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171440" y="220680"/>
            <a:ext cx="8766360" cy="1103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611280" y="1376280"/>
            <a:ext cx="2401920" cy="2395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14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7400" y="4462560"/>
            <a:ext cx="2448000" cy="107928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pic>
        <p:nvPicPr>
          <p:cNvPr id="300" name="Picture 6" descr=""/>
          <p:cNvPicPr/>
          <p:nvPr/>
        </p:nvPicPr>
        <p:blipFill>
          <a:blip r:embed="rId4"/>
          <a:stretch/>
        </p:blipFill>
        <p:spPr>
          <a:xfrm>
            <a:off x="3897360" y="5727600"/>
            <a:ext cx="4127400" cy="639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3348000" y="1038960"/>
            <a:ext cx="535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о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градус»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латинское, означает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шаг»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ступень»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Измерение углов в градусах появилось более 3 тыс. лет назад в Вавил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авилонские математики и астрономы, а вслед за ними греческие и индийские, полный оборот (окружность) делили на 360 частей – градусов, каждый градус - на 60 минут, а минуту - на 60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968400" y="8510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развернутый угол ра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968400" y="1859040"/>
            <a:ext cx="60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прямой угол ра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1020600" y="303372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острый уго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1033560" y="4179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тупой уго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6"/>
          <p:cNvSpPr/>
          <p:nvPr/>
        </p:nvSpPr>
        <p:spPr>
          <a:xfrm>
            <a:off x="6634080" y="83664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8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5813280" y="185904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9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4608360" y="30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ньше 9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4119480" y="3903840"/>
            <a:ext cx="37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ольше 90°, но меньше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s://xn--i1abbnckbmcl9fb.xn--p1ai/%D1%81%D1%82%D0%B0%D1%82%D1%8C%D0%B8/617592/img3.jpg"/>
          <p:cNvPicPr/>
          <p:nvPr/>
        </p:nvPicPr>
        <p:blipFill>
          <a:blip r:embed="rId1"/>
          <a:srcRect l="0" t="0" r="50004" b="0"/>
          <a:stretch/>
        </p:blipFill>
        <p:spPr>
          <a:xfrm>
            <a:off x="1584360" y="692280"/>
            <a:ext cx="5832360" cy="55450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ая соединительная линия 2"/>
          <p:cNvSpPr/>
          <p:nvPr/>
        </p:nvSpPr>
        <p:spPr>
          <a:xfrm>
            <a:off x="7416720" y="692280"/>
            <a:ext cx="0" cy="554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/>
          <p:cNvSpPr/>
          <p:nvPr/>
        </p:nvSpPr>
        <p:spPr>
          <a:xfrm>
            <a:off x="719280" y="476280"/>
            <a:ext cx="79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ой угол образуют часовая и минутная стрелки час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s://pescetarianpoet.files.wordpress.com/2017/06/2017-06-08-midnight-poetry-prompt-a-lai.gif"/>
          <p:cNvPicPr/>
          <p:nvPr/>
        </p:nvPicPr>
        <p:blipFill>
          <a:blip r:embed="rId1"/>
          <a:stretch/>
        </p:blipFill>
        <p:spPr>
          <a:xfrm>
            <a:off x="612720" y="2276640"/>
            <a:ext cx="1851120" cy="18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s://in.toluna.com/dpolls_images/2018/02/01/7b8f3165-6e4d-422d-8635-732d4a6bde43.jpg"/>
          <p:cNvPicPr/>
          <p:nvPr/>
        </p:nvPicPr>
        <p:blipFill>
          <a:blip r:embed="rId2"/>
          <a:stretch/>
        </p:blipFill>
        <p:spPr>
          <a:xfrm>
            <a:off x="3384720" y="227664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https://etc.usf.edu/clipart/17500/17516/1100_17516_lg.gif"/>
          <p:cNvPicPr/>
          <p:nvPr/>
        </p:nvPicPr>
        <p:blipFill>
          <a:blip r:embed="rId3"/>
          <a:stretch/>
        </p:blipFill>
        <p:spPr>
          <a:xfrm>
            <a:off x="6048360" y="2309760"/>
            <a:ext cx="1712880" cy="171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https://etc.usf.edu/clipart/17500/17511/600_17511_lg.gif"/>
          <p:cNvPicPr/>
          <p:nvPr/>
        </p:nvPicPr>
        <p:blipFill>
          <a:blip r:embed="rId4"/>
          <a:stretch/>
        </p:blipFill>
        <p:spPr>
          <a:xfrm>
            <a:off x="2016000" y="4508640"/>
            <a:ext cx="1743120" cy="1720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www.clipartbest.com/cliparts/di6/Lan/di6Lan64T.gif"/>
          <p:cNvPicPr/>
          <p:nvPr/>
        </p:nvPicPr>
        <p:blipFill>
          <a:blip r:embed="rId5"/>
          <a:stretch/>
        </p:blipFill>
        <p:spPr>
          <a:xfrm>
            <a:off x="4707000" y="4508640"/>
            <a:ext cx="1752480" cy="17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s://otvet.imgsmail.ru/download/u_f988dc60fdfef6d04416f46c65df3391_800.jpg"/>
          <p:cNvPicPr/>
          <p:nvPr/>
        </p:nvPicPr>
        <p:blipFill>
          <a:blip r:embed="rId1"/>
          <a:srcRect l="0" t="0" r="0" b="4534"/>
          <a:stretch/>
        </p:blipFill>
        <p:spPr>
          <a:xfrm>
            <a:off x="2060640" y="441360"/>
            <a:ext cx="5365800" cy="3095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395280" y="3681360"/>
            <a:ext cx="8245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ужно вершину угла совместить с центром транспорт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 сторона угла должна проходить через нулевую отметку (0° по шка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ая сторона угла должна пересекать шкалу. Нужно посмотреть, через какую отметку проходит вторая сторона угла. Это и есть величина этого уг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18:32Z</dcterms:created>
  <dc:creator>Юля</dc:creator>
  <dc:description/>
  <dc:language>en-US</dc:language>
  <cp:lastModifiedBy>ПК</cp:lastModifiedBy>
  <dcterms:modified xsi:type="dcterms:W3CDTF">2019-06-03T10:54:33Z</dcterms:modified>
  <cp:revision>204</cp:revision>
  <dc:subject/>
  <dc:title>Кто с детских лет занимается математикой, тот развивает мозг,  свою волю, воспитывает в себе настойчивость и упорство в достижении цели.                  А. Маркушевич</dc:title>
</cp:coreProperties>
</file>