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2F62-F032-45C6-9064-1B15ACA69A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4DDF-042A-4577-A949-85118FABE4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A9E-8FBB-4203-94A8-CD91A3E4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38F-9FD7-4352-84B3-E0457FD8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3EE-0C1F-4BFD-865F-36A1282A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639-6F84-4843-B6EC-BF136721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A753-8642-45BF-9CEC-18BBFD4A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F33C-952B-4FEF-8CD2-E5814DF0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7DFA-4839-4024-92F1-2DF93211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87DA-5C61-44DC-B662-D718DAC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784A-278F-4F30-AFB5-B6EADB0A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D73D-E83D-4EF4-BCB4-7E97F014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8413-ACEB-4C8D-9363-8BF6238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B02-76C2-44D4-AFE9-85719A0D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DF1A-A11C-4ACA-B245-E73FA427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B4BB-5828-422C-8B17-C53603D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15C7-458E-44AE-955B-4F664E43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3879-661C-404F-954A-C698BC0C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5CF0-0D2B-4756-862F-29326324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B7E4-A10A-4DF8-9727-1F238AB6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6D31-2E77-4132-8A53-5A3B6DA7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7765-4532-46A3-B1EF-3758E24F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79AE-FAB7-4171-BEC5-96E46E34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2A78-910C-45C3-AFEB-8DED44D1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450-A6B5-4427-B1AE-B8FF0F13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4528-3323-4A78-AFC4-7937E1D7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3CD9-4918-4A93-8E39-23433DA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908B-1C34-4A5E-9BE4-578BA34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44E4-D7F5-41B4-89A2-4007BD73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AF90-E26A-4627-943B-6FA7B3DE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52B9-CE34-4F63-9ED7-4021B239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CC6A-A5D2-4D69-934A-03499364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AA2-48DA-4A03-BD9C-FC0C4F55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FA3-69D9-4CEE-A287-28367E01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813-E1B3-4FB4-AF84-8E2726D8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9D6-6E88-4EE9-8303-FC1439A5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744-70D0-43FE-8503-3D103D7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86C-E0D6-4509-ADA5-0B892327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456F-7DF3-452F-A3F1-6C14E365C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1\Desktop\клипарты\1412621142_43.jpg"/>
          <p:cNvPicPr/>
          <p:nvPr/>
        </p:nvPicPr>
        <p:blipFill>
          <a:blip r:embed="rId3"/>
          <a:stretch/>
        </p:blipFill>
        <p:spPr>
          <a:xfrm>
            <a:off x="714240" y="4473720"/>
            <a:ext cx="4000680" cy="2384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1\Desktop\клипарты\1308765421_1.gif"/>
          <p:cNvPicPr/>
          <p:nvPr/>
        </p:nvPicPr>
        <p:blipFill>
          <a:blip r:embed="rId4"/>
          <a:stretch/>
        </p:blipFill>
        <p:spPr>
          <a:xfrm>
            <a:off x="6143760" y="822240"/>
            <a:ext cx="1214280" cy="91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0ABB-4C4D-4082-AF49-B2DF85FE2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1643040" y="2357280"/>
            <a:ext cx="6500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ка с растениями на углах рам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.liveinternet.ru/images/attach/c/7/96/636/96636821_large_picture160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бочка на прозрачном фон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nov-designs.ru/uploads/posts/2011-06/1308765421_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Ёжики - клипарт на прозрачном фон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allday2.com/upl/posts/2014-10/1412621142_4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сылка на автора шаблона обяз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Димова Валентина Михайловна, учитель географии МБОУ СОШ № 28 г. Новошахтинска Рос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0A83-F136-4607-91A3-5B29B8299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1341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</a:rPr>
              <a:t>МКДОУ ПРЕОБРАЖЕНСКИЙ ДЕТСКИЙ САД</a:t>
            </a:r>
            <a:endParaRPr b="1" lang="en-US" sz="43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708360" y="3357360"/>
            <a:ext cx="4176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Calibri"/>
              </a:rPr>
              <a:t>«Экологическа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030a0"/>
                </a:solidFill>
                <a:latin typeface="Calibri"/>
              </a:rPr>
              <a:t>тропа – путешествие в мир природы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2556000" y="50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ший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враменко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«Царство Нептуна»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668480" y="170028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представление об искусственном озере, знакомить с растениями около него, закреплять названия насекомых обитающих в камнях. Определять значение воды в жизни человека, животных и растений. Закреплять знания, где и в каком виде существует вода в природе. Наблюдать за изменениями живых объектов природы. Знакомить с миром водоемов, учить определять растения, животных, птиц, живущих у этих водоемов, воспитывать бережное отношение к ним,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C:\Users\anna\Saved Games\Desktop\IMG-20180312-WA0028.jpg"/>
          <p:cNvPicPr/>
          <p:nvPr/>
        </p:nvPicPr>
        <p:blipFill>
          <a:blip r:embed="rId2"/>
          <a:stretch/>
        </p:blipFill>
        <p:spPr>
          <a:xfrm>
            <a:off x="179280" y="1700280"/>
            <a:ext cx="2376720" cy="223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Users\anna\Saved Games\Desktop\IMG-20180312-WA0016 (2).jpg"/>
          <p:cNvPicPr/>
          <p:nvPr/>
        </p:nvPicPr>
        <p:blipFill>
          <a:blip r:embed="rId3"/>
          <a:stretch/>
        </p:blipFill>
        <p:spPr>
          <a:xfrm>
            <a:off x="250920" y="4149720"/>
            <a:ext cx="4267080" cy="240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C:\Users\anna\Saved Games\Desktop\IMG-20180312-WA0022 (2).jpg"/>
          <p:cNvPicPr/>
          <p:nvPr/>
        </p:nvPicPr>
        <p:blipFill>
          <a:blip r:embed="rId4"/>
          <a:stretch/>
        </p:blipFill>
        <p:spPr>
          <a:xfrm>
            <a:off x="2627280" y="1700280"/>
            <a:ext cx="24494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Деревенский дворик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ять представления детей о домашних животных, насекомых, растительном мире, живой и неживой природе. Продолжать знакомить с домашними животными и их детенышами, особенностями их поведения и питания. Дать представления о влиянии природных явлений на живую прир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C:\Users\anna\Saved Games\Desktop\image (2).jpg"/>
          <p:cNvPicPr/>
          <p:nvPr/>
        </p:nvPicPr>
        <p:blipFill>
          <a:blip r:embed="rId2"/>
          <a:stretch/>
        </p:blipFill>
        <p:spPr>
          <a:xfrm>
            <a:off x="179280" y="155736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anna\Saved Games\Desktop\image (1).jpg"/>
          <p:cNvPicPr/>
          <p:nvPr/>
        </p:nvPicPr>
        <p:blipFill>
          <a:blip r:embed="rId3"/>
          <a:stretch/>
        </p:blipFill>
        <p:spPr>
          <a:xfrm>
            <a:off x="2556000" y="155736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:\Users\anna\Saved Games\Desktop\20180809_101613.jpg"/>
          <p:cNvPicPr/>
          <p:nvPr/>
        </p:nvPicPr>
        <p:blipFill>
          <a:blip r:embed="rId4"/>
          <a:stretch/>
        </p:blipFill>
        <p:spPr>
          <a:xfrm>
            <a:off x="250920" y="3933720"/>
            <a:ext cx="44654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95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Полянка насекомых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Users\anna\Saved Games\Desktop\20180713_100517.jpg"/>
          <p:cNvPicPr/>
          <p:nvPr/>
        </p:nvPicPr>
        <p:blipFill>
          <a:blip r:embed="rId3"/>
          <a:stretch/>
        </p:blipFill>
        <p:spPr>
          <a:xfrm>
            <a:off x="4788000" y="1557360"/>
            <a:ext cx="3744720" cy="475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anna\Saved Games\Desktop\IMG-20180312-WA0010.jpg"/>
          <p:cNvPicPr/>
          <p:nvPr/>
        </p:nvPicPr>
        <p:blipFill>
          <a:blip r:embed="rId4"/>
          <a:stretch/>
        </p:blipFill>
        <p:spPr>
          <a:xfrm>
            <a:off x="250920" y="1628640"/>
            <a:ext cx="4267080" cy="2400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anna\Saved Games\Desktop\IMG-20180312-WA0025 (2).jpg"/>
          <p:cNvPicPr/>
          <p:nvPr/>
        </p:nvPicPr>
        <p:blipFill>
          <a:blip r:embed="rId5"/>
          <a:stretch/>
        </p:blipFill>
        <p:spPr>
          <a:xfrm>
            <a:off x="250920" y="4076640"/>
            <a:ext cx="42670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Альпийская горка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427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представления детей об «альпийской горке», как разновидности цветника. Дать детям знания о составляющих частях «альпийской горки» познакомить детей с одним из способов украшения ландшафта – альпийской горкой; показать сочетание разных оттенков зелени, ярких цветов и серых камней, помочь увидеть красоту окружающего мира. Альпийская  горка  рассматривается  и  как самостоятельный  объект  для  наблюдений,  имеет познавательное и эстетическое значен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anna\Saved Games\Desktop\20180713_104726.jpg"/>
          <p:cNvPicPr/>
          <p:nvPr/>
        </p:nvPicPr>
        <p:blipFill>
          <a:blip r:embed="rId2"/>
          <a:stretch/>
        </p:blipFill>
        <p:spPr>
          <a:xfrm>
            <a:off x="468360" y="23493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Во саду ли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 в огороде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2116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должать знакомить детей с разнообразными овощными культурами и способами ухода за ними. Вызвать интерес к выращиванию овощных культу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звать большой интерес к труду, исследованиям на огороде, формировать представления о разнообразии растений, их особенно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Users\anna\Saved Games\Desktop\20180801_161359.jpg"/>
          <p:cNvPicPr/>
          <p:nvPr/>
        </p:nvPicPr>
        <p:blipFill>
          <a:blip r:embed="rId2"/>
          <a:stretch/>
        </p:blipFill>
        <p:spPr>
          <a:xfrm>
            <a:off x="395280" y="3860640"/>
            <a:ext cx="3889440" cy="251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C:\Users\anna\Saved Games\Desktop\P70828-102739.jpg"/>
          <p:cNvPicPr/>
          <p:nvPr/>
        </p:nvPicPr>
        <p:blipFill>
          <a:blip r:embed="rId3"/>
          <a:stretch/>
        </p:blipFill>
        <p:spPr>
          <a:xfrm>
            <a:off x="468360" y="115920"/>
            <a:ext cx="3849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ини - Лаборатория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«Хочу все знать»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8592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владение средствами познавательной деятельности, способами действий,  обследования объектов. Накопление и расширение опыта, конфере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Users\anna\Saved Games\Desktop\DSC09767.jpg"/>
          <p:cNvPicPr/>
          <p:nvPr/>
        </p:nvPicPr>
        <p:blipFill>
          <a:blip r:embed="rId2"/>
          <a:stretch/>
        </p:blipFill>
        <p:spPr>
          <a:xfrm>
            <a:off x="179280" y="1628640"/>
            <a:ext cx="4897440" cy="4537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anna\Saved Games\Desktop\20180813_160648.jpg"/>
          <p:cNvPicPr/>
          <p:nvPr/>
        </p:nvPicPr>
        <p:blipFill>
          <a:blip r:embed="rId3"/>
          <a:stretch/>
        </p:blipFill>
        <p:spPr>
          <a:xfrm>
            <a:off x="5148360" y="4076640"/>
            <a:ext cx="37447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Users\anna\Saved Games\Desktop\20180209_110459.jpg"/>
          <p:cNvPicPr/>
          <p:nvPr/>
        </p:nvPicPr>
        <p:blipFill>
          <a:blip r:embed="rId1"/>
          <a:stretch/>
        </p:blipFill>
        <p:spPr>
          <a:xfrm>
            <a:off x="468360" y="3068640"/>
            <a:ext cx="3672000" cy="309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anna\Saved Games\Desktop\image-0-02-04-467b95e53dc9b2dcbb2fa44a590ba280975a6786309bc74a093b2d3681468a14-V.jpg"/>
          <p:cNvPicPr/>
          <p:nvPr/>
        </p:nvPicPr>
        <p:blipFill>
          <a:blip r:embed="rId2"/>
          <a:stretch/>
        </p:blipFill>
        <p:spPr>
          <a:xfrm>
            <a:off x="4788000" y="404640"/>
            <a:ext cx="3960720" cy="2400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anna\Saved Games\Desktop\20181002_110839.jpg"/>
          <p:cNvPicPr/>
          <p:nvPr/>
        </p:nvPicPr>
        <p:blipFill>
          <a:blip r:embed="rId3"/>
          <a:stretch/>
        </p:blipFill>
        <p:spPr>
          <a:xfrm>
            <a:off x="4716360" y="2997360"/>
            <a:ext cx="4140360" cy="2882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Users\anna\Saved Games\Desktop\P1030459.JPG"/>
          <p:cNvPicPr/>
          <p:nvPr/>
        </p:nvPicPr>
        <p:blipFill>
          <a:blip r:embed="rId4"/>
          <a:stretch/>
        </p:blipFill>
        <p:spPr>
          <a:xfrm>
            <a:off x="1547640" y="1052640"/>
            <a:ext cx="2421000" cy="1871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anna\Saved Games\Desktop\IMG-20180219-WA0024.jpg"/>
          <p:cNvPicPr/>
          <p:nvPr/>
        </p:nvPicPr>
        <p:blipFill>
          <a:blip r:embed="rId5"/>
          <a:stretch/>
        </p:blipFill>
        <p:spPr>
          <a:xfrm>
            <a:off x="3276720" y="234936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2492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6857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124000" y="1197000"/>
            <a:ext cx="532764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ью проекта является: развитие познавательно-исследовательских способностей у дошкольников посредством опытно-экспериментальной деятельности с объектами и явлениями окружающего мира на экологической тропе.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979640" y="1197000"/>
            <a:ext cx="6265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формировать предпосылки поисковой деятельности, интеллектуальной инициати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развивать умения делать выводы, устанавливать причинно-следственные связи между объектами в зоне экологической т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воспитывать у детей стремление сохранять и оберегать мир природы, следовать доступным экологическим правилам в деятельности и повед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активизировать участие родителей в создании экологической предметно-пространственной среды, а также в эксперимент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160" y="74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Формы работы с детьми на экологической тропе</a:t>
            </a:r>
            <a:endParaRPr b="1" lang="en-US" sz="2400" spc="-1" strike="noStrike">
              <a:solidFill>
                <a:srgbClr val="7030a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речевые ситуации , экскурсии, кружки, конкурсы, акции 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роки доброт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ВН, викторин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суждение и проигрывание ситуаци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удовой десант и зелѐный патруль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аборатория юного эколог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ставление экологических карт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дение календарей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лекционировани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выставки и экспози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празд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игры (дидактические, соревновательны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ы-путешествия и т. д.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сказ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кологические тренинги, конферен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сценировки, театрализации и т. д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аршрут экологической тропы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42920" y="1844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Users\anna\Saved Games\Desktop\20181123_114701.jpg"/>
          <p:cNvPicPr/>
          <p:nvPr/>
        </p:nvPicPr>
        <p:blipFill>
          <a:blip r:embed="rId3"/>
          <a:stretch/>
        </p:blipFill>
        <p:spPr>
          <a:xfrm>
            <a:off x="324000" y="1557360"/>
            <a:ext cx="3919320" cy="511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Users\anna\Saved Games\Desktop\IMG_20181126_220653.jpg"/>
          <p:cNvPicPr/>
          <p:nvPr/>
        </p:nvPicPr>
        <p:blipFill>
          <a:blip r:embed="rId4"/>
          <a:stretch/>
        </p:blipFill>
        <p:spPr>
          <a:xfrm>
            <a:off x="4643280" y="1844640"/>
            <a:ext cx="426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Шалаш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«Старичка-Лесовичка»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268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Лесовичок помогает проводить занятия на тропинке. Периодически он «оживает», посылает детям письма-задания, участвует в театрализованных праздниках. В карман сказочного человечка заранее кладутся задания для детей — просьбы Лесовичка. За оказанную ему помощь сказочный персонаж периодически оставляет на своей тропинке сюрпризы — конфеты, орехи на деревьях. Именно в домике «оживает» Лесовичок и ведёт детей по тропе, задавая вопросы, загадывая загадки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anna\Saved Games\Desktop\IMG-20180312-WA0011 (2).jpg"/>
          <p:cNvPicPr/>
          <p:nvPr/>
        </p:nvPicPr>
        <p:blipFill>
          <a:blip r:embed="rId2"/>
          <a:stretch/>
        </p:blipFill>
        <p:spPr>
          <a:xfrm>
            <a:off x="155520" y="1668600"/>
            <a:ext cx="2400480" cy="42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anna\Saved Games\Desktop\DSCN1100.jpg"/>
          <p:cNvPicPr/>
          <p:nvPr/>
        </p:nvPicPr>
        <p:blipFill>
          <a:blip r:embed="rId3"/>
          <a:stretch/>
        </p:blipFill>
        <p:spPr>
          <a:xfrm>
            <a:off x="6156360" y="1844640"/>
            <a:ext cx="2793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43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Метеостанция 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716000" y="162864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знания детей о состояниях погоды. Познакомить с приборами, с помощью которых можно определить направление и силу ветра, количество осадков, температуру воздуха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дневник наблюдений заносим наблюдаемые за сутки атмосферные явлени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C:\Users\anna\Saved Games\Desktop\IMG-20180813-WA0003.jpg"/>
          <p:cNvPicPr/>
          <p:nvPr/>
        </p:nvPicPr>
        <p:blipFill>
          <a:blip r:embed="rId2"/>
          <a:stretch/>
        </p:blipFill>
        <p:spPr>
          <a:xfrm>
            <a:off x="468360" y="189000"/>
            <a:ext cx="4174920" cy="2663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anna\Saved Games\Desktop\20181121_105038.jpg"/>
          <p:cNvPicPr/>
          <p:nvPr/>
        </p:nvPicPr>
        <p:blipFill>
          <a:blip r:embed="rId3"/>
          <a:stretch/>
        </p:blipFill>
        <p:spPr>
          <a:xfrm>
            <a:off x="179280" y="2997360"/>
            <a:ext cx="482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Тропа здоровья</a:t>
            </a: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788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Содержание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физкультурно-оздоровительной работы в летний период ( профилактика плоскостопия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улучшение координации движений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улучшение функции сердечнососудистой и дыхательной систе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вышение сопротивляемости организма к  инфекционным заболеваниям; улучшение  эмоционально-психического состояния дете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C:\Users\anna\Saved Games\Desktop\20180821_104926.jpg"/>
          <p:cNvPicPr/>
          <p:nvPr/>
        </p:nvPicPr>
        <p:blipFill>
          <a:blip r:embed="rId2"/>
          <a:stretch/>
        </p:blipFill>
        <p:spPr>
          <a:xfrm>
            <a:off x="250920" y="2060640"/>
            <a:ext cx="46814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928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елёная аптека </a:t>
            </a:r>
            <a:br>
              <a:rPr sz="4400"/>
            </a:br>
            <a:endParaRPr b="1" lang="en-US" sz="4400" spc="-1" strike="noStrike">
              <a:solidFill>
                <a:srgbClr val="7030a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участке с лекарственными травами выращиваем: мяту перечную, календулу лекарственную, подорожник, душицу, мать-и-мачеху, тысячелистник обыкновенный, и д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ять знания детей о лекарственных растениях. Учить собирать и сушить лекарственные растения для оздоровительны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тей знакомят со всеми описанными выше растениями, проводя сенсорное обследование их частей и семян, правилами сбора этих растений, а также с тем, какие именно части растений применяются для лечения болезней. и т.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Users\anna\Saved Games\Desktop\image.jpg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07:58:04Z</dcterms:created>
  <dc:creator>admin</dc:creator>
  <dc:description/>
  <dc:language>en-US</dc:language>
  <cp:lastModifiedBy>Детский сад</cp:lastModifiedBy>
  <dcterms:modified xsi:type="dcterms:W3CDTF">2019-06-03T04:57:29Z</dcterms:modified>
  <cp:revision>31</cp:revision>
  <dc:subject/>
  <dc:title>Природа</dc:title>
</cp:coreProperties>
</file>