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5.jpeg" ContentType="image/jpeg"/>
  <Override PartName="/ppt/media/image24.jpeg" ContentType="image/jpeg"/>
  <Override PartName="/ppt/media/image26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4963F-D703-4E90-8450-4AB4902B404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D5E86-839C-4837-854A-9EAD8DEFCDF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17B1-BE69-4D7D-BA0F-C24BF011E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0E6C-AEE3-494A-9E34-B38312FB1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2E93-31E5-4507-B5FB-0606E706F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8C65-2594-4BAC-AB08-C74AB1553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E8C88-E961-4742-8032-2182558D6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ACD94-5575-410E-A873-77F25433E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85BE5-B445-46E6-B806-84FAA1B10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02497-9C93-4328-B277-B13581452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F0AB4-AFBE-4C49-BB38-BCB40B123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14400" y="2854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9FA25-3B33-4072-9532-9AB4D22D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C2266-4DD2-4374-A904-12B591C6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007D-356C-4D2A-8034-2CE3F239E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D9CFC-22E3-4F9C-8C21-22AC3B3F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0BE7E-7F04-40FA-ABA3-4E009870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B0406-86F0-4466-8BF0-698FC3E61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DDC07-C91E-4B76-A630-102115B37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2C701-C3E4-459D-B559-985C9A448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0E68D-13D3-41F7-8733-BFA23E4E1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DD2CD-65E4-438B-AD0B-B65383D9B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C8A48-CEDE-4168-A368-C89F63D3A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7F0F3-E7B1-449B-97EC-3E2C17F9C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C7FE8-4F9E-4DA1-BB65-E76EB3ECB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4068-41B6-486B-93C9-1009BE712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914400" y="2854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E720D-A523-43C7-A082-983DBF2C1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8A977-C509-436B-AF99-96EC27F3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89B16-0B0B-4D94-A2C0-C11E5B28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E8DBB-2E6D-4854-AF01-3C07C4AD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EFF63-BBC0-48BC-BE9B-40B6CFCA4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C8902-FB65-4052-A571-318FD2D67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EB755-9217-4E79-A98D-F6BE15560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8E63-C566-4027-88C1-BF3469103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4240-3303-40D1-A093-85ED7BE8B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854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F832-5C1D-4976-ABFA-191819D85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4362-A776-48FC-BBEB-6A30AC03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5CB7-56BF-4B1A-A33B-AB1548D5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2801-B92B-4049-9D6A-DB0AB337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13EAE-B713-4C44-956F-245C8CE286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1\Desktop\клипарты\1412621142_43.jpg"/>
          <p:cNvPicPr/>
          <p:nvPr/>
        </p:nvPicPr>
        <p:blipFill>
          <a:blip r:embed="rId3"/>
          <a:stretch/>
        </p:blipFill>
        <p:spPr>
          <a:xfrm>
            <a:off x="714240" y="4473720"/>
            <a:ext cx="4000680" cy="2384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C:\Users\1\Desktop\клипарты\1308765421_1.gif"/>
          <p:cNvPicPr/>
          <p:nvPr/>
        </p:nvPicPr>
        <p:blipFill>
          <a:blip r:embed="rId4"/>
          <a:stretch/>
        </p:blipFill>
        <p:spPr>
          <a:xfrm>
            <a:off x="6143760" y="822240"/>
            <a:ext cx="1214280" cy="919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4082D-8FA4-47DB-8485-9E78D63585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6"/>
          <p:cNvSpPr/>
          <p:nvPr/>
        </p:nvSpPr>
        <p:spPr>
          <a:xfrm>
            <a:off x="1643040" y="2357280"/>
            <a:ext cx="65008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тка с растениями на углах рамк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g1.liveinternet.ru/images/attach/c/7/96/636/96636821_large_picture16070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абочка на прозрачном фоне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nov-designs.ru/uploads/posts/2011-06/1308765421_1.g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Ёжики - клипарт на прозрачном фоне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allday2.com/upl/posts/2014-10/1412621142_43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сылка на автора шаблона обязатель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втор: Димова Валентина Михайловна, учитель географии МБОУ СОШ № 28 г. Новошахтинска Ростов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CCD7F-33F1-428C-802C-67958086FA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14240" y="1341000"/>
            <a:ext cx="7772400" cy="21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7030a0"/>
                </a:solidFill>
                <a:latin typeface="Times New Roman"/>
              </a:rPr>
              <a:t>МКДОУ ПРЕОБРАЖЕНСКИЙ ДЕТСКИЙ САД</a:t>
            </a:r>
            <a:endParaRPr b="1" lang="en-US" sz="43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3708360" y="3357360"/>
            <a:ext cx="4176720" cy="172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Проек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7030a0"/>
                </a:solidFill>
                <a:latin typeface="Calibri"/>
              </a:rPr>
              <a:t>«Экологическая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7030a0"/>
                </a:solidFill>
                <a:latin typeface="Calibri"/>
              </a:rPr>
              <a:t>тропа – путешествие в мир природы»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Прямоугольник 4"/>
          <p:cNvSpPr/>
          <p:nvPr/>
        </p:nvSpPr>
        <p:spPr>
          <a:xfrm>
            <a:off x="2556000" y="5084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тарший воспита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враменко Ирина Викто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6364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«Царство Нептуна»</a:t>
            </a:r>
            <a:endParaRPr b="1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4668480" y="170028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одержание работ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ормировать представление об искусственном озере, знакомить с растениями около него, закреплять названия насекомых обитающих в камнях. Определять значение воды в жизни человека, животных и растений. Закреплять знания, где и в каком виде существует вода в природе. Наблюдать за изменениями живых объектов природы. Знакомить с миром водоемов, учить определять растения, животных, птиц, живущих у этих водоемов, воспитывать бережное отношение к ним, и т.д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5" descr="C:\Users\anna\Saved Games\Desktop\IMG-20180312-WA0028.jpg"/>
          <p:cNvPicPr/>
          <p:nvPr/>
        </p:nvPicPr>
        <p:blipFill>
          <a:blip r:embed="rId2"/>
          <a:stretch/>
        </p:blipFill>
        <p:spPr>
          <a:xfrm>
            <a:off x="179280" y="1700280"/>
            <a:ext cx="2376720" cy="22334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C:\Users\anna\Saved Games\Desktop\IMG-20180312-WA0016 (2).jpg"/>
          <p:cNvPicPr/>
          <p:nvPr/>
        </p:nvPicPr>
        <p:blipFill>
          <a:blip r:embed="rId3"/>
          <a:stretch/>
        </p:blipFill>
        <p:spPr>
          <a:xfrm>
            <a:off x="250920" y="4149720"/>
            <a:ext cx="4267080" cy="2400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C:\Users\anna\Saved Games\Desktop\IMG-20180312-WA0022 (2).jpg"/>
          <p:cNvPicPr/>
          <p:nvPr/>
        </p:nvPicPr>
        <p:blipFill>
          <a:blip r:embed="rId4"/>
          <a:stretch/>
        </p:blipFill>
        <p:spPr>
          <a:xfrm>
            <a:off x="2627280" y="1700280"/>
            <a:ext cx="244944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Деревенский дворик</a:t>
            </a:r>
            <a:endParaRPr b="1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4572000" y="1700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одержание работ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сширять представления детей о домашних животных, насекомых, растительном мире, живой и неживой природе. Продолжать знакомить с домашними животными и их детенышами, особенностями их поведения и питания. Дать представления о влиянии природных явлений на живую природ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3" descr="C:\Users\anna\Saved Games\Desktop\image (2).jpg"/>
          <p:cNvPicPr/>
          <p:nvPr/>
        </p:nvPicPr>
        <p:blipFill>
          <a:blip r:embed="rId2"/>
          <a:stretch/>
        </p:blipFill>
        <p:spPr>
          <a:xfrm>
            <a:off x="179280" y="1557360"/>
            <a:ext cx="2181240" cy="21812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C:\Users\anna\Saved Games\Desktop\image (1).jpg"/>
          <p:cNvPicPr/>
          <p:nvPr/>
        </p:nvPicPr>
        <p:blipFill>
          <a:blip r:embed="rId3"/>
          <a:stretch/>
        </p:blipFill>
        <p:spPr>
          <a:xfrm>
            <a:off x="2556000" y="1557360"/>
            <a:ext cx="2181240" cy="21812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C:\Users\anna\Saved Games\Desktop\20180809_101613.jpg"/>
          <p:cNvPicPr/>
          <p:nvPr/>
        </p:nvPicPr>
        <p:blipFill>
          <a:blip r:embed="rId4"/>
          <a:stretch/>
        </p:blipFill>
        <p:spPr>
          <a:xfrm>
            <a:off x="250920" y="3933720"/>
            <a:ext cx="446544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95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Полянка насекомых</a:t>
            </a:r>
            <a:endParaRPr b="1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C:\Users\anna\Saved Games\Desktop\20180713_100517.jpg"/>
          <p:cNvPicPr/>
          <p:nvPr/>
        </p:nvPicPr>
        <p:blipFill>
          <a:blip r:embed="rId3"/>
          <a:stretch/>
        </p:blipFill>
        <p:spPr>
          <a:xfrm>
            <a:off x="4788000" y="1557360"/>
            <a:ext cx="3744720" cy="47512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" descr="C:\Users\anna\Saved Games\Desktop\IMG-20180312-WA0010.jpg"/>
          <p:cNvPicPr/>
          <p:nvPr/>
        </p:nvPicPr>
        <p:blipFill>
          <a:blip r:embed="rId4"/>
          <a:stretch/>
        </p:blipFill>
        <p:spPr>
          <a:xfrm>
            <a:off x="250920" y="1628640"/>
            <a:ext cx="4267080" cy="24004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C:\Users\anna\Saved Games\Desktop\IMG-20180312-WA0025 (2).jpg"/>
          <p:cNvPicPr/>
          <p:nvPr/>
        </p:nvPicPr>
        <p:blipFill>
          <a:blip r:embed="rId5"/>
          <a:stretch/>
        </p:blipFill>
        <p:spPr>
          <a:xfrm>
            <a:off x="250920" y="4076640"/>
            <a:ext cx="426708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11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Альпийская горка</a:t>
            </a:r>
            <a:endParaRPr b="1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442764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одержание работ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ормировать представления детей об «альпийской горке», как разновидности цветника. Дать детям знания о составляющих частях «альпийской горки» познакомить детей с одним из способов украшения ландшафта – альпийской горкой; показать сочетание разных оттенков зелени, ярких цветов и серых камней, помочь увидеть красоту окружающего мира. Альпийская  горка  рассматривается  и  как самостоятельный  объект  для  наблюдений,  имеет познавательное и эстетическое значение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2" descr="C:\Users\anna\Saved Games\Desktop\20180713_104726.jpg"/>
          <p:cNvPicPr/>
          <p:nvPr/>
        </p:nvPicPr>
        <p:blipFill>
          <a:blip r:embed="rId2"/>
          <a:stretch/>
        </p:blipFill>
        <p:spPr>
          <a:xfrm>
            <a:off x="468360" y="234936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771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Во саду ли</a:t>
            </a: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 в огороде</a:t>
            </a:r>
            <a:endParaRPr b="1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421164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одержание работ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должать знакомить детей с разнообразными овощными культурами и способами ухода за ними. Вызвать интерес к выращиванию овощных культу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ызвать большой интерес к труду, исследованиям на огороде, формировать представления о разнообразии растений, их особенностя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2" descr="C:\Users\anna\Saved Games\Desktop\20180801_161359.jpg"/>
          <p:cNvPicPr/>
          <p:nvPr/>
        </p:nvPicPr>
        <p:blipFill>
          <a:blip r:embed="rId2"/>
          <a:stretch/>
        </p:blipFill>
        <p:spPr>
          <a:xfrm>
            <a:off x="395280" y="3860640"/>
            <a:ext cx="3889440" cy="25196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C:\Users\anna\Saved Games\Desktop\P70828-102739.jpg"/>
          <p:cNvPicPr/>
          <p:nvPr/>
        </p:nvPicPr>
        <p:blipFill>
          <a:blip r:embed="rId3"/>
          <a:stretch/>
        </p:blipFill>
        <p:spPr>
          <a:xfrm>
            <a:off x="468360" y="115920"/>
            <a:ext cx="38494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63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Мини - Лаборатория</a:t>
            </a: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«Хочу все знать»</a:t>
            </a:r>
            <a:endParaRPr b="1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 txBox="1"/>
          <p:nvPr/>
        </p:nvSpPr>
        <p:spPr>
          <a:xfrm>
            <a:off x="485928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одержание работ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владение средствами познавательной деятельности, способами действий,  обследования объектов. Накопление и расширение опыта, конференц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2" descr="C:\Users\anna\Saved Games\Desktop\DSC09767.jpg"/>
          <p:cNvPicPr/>
          <p:nvPr/>
        </p:nvPicPr>
        <p:blipFill>
          <a:blip r:embed="rId2"/>
          <a:stretch/>
        </p:blipFill>
        <p:spPr>
          <a:xfrm>
            <a:off x="179280" y="1628640"/>
            <a:ext cx="4897440" cy="4537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" descr="C:\Users\anna\Saved Games\Desktop\20180813_160648.jpg"/>
          <p:cNvPicPr/>
          <p:nvPr/>
        </p:nvPicPr>
        <p:blipFill>
          <a:blip r:embed="rId3"/>
          <a:stretch/>
        </p:blipFill>
        <p:spPr>
          <a:xfrm>
            <a:off x="5148360" y="4076640"/>
            <a:ext cx="374472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C:\Users\anna\Saved Games\Desktop\20180209_110459.jpg"/>
          <p:cNvPicPr/>
          <p:nvPr/>
        </p:nvPicPr>
        <p:blipFill>
          <a:blip r:embed="rId1"/>
          <a:stretch/>
        </p:blipFill>
        <p:spPr>
          <a:xfrm>
            <a:off x="468360" y="3068640"/>
            <a:ext cx="3672000" cy="30970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C:\Users\anna\Saved Games\Desktop\image-0-02-04-467b95e53dc9b2dcbb2fa44a590ba280975a6786309bc74a093b2d3681468a14-V.jpg"/>
          <p:cNvPicPr/>
          <p:nvPr/>
        </p:nvPicPr>
        <p:blipFill>
          <a:blip r:embed="rId2"/>
          <a:stretch/>
        </p:blipFill>
        <p:spPr>
          <a:xfrm>
            <a:off x="4788000" y="404640"/>
            <a:ext cx="3960720" cy="2400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C:\Users\anna\Saved Games\Desktop\20181002_110839.jpg"/>
          <p:cNvPicPr/>
          <p:nvPr/>
        </p:nvPicPr>
        <p:blipFill>
          <a:blip r:embed="rId3"/>
          <a:stretch/>
        </p:blipFill>
        <p:spPr>
          <a:xfrm>
            <a:off x="4716360" y="2997360"/>
            <a:ext cx="4140360" cy="28828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C:\Users\anna\Saved Games\Desktop\P1030459.JPG"/>
          <p:cNvPicPr/>
          <p:nvPr/>
        </p:nvPicPr>
        <p:blipFill>
          <a:blip r:embed="rId4"/>
          <a:stretch/>
        </p:blipFill>
        <p:spPr>
          <a:xfrm>
            <a:off x="1547640" y="1052640"/>
            <a:ext cx="2421000" cy="18716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Users\anna\Saved Games\Desktop\IMG-20180219-WA0024.jpg"/>
          <p:cNvPicPr/>
          <p:nvPr/>
        </p:nvPicPr>
        <p:blipFill>
          <a:blip r:embed="rId5"/>
          <a:stretch/>
        </p:blipFill>
        <p:spPr>
          <a:xfrm>
            <a:off x="3276720" y="2349360"/>
            <a:ext cx="2232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1600" y="24922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СПАСИБО ЗА ВНИМАНИЕ!</a:t>
            </a:r>
            <a:endParaRPr b="1" lang="en-US" sz="40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685764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1"/>
          <p:cNvSpPr/>
          <p:nvPr/>
        </p:nvSpPr>
        <p:spPr>
          <a:xfrm>
            <a:off x="2124000" y="1197000"/>
            <a:ext cx="5327640" cy="52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Целью проекта является: развитие познавательно-исследовательских способностей у дошкольников посредством опытно-экспериментальной деятельности с объектами и явлениями окружающего мира на экологической тропе.</a:t>
            </a: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1"/>
          <p:cNvSpPr/>
          <p:nvPr/>
        </p:nvSpPr>
        <p:spPr>
          <a:xfrm>
            <a:off x="1979640" y="1197000"/>
            <a:ext cx="62658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  <a:ea typeface="Arial"/>
              </a:rPr>
              <a:t>Задачи проек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  <a:ea typeface="Arial"/>
              </a:rPr>
              <a:t>-формировать предпосылки поисковой деятельности, интеллектуальной инициатив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  <a:ea typeface="Arial"/>
              </a:rPr>
              <a:t>-развивать умения делать выводы, устанавливать причинно-следственные связи между объектами в зоне экологической троп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  <a:ea typeface="Arial"/>
              </a:rPr>
              <a:t>-воспитывать у детей стремление сохранять и оберегать мир природы, следовать доступным экологическим правилам в деятельности и поведен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  <a:ea typeface="Arial"/>
              </a:rPr>
              <a:t>-активизировать участие родителей в создании экологической предметно-пространственной среды, а также в экспериментальн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"/>
          <p:cNvSpPr/>
          <p:nvPr/>
        </p:nvSpPr>
        <p:spPr>
          <a:xfrm>
            <a:off x="2160" y="748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320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Формы работы с детьми на экологической тропе</a:t>
            </a:r>
            <a:endParaRPr b="1" lang="en-US" sz="2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05092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4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экологические речевые ситуации , экскурсии, кружки, конкурсы, акции 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4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роки доброты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4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ВН, викторины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4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бсуждение и проигрывание ситуаций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4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рудовой десант и зелѐный патруль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4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лаборатория юного эколога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4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оставление экологических карт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4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едение календарей природы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4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ллекционирование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4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экологические выставки и экспозиции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4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экологические праздники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4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экологические игры (дидактические, соревновательные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гры-путешествия и т. д.)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4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экологические сказки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4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экологические тренинги, конференции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4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нсценировки, театрализации и т. д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6364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Маршрут экологической тропы</a:t>
            </a:r>
            <a:endParaRPr b="1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642920" y="1844640"/>
            <a:ext cx="4038840" cy="4525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C:\Users\anna\Saved Games\Desktop\20181123_114701.jpg"/>
          <p:cNvPicPr/>
          <p:nvPr/>
        </p:nvPicPr>
        <p:blipFill>
          <a:blip r:embed="rId3"/>
          <a:stretch/>
        </p:blipFill>
        <p:spPr>
          <a:xfrm>
            <a:off x="324000" y="1557360"/>
            <a:ext cx="3919320" cy="5111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C:\Users\anna\Saved Games\Desktop\IMG_20181126_220653.jpg"/>
          <p:cNvPicPr/>
          <p:nvPr/>
        </p:nvPicPr>
        <p:blipFill>
          <a:blip r:embed="rId4"/>
          <a:stretch/>
        </p:blipFill>
        <p:spPr>
          <a:xfrm>
            <a:off x="4643280" y="1844640"/>
            <a:ext cx="42674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7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Шалаш </a:t>
            </a: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«Старичка-Лесовичка»</a:t>
            </a:r>
            <a:endParaRPr b="1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2268000" y="1844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Лесовичок помогает проводить занятия на тропинке. Периодически он «оживает», посылает детям письма-задания, участвует в театрализованных праздниках. В карман сказочного человечка заранее кладутся задания для детей — просьбы Лесовичка. За оказанную ему помощь сказочный персонаж периодически оставляет на своей тропинке сюрпризы — конфеты, орехи на деревьях. Именно в домике «оживает» Лесовичок и ведёт детей по тропе, задавая вопросы, загадывая загадки и т.д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2" descr="C:\Users\anna\Saved Games\Desktop\IMG-20180312-WA0011 (2).jpg"/>
          <p:cNvPicPr/>
          <p:nvPr/>
        </p:nvPicPr>
        <p:blipFill>
          <a:blip r:embed="rId2"/>
          <a:stretch/>
        </p:blipFill>
        <p:spPr>
          <a:xfrm>
            <a:off x="155520" y="1668600"/>
            <a:ext cx="2400480" cy="4267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C:\Users\anna\Saved Games\Desktop\DSCN1100.jpg"/>
          <p:cNvPicPr/>
          <p:nvPr/>
        </p:nvPicPr>
        <p:blipFill>
          <a:blip r:embed="rId3"/>
          <a:stretch/>
        </p:blipFill>
        <p:spPr>
          <a:xfrm>
            <a:off x="6156360" y="1844640"/>
            <a:ext cx="27939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843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Метеостанция </a:t>
            </a:r>
            <a:endParaRPr b="1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4716000" y="1628640"/>
            <a:ext cx="40388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одержание работ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ормировать знания детей о состояниях погоды. Познакомить с приборами, с помощью которых можно определить направление и силу ветра, количество осадков, температуру воздуха и т.д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 дневник наблюдений заносим наблюдаемые за сутки атмосферные явления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2" descr="C:\Users\anna\Saved Games\Desktop\IMG-20180813-WA0003.jpg"/>
          <p:cNvPicPr/>
          <p:nvPr/>
        </p:nvPicPr>
        <p:blipFill>
          <a:blip r:embed="rId2"/>
          <a:stretch/>
        </p:blipFill>
        <p:spPr>
          <a:xfrm>
            <a:off x="468360" y="189000"/>
            <a:ext cx="4174920" cy="2663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C:\Users\anna\Saved Games\Desktop\20181121_105038.jpg"/>
          <p:cNvPicPr/>
          <p:nvPr/>
        </p:nvPicPr>
        <p:blipFill>
          <a:blip r:embed="rId3"/>
          <a:stretch/>
        </p:blipFill>
        <p:spPr>
          <a:xfrm>
            <a:off x="179280" y="2997360"/>
            <a:ext cx="4824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Тропа здоровья</a:t>
            </a:r>
            <a:endParaRPr b="1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4788000" y="1268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Содержание работ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рганизация физкультурно-оздоровительной работы в летний период ( профилактика плоскостопия;</a:t>
            </a: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улучшение координации движений;</a:t>
            </a: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улучшение функции сердечнососудистой и дыхательной систем;</a:t>
            </a: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вышение сопротивляемости организма к  инфекционным заболеваниям; улучшение  эмоционально-психического состояния детей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5" descr="C:\Users\anna\Saved Games\Desktop\20180821_104926.jpg"/>
          <p:cNvPicPr/>
          <p:nvPr/>
        </p:nvPicPr>
        <p:blipFill>
          <a:blip r:embed="rId2"/>
          <a:stretch/>
        </p:blipFill>
        <p:spPr>
          <a:xfrm>
            <a:off x="250920" y="2060640"/>
            <a:ext cx="468144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19280" y="-38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Зелёная аптека </a:t>
            </a:r>
            <a:br>
              <a:rPr sz="4400"/>
            </a:br>
            <a:endParaRPr b="1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4572000" y="1413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одержание работ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 участке с лекарственными травами выращиваем: мяту перечную, календулу лекарственную, подорожник, душицу, мать-и-мачеху, тысячелистник обыкновенный, и др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сширять знания детей о лекарственных растениях. Учить собирать и сушить лекарственные растения для оздоровительных мероприят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етей знакомят со всеми описанными выше растениями, проводя сенсорное обследование их частей и семян, правилами сбора этих растений, а также с тем, какие именно части растений применяются для лечения болезней. и т.д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2" descr="C:\Users\anna\Saved Games\Desktop\image.jpg"/>
          <p:cNvPicPr/>
          <p:nvPr/>
        </p:nvPicPr>
        <p:blipFill>
          <a:blip r:embed="rId2"/>
          <a:stretch/>
        </p:blipFill>
        <p:spPr>
          <a:xfrm>
            <a:off x="755640" y="1700280"/>
            <a:ext cx="38163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5T07:58:04Z</dcterms:created>
  <dc:creator>admin</dc:creator>
  <dc:description/>
  <dc:language>en-US</dc:language>
  <cp:lastModifiedBy>Детский сад</cp:lastModifiedBy>
  <dcterms:modified xsi:type="dcterms:W3CDTF">2019-06-03T04:57:29Z</dcterms:modified>
  <cp:revision>31</cp:revision>
  <dc:subject/>
  <dc:title>Природа</dc:title>
</cp:coreProperties>
</file>