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F43-3F64-47C9-823D-57914E1A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517-FC0C-488E-A75D-5794F41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53F-53AE-4D30-8E77-7AC480F2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532-6391-43B3-946C-4813DC81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919-13CF-42B0-AA71-31F7686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1E2-EEA3-45D8-B588-A9269B6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1EF-701B-4841-AD83-6CE269D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BC5-C74C-4BA4-81FD-9FCA4A9D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3FA-B375-476D-B92B-5B87390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697-B219-4C85-A310-F7036EF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2BD-F0A9-40EB-8819-EB4BB39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349-215B-4389-A31C-91C4879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489-CDD4-4A77-9838-2FD924BC4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06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Форматирование текста в текстовом редакторе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S Wo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Форматирование тек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по каким либо правилам различных участков текста, при этом изменяется не сам текст, а его внешни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пособы форматирования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042920" y="472428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219640" y="472428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л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6012000" y="3789360"/>
            <a:ext cx="64764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>
            <a:off x="2556000" y="3716280"/>
            <a:ext cx="79200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симво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симво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х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ижний индек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черк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симво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яже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плотнён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симв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бота с симв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бота со шриф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– это набор символов определё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" y="2708280"/>
            <a:ext cx="8218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ровые и вектор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орциональные и непропорциона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убленные и с засе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ерт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я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жир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черк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урс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28428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Форматирование текста с помощью панели форматирован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771640" y="620640"/>
            <a:ext cx="64800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24000" y="1557360"/>
            <a:ext cx="2087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шриф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58920" y="2492280"/>
            <a:ext cx="2232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771640" y="1557360"/>
            <a:ext cx="2664000" cy="64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ертание шриф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4500720" y="2492280"/>
            <a:ext cx="20872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516720" y="1700280"/>
            <a:ext cx="194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1547640" y="980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3131640" y="980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2484360" y="981000"/>
            <a:ext cx="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 flipV="1">
            <a:off x="4859280" y="907560"/>
            <a:ext cx="12254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 flipV="1">
            <a:off x="5435640" y="836640"/>
            <a:ext cx="144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5003640" y="620640"/>
            <a:ext cx="50328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179280" y="4651200"/>
            <a:ext cx="8675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лгоритм форматирования текста через панель форма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ь слово или группу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оизвести необходимые установки, используя кнопки Панели форма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атирование текста через диалоговое окно Формат|Шрифт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8000" y="220500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горитм форматирования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делить слово или группу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извести необходимые установки, используя кнопки Панели форматирования (последняя может быть настроена пользователем с учетом его потребностей через Сервис|Настрой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29802" t="16641" r="30304" b="24064"/>
          <a:stretch/>
        </p:blipFill>
        <p:spPr>
          <a:xfrm>
            <a:off x="355680" y="2060640"/>
            <a:ext cx="4400640" cy="479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рядок форматирован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 вариан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ть, выделить часть текста, затем произвести форматирование, указав необходимые парам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вариан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казать параметры форматирование, затем производить набор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жите какое форматирование произведено в с текстом в сравнении с исходн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    </a:t>
            </a:r>
            <a:r>
              <a:rPr b="0" i="1" lang="ru-RU" sz="5400" spc="-1" strike="noStrike">
                <a:solidFill>
                  <a:srgbClr val="cc0000"/>
                </a:solidFill>
                <a:latin typeface="Times New Roman"/>
              </a:rPr>
              <a:t>Т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3280" y="2205000"/>
            <a:ext cx="4500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,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,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 вид шрифта, цвет, начертания, раз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 шри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ён начертания, вида шрифта, раз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268360" y="530064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брать и отформатировать текст по образ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11086" t="41438" r="27639" b="25412"/>
          <a:stretch/>
        </p:blipFill>
        <p:spPr>
          <a:xfrm>
            <a:off x="0" y="2276640"/>
            <a:ext cx="9144000" cy="370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5:08:01Z</dcterms:created>
  <dc:creator/>
  <dc:description/>
  <dc:language>en-US</dc:language>
  <cp:lastModifiedBy/>
  <dcterms:modified xsi:type="dcterms:W3CDTF">2019-06-04T00:45:19Z</dcterms:modified>
  <cp:revision>0</cp:revision>
  <dc:subject/>
  <dc:title/>
</cp:coreProperties>
</file>