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CA69-7D96-4FA5-BA57-FA2866EA8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A2C0-899C-40D9-8DD9-368B0B64A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BA83-0E94-4D63-B458-C03EEFB1A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6CF6-D493-4950-B1AE-C1A143135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FFFE-7D04-4074-9005-A1B5195A2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13E0-655C-4E71-ADA5-E3B91D963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B6D4-7484-49EE-882E-22E05F1AF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D83F-5FEC-4C3B-BE1F-E69E9EA13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CEDB-A883-4E6A-8DF7-EBB380A86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C578-EFF9-4309-8CEB-2AEADA03A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9BAB-1A65-46E1-8449-05F062B90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8093-75A8-4CFA-BE9C-70689D27F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84317-A1E0-4D15-A633-BC260C653A6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2923920"/>
            <a:ext cx="806472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Форматирование текста в текстовом редакторе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MS Wor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9280" y="1267920"/>
            <a:ext cx="8209080" cy="20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Форматирование текст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формление по каким либо правилам различных участков текста, при этом изменяется не сам текст, а его внешний ви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Способы форматирования текст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1042920" y="4724280"/>
            <a:ext cx="2808360" cy="1009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ям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орматирова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5"/>
          <p:cNvSpPr/>
          <p:nvPr/>
        </p:nvSpPr>
        <p:spPr>
          <a:xfrm>
            <a:off x="5219640" y="4724280"/>
            <a:ext cx="2808360" cy="1009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илев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орматирова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6"/>
          <p:cNvSpPr/>
          <p:nvPr/>
        </p:nvSpPr>
        <p:spPr>
          <a:xfrm>
            <a:off x="6012000" y="3789360"/>
            <a:ext cx="647640" cy="863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7"/>
          <p:cNvSpPr/>
          <p:nvPr/>
        </p:nvSpPr>
        <p:spPr>
          <a:xfrm flipH="1">
            <a:off x="2556000" y="3716280"/>
            <a:ext cx="792000" cy="1008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206064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вет символ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ид символ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ерхни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нижний индекс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ачерки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стояние между символам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Разряженны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Уплотнённы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мер симво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395280" y="126792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Работа с символам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77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Работа со шрифтам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9640" y="1700280"/>
            <a:ext cx="79200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рифт – это набор символов определённ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исун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" y="2708280"/>
            <a:ext cx="821844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ип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растровые и векторны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ропорциональные и непропорциональны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рубленные и с засечк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чертания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рямо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олужирны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одчеркнуты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курси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3284280"/>
            <a:ext cx="889308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Форматирование текста с помощью панели форматирования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6"/>
          <p:cNvSpPr/>
          <p:nvPr/>
        </p:nvSpPr>
        <p:spPr>
          <a:xfrm>
            <a:off x="2771640" y="620640"/>
            <a:ext cx="648000" cy="3603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8"/>
          <p:cNvSpPr/>
          <p:nvPr/>
        </p:nvSpPr>
        <p:spPr>
          <a:xfrm>
            <a:off x="324000" y="1557360"/>
            <a:ext cx="208728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ипы шриф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9"/>
          <p:cNvSpPr/>
          <p:nvPr/>
        </p:nvSpPr>
        <p:spPr>
          <a:xfrm>
            <a:off x="1258920" y="2492280"/>
            <a:ext cx="2232000" cy="64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змер симво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"/>
          <p:cNvSpPr/>
          <p:nvPr/>
        </p:nvSpPr>
        <p:spPr>
          <a:xfrm>
            <a:off x="2771640" y="1557360"/>
            <a:ext cx="2664000" cy="646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чертание шрифт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1"/>
          <p:cNvSpPr/>
          <p:nvPr/>
        </p:nvSpPr>
        <p:spPr>
          <a:xfrm>
            <a:off x="4500720" y="2492280"/>
            <a:ext cx="2087280" cy="64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вет симво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2"/>
          <p:cNvSpPr/>
          <p:nvPr/>
        </p:nvSpPr>
        <p:spPr>
          <a:xfrm>
            <a:off x="6516720" y="1700280"/>
            <a:ext cx="194472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ид симво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4"/>
          <p:cNvSpPr/>
          <p:nvPr/>
        </p:nvSpPr>
        <p:spPr>
          <a:xfrm flipV="1">
            <a:off x="1547640" y="980640"/>
            <a:ext cx="360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5"/>
          <p:cNvSpPr/>
          <p:nvPr/>
        </p:nvSpPr>
        <p:spPr>
          <a:xfrm flipH="1" flipV="1">
            <a:off x="3131640" y="980640"/>
            <a:ext cx="360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6"/>
          <p:cNvSpPr/>
          <p:nvPr/>
        </p:nvSpPr>
        <p:spPr>
          <a:xfrm flipV="1">
            <a:off x="2484360" y="981000"/>
            <a:ext cx="71640" cy="151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7"/>
          <p:cNvSpPr/>
          <p:nvPr/>
        </p:nvSpPr>
        <p:spPr>
          <a:xfrm flipH="1" flipV="1">
            <a:off x="4859280" y="907560"/>
            <a:ext cx="1225440" cy="158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8"/>
          <p:cNvSpPr/>
          <p:nvPr/>
        </p:nvSpPr>
        <p:spPr>
          <a:xfrm flipH="1" flipV="1">
            <a:off x="5435640" y="836640"/>
            <a:ext cx="1441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19"/>
          <p:cNvSpPr/>
          <p:nvPr/>
        </p:nvSpPr>
        <p:spPr>
          <a:xfrm>
            <a:off x="5003640" y="620640"/>
            <a:ext cx="503280" cy="3603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0"/>
          <p:cNvSpPr/>
          <p:nvPr/>
        </p:nvSpPr>
        <p:spPr>
          <a:xfrm>
            <a:off x="179280" y="4651200"/>
            <a:ext cx="867564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Алгоритм форматирования текста через панель форматиро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Выделить слово или группу сл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Произвести необходимые установки, используя кнопки Панели форматиров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092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Форматирование текста через диалоговое окно Формат|Шрифт.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148000" y="2205000"/>
            <a:ext cx="3816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лгоритм форматирования текс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Выделить слово или группу сл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Произвести необходимые установки, используя кнопки Панели форматирования (последняя может быть настроена пользователем с учетом его потребностей через Сервис|Настройку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1"/>
          <a:srcRect l="29802" t="16641" r="30304" b="24064"/>
          <a:stretch/>
        </p:blipFill>
        <p:spPr>
          <a:xfrm>
            <a:off x="355680" y="2060640"/>
            <a:ext cx="4400640" cy="47973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85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Порядок форматирования текст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1 вариант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Набрать, выделить часть текста, затем произвести форматирование, указав необходимые параметр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2 вариант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Указать параметры форматирование, затем производить набор тек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horz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000" y="1267920"/>
            <a:ext cx="867564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Задание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укажите какое форматирование произведено в с текстом в сравнении с исходным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76640"/>
            <a:ext cx="4038480" cy="45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дин  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Од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ва     </a:t>
            </a: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 Д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и      </a:t>
            </a:r>
            <a:r>
              <a:rPr b="0" i="1" lang="ru-RU" sz="5400" spc="-1" strike="noStrike">
                <a:solidFill>
                  <a:srgbClr val="cc0000"/>
                </a:solidFill>
                <a:latin typeface="Times New Roman"/>
              </a:rPr>
              <a:t>Тр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тыре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Четы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я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Пят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3280" y="2205000"/>
            <a:ext cx="450072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менён начертания шрифта, разме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менён начертания шрифта, цв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менен вид шрифта, цвет, начертания, разме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менён начертания шриф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менён начертания, вида шрифта, разм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7"/>
          <p:cNvSpPr/>
          <p:nvPr/>
        </p:nvSpPr>
        <p:spPr>
          <a:xfrm>
            <a:off x="2268360" y="5300640"/>
            <a:ext cx="172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196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Задание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набрать и отформатировать текст по образц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"/>
          <p:cNvPicPr/>
          <p:nvPr/>
        </p:nvPicPr>
        <p:blipFill>
          <a:blip r:embed="rId1"/>
          <a:srcRect l="11086" t="41438" r="27639" b="25412"/>
          <a:stretch/>
        </p:blipFill>
        <p:spPr>
          <a:xfrm>
            <a:off x="0" y="2276640"/>
            <a:ext cx="9144000" cy="37098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0T15:08:01Z</dcterms:created>
  <dc:creator/>
  <dc:description/>
  <dc:language>en-US</dc:language>
  <cp:lastModifiedBy/>
  <dcterms:modified xsi:type="dcterms:W3CDTF">2019-06-04T00:45:19Z</dcterms:modified>
  <cp:revision>0</cp:revision>
  <dc:subject/>
  <dc:title/>
</cp:coreProperties>
</file>