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1.png" ContentType="image/png"/>
  <Override PartName="/ppt/media/image5.wmf" ContentType="image/x-wmf"/>
  <Override PartName="/ppt/media/image6.jpeg" ContentType="image/jpeg"/>
  <Override PartName="/ppt/media/image10.png" ContentType="image/png"/>
  <Override PartName="/ppt/media/image13.png" ContentType="image/png"/>
  <Override PartName="/ppt/media/image23.gif" ContentType="image/gi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9.png" ContentType="image/png"/>
  <Override PartName="/ppt/media/image15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9E9-703F-4636-9093-1EF9067F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345-0F5D-4918-885D-B98E8378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DD0-3625-4FC8-8F84-810D2E71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82C-0F22-40AA-921A-CE2B538B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40A-38A3-4FB5-BA56-78B83610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1470-D078-43EC-90C9-5155F1AB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49E-1747-408A-A01E-1F12680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B80D-69F2-4D5B-947C-A7C8F87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C186-C73E-432E-8107-110A58C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4316-9C16-4D63-86E6-BF51741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8C69-3EBD-4E03-BD38-34B7FAF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CF6-DE53-4EA9-877E-4EFDA8A6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678-8562-4828-B2DF-ACD7DB1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82C-9F3C-42D1-8BA9-EF0B4CF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440E-84BD-484B-BDDF-E461D994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C54-3852-4276-B4D5-9CB52311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4E3F-F58C-4543-B329-530461F1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82C-5850-4194-A069-CE7194D0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9AC-D39B-4395-A860-04AE8CF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07F-9922-40B0-8621-56662A2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713-EDA2-4AE6-B4EB-06F0347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05F-1182-47AB-954B-2D009B3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780-047A-48C4-9457-88E6AEE1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C5B-3FB8-4F40-9B42-68AFD957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A36-30B2-4E0C-984A-3F473768D1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E05B-2D7E-4B0E-AACA-391D4E372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FA07-12FD-4C00-BDFC-2DDF5B289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826920" y="2565360"/>
            <a:ext cx="7775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КОМПЬЮТЕРНЫЕ ИГРЫ –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ХОРОШО ИЛИ ПЛОХО?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5760" y="1054080"/>
          <a:ext cx="8229600" cy="58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Л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ЖЕЛАНИЕ ОБЩАТЬСЯ С ЛЮДЬМИ, ОТСУТСТВИЕ ДРУЗ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АДЕНИЕ УМСТВЕННЫ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ЕСТОКОСТЬ И НАСИЛ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РЕДОТОЧ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СКРИВЛЕНИЕ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ЕЛКИХ МЫШЦ Р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ВМА К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ДЕРЖКА ИНТЕРЕСА К УЧЁ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ОЛЕЗНИ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ОРМОЗИТ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ИЕ НАХОДИТЬ ЗАКОНОМЕР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ЕССОННИЦА И НОЧНЫЕ КОШМ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СОРЫ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АСНОСТЬ СЕТЕВ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«КОМПЬЮТЕРНАЯ ЗАВИС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2A08-6E2A-4222-9BF9-F11CBECB5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08320" y="2602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лияние компьютерных игр  на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3" descr="K:\Варсопко М. проект\komp\hw28.gif"/>
          <p:cNvPicPr/>
          <p:nvPr/>
        </p:nvPicPr>
        <p:blipFill>
          <a:blip r:embed="rId1"/>
          <a:stretch/>
        </p:blipFill>
        <p:spPr>
          <a:xfrm>
            <a:off x="7588080" y="1103400"/>
            <a:ext cx="1160640" cy="74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K:\Варсопко М. проект\komp\hw23.gif"/>
          <p:cNvPicPr/>
          <p:nvPr/>
        </p:nvPicPr>
        <p:blipFill>
          <a:blip r:embed="rId2"/>
          <a:stretch/>
        </p:blipFill>
        <p:spPr>
          <a:xfrm>
            <a:off x="447840" y="1136520"/>
            <a:ext cx="1109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ои предположения не подтвердились. Нельзя сказать, что компьютерные игры – это плохо, и надо отказаться от них. Как  нельзя сказать, что хорошо, и можно играть сколько хочется и в любые игры. Влияние компьютерных игр на  детей неоднозначно. Кто–то развивает логическое мышление, кто-то забывает про окружающий реальный мир.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десь нужно придерживаться главного принципа – не навреди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 Компьютер, как и всё, что окружает нас, может быть и полезным, и вред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7F0-9EC2-4542-BC0E-AE6FA01ECA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F72-DB7A-4CE2-9915-863A330DB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 моего исследования.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6" name="Picture 7" descr="K:\Варсопко М. проект\komp\komputeri-498.gif"/>
          <p:cNvPicPr/>
          <p:nvPr/>
        </p:nvPicPr>
        <p:blipFill>
          <a:blip r:embed="rId1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K:\Варсопко М. проект\komp\komputeri-422.gif"/>
          <p:cNvPicPr/>
          <p:nvPr/>
        </p:nvPicPr>
        <p:blipFill>
          <a:blip r:embed="rId2"/>
          <a:stretch/>
        </p:blipFill>
        <p:spPr>
          <a:xfrm>
            <a:off x="7684920" y="369720"/>
            <a:ext cx="1233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AF6C-6848-46D3-8F67-8DB404F209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0BB-FFF2-4B27-8F99-5AD20F892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93760" y="1636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Я выбрал эту тему потому, что меня заинтересовало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ак же воздействуют компьютерные игры  на ребенка,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в какие игры можно играть, а в какие нельзя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2050920" y="549360"/>
            <a:ext cx="513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основание выбо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642960" y="400068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E:\исследовательская работа Компьютерные игры - хорошо или плохо\визитка\rdgisvoyhf.jpg"/>
          <p:cNvPicPr/>
          <p:nvPr/>
        </p:nvPicPr>
        <p:blipFill>
          <a:blip r:embed="rId2"/>
          <a:stretch/>
        </p:blipFill>
        <p:spPr>
          <a:xfrm>
            <a:off x="4286160" y="3429000"/>
            <a:ext cx="2330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оего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снить положительные и отрица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ороны влияния компьютерных игр  в жизни    школьн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 ответить н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вный вопрос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грать в компьютерные игры – это хорошо или  плох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 меня возникло дв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полож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редположим: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играть в компьютерные  игр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плохо, т.к. вредит здоровь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Возможно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,  играть в компьютерные игры 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хорошо, т.к. игра  развивает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3370-C1EC-4B52-8A49-1E19876DBB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C5C-59D7-4CA4-9C28-53D3A8528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G:\Варсопко М. проект\компьютер\anylizing_computer_10066WHT[1].gif"/>
          <p:cNvPicPr/>
          <p:nvPr/>
        </p:nvPicPr>
        <p:blipFill>
          <a:blip r:embed="rId1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K:\Варсопко М. проект\компьютер\j0404263.wmf"/>
          <p:cNvPicPr/>
          <p:nvPr/>
        </p:nvPicPr>
        <p:blipFill>
          <a:blip r:embed="rId2"/>
          <a:stretch/>
        </p:blipFill>
        <p:spPr>
          <a:xfrm>
            <a:off x="158760" y="4917960"/>
            <a:ext cx="1420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AAAF-F711-4EEA-A9C8-7A0DFF77FA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B6A-784C-42B1-8456-2C06D99C7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14200" y="171468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знать, какую пользу и какой вред несут для детей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знать, как правильно организовать рабочее место за компьютером, какие правила безопасного поведения должны соблюд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читься работать в программах Microsoft Word,, Microsoft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1317744330_zavisimost-rebenka-ot-igrovyh-pristavok"/>
          <p:cNvPicPr/>
          <p:nvPr/>
        </p:nvPicPr>
        <p:blipFill>
          <a:blip r:embed="rId1"/>
          <a:stretch/>
        </p:blipFill>
        <p:spPr>
          <a:xfrm>
            <a:off x="3500280" y="3929040"/>
            <a:ext cx="3286440" cy="2428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864880" y="428760"/>
            <a:ext cx="29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Arial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Найти и изучить в литературе  и интернете сведения о влиянии  компьютерных игр на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ть существуют ли гигиенические требования, которые необходимо соблюдать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анкетирование у одноклассников, с целью узнать в ка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ят играть ученики и их отношение к компьютерны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ыработать Памятку по безопасному пользованию иг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Участвовать в проведении урока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Представить результат проектно-исследовательской работы на районной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K:\Варсопко М. проект\компьютер\Изображение 142.gif"/>
          <p:cNvPicPr/>
          <p:nvPr/>
        </p:nvPicPr>
        <p:blipFill>
          <a:blip r:embed="rId1"/>
          <a:stretch/>
        </p:blipFill>
        <p:spPr>
          <a:xfrm>
            <a:off x="282600" y="766800"/>
            <a:ext cx="121608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K:\Варсопко М. проект\компьютер\компьютер.gif"/>
          <p:cNvPicPr/>
          <p:nvPr/>
        </p:nvPicPr>
        <p:blipFill>
          <a:blip r:embed="rId2"/>
          <a:stretch/>
        </p:blipFill>
        <p:spPr>
          <a:xfrm>
            <a:off x="7451640" y="27792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1857240" y="277920"/>
            <a:ext cx="54421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лан исследования.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ценивать полезность компьютерных иг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ыбирать игры, развивающие мышление, логику, мелкие мышцы ру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ыполнять гимнастику для мышц и глаз, следить за временем, проведенном у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ссказывать о необходимости соблюдения  правил безопасного поведения за компьютером   своим близким, знаком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8EB0-9502-4153-A375-1301AD06F4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E24F-EA7B-4B94-8023-03BF9F1FE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полагаемый результ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" descr="G:\Варсопко М. проект\компьютер\komp35.gif"/>
          <p:cNvPicPr/>
          <p:nvPr/>
        </p:nvPicPr>
        <p:blipFill>
          <a:blip r:embed="rId1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G:\Варсопко М. проект\компьютер\ui7i.png"/>
          <p:cNvPicPr/>
          <p:nvPr/>
        </p:nvPicPr>
        <p:blipFill>
          <a:blip r:embed="rId2"/>
          <a:stretch/>
        </p:blipFill>
        <p:spPr>
          <a:xfrm>
            <a:off x="7215120" y="4287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B3E-4B32-4FAD-8748-1742E3AB7C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AB4-C57D-43D3-8D48-06BA1268B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1116000" y="32544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езультаты АНКЕТИРОВАНИЯ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Диаграмма 5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4510080" cy="2998800"/>
          </a:xfrm>
          <a:prstGeom prst="rect">
            <a:avLst/>
          </a:prstGeom>
          <a:ln w="0">
            <a:noFill/>
          </a:ln>
        </p:spPr>
      </p:pic>
      <p:pic>
        <p:nvPicPr>
          <p:cNvPr id="114" name="Диаграмма 6" descr=""/>
          <p:cNvPicPr/>
          <p:nvPr/>
        </p:nvPicPr>
        <p:blipFill>
          <a:blip r:embed="rId2"/>
          <a:stretch/>
        </p:blipFill>
        <p:spPr>
          <a:xfrm>
            <a:off x="281160" y="3565440"/>
            <a:ext cx="4370040" cy="301140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7" descr=""/>
          <p:cNvPicPr/>
          <p:nvPr/>
        </p:nvPicPr>
        <p:blipFill>
          <a:blip r:embed="rId3"/>
          <a:stretch/>
        </p:blipFill>
        <p:spPr>
          <a:xfrm>
            <a:off x="4705200" y="633240"/>
            <a:ext cx="4157640" cy="287208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8" descr=""/>
          <p:cNvPicPr/>
          <p:nvPr/>
        </p:nvPicPr>
        <p:blipFill>
          <a:blip r:embed="rId4"/>
          <a:stretch/>
        </p:blipFill>
        <p:spPr>
          <a:xfrm>
            <a:off x="4705200" y="3067200"/>
            <a:ext cx="4230720" cy="3582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0" y="64278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Детский исследовательский про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ель анкетирования: </a:t>
            </a:r>
            <a:br>
              <a:rPr sz="28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яснить,  в какие игры любят играть ученики и их отношение к компьютерным игр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90680" y="429264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проведенного исследования показали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что почти все ребята в классе имеют дома компьютер, учатся пользоваться разными программами, но большую часть времени проводят  за играми. Немногие задумываются о вреде и пользе этих игр, как и о том, сколько времени можно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071960" cy="3000240"/>
          </a:xfrm>
          <a:prstGeom prst="rect">
            <a:avLst/>
          </a:prstGeom>
          <a:ln w="0">
            <a:noFill/>
          </a:ln>
        </p:spPr>
      </p:pic>
      <p:pic>
        <p:nvPicPr>
          <p:cNvPr id="121" name="Диаграмма 6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071960" cy="29336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0" y="648828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Детский исследовательский про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Елена\Рабочий стол\Рисунок1.png"/>
          <p:cNvPicPr/>
          <p:nvPr/>
        </p:nvPicPr>
        <p:blipFill>
          <a:blip r:embed="rId1"/>
          <a:stretch/>
        </p:blipFill>
        <p:spPr>
          <a:xfrm>
            <a:off x="133200" y="1474920"/>
            <a:ext cx="4389480" cy="343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Елена\Рабочий стол\Рисунок2.png"/>
          <p:cNvPicPr/>
          <p:nvPr/>
        </p:nvPicPr>
        <p:blipFill>
          <a:blip r:embed="rId2"/>
          <a:stretch/>
        </p:blipFill>
        <p:spPr>
          <a:xfrm>
            <a:off x="4857840" y="1554120"/>
            <a:ext cx="4030560" cy="33465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1042920" y="203040"/>
            <a:ext cx="6446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0c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сравним Человека Разумного и Человека Играющего</a:t>
            </a:r>
            <a:endParaRPr b="0" lang="en-US" sz="1800" spc="1" strike="noStrike">
              <a:ln w="9360">
                <a:solidFill>
                  <a:srgbClr val="0070c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0" y="522936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рачи говорят, что на коробках с играми давно пора ставить надпись наподобие этой: «КУРЕНИЕ УБИВАЕТ». Но даже это не поможет, пока сам человек не сделает выбор: хочет он настоящей полноценной жизни – или картинки на экране монитора, которая погаснет вместе с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/>
  <dc:description/>
  <dc:language>en-US</dc:language>
  <cp:lastModifiedBy>Katyusha O</cp:lastModifiedBy>
  <dcterms:modified xsi:type="dcterms:W3CDTF">2019-06-04T00:57:29Z</dcterms:modified>
  <cp:revision>76</cp:revision>
  <dc:subject/>
  <dc:title>Слайд 1</dc:title>
</cp:coreProperties>
</file>