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gif" ContentType="image/gif"/>
  <Override PartName="/ppt/media/image7.gif" ContentType="image/gif"/>
  <Override PartName="/ppt/media/image11.png" ContentType="image/png"/>
  <Override PartName="/ppt/media/image5.wmf" ContentType="image/x-wmf"/>
  <Override PartName="/ppt/media/image6.jpeg" ContentType="image/jpeg"/>
  <Override PartName="/ppt/media/image10.png" ContentType="image/png"/>
  <Override PartName="/ppt/media/image13.png" ContentType="image/png"/>
  <Override PartName="/ppt/media/image23.gif" ContentType="image/gif"/>
  <Override PartName="/ppt/media/image22.gif" ContentType="image/gif"/>
  <Override PartName="/ppt/media/image14.png" ContentType="image/png"/>
  <Override PartName="/ppt/media/image21.gif" ContentType="image/gif"/>
  <Override PartName="/ppt/media/image20.gif" ContentType="image/gif"/>
  <Override PartName="/ppt/media/image19.png" ContentType="image/png"/>
  <Override PartName="/ppt/media/image15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53C-6816-4BCA-BC76-694ABD59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79D-698C-446D-9217-1C97A2D6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D34-AFE1-43AD-B234-221D7212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6FB-F2A7-4CB3-9F5C-2344BC2F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B673-E78E-44EA-AEBE-CD6322D2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78D3-CE81-40EF-B8B8-1F20991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D64C-55BB-4715-B36E-7647AF6B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66F6-3120-49A4-A857-BBCBBEEE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AEEA-5456-4BFB-8E64-962E65D8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3FF0-53AB-4F4F-89E0-39C7B8E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8F8F-0CDC-4647-AE6F-899A3C8F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A25-21AD-43FF-BB58-F4A3B911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74F2-0BB6-4974-8B54-82B7BD4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F9C5-6CCF-4381-85E2-CD14DC48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8D0D-AAE6-4BB1-AB5E-A471A4D7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158E-C5C6-48DF-AAD6-70DFBA14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ED6B-FFD2-4BBF-B0A4-B9A7EDB1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318-071D-481A-A960-E51CB147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416-D7AC-4B02-BBDC-A51A5341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5AF-580E-4D56-A525-89E32761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8E4-3143-4787-8667-65C2259B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DE6-D186-4E63-8D81-5B241EA6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360-968C-4CDB-A327-131D1CE1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E39-43C0-4E59-9D19-E05ED711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71BB-B388-419D-A626-F5DB58119D7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2EE9-FCAE-4035-8573-DC0689948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32C1-D1D3-48A6-8034-875EEFA23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826920" y="2565360"/>
            <a:ext cx="7775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ookman Old Style"/>
              </a:rPr>
              <a:t>КОМПЬЮТЕРНЫЕ ИГРЫ –</a:t>
            </a:r>
            <a:endParaRPr b="1" i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r>
              <a:rPr b="1" i="1" lang="en-US" sz="3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  <a:latin typeface="Bookman Old Style"/>
              </a:rPr>
              <a:t>ХОРОШО ИЛИ ПЛОХО?</a:t>
            </a:r>
            <a:endParaRPr b="1" i="1" lang="en-US" sz="32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5760" y="1054080"/>
          <a:ext cx="8229600" cy="5803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ожи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ицательные 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ЛОГ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ЖЕЛАНИЕ ОБЩАТЬСЯ С ЛЮДЬМИ, ОТСУТСТВИЕ ДРУЗ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ЫШ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АДЕНИЕ УМСТВЕННЫХ СПОСО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ЖЕСТОКОСТЬ И НАСИЛ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ОСРЕДОТОЧ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ИСКРИВЛЕНИЕ ПОЗВОНОЧ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ЗВИТИЕ МЕЛКИХ МЫШЦ РУ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РАВМА КИ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ОДДЕРЖКА ИНТЕРЕСА К УЧЁ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ОЛЕЗНИ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О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ТОРМОЗИТ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УМЕНИЕ НАХОДИТЬ ЗАКОНОМЕР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ЕССОННИЦА И НОЧНЫЕ КОШМ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ССОРЫ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ОПАСНОСТЬ СЕТЕВЫХ И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«КОМПЬЮТЕРНАЯ ЗАВИС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0688-1242-4DB4-A745-2607C4158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08320" y="260280"/>
            <a:ext cx="82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лияние компьютерных игр  на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3" descr="K:\Варсопко М. проект\komp\hw28.gif"/>
          <p:cNvPicPr/>
          <p:nvPr/>
        </p:nvPicPr>
        <p:blipFill>
          <a:blip r:embed="rId1"/>
          <a:stretch/>
        </p:blipFill>
        <p:spPr>
          <a:xfrm>
            <a:off x="7588080" y="1103400"/>
            <a:ext cx="1160640" cy="74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4" descr="K:\Варсопко М. проект\komp\hw23.gif"/>
          <p:cNvPicPr/>
          <p:nvPr/>
        </p:nvPicPr>
        <p:blipFill>
          <a:blip r:embed="rId2"/>
          <a:stretch/>
        </p:blipFill>
        <p:spPr>
          <a:xfrm>
            <a:off x="447840" y="1136520"/>
            <a:ext cx="11095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Мои предположения не подтвердились. Нельзя сказать, что компьютерные игры – это плохо, и надо отказаться от них. Как  нельзя сказать, что хорошо, и можно играть сколько хочется и в любые игры. Влияние компьютерных игр на  детей неоднозначно. Кто–то развивает логическое мышление, кто-то забывает про окружающий реальный мир.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Здесь нужно придерживаться главного принципа – не навреди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. Компьютер, как и всё, что окружает нас, может быть и полезным, и вред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F831-6695-437A-99E2-5BE5097D94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CD08-CE44-408E-8498-5570D52E7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1428840" y="214200"/>
            <a:ext cx="621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gradFill rotWithShape="0">
                  <a:gsLst>
                    <a:gs pos="0">
                      <a:srgbClr val="0070c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 моего исследования. 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gradFill rotWithShape="0">
                <a:gsLst>
                  <a:gs pos="0">
                    <a:srgbClr val="0070c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6" name="Picture 7" descr="K:\Варсопко М. проект\komp\komputeri-498.gif"/>
          <p:cNvPicPr/>
          <p:nvPr/>
        </p:nvPicPr>
        <p:blipFill>
          <a:blip r:embed="rId1"/>
          <a:stretch/>
        </p:blipFill>
        <p:spPr>
          <a:xfrm>
            <a:off x="179280" y="297000"/>
            <a:ext cx="114948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K:\Варсопко М. проект\komp\komputeri-422.gif"/>
          <p:cNvPicPr/>
          <p:nvPr/>
        </p:nvPicPr>
        <p:blipFill>
          <a:blip r:embed="rId2"/>
          <a:stretch/>
        </p:blipFill>
        <p:spPr>
          <a:xfrm>
            <a:off x="7684920" y="369720"/>
            <a:ext cx="12337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5C44-D901-473A-A0D6-FE48F06576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B75-EFE5-4A8C-A5BC-EDA0EBB1B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93760" y="16365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Я выбрал эту тему потому, что меня заинтересовало,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как же воздействуют компьютерные игры  на ребенка,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в какие игры можно играть, а в какие нельзя и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4"/>
          <p:cNvSpPr txBox="1"/>
          <p:nvPr/>
        </p:nvSpPr>
        <p:spPr>
          <a:xfrm>
            <a:off x="2050920" y="549360"/>
            <a:ext cx="5131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основание выбор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1"/>
          <a:stretch/>
        </p:blipFill>
        <p:spPr>
          <a:xfrm>
            <a:off x="642960" y="4000680"/>
            <a:ext cx="3149640" cy="236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E:\исследовательская работа Компьютерные игры - хорошо или плохо\визитка\rdgisvoyhf.jpg"/>
          <p:cNvPicPr/>
          <p:nvPr/>
        </p:nvPicPr>
        <p:blipFill>
          <a:blip r:embed="rId2"/>
          <a:stretch/>
        </p:blipFill>
        <p:spPr>
          <a:xfrm>
            <a:off x="4286160" y="3429000"/>
            <a:ext cx="2330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13840" y="356760"/>
            <a:ext cx="864396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моего исследова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ыяснить положительные и отрицате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тороны влияния компьютерных игр  в жизни    школьника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 ответить н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лавный вопрос: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грать в компьютерные игры – это хорошо или  плох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У меня возникло дв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едположен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Предположим: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играть в компьютерные  игры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плохо, т.к. вредит здоровью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Calibri"/>
              </a:rPr>
              <a:t>Возможно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,  играть в компьютерные игры 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хорошо, т.к. игра  развивает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4960" indent="-17496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D900-DDCA-432F-9BB8-A2DE8145AAF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CBDE-5D6F-43A7-9915-850853299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G:\Варсопко М. проект\компьютер\anylizing_computer_10066WHT[1].gif"/>
          <p:cNvPicPr/>
          <p:nvPr/>
        </p:nvPicPr>
        <p:blipFill>
          <a:blip r:embed="rId1"/>
          <a:stretch/>
        </p:blipFill>
        <p:spPr>
          <a:xfrm>
            <a:off x="8101080" y="23760"/>
            <a:ext cx="904680" cy="111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K:\Варсопко М. проект\компьютер\j0404263.wmf"/>
          <p:cNvPicPr/>
          <p:nvPr/>
        </p:nvPicPr>
        <p:blipFill>
          <a:blip r:embed="rId2"/>
          <a:stretch/>
        </p:blipFill>
        <p:spPr>
          <a:xfrm>
            <a:off x="158760" y="4917960"/>
            <a:ext cx="14209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1D12-9B56-40BE-A1D5-C6F43FFD67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CBE0-E065-4A9B-804D-C5E14B4EB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14200" y="171468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знать, какую пользу и какой вред несут для детей компьютер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знать, как правильно организовать рабочее место за компьютером, какие правила безопасного поведения должны соблюд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читься работать в программах Microsoft Word,, Microsoft Power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1317744330_zavisimost-rebenka-ot-igrovyh-pristavok"/>
          <p:cNvPicPr/>
          <p:nvPr/>
        </p:nvPicPr>
        <p:blipFill>
          <a:blip r:embed="rId1"/>
          <a:stretch/>
        </p:blipFill>
        <p:spPr>
          <a:xfrm>
            <a:off x="3500280" y="3929040"/>
            <a:ext cx="3286440" cy="2428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2864880" y="428760"/>
            <a:ext cx="296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46c0a"/>
                </a:solidFill>
                <a:latin typeface="Arial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3600" y="1773000"/>
            <a:ext cx="842508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Найти и изучить в литературе  и интернете сведения о влиянии  компьютерных игр на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знать существуют ли гигиенические требования, которые необходимо соблюдать де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анкетирование у одноклассников, с целью узнать в какие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ят играть ученики и их отношение к компьютерным иг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анализировать собран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Выработать Памятку по безопасному пользованию игр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ть презентацию по собранному материа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Участвовать в проведении урока с использованием презент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. Представить результат проектно-исследовательской работы на районной конфере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K:\Варсопко М. проект\компьютер\Изображение 142.gif"/>
          <p:cNvPicPr/>
          <p:nvPr/>
        </p:nvPicPr>
        <p:blipFill>
          <a:blip r:embed="rId1"/>
          <a:stretch/>
        </p:blipFill>
        <p:spPr>
          <a:xfrm>
            <a:off x="282600" y="766800"/>
            <a:ext cx="121608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K:\Варсопко М. проект\компьютер\компьютер.gif"/>
          <p:cNvPicPr/>
          <p:nvPr/>
        </p:nvPicPr>
        <p:blipFill>
          <a:blip r:embed="rId2"/>
          <a:stretch/>
        </p:blipFill>
        <p:spPr>
          <a:xfrm>
            <a:off x="7451640" y="27792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"/>
          <p:cNvSpPr txBox="1"/>
          <p:nvPr/>
        </p:nvSpPr>
        <p:spPr>
          <a:xfrm>
            <a:off x="1857240" y="277920"/>
            <a:ext cx="544212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2060"/>
                  </a:solidFill>
                  <a:miter/>
                </a:ln>
                <a:gradFill rotWithShape="0">
                  <a:gsLst>
                    <a:gs pos="0">
                      <a:srgbClr val="7030a0">
                        <a:alpha val="50196"/>
                      </a:srgbClr>
                    </a:gs>
                    <a:gs pos="100000">
                      <a:srgbClr val="00b0f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лан исследования.</a:t>
            </a:r>
            <a:endParaRPr b="0" lang="en-US" sz="3200" spc="1" strike="noStrike">
              <a:ln w="12600">
                <a:solidFill>
                  <a:srgbClr val="002060"/>
                </a:solidFill>
                <a:miter/>
              </a:ln>
              <a:gradFill rotWithShape="0">
                <a:gsLst>
                  <a:gs pos="0">
                    <a:srgbClr val="7030a0">
                      <a:alpha val="50196"/>
                    </a:srgbClr>
                  </a:gs>
                  <a:gs pos="100000">
                    <a:srgbClr val="00b0f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• 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оценивать полезность компьютерных иг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ыбирать игры, развивающие мышление, логику, мелкие мышцы ру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выполнять гимнастику для мышц и глаз, следить за временем, проведенном у компьюте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•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ассказывать о необходимости соблюдения  правил безопасного поведения за компьютером   своим близким, знакомы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EE06-FF2D-4765-B84C-408467EF290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DD4A-B78B-4022-831D-9AAAFE0B3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403280" y="428760"/>
            <a:ext cx="588348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полагаемый результ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7" descr="G:\Варсопко М. проект\компьютер\komp35.gif"/>
          <p:cNvPicPr/>
          <p:nvPr/>
        </p:nvPicPr>
        <p:blipFill>
          <a:blip r:embed="rId1"/>
          <a:stretch/>
        </p:blipFill>
        <p:spPr>
          <a:xfrm>
            <a:off x="214200" y="214200"/>
            <a:ext cx="1071720" cy="18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G:\Варсопко М. проект\компьютер\ui7i.png"/>
          <p:cNvPicPr/>
          <p:nvPr/>
        </p:nvPicPr>
        <p:blipFill>
          <a:blip r:embed="rId2"/>
          <a:stretch/>
        </p:blipFill>
        <p:spPr>
          <a:xfrm>
            <a:off x="7215120" y="428760"/>
            <a:ext cx="1928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021D-6B4F-45EA-A674-49035961E1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FEEF-2D71-4492-B787-6F9272C09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1116000" y="32544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Результаты АНКЕТИРОВАНИЯ ОДН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Диаграмма 5" descr=""/>
          <p:cNvPicPr/>
          <p:nvPr/>
        </p:nvPicPr>
        <p:blipFill>
          <a:blip r:embed="rId1"/>
          <a:stretch/>
        </p:blipFill>
        <p:spPr>
          <a:xfrm>
            <a:off x="208080" y="781200"/>
            <a:ext cx="4510080" cy="2998800"/>
          </a:xfrm>
          <a:prstGeom prst="rect">
            <a:avLst/>
          </a:prstGeom>
          <a:ln w="0">
            <a:noFill/>
          </a:ln>
        </p:spPr>
      </p:pic>
      <p:pic>
        <p:nvPicPr>
          <p:cNvPr id="114" name="Диаграмма 6" descr=""/>
          <p:cNvPicPr/>
          <p:nvPr/>
        </p:nvPicPr>
        <p:blipFill>
          <a:blip r:embed="rId2"/>
          <a:stretch/>
        </p:blipFill>
        <p:spPr>
          <a:xfrm>
            <a:off x="281160" y="3565440"/>
            <a:ext cx="4370040" cy="3011400"/>
          </a:xfrm>
          <a:prstGeom prst="rect">
            <a:avLst/>
          </a:prstGeom>
          <a:ln w="0">
            <a:noFill/>
          </a:ln>
        </p:spPr>
      </p:pic>
      <p:pic>
        <p:nvPicPr>
          <p:cNvPr id="115" name="Диаграмма 7" descr=""/>
          <p:cNvPicPr/>
          <p:nvPr/>
        </p:nvPicPr>
        <p:blipFill>
          <a:blip r:embed="rId3"/>
          <a:stretch/>
        </p:blipFill>
        <p:spPr>
          <a:xfrm>
            <a:off x="4705200" y="633240"/>
            <a:ext cx="4157640" cy="2872080"/>
          </a:xfrm>
          <a:prstGeom prst="rect">
            <a:avLst/>
          </a:prstGeom>
          <a:ln w="0">
            <a:noFill/>
          </a:ln>
        </p:spPr>
      </p:pic>
      <p:pic>
        <p:nvPicPr>
          <p:cNvPr id="116" name="Диаграмма 8" descr=""/>
          <p:cNvPicPr/>
          <p:nvPr/>
        </p:nvPicPr>
        <p:blipFill>
          <a:blip r:embed="rId4"/>
          <a:stretch/>
        </p:blipFill>
        <p:spPr>
          <a:xfrm>
            <a:off x="4705200" y="3067200"/>
            <a:ext cx="4230720" cy="3582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"/>
          <p:cNvSpPr/>
          <p:nvPr/>
        </p:nvSpPr>
        <p:spPr>
          <a:xfrm>
            <a:off x="0" y="64278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«Детский исследовательский про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84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Цель анкетирования: </a:t>
            </a:r>
            <a:br>
              <a:rPr sz="2800"/>
            </a:b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яснить,  в какие игры любят играть ученики и их отношение к компьютерным игра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490680" y="4292640"/>
            <a:ext cx="82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зультаты проведенного исследования показали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что почти все ребята в классе имеют дома компьютер, учатся пользоваться разными программами, но большую часть времени проводят  за играми. Немногие задумываются о вреде и пользе этих игр, как и о том, сколько времени можно иг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Диаграмма 2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4071960" cy="3000240"/>
          </a:xfrm>
          <a:prstGeom prst="rect">
            <a:avLst/>
          </a:prstGeom>
          <a:ln w="0">
            <a:noFill/>
          </a:ln>
        </p:spPr>
      </p:pic>
      <p:pic>
        <p:nvPicPr>
          <p:cNvPr id="121" name="Диаграмма 6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4071960" cy="29336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0" y="6488280"/>
            <a:ext cx="62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«Детский исследовательский про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Елена\Рабочий стол\Рисунок1.png"/>
          <p:cNvPicPr/>
          <p:nvPr/>
        </p:nvPicPr>
        <p:blipFill>
          <a:blip r:embed="rId1"/>
          <a:stretch/>
        </p:blipFill>
        <p:spPr>
          <a:xfrm>
            <a:off x="133200" y="1474920"/>
            <a:ext cx="4389480" cy="343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Documents and Settings\Елена\Рабочий стол\Рисунок2.png"/>
          <p:cNvPicPr/>
          <p:nvPr/>
        </p:nvPicPr>
        <p:blipFill>
          <a:blip r:embed="rId2"/>
          <a:stretch/>
        </p:blipFill>
        <p:spPr>
          <a:xfrm>
            <a:off x="4857840" y="1554120"/>
            <a:ext cx="4030560" cy="3346560"/>
          </a:xfrm>
          <a:prstGeom prst="rect">
            <a:avLst/>
          </a:prstGeom>
          <a:ln w="0">
            <a:noFill/>
          </a:ln>
        </p:spPr>
      </p:pic>
      <p:sp>
        <p:nvSpPr>
          <p:cNvPr id="125" name="WordArt 6"/>
          <p:cNvSpPr txBox="1"/>
          <p:nvPr/>
        </p:nvSpPr>
        <p:spPr>
          <a:xfrm>
            <a:off x="1042920" y="203040"/>
            <a:ext cx="6446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70c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авайте сравним Человека Разумного и Человека Играющего</a:t>
            </a:r>
            <a:endParaRPr b="0" lang="en-US" sz="1800" spc="1" strike="noStrike">
              <a:ln w="9360">
                <a:solidFill>
                  <a:srgbClr val="0070c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0" y="5229360"/>
            <a:ext cx="87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рачи говорят, что на коробках с играми давно пора ставить надпись наподобие этой: «КУРЕНИЕ УБИВАЕТ». Но даже это не поможет, пока сам человек не сделает выбор: хочет он настоящей полноценной жизни – или картинки на экране монитора, которая погаснет вместе с 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1:25:19Z</dcterms:created>
  <dc:creator/>
  <dc:description/>
  <dc:language>en-US</dc:language>
  <cp:lastModifiedBy>Katyusha O</cp:lastModifiedBy>
  <dcterms:modified xsi:type="dcterms:W3CDTF">2019-06-04T00:57:29Z</dcterms:modified>
  <cp:revision>76</cp:revision>
  <dc:subject/>
  <dc:title>Слайд 1</dc:title>
</cp:coreProperties>
</file>