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3.bp.blogspot.com/-XCebx_3xSW8/UL0VLlM1ezI/AAAAAAAAAVE/XD8bt1UyD0Y/s1600/&#1089;&#1086;&#1095;+1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6840" y="642600"/>
            <a:ext cx="73580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ПОДГОТОВКА К ГИА ПО ЛИТЕРАТУР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095280" y="4929120"/>
            <a:ext cx="604836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читель Попова Л.А., МБОУ СОШ.№32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397188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Стилистические особенности «Мцыри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29040" y="272520"/>
            <a:ext cx="47577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Яркие средства художественной выразительности использует Лермонтов как для пейзажного изображения, так и для раскрытия внутренних переживаний героя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оэма насыщена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эпитетами, сравнениями, метафорами, гиперболами, риторическими вопросами, восклицаниями, обращениями, элементами фольклор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4" name="Picture 2" descr="C:\Documents and Settings\Администратор\Рабочий стол\Новая папка\Новая папка\0005-004-Kavkazskij-plennik-rasskaz (1).jpg"/>
          <p:cNvPicPr/>
          <p:nvPr/>
        </p:nvPicPr>
        <p:blipFill>
          <a:blip r:embed="rId1"/>
          <a:stretch/>
        </p:blipFill>
        <p:spPr>
          <a:xfrm>
            <a:off x="214200" y="1843200"/>
            <a:ext cx="3786480" cy="3624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858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Стилистические особенности «Мцыри»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1928880"/>
          <a:ext cx="6620040" cy="4297320"/>
        </p:xfrm>
        <a:graphic>
          <a:graphicData uri="http://schemas.openxmlformats.org/drawingml/2006/table">
            <a:tbl>
              <a:tblPr/>
              <a:tblGrid>
                <a:gridCol w="878040"/>
                <a:gridCol w="2520720"/>
                <a:gridCol w="3221280"/>
              </a:tblGrid>
              <a:tr h="1138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Стилистические приёмы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Примеры из поэмы «Мцыри»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Эпитеты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Метафоры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Гиперболы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Риторические вопросы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Восклицания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Обращения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d4d4d"/>
                          </a:solidFill>
                          <a:latin typeface="Calibri"/>
                          <a:ea typeface="Calibri"/>
                        </a:rPr>
                        <a:t>Элементы фольклора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"/>
          <p:cNvSpPr/>
          <p:nvPr/>
        </p:nvSpPr>
        <p:spPr>
          <a:xfrm>
            <a:off x="0" y="3484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4d4d4d"/>
                </a:solidFill>
                <a:latin typeface="Calibri"/>
                <a:ea typeface="Calibri"/>
              </a:rPr>
              <a:t>Заполните таблицу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143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Контрольная работа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 поэме М.Ю Лермонтова «Мцыри»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1 вариант</a:t>
            </a:r>
            <a:br>
              <a:rPr sz="2000"/>
            </a:b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9680" y="856800"/>
            <a:ext cx="824868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Дайте односложный ответ на вопро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.     Какой приём применяет автор располагая слова следующим образом: «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Чешуёй была покрыта золотой её спина»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Дайте развёрнутый ответ на вопро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2.     Какое изобразительное средство и с какой целью используется М.Ю Лермонтовым: 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«она, как червь во мне жила», «люди вольны, как орлы», «в снегах, горящих, как алмаз»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Дайте развёрнутый связный ответ на вопрос (объём 3-5 предложений), аргументируя свою точку зрения, опираясь на текст произведения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3.     Какие черты романтического героя присущи Мцыри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4.     Как эпиграф связан с темой и идеей произведения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5.     Можно ли действительно считать монолог Мцыри исповедью?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080" indent="18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Обоснуйте свой ответ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857920" y="285480"/>
            <a:ext cx="2884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2 вариант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3840" y="12142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Дайте односложный ответ на вопрос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1.     Какой приём звукописи использует автор в описании грозы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, я как бра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бняться с бурей был бы рад!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Глазами тучи я следил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Рукою молнии ловил…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Дайте развёрнутый ответ на вопрос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2.     Какое изобразительное средство и с какой целью используется М.Ю Лермонтовым: 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«она (страсть) изгрызла душу и сожгла», «объятья каменные их (гор)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Дайте развёрнутый связный ответ на вопрос (объём 3-5 предложений), аргументируя свою точку зрения, опираясь на текст произведения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3.     Как вы думаете для чего М.Ю Лермонтову в поэме «Мцыри» необходим был именно «кавказский материал»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4.     Какую роль играет пейзаж для понимания внутренних стремлений героя, его характера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5.     Что такое 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кульминация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? Что является кульминацией поэмы и почему?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>
              <a:lnSpc>
                <a:spcPct val="8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5800" y="856800"/>
            <a:ext cx="46436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Comic Sans MS"/>
              </a:rPr>
              <a:t>С ЧЕГО НАЧАТЬ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714680"/>
            <a:ext cx="8462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1. Внимательно изучите систему изобразительно-выразительных средств фонетики, лексики, синтаксиса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2. Выучите определения изобразительно-выразительных средст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3. Постарайтесь запомнить роль средств выразительности в художественном тексте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4. Выбирайте из списка предложенных конструкций те, которые наиболее точно передают вашу мысль или мысль автор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5. Правильно включайте информацию исходного текста в готовые речевые формулы, при необходимости изменяйте их, не забывая о требованиях грамматики и культуры реч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13840"/>
            <a:ext cx="75996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Карточки - задания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5840" y="856800"/>
            <a:ext cx="8462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1. Какую роль в стихотворении играют эпитеты? (А.С. Пушкин «Я помню чудное мгновенье…»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2. Какие эпитеты наиболее важны в характеристике Ленского и почему? (А.С. Пушкин «Евгений Онегин»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3. Почему лирический герой стихотворения часто прибегает к риторическим вопросам? (В.А. Жуковский «Невыразимое»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ЛИТЕРАТУРОВЕДЧЕСКИЙ ДИКТАН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9680" y="1285560"/>
            <a:ext cx="831996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НАЙДИТЕ И ИСПРАВЬТЕ ТЕОРЕТИЧЕСКИЕ ОШИБК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Реалистический жанр. Чацкий – персонаж, направление «разговор глухих», диалог  Чацкого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Закон реализма о «трёх единствах»: единстве времени, порядка и мест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Фронтальный монолог, драма»Горе от ума», фраза Софьи, Фамусов – резонёр, одна сюжетная линия в «Горе от ума»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7280" y="357120"/>
            <a:ext cx="7670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КЛЮЧ К ЛИТЕРАТУРОВЕДЧЕСКОМУ ДИКТАНТУ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258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Реалистический метод, Чацкий – герой, комический приём «разговор глухих», монолог Чацкого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6840" indent="258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Закон классицизма о «трёх единствах»: единства времени, места и действия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6840" indent="258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Фронтальный конфликт, комедия «Горе от ума», реплика Софьи, Чацкий – резонёр, две сюжетные линии в «Горе от ума»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142560"/>
            <a:ext cx="759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оэтика заглавия пьесы «Горе от ума»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143000"/>
            <a:ext cx="83912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76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Виды работы при изучении пьесы «Горе от ума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76400" algn="just"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76400" algn="just"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Теоретическая разминка. Осмысление данных определений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76400" algn="just">
              <a:spcBef>
                <a:spcPts val="601"/>
              </a:spcBef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764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Заглавие -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название, наименование литературного произведения. Обычно в заглавие выносится либо имя главного героя, либо идея произведения, либо основной конфликт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76400" algn="just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764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Заглавие – название литературного произведения, издания, серии, определяющее тему, идею, предмет, центральный образ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285840"/>
            <a:ext cx="759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Аналитический вопрос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400" y="1285560"/>
            <a:ext cx="83912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- К какому виду относится заглавие комедии?                                         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                       (Дополните схему примерами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ВИДЫ ЗАГЛАВИЙ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1000080" y="1000080"/>
          <a:ext cx="782316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000080"/>
                    <a:ext cx="78231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387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" name="Рисунок 6" descr="http://3.bp.blogspot.com/-XCebx_3xSW8/UL0VLlM1ezI/AAAAAAAAAVE/XD8bt1UyD0Y/s200/%D1%81%D0%BE%D1%87+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357120"/>
            <a:ext cx="67867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5960" y="5285880"/>
            <a:ext cx="548640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Готовимся к экзаменам по литератур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214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"/>
              </a:rPr>
              <a:t>Задание - эксперимен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400" y="1214280"/>
            <a:ext cx="83912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1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Назовите русскую пословицу – «перевёртыш» заглавию комедии «Горе от ума». («Дуракам счастье»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Но разве Чацкого окружают одни дураки? Много ли глупцов в пьесе?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4d4d4d"/>
                </a:solidFill>
                <a:uFillTx/>
                <a:latin typeface="Arial"/>
              </a:rPr>
              <a:t>Художественный детал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spcBef>
                <a:spcPts val="700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Репли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spcBef>
                <a:spcPts val="700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Монолог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spcBef>
                <a:spcPts val="700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Диалог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96840" indent="12600" algn="just">
              <a:spcBef>
                <a:spcPts val="700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Психологический портре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14480" y="428400"/>
            <a:ext cx="5143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Теоретическая разминка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8400" y="1356840"/>
            <a:ext cx="839124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осстановите пропуски в определениях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d4d4d"/>
                </a:solidFill>
                <a:uFillTx/>
                <a:latin typeface="Arial"/>
              </a:rPr>
              <a:t>Реплика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(в переводе с латинского…) – краткий ответ действующего лица в произведении,… фраза в диалоге, возникшая как отклик на слова партнёр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d4d4d"/>
                </a:solidFill>
                <a:uFillTx/>
                <a:latin typeface="Arial"/>
              </a:rPr>
              <a:t>Монолог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(в переводе с греческого…) речь действующего лица в произведении, обращённая к собеседнику или …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d4d4d"/>
                </a:solidFill>
                <a:uFillTx/>
                <a:latin typeface="Arial"/>
              </a:rPr>
              <a:t>Психологический портрет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(«портрет» в переводе с греческого…) – описание внутреннего мира героя, персонажа литературного произведения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85680" y="356760"/>
            <a:ext cx="6000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Ключ к теоретической разминке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1499760"/>
            <a:ext cx="8462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d4d4d"/>
                </a:solidFill>
                <a:uFillTx/>
                <a:latin typeface="Arial"/>
              </a:rPr>
              <a:t>Реплика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(в переводе с латинского – 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«возражаю»)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– краткий ответ действующего лица в произведении, 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ответная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 фраза в диалоге, возникшая как отклик на слова партнёра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2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2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d4d4d"/>
                </a:solidFill>
                <a:uFillTx/>
                <a:latin typeface="Arial"/>
              </a:rPr>
              <a:t>Монолог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(в переводе с греческого 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«один»+ «слово»)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речь действующего лица в произведении, обращённая к собеседнику или 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самому себе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2960" algn="just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2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d4d4d"/>
                </a:solidFill>
                <a:uFillTx/>
                <a:latin typeface="Arial"/>
              </a:rPr>
              <a:t>Психологический портрет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(«портрет» в переводе с греческого - </a:t>
            </a: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«изображение»)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– описание внутреннего мира героя, персонажа литературного произведения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1440" indent="12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7280" y="213840"/>
            <a:ext cx="759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Franklin Gothic Medium"/>
              </a:rPr>
              <a:t>Узнайте персонажей по их психологическому портрету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28880" y="1285560"/>
            <a:ext cx="68911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. «Человек он светский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Отъявленный мошенник, плут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ри нём остерегись, переносить горазд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И в карты не садись: продаст!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2.</a:t>
            </a: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 «А впрочем, он дойдёт до степеней известных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Ведь нынче любят бессловесных…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3. «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Тогда не то, что ныне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При государыне служил Екатерин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А в те поры все важны! В сорок пуд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Раскланяйся – тупеем не кивнут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Вельможа в случае – тем паче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е как другой, и пел и ел иначе»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Творческая работа. </a:t>
            </a:r>
            <a:br>
              <a:rPr sz="2800"/>
            </a:b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«Литературное рисование»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7120" y="1428840"/>
            <a:ext cx="8462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Задание для 1 группы:  «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рисовать» психологический портрет Фамусов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Задание для 2 группы: «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рисовать» психологический портрет Софь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Задание для 3 группы: «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рисовать» психологический портрет Чацкого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Задание для 4 группы: «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рисовать» психологический портрет Молчалин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56880" y="142920"/>
            <a:ext cx="7000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Franklin Gothic Medium"/>
              </a:rPr>
              <a:t>Психологический портрет Молчалина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400" y="1214280"/>
            <a:ext cx="83912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Речевая манера Молчалина раскрывает нам внутренний мир героя: его стремление к карьере, умение подслужиться, лицемерие. Он немногословен, «не богат словами». Это объясняется боязнью высказать своё суждение. В его речи нет иностранных слов и выражений. Молчалин старается выбирать слова деликатные, прибавляет почтительно «с»: «с бумагами-с, нет-с». С Фамусовым, своим начальником, обращается  почтительно, с Хлёстовой – льстиво и вкрадчиво, с Софьей – с великой скромностью, с Чацким – с насмешкой, а с Лизой не стесняется в выражения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5640" y="499680"/>
            <a:ext cx="65530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 Black"/>
              </a:rPr>
              <a:t>Инструкция по выполнению работы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785960"/>
            <a:ext cx="810576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176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Экзаменационная работа по литературе состоит из двух частей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96840" indent="176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Часть 1</a:t>
            </a:r>
            <a:r>
              <a:rPr b="1" lang="ru-RU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включает в себя два альтернативных варианта, содержащих текст художественного произведения и вопросы к нему. Вам необходимо выбрать </a:t>
            </a:r>
            <a:r>
              <a:rPr b="1" lang="ru-RU" sz="1700" spc="-1" strike="noStrike" u="sng">
                <a:solidFill>
                  <a:srgbClr val="4d4d4d"/>
                </a:solidFill>
                <a:uFillTx/>
                <a:latin typeface="Arial"/>
              </a:rPr>
              <a:t>ОДИН </a:t>
            </a: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из двух вариантов. Первый вариант ориентирован на анализ фрагмента эпического (или драматического, или лироэпического) произведения, второй - на анализ лирического стихотворения (или басни)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96840" indent="176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Выбрав для работы один из вариантов, прочитайте предложенный текст и последовательно выполните три задания, которые требуют написания развёрнутого ответа ограниченного объёма. Выполняя первые два задания (1.1.1-1.1.2 или 1.2.1-1.2.2), дайте ответ в примерном объёме 3-5 предложений с опорой на текст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96840" indent="176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Третье задание (1.1.3 или 1.2.3) предполагает не только размышление над предложенным текстом, но и сопоставление его с другим произведением или фрагментом, текст которого также приведён в экзаменационной работе (примерный объём ответа - 5-8 предложений)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96840" indent="176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Выполняя задания части 1, постарайтесь сформулировать прямые связные ответы, избегая пространных вступлений и характеристик, соблюдая нормы речи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96840" indent="176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d4d4d"/>
                </a:solidFill>
                <a:latin typeface="Arial"/>
              </a:rPr>
              <a:t>Указание на объём ответов в части 1 условно; оценка ответа зависит от его содержательности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marL="96840" indent="176040">
              <a:lnSpc>
                <a:spcPct val="80000"/>
              </a:lnSpc>
              <a:spcBef>
                <a:spcPts val="425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43200" y="714240"/>
            <a:ext cx="53388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omic Sans MS"/>
              </a:rPr>
              <a:t>ГИА: рекомендации к заданиям 1.1.3 и 1.2.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8400" y="1857240"/>
            <a:ext cx="839124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1. </a:t>
            </a:r>
            <a:r>
              <a:rPr b="1" lang="ru-RU" sz="2200" spc="-1" strike="noStrike">
                <a:solidFill>
                  <a:srgbClr val="4d4d4d"/>
                </a:solidFill>
                <a:latin typeface="Arial"/>
              </a:rPr>
              <a:t>Помните</a:t>
            </a: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: основной фрагмент и предложенный отрывок или произведение для сопоставления объединены, как правило, общей темой, но раскрывается она по-разному в зависимости от авторского замысла, творческого метода поэта или писателя. Именно поэтому сначала нужно выявить </a:t>
            </a:r>
            <a:r>
              <a:rPr b="1" lang="ru-RU" sz="2200" spc="-1" strike="noStrike">
                <a:solidFill>
                  <a:srgbClr val="4d4d4d"/>
                </a:solidFill>
                <a:latin typeface="Arial"/>
              </a:rPr>
              <a:t>сходства</a:t>
            </a: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, а затем </a:t>
            </a:r>
            <a:r>
              <a:rPr b="1" lang="ru-RU" sz="2200" spc="-1" strike="noStrike">
                <a:solidFill>
                  <a:srgbClr val="4d4d4d"/>
                </a:solidFill>
                <a:latin typeface="Arial"/>
              </a:rPr>
              <a:t>различия</a:t>
            </a: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 (если они есть).  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2. Правильно включайте информацию исходного текста в готовые речевые формулы. Это поможет избежать пересказа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3. Выбирайте из списка предложенных конструкций те, которые наиболее точно передают вашу мысль или мысль автора.  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86360" y="142560"/>
            <a:ext cx="2027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Comic Sans MS"/>
              </a:rPr>
              <a:t>КЛИШЕ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5840" y="713880"/>
            <a:ext cx="85723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1. Произведения (стихотворения, фрагменты, отрывки) объединены мотивом (темой)...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2. Одна и та же тема в двух произведениях (стихотворениях, фрагментах, отрывках) раскрывается совершенно по-разному и развивается в противоположных аспектах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3. Для обоих произведений (стихотворений, фрагментов, отрывков) характерна ещё одна особенность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4. Нужно отметить ещё одно существенное несходство..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5. Различия стихотворений выражаются не только в эмоциональной окраске, в пафосе, но и в строении, форме произведений.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6. Ритмическое звучание стихотворений также контрастно. Стихотворные размеры, которые выбирают поэты, передают... (</a:t>
            </a:r>
            <a:r>
              <a:rPr b="1" i="1" lang="ru-RU" sz="1600" spc="-1" strike="noStrike">
                <a:solidFill>
                  <a:srgbClr val="4d4d4d"/>
                </a:solidFill>
                <a:latin typeface="Arial"/>
              </a:rPr>
              <a:t>динамичность, движение; плавность, напевность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7. В отличие от первого, второе стихотворение имеет..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8. Стихотворения во многом контрастные, и в основу контраста автор положил противоположность чувств ( Пр.: </a:t>
            </a:r>
            <a:r>
              <a:rPr b="1" i="1" lang="ru-RU" sz="1600" spc="-1" strike="noStrike">
                <a:solidFill>
                  <a:srgbClr val="4d4d4d"/>
                </a:solidFill>
                <a:latin typeface="Arial"/>
              </a:rPr>
              <a:t>любви и влюблённости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). Различия этих чувств обусловлены различиями лирических героев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9. Стихотворения ... , казалось бы об одном и том же, но как по-разному представлена в них  позиция лирического героя и совершенно разные  настроения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10. Мне кажется, из сопоставления обоих произведений (стихотворений, фрагментов, отрывков)   можно сделать следующий вывод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080" indent="185040" algn="just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7280" y="428760"/>
            <a:ext cx="759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Характеристика художественного образа или персонажа 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имерный план 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840" y="1285920"/>
            <a:ext cx="85341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I. Место персонажа в системе образов произведения. 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II. Характеристика персонажа как определённого социального типа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1. Социальное и материальное положение.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2. Внешность.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3. Своеобразие мировосприятия и мировоззрения, круг интересов, привычек, склонностей: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 А) характер деятельности и основные жизненные устремления;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 Б) влияние на окружающих.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4. Область чувств: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 А) отношения к окружающим;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440" indent="1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 </a:t>
            </a: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Б) особенности внутренних переживаний.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5. Авторское отношение к персонажу.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6. Личные черты, которые выявляются в произведении: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А) с помощью портрета;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Б) в авторской характеристике;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В) через характеристику других действующих лиц;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Г) предысторией или биографией;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Д) через цепь поступков;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 Е) в речи;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         Ж) окружающей обстановкой.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III. Какая общественная проблема привела автора к созданию подобного образа?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90560" y="2854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99"/>
                </a:solidFill>
                <a:latin typeface="Comic Sans MS"/>
              </a:rPr>
              <a:t>КОГДА НАЧИНАТЬ ПОДГОТОВКУ К ЭКЗАМЕНУ?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3840" y="135684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"/>
              </a:rPr>
              <a:t>Виды работы при изучении поэмы М.Ю. Лермонтова «Мцыри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Теоретическая разминк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d4d4d"/>
                </a:solidFill>
                <a:uFillTx/>
                <a:latin typeface="Arial"/>
              </a:rPr>
              <a:t>Поэма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от греч.  - «делаю, творю») – лироэпическое произведение большого объёма, стихотворное произведение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Вопрос для обсуждения. Обоснуйте свой ответ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Что общего и в чём отличие лироэпических жанров: баллады и поэмы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28560" y="571680"/>
            <a:ext cx="655308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Arial Black"/>
              </a:rPr>
              <a:t>Инструкция по выполнению работы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85840" y="1642680"/>
            <a:ext cx="853416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2602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d4d4d"/>
                </a:solidFill>
                <a:latin typeface="Arial"/>
              </a:rPr>
              <a:t>Часть 2</a:t>
            </a:r>
            <a:r>
              <a:rPr b="1" lang="ru-RU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содержит четыре темы сочинений, требующие развёрнутого письменного рассуждения. Выберите </a:t>
            </a:r>
            <a:r>
              <a:rPr b="1" lang="ru-RU" sz="2200" spc="-1" strike="noStrike" u="sng">
                <a:solidFill>
                  <a:srgbClr val="4d4d4d"/>
                </a:solidFill>
                <a:uFillTx/>
                <a:latin typeface="Arial"/>
              </a:rPr>
              <a:t>ОДНУ </a:t>
            </a: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из предложенных Вам тем и напишите сочинение объёмом не менее </a:t>
            </a:r>
            <a:r>
              <a:rPr b="1" lang="ru-RU" sz="2200" spc="-1" strike="noStrike">
                <a:solidFill>
                  <a:srgbClr val="4d4d4d"/>
                </a:solidFill>
                <a:latin typeface="Arial"/>
              </a:rPr>
              <a:t>200</a:t>
            </a: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 слов, аргументируя свои рассуждения и ссылаясь на текст художественного произведения (если объём сочинения менее 150 слов, то оно оценивается 0 баллов)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95400" indent="2602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При выполнении всех заданий опирайтесь на авторскую позицию, формулируйте свою точку зрения, используйте теоретико-литературные понятия для анализа произведения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95400" indent="2602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Во время экзамена разрешается пользоваться полными текстами художественных произведений, а также сборниками лирики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95400" indent="2602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На выполнение работы даётся </a:t>
            </a:r>
            <a:r>
              <a:rPr b="1" lang="ru-RU" sz="2200" spc="-1" strike="noStrike">
                <a:solidFill>
                  <a:srgbClr val="4d4d4d"/>
                </a:solidFill>
                <a:latin typeface="Arial"/>
              </a:rPr>
              <a:t>235</a:t>
            </a:r>
            <a:r>
              <a:rPr b="0" lang="ru-RU" sz="2200" spc="-1" strike="noStrike">
                <a:solidFill>
                  <a:srgbClr val="4d4d4d"/>
                </a:solidFill>
                <a:latin typeface="Arial"/>
              </a:rPr>
              <a:t> минут. Рекомендуем 2 часа выделить на выполнение заданий части 1, а оставшееся время отвести на написание сочинения (часть 2)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95400" indent="260280">
              <a:lnSpc>
                <a:spcPct val="80000"/>
              </a:lnSpc>
              <a:spcBef>
                <a:spcPts val="5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6920" y="356760"/>
            <a:ext cx="7456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Часть 2. Сочинение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400" y="1143000"/>
            <a:ext cx="83912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10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Вступительная и заключительная части сочинения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4840" indent="10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иступая к сочинению, помните о том, что лучше всего оценивается и воспринимается то, что и как сказано в самом начале и конце. Поэтому необходимо привлечь  какую-нибудь оригинальную мысль, которая придаст своеобразие вступлению.  Это могут быть сведения об эпохе, факты из биографии писателя или какие-то общие рассуждения по поводу темы.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4840" indent="10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В соответствии с этим выделяют следующие 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виды вступления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: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историческое (эпоха);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аналитическое (анализирующее какое-либо понятие, входящее в формулировку темы);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 биографическое (факты из биографии писателя);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сравнительное (о литературных традициях);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живописное (с описанием картины);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лирическое (личное восприятие темы);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обществоведческое (с привлечением знаний по общественным дисциплинам) .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Заключение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 должно быть оригинальным по форме, четким и выразительным по мысли.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желательно, чтобы в заключении был выдвинут новый тезис, расширяющий основную часть;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это может быть концовка - вывод, размышление, исследование, риторический вопрос, концовка        цитаты и другие;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оригинальное заключение замечательно своей внезапностью, новизной;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• удачной концовкой может быть афоризм или библейское изречение. 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Работая над заключением, помните слова Дейла Карнеги: 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"Концовка является самым важным стратегическим элементом. Не оставляйте ее незавершенной и разбитой."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4840" indent="10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4840" indent="10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4840" indent="10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4840" indent="10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4840" indent="10800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Литературоведческая пирамид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4" name="Содержимое 4" descr=""/>
          <p:cNvPicPr/>
          <p:nvPr/>
        </p:nvPicPr>
        <p:blipFill>
          <a:blip r:embed="rId1"/>
          <a:stretch/>
        </p:blipFill>
        <p:spPr>
          <a:xfrm>
            <a:off x="-19080" y="907920"/>
            <a:ext cx="9182160" cy="5742000"/>
          </a:xfrm>
          <a:prstGeom prst="rect">
            <a:avLst/>
          </a:prstGeom>
          <a:ln w="0">
            <a:noFill/>
          </a:ln>
        </p:spPr>
      </p:pic>
      <p:sp>
        <p:nvSpPr>
          <p:cNvPr id="85" name="Равнобедренный треугольник 3"/>
          <p:cNvSpPr/>
          <p:nvPr/>
        </p:nvSpPr>
        <p:spPr>
          <a:xfrm>
            <a:off x="10572840" y="7858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Овал 10"/>
          <p:cNvSpPr/>
          <p:nvPr/>
        </p:nvSpPr>
        <p:spPr>
          <a:xfrm>
            <a:off x="5143680" y="5143680"/>
            <a:ext cx="2571480" cy="98568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Овал 6"/>
          <p:cNvSpPr/>
          <p:nvPr/>
        </p:nvSpPr>
        <p:spPr>
          <a:xfrm>
            <a:off x="1000080" y="5286240"/>
            <a:ext cx="2428920" cy="100044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Овал 9"/>
          <p:cNvSpPr/>
          <p:nvPr/>
        </p:nvSpPr>
        <p:spPr>
          <a:xfrm>
            <a:off x="5072040" y="4000680"/>
            <a:ext cx="2571840" cy="100008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Овал 5"/>
          <p:cNvSpPr/>
          <p:nvPr/>
        </p:nvSpPr>
        <p:spPr>
          <a:xfrm>
            <a:off x="928800" y="4071960"/>
            <a:ext cx="2428920" cy="100008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Овал 8"/>
          <p:cNvSpPr/>
          <p:nvPr/>
        </p:nvSpPr>
        <p:spPr>
          <a:xfrm>
            <a:off x="5072040" y="2786040"/>
            <a:ext cx="2571840" cy="100008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Овал 4"/>
          <p:cNvSpPr/>
          <p:nvPr/>
        </p:nvSpPr>
        <p:spPr>
          <a:xfrm>
            <a:off x="928800" y="2857680"/>
            <a:ext cx="2357280" cy="9144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3000240" y="1571760"/>
            <a:ext cx="2643480" cy="9144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5560" y="356760"/>
            <a:ext cx="74293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Тематика «Мцыри»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9680" y="1428840"/>
            <a:ext cx="83199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d4d4d"/>
                </a:solidFill>
                <a:latin typeface="Arial"/>
              </a:rPr>
              <a:t>                                                 </a:t>
            </a:r>
            <a:r>
              <a:rPr b="1" i="1" lang="ru-RU" sz="1600" spc="-1" strike="noStrike">
                <a:solidFill>
                  <a:srgbClr val="4d4d4d"/>
                </a:solidFill>
                <a:latin typeface="Arial"/>
              </a:rPr>
              <a:t>Тематика «Мцыри»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Тема свободы, воли                                         Тема Земли и Неба     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Тема изгнания                                            Тема одиночества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Тема гармонии                                                Тема природы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95" name="Прямая со стрелкой 12"/>
          <p:cNvCxnSpPr/>
          <p:nvPr/>
        </p:nvCxnSpPr>
        <p:spPr>
          <a:xfrm flipH="1">
            <a:off x="2142720" y="2214720"/>
            <a:ext cx="1000800" cy="64332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96" name="Прямая со стрелкой 14"/>
          <p:cNvCxnSpPr/>
          <p:nvPr/>
        </p:nvCxnSpPr>
        <p:spPr>
          <a:xfrm>
            <a:off x="5572080" y="2214360"/>
            <a:ext cx="929520" cy="57204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97" name="Прямая со стрелкой 16"/>
          <p:cNvCxnSpPr/>
          <p:nvPr/>
        </p:nvCxnSpPr>
        <p:spPr>
          <a:xfrm flipH="1">
            <a:off x="2785680" y="2428920"/>
            <a:ext cx="714960" cy="171504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98" name="Прямая со стрелкой 18"/>
          <p:cNvCxnSpPr/>
          <p:nvPr/>
        </p:nvCxnSpPr>
        <p:spPr>
          <a:xfrm flipH="1">
            <a:off x="2857320" y="2500200"/>
            <a:ext cx="1000800" cy="285840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99" name="Прямая со стрелкой 20"/>
          <p:cNvCxnSpPr/>
          <p:nvPr/>
        </p:nvCxnSpPr>
        <p:spPr>
          <a:xfrm>
            <a:off x="5000760" y="2428920"/>
            <a:ext cx="786240" cy="164376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  <p:cxnSp>
        <p:nvCxnSpPr>
          <p:cNvPr id="100" name="Прямая со стрелкой 22"/>
          <p:cNvCxnSpPr/>
          <p:nvPr/>
        </p:nvCxnSpPr>
        <p:spPr>
          <a:xfrm>
            <a:off x="4428000" y="2499840"/>
            <a:ext cx="1072440" cy="2715480"/>
          </a:xfrm>
          <a:prstGeom prst="straightConnector1">
            <a:avLst/>
          </a:prstGeom>
          <a:ln w="9360">
            <a:solidFill>
              <a:srgbClr val="60c9fd"/>
            </a:solidFill>
            <a:miter/>
            <a:tailEnd len="med" type="arrow" w="med"/>
          </a:ln>
        </p:spPr>
      </p:cxn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99840" y="428760"/>
            <a:ext cx="66438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Поэтика заглавия «Мцыри»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214280"/>
            <a:ext cx="83912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омнения поэта при выборе заглавия поэм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Даже в год окончания в рукописи он назвал её «Бэри» (по-грузински «монах»). Но издал под названием «Мцыри» – «неслужащий монах»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4d"/>
                </a:solidFill>
                <a:latin typeface="Arial"/>
              </a:rPr>
              <a:t>ПРИМЕЧАНИ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На грузинском языке это слово имеет дополнительное значение: «пришелец, чужеземец; человек, не имеющий родных, близких»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4d"/>
                </a:solidFill>
                <a:latin typeface="Arial"/>
              </a:rPr>
              <a:t>- Определите вид заглавия поэмы. Обоснуйте свой выбор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9000" y="571320"/>
            <a:ext cx="5286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Жанр «Мцыри»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400" y="1571400"/>
            <a:ext cx="83912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«Мцыри» - </a:t>
            </a:r>
            <a:r>
              <a:rPr b="0" i="1" lang="ru-RU" sz="2800" spc="-1" strike="noStrike">
                <a:solidFill>
                  <a:srgbClr val="4d4d4d"/>
                </a:solidFill>
                <a:latin typeface="Arial"/>
              </a:rPr>
              <a:t>лирическая поэма, так как в ней даётся изображение сложных переживаний героя, а не внешних событий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Докажите примерами из текст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Поэма-исповедь, </a:t>
            </a:r>
            <a:r>
              <a:rPr b="0" i="1" lang="ru-RU" sz="2800" spc="-1" strike="noStrike">
                <a:solidFill>
                  <a:srgbClr val="4d4d4d"/>
                </a:solidFill>
                <a:latin typeface="Arial"/>
              </a:rPr>
              <a:t>так как повествование от имени героя даёт возможность наиболее глубоко и правдиво раскрыть его духовный облик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4d4d4d"/>
                </a:solidFill>
                <a:latin typeface="Arial"/>
              </a:rPr>
              <a:t>- Докажите примерами из текст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71880" y="500040"/>
            <a:ext cx="5572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Сюжет «Мцыри»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714680"/>
            <a:ext cx="853416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В основе сюжета – традиционная </a:t>
            </a: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романтическая </a:t>
            </a:r>
            <a:r>
              <a:rPr b="0" i="1" lang="ru-RU" sz="3200" spc="-1" strike="noStrike">
                <a:solidFill>
                  <a:srgbClr val="4d4d4d"/>
                </a:solidFill>
                <a:latin typeface="Arial"/>
              </a:rPr>
              <a:t>ситуация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бегство из неволи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главный герой – беглец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Нарисуйте схему, по которой развивается сюжетная линия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Образ Мцыри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«Увы! – за несколько мину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Между крутых и тёмных скал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Где я в ребячестве играл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Я б рай и вечность променял…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«Ты хочешь знать, что делал 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а воле? Жил – и жизнь моя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Без этих трёх блаженных дне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Была б печальней и мрачней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Бессильной старости твоей…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d4d"/>
                </a:solidFill>
                <a:latin typeface="Arial"/>
              </a:rPr>
              <a:t>Творческое задание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806400" indent="1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«Нарисуйте» психологический портрет Мцыри, используя его монологи. Почему герой не имеет имени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0" name="Picture 5" descr="C:\Documents and Settings\Администратор\Рабочий стол\Новая папка (2)\Lre326-1.jpg"/>
          <p:cNvPicPr/>
          <p:nvPr/>
        </p:nvPicPr>
        <p:blipFill>
          <a:blip r:embed="rId1"/>
          <a:stretch/>
        </p:blipFill>
        <p:spPr>
          <a:xfrm>
            <a:off x="571680" y="1428840"/>
            <a:ext cx="2928600" cy="458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4:39:39Z</dcterms:created>
  <dc:creator>Лида</dc:creator>
  <dc:description/>
  <dc:language>en-US</dc:language>
  <cp:lastModifiedBy>Лида</cp:lastModifiedBy>
  <dcterms:modified xsi:type="dcterms:W3CDTF">2013-04-25T16:42:01Z</dcterms:modified>
  <cp:revision>62</cp:revision>
  <dc:subject/>
  <dc:title>ПОДГОТОВКА К ГИА ПО ЛИТЕРАТУРЕ</dc:title>
</cp:coreProperties>
</file>