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7F0F-7948-43B0-BE90-A0A0C68774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9B7A-5B49-4C0D-B6B2-3B45F8DDCF6F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FD0C-8C62-4517-B4FE-F5656D3B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BB2-7067-4A2F-A042-BDB0F30B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624B-E8B2-4217-9D10-EC20CCF0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58F2-26E0-4B47-9D4D-9443D5CB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087F-0761-4836-A3AA-0758D954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A020-AC9A-44C5-9473-25CA36C8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5D0B-5CE9-4892-A255-B1C4FF13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D134-C110-4B78-BCB6-1E656F93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C594-F301-4580-9A23-165C3FDE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1F83-6012-465A-904D-91C1FB80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ED27-3A28-4EFA-9D7E-9E90DF21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D35F-45C6-43CA-A3BB-3FBD1748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2585-1AA1-4F09-870B-3E233A83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A875-15C6-411E-B7ED-CC868484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2609-D689-44D5-95AC-9E54D9E8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B1A0-345B-4988-A040-9D6C2C72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CD93-09D8-4814-9218-3CFFB042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547D-DAE3-44E9-8D66-255486C4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2D7E-D5D6-4ED9-90FE-8656A865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94F-823C-4991-9E81-19123D09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442-B015-4888-ABAB-E459B98D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CC8F-0C28-4BE7-86F6-80EFC340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892-86A9-4641-9BE0-C20E9751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B535-FEBC-4D98-93E7-E9E49E94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9c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72A7-6FA8-42A9-B787-A16FECD621BE}" type="slidenum">
              <a:rPr b="0" lang="ru-RU" sz="1000" spc="-1" strike="noStrike">
                <a:solidFill>
                  <a:srgbClr val="fff9c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BA2D-A90A-4351-9F50-2AE751AEA470}" type="slidenum"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3" descr=""/>
          <p:cNvPicPr/>
          <p:nvPr/>
        </p:nvPicPr>
        <p:blipFill>
          <a:blip r:embed="rId2"/>
          <a:stretch/>
        </p:blipFill>
        <p:spPr>
          <a:xfrm>
            <a:off x="25560" y="31680"/>
            <a:ext cx="911844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Заголовок 1" descr=""/>
          <p:cNvPicPr/>
          <p:nvPr/>
        </p:nvPicPr>
        <p:blipFill>
          <a:blip r:embed="rId3"/>
          <a:stretch/>
        </p:blipFill>
        <p:spPr>
          <a:xfrm>
            <a:off x="920880" y="762120"/>
            <a:ext cx="6858000" cy="4645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-12600" y="2700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114" name="Заголовок 1"/>
          <p:cNvSpPr/>
          <p:nvPr/>
        </p:nvSpPr>
        <p:spPr>
          <a:xfrm>
            <a:off x="457200" y="105264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49014"/>
                </a:solidFill>
                <a:latin typeface="Times New Roman"/>
                <a:ea typeface="Times New Roman"/>
              </a:rPr>
              <a:t>Пирамидки, </a:t>
            </a:r>
            <a:r>
              <a:rPr b="1" lang="ru-RU" sz="3200" spc="-1" strike="noStrike">
                <a:solidFill>
                  <a:srgbClr val="149014"/>
                </a:solidFill>
                <a:latin typeface="Times New Roman"/>
                <a:ea typeface="Times New Roman"/>
              </a:rPr>
              <a:t>кубики</a:t>
            </a:r>
            <a:r>
              <a:rPr b="1" lang="ru-RU" sz="3600" spc="-1" strike="noStrike">
                <a:solidFill>
                  <a:srgbClr val="149014"/>
                </a:solidFill>
                <a:latin typeface="Times New Roman"/>
                <a:ea typeface="Times New Roman"/>
              </a:rPr>
              <a:t> любого размера, </a:t>
            </a:r>
            <a:r>
              <a:rPr b="1" lang="ru-RU" sz="3200" spc="-1" strike="noStrike">
                <a:solidFill>
                  <a:srgbClr val="149014"/>
                </a:solidFill>
                <a:latin typeface="Times New Roman"/>
                <a:ea typeface="Times New Roman"/>
              </a:rPr>
              <a:t>конструктор</a:t>
            </a:r>
            <a:r>
              <a:rPr b="1" lang="ru-RU" sz="3600" spc="-1" strike="noStrike">
                <a:solidFill>
                  <a:srgbClr val="149014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5" name="Объект 2"/>
          <p:cNvSpPr/>
          <p:nvPr/>
        </p:nvSpPr>
        <p:spPr>
          <a:xfrm>
            <a:off x="934920" y="2065320"/>
            <a:ext cx="72741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же в 8–9 месяцев детки легко справятся с этой задачей. После года усложните упражнение, чтобы ребёнок запомнил размер, а не только порядок нанизывания красного, жёлтого или синего колечка. Понадобится пирамидка с кольцами одного цвета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ы по конструированию проводятся с ребенком с целью формирования мыслительных процессов и восприятия, обогащения сенсорного опыта,  координации движений и развития мелкой моторики. Игры способствуют воспитанию сосредоточенности, зрительного и слухового внимания, умению добиваться результата, приучают к бережному обращению с игрушками, учат действовать по показу взрослого, следить за его действиями, подражать им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Заголовок 1"/>
          <p:cNvSpPr/>
          <p:nvPr/>
        </p:nvSpPr>
        <p:spPr>
          <a:xfrm>
            <a:off x="484200" y="84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заключении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8" name="Объект 2"/>
          <p:cNvSpPr/>
          <p:nvPr/>
        </p:nvSpPr>
        <p:spPr>
          <a:xfrm>
            <a:off x="684360" y="1844640"/>
            <a:ext cx="7632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ктика подтверждает выводы специалистов о том, насколько эмоционально значимы игры на развитие мелкой моторики, как положительно они влияют на развитие речи и  внимания, оптико-пространственного восприятия,  мышления, на формирование коммуникативных умений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ким образом, целенаправленная, систематическая и планомерная работа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развитию мелкой моторики рук у детей младшего дошкольного возраста во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заимодействии с родителями даёт хороший результат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24000" y="981000"/>
            <a:ext cx="7920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«Истоки способностей и дарований детей находятся на кончиках  их пальцев. От них, образно говоря, идут тончайшие ручейки, которые питают источник творческой мысли. Чем больше уверенности и изобретательности в движениях детской руки, тем тоньше  ее взаимодействие  с орудием труда, тем сложнее движения, необходимые для этого взаимодействия, тем ярче творческая стихия детского разума.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м больше мастерства в детской руке, тем ребенок умнее».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.А.Сухомлинский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8" descr=""/>
          <p:cNvPicPr/>
          <p:nvPr/>
        </p:nvPicPr>
        <p:blipFill>
          <a:blip r:embed="rId1"/>
          <a:stretch/>
        </p:blipFill>
        <p:spPr>
          <a:xfrm>
            <a:off x="-44280" y="30240"/>
            <a:ext cx="9188280" cy="7143840"/>
          </a:xfrm>
          <a:prstGeom prst="rect">
            <a:avLst/>
          </a:prstGeom>
          <a:ln w="0">
            <a:noFill/>
          </a:ln>
        </p:spPr>
      </p:pic>
      <p:sp>
        <p:nvSpPr>
          <p:cNvPr id="94" name="Объект 4"/>
          <p:cNvSpPr/>
          <p:nvPr/>
        </p:nvSpPr>
        <p:spPr>
          <a:xfrm>
            <a:off x="755640" y="1044720"/>
            <a:ext cx="748836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блема развития мелкой моторики ребенка - тонких движений кистей и пальцев рук в психологии и педагогике имеет большое значение и расценивается как один из показателей психического развития ребенка.  И.М. Сеченов писал, что движения руки человека наследственно не предопределены, а возникают в процессе воспитания и обучения как результат образования ассоциативных связей между зрительными ощущениями, осязательными и мышечными в процессе активного взаимодействия с окружающей средой.  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кончиках детских пальчиков расположены нервные окончания, которые способствуют передаче огромного количества сигналов в мозговой центр, а это влияет на развитие ребенка в целом. Все способы развития мелкой моторики оказывают благотворное воздействие на организм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49320" y="0"/>
            <a:ext cx="91152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Объект 2"/>
          <p:cNvSpPr/>
          <p:nvPr/>
        </p:nvSpPr>
        <p:spPr>
          <a:xfrm>
            <a:off x="755640" y="568440"/>
            <a:ext cx="7272360" cy="57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же понимают 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 термином «мелкая моторика»?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лкая моторика –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окупность скоординированных действий нервной системы, часто в сочетании со зрительной системой в выполнении мелких и точных движений кистями и пальцами рук и ног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2" descr="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Объект 2"/>
          <p:cNvSpPr/>
          <p:nvPr/>
        </p:nvSpPr>
        <p:spPr>
          <a:xfrm>
            <a:off x="971640" y="404640"/>
            <a:ext cx="712944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большинства современных детей отмечается общее моторное отставание, в особенности у детей городских.  К сожалению, о проблемах с координацией движений и мелкой моторикой большинство родителей узнают только перед школой. Это оборачивается форсированной нагрузкой на ребенка: кроме усвоения новой информации, приходится еще учиться удерживать в непослушных пальцах карандаш. Поэтому в детском саду, и конечно же дома необходимо создавать все условия, способствующие развитию мелкой моторики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-31680" y="0"/>
            <a:ext cx="9175680" cy="7174080"/>
          </a:xfrm>
          <a:prstGeom prst="rect">
            <a:avLst/>
          </a:prstGeom>
          <a:ln w="0">
            <a:noFill/>
          </a:ln>
        </p:spPr>
      </p:pic>
      <p:sp>
        <p:nvSpPr>
          <p:cNvPr id="100" name="Заголовок 1"/>
          <p:cNvSpPr/>
          <p:nvPr/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чем нужно развивать мелкую моторику? 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1" name="Объект 2"/>
          <p:cNvSpPr/>
          <p:nvPr/>
        </p:nvSpPr>
        <p:spPr>
          <a:xfrm>
            <a:off x="892080" y="1452600"/>
            <a:ext cx="73263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льза очевидна: 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точные движения пальцев, кистей, координация деятельности костной, мышечной и нервной систем активизирует зоны мозга, ответственные за двигательную проекцию;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близость этих отделов к речевой зоне улучшает формирование, развитие речи у деток раннего возраста;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чем больше нагрузка на пальчики, чем чаще ребёнок совершает мелкие, точные движения, тем раньше кроха научится говорить;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мелкая моторика связана с двигательной, зрительной памятью, координацией.  Регулярные упражнения улучшают мышление, повышают внимание, развивают наблюдательность;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точные движения пригодятся деткам любого возраста в учёбе, повседневной жизни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1"/>
          <p:cNvSpPr/>
          <p:nvPr/>
        </p:nvSpPr>
        <p:spPr>
          <a:xfrm>
            <a:off x="468360" y="333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льчиковые игры.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4" name="Объект 2"/>
          <p:cNvSpPr/>
          <p:nvPr/>
        </p:nvSpPr>
        <p:spPr>
          <a:xfrm>
            <a:off x="755640" y="1197000"/>
            <a:ext cx="76327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льшая роль в развитии мелкой моторики в раннем и младшем дошкольном возрасте отводится  пальчиковым играм. В России известны многие старинные забавы с пальчиками: пестушки, прибаутки, потешки. Игры с пальчиками очень увлекательны. Они просты, эмоциональны и не требуют никаких приспособлений и специальной подготовки. В них можно играть где угодно – на прогулке, на отдыхе, в очереди к врачу, в дальней поездке. Это интересная игровая форма, благодаря которой, ритмическая организация поэтического текста и соотнесенных с ним движений, вовлекают ребенка в выполнение действие по показу взрослого.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Заголовок 1"/>
          <p:cNvSpPr/>
          <p:nvPr/>
        </p:nvSpPr>
        <p:spPr>
          <a:xfrm>
            <a:off x="471600" y="126828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крашивание, рисование. 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7" name="Объект 2"/>
          <p:cNvSpPr/>
          <p:nvPr/>
        </p:nvSpPr>
        <p:spPr>
          <a:xfrm>
            <a:off x="457200" y="2060640"/>
            <a:ext cx="822960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первых порах не так важен результат, как процесс. Постоянный контроль линий, повторяющиеся движения в пределах определенной области на листе бумаги положительно влияют на развитие моторики, улучшают координаци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ы  с пластилином.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110" name="Рисунок 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Объект 2"/>
          <p:cNvSpPr/>
          <p:nvPr/>
        </p:nvSpPr>
        <p:spPr>
          <a:xfrm>
            <a:off x="45720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ибольший интерес вызывает работа ребенка с пластилином. Детям очень нравиться повторять за взрослыми движения, работая с этим новым для них пластичным материалом. Это способствует развитию согласованных движений рук ребенка, а в конечном итоге влияет на развитие речи и мышления малыша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2" name="Заголовок 1"/>
          <p:cNvSpPr/>
          <p:nvPr/>
        </p:nvSpPr>
        <p:spPr>
          <a:xfrm>
            <a:off x="48564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ы  с пластилином.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17:39:45Z</dcterms:created>
  <dc:creator>Admin</dc:creator>
  <dc:description/>
  <dc:language>en-US</dc:language>
  <cp:lastModifiedBy>Пользователь Windows</cp:lastModifiedBy>
  <dcterms:modified xsi:type="dcterms:W3CDTF">2019-06-04T11:33:04Z</dcterms:modified>
  <cp:revision>117</cp:revision>
  <dc:subject/>
  <dc:title>Слайд 1</dc:title>
</cp:coreProperties>
</file>