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95AD-CF0A-46A5-86DC-7A934E49AC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AB07-44DF-4985-BAE5-AB17947F376B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8A8-6D76-4225-90BE-8C1FF335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E8F-1EC2-4D07-AC72-D5BF830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AB8-6804-4976-A186-36529D04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449-216A-4A22-A95D-CD0A9227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ACBA-0B0B-48B5-963B-BBBA4B1F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E581-8499-4795-85EA-A945A5A0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63A0-87CD-4D41-AD0B-B76C8FEB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EAD0-66F4-4300-B79C-630FDDB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B1CA-C794-4225-A96F-41C49EA5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DB28-F6EE-4C9C-A266-7BEEA12A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DDF1-B650-4EA4-A189-79EFBD8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123-4867-4BB8-B9FC-0231FA04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9D8B-0519-4213-ABEA-894B541F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EDDE-3009-46F7-BE83-B3B14EF0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6837-BFBA-4799-AD1C-AE88ABBC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28F8-4991-44C3-BF08-59A8C9B4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78B5-0307-48E8-82EC-22A75C58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936-0B5A-4A99-80B7-B98673AE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180-B8A6-4341-B173-50551F6D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2BF-69A7-4040-9107-5AE3307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3B1-50BD-4D5C-9C79-839EAFC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435-56A6-4CC6-A92E-6015D3A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B8F-F95E-4BF1-AA53-32F11EBD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F8C-F7EB-43B3-AB51-744FD66C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71DC-3B1B-4490-A773-D10DE8B176F1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DDA3-A193-4EFA-B342-FFA0B3029140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25560" y="31680"/>
            <a:ext cx="91184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3"/>
          <a:stretch/>
        </p:blipFill>
        <p:spPr>
          <a:xfrm>
            <a:off x="920880" y="762120"/>
            <a:ext cx="6858000" cy="4645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-1260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1"/>
          <p:cNvSpPr/>
          <p:nvPr/>
        </p:nvSpPr>
        <p:spPr>
          <a:xfrm>
            <a:off x="457200" y="1052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Пирамидки, </a:t>
            </a:r>
            <a:r>
              <a:rPr b="1" lang="ru-RU" sz="32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кубики</a:t>
            </a:r>
            <a:r>
              <a:rPr b="1" lang="ru-RU" sz="36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 любого размера, </a:t>
            </a:r>
            <a:r>
              <a:rPr b="1" lang="ru-RU" sz="32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конструктор</a:t>
            </a:r>
            <a:r>
              <a:rPr b="1" lang="ru-RU" sz="3600" spc="-1" strike="noStrike">
                <a:solidFill>
                  <a:srgbClr val="149014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5" name="Объект 2"/>
          <p:cNvSpPr/>
          <p:nvPr/>
        </p:nvSpPr>
        <p:spPr>
          <a:xfrm>
            <a:off x="934920" y="2065320"/>
            <a:ext cx="727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же в 8–9 месяцев детки легко справятся с этой задачей. После года усложните упражнение, чтобы ребёнок запомнил размер, а не только порядок нанизывания красного, жёлтого или синего колечка. Понадобится пирамидка с кольцами одного цвета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по конструированию проводятся с ребенком с целью формирования мыслительных процессов и восприятия, обогащения сенсорного опыта,  координации движений и развития мелкой моторики. Игры способствуют воспитанию сосредоточенности, зрительного и слухового внимания, умению добиваться результата, приучают к бережному обращению с игрушками, учат действовать по показу взрослого, следить за его действиями, подражать им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Заголовок 1"/>
          <p:cNvSpPr/>
          <p:nvPr/>
        </p:nvSpPr>
        <p:spPr>
          <a:xfrm>
            <a:off x="484200" y="84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заключении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8" name="Объект 2"/>
          <p:cNvSpPr/>
          <p:nvPr/>
        </p:nvSpPr>
        <p:spPr>
          <a:xfrm>
            <a:off x="684360" y="1844640"/>
            <a:ext cx="763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ктика подтверждает выводы специалистов о том, насколько эмоционально значимы игры на развитие мелкой моторики, как положительно они влияют на развитие речи и  внимания, оптико-пространственного восприятия,  мышления, на формирование коммуникативных умений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целенаправленная, систематическая и планомерная работа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развитию мелкой моторики рук у детей младшего дошкольного возраста во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и с родителями даёт хороший результат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4000" y="981000"/>
            <a:ext cx="7920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Истоки способностей и дарований детей находятся на кончиках  их пальцев. От них, образно говоря, идут тончайшие ручейки, которые питают источник творческой мысли. Чем больше уверенности и изобретательности в движениях детской руки, тем тоньше  ее взаимодействие  с орудием труда, тем сложнее движения, необходимые для этого взаимодействия, тем ярче творческая стихия детского разума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 больше мастерства в детской руке, тем ребенок умнее»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.А.Сухомлинский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8" descr=""/>
          <p:cNvPicPr/>
          <p:nvPr/>
        </p:nvPicPr>
        <p:blipFill>
          <a:blip r:embed="rId1"/>
          <a:stretch/>
        </p:blipFill>
        <p:spPr>
          <a:xfrm>
            <a:off x="-44280" y="30240"/>
            <a:ext cx="9188280" cy="7143840"/>
          </a:xfrm>
          <a:prstGeom prst="rect">
            <a:avLst/>
          </a:prstGeom>
          <a:ln w="0">
            <a:noFill/>
          </a:ln>
        </p:spPr>
      </p:pic>
      <p:sp>
        <p:nvSpPr>
          <p:cNvPr id="94" name="Объект 4"/>
          <p:cNvSpPr/>
          <p:nvPr/>
        </p:nvSpPr>
        <p:spPr>
          <a:xfrm>
            <a:off x="755640" y="1044720"/>
            <a:ext cx="748836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 развития мелкой моторики ребенка - тонких движений кистей и пальцев рук в психологии и педагогике имеет большое значение и расценивается как один из показателей психического развития ребенка.  И.М. Сеченов писал, что движения руки человека наследственно не предопределены, а возникают в процессе воспитания и обучения как результат образования ассоциативных связей между зрительными ощущениями, осязательными и мышечными в процессе активного взаимодействия с окружающей средой.  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кончиках детских пальчиков расположены нервные окончания, которые способствуют передаче огромного количества сигналов в мозговой центр, а это влияет на развитие ребенка в целом. Все способы развития мелкой моторики оказывают благотворное воздействие на организм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4932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Объект 2"/>
          <p:cNvSpPr/>
          <p:nvPr/>
        </p:nvSpPr>
        <p:spPr>
          <a:xfrm>
            <a:off x="755640" y="568440"/>
            <a:ext cx="727236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же понимают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 термином «мелкая моторика»?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лкая моторика –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окупность скоординированных действий нервной системы, часто в сочетании со зрительной системой в выполнении мелких и точных движений кистями и пальцами рук и ног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Объект 2"/>
          <p:cNvSpPr/>
          <p:nvPr/>
        </p:nvSpPr>
        <p:spPr>
          <a:xfrm>
            <a:off x="971640" y="404640"/>
            <a:ext cx="712944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большинства современных детей отмечается общее моторное отставание, в особенности у детей городских.  К сожалению, о проблемах с координацией движений и мелкой моторикой большинство родителей узнают только перед школой. Это оборачивается форсированной нагрузкой на ребенка: кроме усвоения новой информации, приходится еще учиться удерживать в непослушных пальцах карандаш. Поэтому в детском саду, и конечно же дома необходимо создавать все условия, способствующие развитию мелкой моторики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717408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1"/>
          <p:cNvSpPr/>
          <p:nvPr/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чем нужно развивать мелкую моторику?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1" name="Объект 2"/>
          <p:cNvSpPr/>
          <p:nvPr/>
        </p:nvSpPr>
        <p:spPr>
          <a:xfrm>
            <a:off x="892080" y="1452600"/>
            <a:ext cx="7326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льза очевидна: 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точные движения пальцев, кистей, координация деятельности костной, мышечной и нервной систем активизирует зоны мозга, ответственные за двигательную проекцию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близость этих отделов к речевой зоне улучшает формирование, развитие речи у деток раннего возраста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чем больше нагрузка на пальчики, чем чаще ребёнок совершает мелкие, точные движения, тем раньше кроха научится говорить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мелкая моторика связана с двигательной, зрительной памятью, координацией.  Регулярные упражнения улучшают мышление, повышают внимание, развивают наблюдательность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точные движения пригодятся деткам любого возраста в учёбе, повседневной жизн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468360" y="33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льчиковые игры.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4" name="Объект 2"/>
          <p:cNvSpPr/>
          <p:nvPr/>
        </p:nvSpPr>
        <p:spPr>
          <a:xfrm>
            <a:off x="755640" y="1197000"/>
            <a:ext cx="76327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шая роль в развитии мелкой моторики в раннем и младшем дошкольном возрасте отводится  пальчиковым играм. В России известны многие старинные забавы с пальчиками: пестушки, прибаутки, потешки. Игры с пальчиками очень увлекательны. Они просты, эмоциональны и не требуют никаких приспособлений и специальной подготовки. В них можно играть где угодно – на прогулке, на отдыхе, в очереди к врачу, в дальней поездке. Это интересная игровая форма, благодаря которой, ритмическая организация поэтического текста и соотнесенных с ним движений, вовлекают ребенка в выполнение действие по показу взрослого.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47160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крашивание, рисование.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7" name="Объект 2"/>
          <p:cNvSpPr/>
          <p:nvPr/>
        </p:nvSpPr>
        <p:spPr>
          <a:xfrm>
            <a:off x="457200" y="206064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ервых порах не так важен результат, как процесс. Постоянный контроль линий, повторяющиеся движения в пределах определенной области на листе бумаги положительно влияют на развитие моторики, улучшают координац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 с пластилином.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Объект 2"/>
          <p:cNvSpPr/>
          <p:nvPr/>
        </p:nvSpPr>
        <p:spPr>
          <a:xfrm>
            <a:off x="45720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ибольший интерес вызывает работа ребенка с пластилином. Детям очень нравиться повторять за взрослыми движения, работая с этим новым для них пластичным материалом. Это способствует развитию согласованных движений рук ребенка, а в конечном итоге влияет на развитие речи и мышления малыша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8564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ы  с пластилином.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7:39:45Z</dcterms:created>
  <dc:creator>Admin</dc:creator>
  <dc:description/>
  <dc:language>en-US</dc:language>
  <cp:lastModifiedBy>Пользователь Windows</cp:lastModifiedBy>
  <dcterms:modified xsi:type="dcterms:W3CDTF">2019-06-04T11:33:04Z</dcterms:modified>
  <cp:revision>117</cp:revision>
  <dc:subject/>
  <dc:title>Слайд 1</dc:title>
</cp:coreProperties>
</file>