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5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E4E-AC9F-4910-9E8B-F2ADC0B6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E35-73E8-44D6-AC45-D9E1AB31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466-3569-4F72-98D2-1031C4B0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36B-48B9-4434-9302-AC96D8A9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D115-067F-4F29-8EBC-B8D97E9E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E93F-6FE7-4E87-94AC-6DABB9D2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0223-743B-4896-A618-B86A0D7B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6E5D-6961-474F-9425-AFE9F3D2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EDD1-BC34-458C-BCA1-49267441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7DA8-13E9-4306-B66A-0EE12137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9738-111B-4C11-B1E4-54F7AA8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EEE-C60C-4BD7-8D1E-27340B99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B6A1-741D-4286-A44D-F626AD6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51D-CD77-40C1-B8A8-9D249CD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F19-8865-4F09-89D3-51A63E12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210-2074-4893-81B9-EBBD81D1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2A44-CFF9-4F39-A23A-A9DA3691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6F31-1D31-4DDF-826E-21FB656E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AD4F-096B-43C7-AA32-871EE063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0CFB-D844-4E1C-AC98-B9DB23D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06AF-7BB7-4A74-8D82-730FE709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B2C6-84AC-4040-99AC-C1531FD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4E8-A184-4C70-B1D9-8BA4A3BA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EFF5-2481-48C0-91F4-CCD699ED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A9E4-46B0-462E-9CD1-14FD9504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27F9-1DE7-4040-9C2E-65273FBF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6928-C13D-495E-A766-B8D01021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74A1-BFD9-4061-AE19-015729F9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97E2-76EC-4518-9E79-81032675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4EC8-29C9-4CF4-903E-3E1575CD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9AFC-902F-450C-98AD-9189B0D3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C2BD-02F3-46F4-9571-95C35DCE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E164-529A-4A0E-B5E5-202B1793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F87-7158-48DB-A331-69F1504C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4D60-7D3C-4694-BC29-35EE2F04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123A-72AD-45DD-8AB2-55A11E0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EE6D-938A-4C6F-B482-96110144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311C-A33D-4BF7-90EE-D3459AB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3B3D-8442-4690-9006-BD1CA92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126E5-8F46-45AF-B518-585DFBC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91CB-4C5E-436A-AB66-4D52E541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A1F0D-1FC0-40CC-9B80-430721B5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A8CB-ABB4-4CE9-BED5-9F922AAD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8F00-0E2C-4954-8653-6E878384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4AC-BB43-40DF-927F-BF697735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26DB-E80E-462E-8D3C-D96EEE08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F941B-FC20-4488-A3E2-CC6467FF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BBA31-E317-404C-A927-EE02CD6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10D1-6611-4E3D-A02A-BAFF2F3C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D42E-1B10-41E2-87FF-AFE4DB42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247B-A556-4702-ADE3-32377B97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B99F7-5676-4F87-90CA-105E7FD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1FF48-BA89-4448-B2AF-5C428166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7EE3D-9D49-428A-BFE6-56F45C4E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5D872-2E43-43A9-AA1F-EFA79924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C74-B0B8-4623-8B64-579493F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18BB-8EF5-4B56-9A15-3C937DDA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0D66-00EA-405D-9663-A5361CA8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9E5D-DE3C-455E-B938-A70B29B5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039E4-A28B-4B87-B2A9-7151E7AD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563F-9842-4ECE-9ABE-9559A1FA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F085B-7A7A-45F7-BB11-B4E0BC14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8CCD-16DB-4A20-A60F-53E05339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75AB4-500D-44C3-B18B-C5A5874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A37D3-30CA-44A7-9549-B4D0F74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AADB-B471-4A45-A3BA-85A8641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3C2-AA06-451A-A9DE-EB421B0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B5FF-D463-4338-B716-E5E6D874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0F6E1-E9C4-4B38-8D2E-93C1A43D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71EC8-4FBD-4AA2-8BF8-E657C41B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F4D1-AC41-4969-A06B-778522EC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FA29-DABF-40EA-A572-2CD53145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03F34-14AD-4021-AFF0-E4701DCB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FAC73-821E-4E18-B7EA-72FD4A7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FA05-5181-48C1-B1B3-34D5361E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2C96-9A02-4096-9BB7-C63E0307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69339-A221-43CE-86FE-4E80CB3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5AF-4FF1-4337-A2F2-6AA1CCCE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4CE5F-121D-4C28-B666-3FBD94D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E183-1E4E-4704-B6A1-A4E34C44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F2631-4386-44C0-857A-73FB638F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DDC79-FE6E-4500-8CCE-C2F93FC9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DE4BA-C494-4168-9CC1-E831E46F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16903-4F70-4058-A308-8EBC8484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3AD68-EC6D-4050-9C09-A5275419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C4DE-B731-4ECB-88DC-83EA0C6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DCEFC-30EA-45E1-94A5-C6CD96F2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0E654-D659-4E5B-980C-D2F89E9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FAE-032F-4EC4-AB0E-098C87AB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51610-3CAC-4CE1-A9A3-A1511119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FF8B-7CF9-4E6A-B2AD-3355517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7557-F7BA-496F-87EA-890410F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BA46A-472C-4D06-8F70-E2A97B9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9ACB-CDD0-4926-8502-5B9458E5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7BDD1-C937-4DF9-8E77-9FC3F116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85EA-603E-429F-B6C6-848B191A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9EE1-F8D1-47F8-85C5-9B587B62766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E28C-F28A-4F43-A0AA-48E88763358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463F-45A4-444C-A169-F0CFDCE484F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A24C-AFBE-400B-94CA-E5648290A0F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ACC-0620-4570-8BD6-4C7DCFC4012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3CF3-D76F-49C5-B6A4-D81FEE43DF9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6178-89B1-4AC2-A79E-400558C72C4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472-46B7-4C72-978F-858E8505BBB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542880"/>
            <a:ext cx="8089920" cy="1309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Picture 2" descr="C:\Users\Romanich\Desktop\822ff1b354c61e79d0c56b122be8920e.jpg"/>
          <p:cNvPicPr/>
          <p:nvPr/>
        </p:nvPicPr>
        <p:blipFill>
          <a:blip r:embed="rId2"/>
          <a:stretch/>
        </p:blipFill>
        <p:spPr>
          <a:xfrm>
            <a:off x="1763640" y="2421000"/>
            <a:ext cx="597708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Romanich\Desktop\15-populyarnyh-peredach-nashej-molodosti-i-detstva_2b413e8113005f37fc06f6c3e951d6ad.jpg"/>
          <p:cNvPicPr/>
          <p:nvPr/>
        </p:nvPicPr>
        <p:blipFill>
          <a:blip r:embed="rId2"/>
          <a:stretch/>
        </p:blipFill>
        <p:spPr>
          <a:xfrm>
            <a:off x="900000" y="170028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Romanich\Desktop\obschyestvyennoye_tv_1.jpg"/>
          <p:cNvPicPr/>
          <p:nvPr/>
        </p:nvPicPr>
        <p:blipFill>
          <a:blip r:embed="rId2"/>
          <a:stretch/>
        </p:blipFill>
        <p:spPr>
          <a:xfrm>
            <a:off x="611280" y="1557360"/>
            <a:ext cx="8350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Romanich\Desktop\1082783-18764849-1600-900.jpg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Romanich\Desktop\1010412177.jpg"/>
          <p:cNvPicPr/>
          <p:nvPr/>
        </p:nvPicPr>
        <p:blipFill>
          <a:blip r:embed="rId2"/>
          <a:stretch/>
        </p:blipFill>
        <p:spPr>
          <a:xfrm>
            <a:off x="611280" y="1484280"/>
            <a:ext cx="3529080" cy="5113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C:\Users\Romanich\Desktop\maxresdefault-3.jpg"/>
          <p:cNvPicPr/>
          <p:nvPr/>
        </p:nvPicPr>
        <p:blipFill>
          <a:blip r:embed="rId3"/>
          <a:stretch/>
        </p:blipFill>
        <p:spPr>
          <a:xfrm>
            <a:off x="4211640" y="1125360"/>
            <a:ext cx="4824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Users\Romanich\Desktop\The-Voice-Logo-Wallpaper-600x480@2x.jpg"/>
          <p:cNvPicPr/>
          <p:nvPr/>
        </p:nvPicPr>
        <p:blipFill>
          <a:blip r:embed="rId2"/>
          <a:stretch/>
        </p:blipFill>
        <p:spPr>
          <a:xfrm>
            <a:off x="1150920" y="1481040"/>
            <a:ext cx="684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Users\Romanich\Desktop\39595715_w640_h640_cid422595_pid21416722-970d89a9.jpg"/>
          <p:cNvPicPr/>
          <p:nvPr/>
        </p:nvPicPr>
        <p:blipFill>
          <a:blip r:embed="rId2"/>
          <a:stretch/>
        </p:blipFill>
        <p:spPr>
          <a:xfrm>
            <a:off x="684360" y="1916280"/>
            <a:ext cx="3743280" cy="2665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Users\Romanich\Desktop\pic_18110.png"/>
          <p:cNvPicPr/>
          <p:nvPr/>
        </p:nvPicPr>
        <p:blipFill>
          <a:blip r:embed="rId3"/>
          <a:stretch/>
        </p:blipFill>
        <p:spPr>
          <a:xfrm>
            <a:off x="4390920" y="1773360"/>
            <a:ext cx="47530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Romanich\Desktop\pust-govoryat-mixail-efremov-vechno-molodoj-pervyj-kanal-1.jpg"/>
          <p:cNvPicPr/>
          <p:nvPr/>
        </p:nvPicPr>
        <p:blipFill>
          <a:blip r:embed="rId2"/>
          <a:stretch/>
        </p:blipFill>
        <p:spPr>
          <a:xfrm>
            <a:off x="127080" y="1052640"/>
            <a:ext cx="3940200" cy="5695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Users\Romanich\Desktop\554768508.jpg"/>
          <p:cNvPicPr/>
          <p:nvPr/>
        </p:nvPicPr>
        <p:blipFill>
          <a:blip r:embed="rId3"/>
          <a:stretch/>
        </p:blipFill>
        <p:spPr>
          <a:xfrm>
            <a:off x="4044960" y="1700280"/>
            <a:ext cx="457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2" descr="C:\Users\Romanich\Desktop\819ZB8mqU7L._SL1500_.jpg"/>
          <p:cNvPicPr/>
          <p:nvPr/>
        </p:nvPicPr>
        <p:blipFill>
          <a:blip r:embed="rId1"/>
          <a:stretch/>
        </p:blipFill>
        <p:spPr>
          <a:xfrm>
            <a:off x="1835280" y="115920"/>
            <a:ext cx="56512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8T15:24:42Z</dcterms:created>
  <dc:creator>Romanich</dc:creator>
  <dc:description/>
  <dc:language>en-US</dc:language>
  <cp:lastModifiedBy>Romanich</cp:lastModifiedBy>
  <dcterms:modified xsi:type="dcterms:W3CDTF">2019-06-04T16:50:35Z</dcterms:modified>
  <cp:revision>5</cp:revision>
  <dc:subject/>
  <dc:title>Fernsehwelt</dc:title>
</cp:coreProperties>
</file>