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564-DB1D-4C63-9A65-186710FA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45A-30B8-4578-9AD4-B4BAA9B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B51-E464-4EEA-8A0A-09B1393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560-E0A5-45CF-A22B-E14588BD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715-476E-4A9C-8F1D-A9E2279B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90CB-4BB1-4ED0-8A95-BCA8B025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37C4-213A-4D3C-B73E-56DFA09D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F8EF-275D-4261-9D13-C2DBE9D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C059-DB33-4FF9-855A-C0B70B9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1D2-2C8C-49CF-97EA-EB54FF7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BD4E-7811-4D3A-B932-963CF3E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675-4C78-479A-A4EE-B6231DA3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2A6-9926-4B6F-B250-2988514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1D64-0FF5-4E67-8788-CFDBF8B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38F6-25FE-4EFA-8052-915108F6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3124-9F3E-4241-B3AC-7A136C01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0CF-F4B9-4153-9E94-471CB58D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61D0-BA2D-4E03-ACA7-C2E213F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1607-DB5E-405D-A73D-EC52D75A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F560-5260-4262-9492-80786BA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63C8-F90A-48D4-AD10-DA81851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32AB-CA4E-41E1-894C-25DC049A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522-BF43-4075-9E79-ADC338A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CA5B-CD7B-4819-A321-A589878B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0C80-9FC5-4327-B689-3F9296E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38F5-2240-4BCC-B93A-EC13EF3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6611-6E33-4184-82E4-D444485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2E1D-5B33-4C40-99E8-B91B50A3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39AD-5C52-4787-A055-8F22D173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AAE4-57C2-4408-BB79-ACAAD875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CB3E-F715-4727-A1DF-385E7C10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4A3E-7C13-4E5C-9A40-DAFEDF4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8A2B-D46F-451A-8E3B-0049886C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E39-687E-487D-8600-1F9F7A7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B971-8161-4526-8B3F-EFF8A3B5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4352-1FAC-4B74-8867-411A8685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6F32-A542-41F2-AC7A-82B91C0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DD74-2228-4D4F-A75A-85DD0F96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BE45-8E72-4488-8037-458E5EC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31E7-A8D6-47D6-BE99-CAF4820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7637-2675-4A9E-B4BC-2B530BC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3DC5-F7BD-4DF0-A3B1-01838BB2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12A7-523F-425A-9D65-6F8A31D5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0986-8D8B-4B1B-A15B-CCF72C7F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5FB-F541-4DD9-AB87-2715A6A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C771-DA51-4A83-ACCF-E1FDC87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FDE1-2429-4F43-880F-04227CF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3617-376B-493C-9C73-1BF588D5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92B9-D3E1-422D-8770-AA389F8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C15F-AE50-4815-9535-EAFAC93C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A43E-4B50-4A87-95AE-B4A669A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13E8-8985-4F67-8265-90B8DC4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3235-05FA-4FB2-89A1-CD3BE4A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CB36-06BF-40BA-81E0-721EC4E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ADEE-F851-40C2-AC33-49FDE99D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AA7-2FEA-4B2D-9A72-285E56F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B5C4-5849-4001-A4E1-8850D22A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EAB7-B740-47FD-960D-3A55B4F3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E572E-3A70-49B6-AC85-B09F556C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8A60-AB33-4825-A6D1-41AFF4BE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594B-57FB-41D2-8ED3-DB6373C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D5FF-3BB8-4317-A160-8A27980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929E-3404-4B17-882D-89F7D0C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3F96-4CF4-4958-96B5-B98E39E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D78B-90A3-45F1-B8B1-A5A5A4A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3C8C-52B1-4B47-8888-6C9D7B0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A52-817D-4CA7-B49D-F9E1BAD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CCD52-4B0D-40F3-870B-B208471B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B8AA-0C52-40E6-8B65-B9B8DD3E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D6606-1E13-4CDF-AEC7-66D072E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CD20-1D77-4720-8D6A-07840AF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162C-81A6-4A42-BFEA-ED3624D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E2A9-5880-4E74-BFCD-49D0072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37A8-72F4-4B92-90C6-2D777DB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0366-B246-437A-8B93-8E67E2C7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840A-9F55-4338-AD28-81DC615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E8673-78DA-4DF2-979A-5B10F44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EC9-1FAD-400B-9111-B0A5330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E516-9514-4A50-87B2-E53CA88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70D8E-F75D-4220-A173-EA55EDF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B6417-560C-4D96-95BD-8998B3C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26A6-226B-43F7-B4C2-7C9241D7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C7DE-67C7-4F8A-AE8A-E9DDC792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88D8-55D3-4014-B84C-74D7F9F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58958-49E2-4EF1-98D2-9D78F23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789E5-3C25-4D85-97C5-F212418E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C43B-58AC-4CEB-92D5-361D27C9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34189-03D6-49BE-AD63-921E273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EA4-0A55-43EA-9281-B46E38C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1BF6-5848-4DA2-A8E2-34F8362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715A-F2DB-4256-9C27-8D292BE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5CFDD-5B03-40D3-A057-4FE4622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BA0C-4F12-4ADE-9BD7-B9C45BC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E1B0D-52D1-4D58-821D-6B27A002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EE86-0285-4534-B849-A4EAF401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940D-A9C0-4785-AF36-7FDBF524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BB5E-8F63-4C3E-9FF2-AF7A5B7719B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E74-2A5B-4A91-A5AB-712F783ECEE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EA00-3801-400A-AB0E-BF487A6072C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772F-05B0-4F92-ACF3-A7B40BDDB07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5C82-A8E6-43EE-8CB9-0CF08EDA5D7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1B32-B7D4-4170-9390-26F64D7EE6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0A1C-6D07-4533-943F-D740145BA5B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15EC-3251-480F-8F7C-F411F82B36A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542880"/>
            <a:ext cx="8089920" cy="1309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Users\Romanich\Desktop\822ff1b354c61e79d0c56b122be8920e.jpg"/>
          <p:cNvPicPr/>
          <p:nvPr/>
        </p:nvPicPr>
        <p:blipFill>
          <a:blip r:embed="rId2"/>
          <a:stretch/>
        </p:blipFill>
        <p:spPr>
          <a:xfrm>
            <a:off x="1763640" y="2421000"/>
            <a:ext cx="597708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Romanich\Desktop\15-populyarnyh-peredach-nashej-molodosti-i-detstva_2b413e8113005f37fc06f6c3e951d6ad.jpg"/>
          <p:cNvPicPr/>
          <p:nvPr/>
        </p:nvPicPr>
        <p:blipFill>
          <a:blip r:embed="rId2"/>
          <a:stretch/>
        </p:blipFill>
        <p:spPr>
          <a:xfrm>
            <a:off x="900000" y="170028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Romanich\Desktop\obschyestvyennoye_tv_1.jpg"/>
          <p:cNvPicPr/>
          <p:nvPr/>
        </p:nvPicPr>
        <p:blipFill>
          <a:blip r:embed="rId2"/>
          <a:stretch/>
        </p:blipFill>
        <p:spPr>
          <a:xfrm>
            <a:off x="611280" y="1557360"/>
            <a:ext cx="835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Romanich\Desktop\1082783-18764849-1600-900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Romanich\Desktop\1010412177.jpg"/>
          <p:cNvPicPr/>
          <p:nvPr/>
        </p:nvPicPr>
        <p:blipFill>
          <a:blip r:embed="rId2"/>
          <a:stretch/>
        </p:blipFill>
        <p:spPr>
          <a:xfrm>
            <a:off x="611280" y="1484280"/>
            <a:ext cx="3529080" cy="5113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C:\Users\Romanich\Desktop\maxresdefault-3.jpg"/>
          <p:cNvPicPr/>
          <p:nvPr/>
        </p:nvPicPr>
        <p:blipFill>
          <a:blip r:embed="rId3"/>
          <a:stretch/>
        </p:blipFill>
        <p:spPr>
          <a:xfrm>
            <a:off x="4211640" y="1125360"/>
            <a:ext cx="4824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Romanich\Desktop\The-Voice-Logo-Wallpaper-600x480@2x.jpg"/>
          <p:cNvPicPr/>
          <p:nvPr/>
        </p:nvPicPr>
        <p:blipFill>
          <a:blip r:embed="rId2"/>
          <a:stretch/>
        </p:blipFill>
        <p:spPr>
          <a:xfrm>
            <a:off x="1150920" y="1481040"/>
            <a:ext cx="684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Users\Romanich\Desktop\39595715_w640_h640_cid422595_pid21416722-970d89a9.jpg"/>
          <p:cNvPicPr/>
          <p:nvPr/>
        </p:nvPicPr>
        <p:blipFill>
          <a:blip r:embed="rId2"/>
          <a:stretch/>
        </p:blipFill>
        <p:spPr>
          <a:xfrm>
            <a:off x="684360" y="1916280"/>
            <a:ext cx="3743280" cy="2665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Romanich\Desktop\pic_18110.png"/>
          <p:cNvPicPr/>
          <p:nvPr/>
        </p:nvPicPr>
        <p:blipFill>
          <a:blip r:embed="rId3"/>
          <a:stretch/>
        </p:blipFill>
        <p:spPr>
          <a:xfrm>
            <a:off x="4390920" y="1773360"/>
            <a:ext cx="47530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Romanich\Desktop\pust-govoryat-mixail-efremov-vechno-molodoj-pervyj-kanal-1.jpg"/>
          <p:cNvPicPr/>
          <p:nvPr/>
        </p:nvPicPr>
        <p:blipFill>
          <a:blip r:embed="rId2"/>
          <a:stretch/>
        </p:blipFill>
        <p:spPr>
          <a:xfrm>
            <a:off x="127080" y="1052640"/>
            <a:ext cx="3940200" cy="5695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Romanich\Desktop\554768508.jpg"/>
          <p:cNvPicPr/>
          <p:nvPr/>
        </p:nvPicPr>
        <p:blipFill>
          <a:blip r:embed="rId3"/>
          <a:stretch/>
        </p:blipFill>
        <p:spPr>
          <a:xfrm>
            <a:off x="4044960" y="1700280"/>
            <a:ext cx="457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2" descr="C:\Users\Romanich\Desktop\819ZB8mqU7L._SL1500_.jpg"/>
          <p:cNvPicPr/>
          <p:nvPr/>
        </p:nvPicPr>
        <p:blipFill>
          <a:blip r:embed="rId1"/>
          <a:stretch/>
        </p:blipFill>
        <p:spPr>
          <a:xfrm>
            <a:off x="1835280" y="115920"/>
            <a:ext cx="56512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15:24:42Z</dcterms:created>
  <dc:creator>Romanich</dc:creator>
  <dc:description/>
  <dc:language>en-US</dc:language>
  <cp:lastModifiedBy>Romanich</cp:lastModifiedBy>
  <dcterms:modified xsi:type="dcterms:W3CDTF">2019-06-04T16:50:35Z</dcterms:modified>
  <cp:revision>5</cp:revision>
  <dc:subject/>
  <dc:title>Fernsehwelt</dc:title>
</cp:coreProperties>
</file>