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336-2091-4075-BA7E-6A97F064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610-BFE6-456D-A050-79AA8FF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DC4-1314-4098-BA82-910A3DC2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5C9-4805-4D9A-8F3C-D5BD4E05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9B5D-9914-4BDD-A8E9-E0D85B3A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F66E-860C-4F78-A2B8-4F23C98F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CFCC-5DE2-439B-A0E7-4F59A9A0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209A-6B48-4A8A-A472-5C8B43B0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187B-89E7-4F52-BBFA-54F193C8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F47C-D01C-4E32-90EA-D4F8A86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5123-C68A-49F8-BA18-0DEB3912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9E3-D95D-4628-B0C7-5D8AB281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946D-2F5B-4889-B21D-C2208729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96DA-ED00-490B-BA83-B1C7964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BFEA-0C82-4900-B6F4-25CFBFE1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2354-6BEF-4A89-8849-5EC3435B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1C54-676C-41FD-9A6D-9DA9D296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BB9-0F69-4721-96FB-69185809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981-A441-4191-BC9D-3527126C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D58-E668-4BB4-8D94-BD325654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7AD-E8E7-4058-A13E-D2E41A57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FC6-C6FE-4AEE-BAE5-AF236660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D89-FC83-4A48-A5BE-DB564AB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BD7-3CEE-4867-A257-D10F3F82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4FE5-34B5-497B-BC87-22C09D773662}" type="slidenum">
              <a:rPr b="0" lang="ru-RU" sz="14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186D-E448-4727-AB98-7EE9536CD5B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ериферийные устройства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тройство компью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оттер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лоттер (графопостроитель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660033"/>
                </a:solidFill>
                <a:latin typeface="Arial"/>
              </a:rPr>
              <a:t>Для вывода сложных и широкоформатных графических объек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катов, чертежей, электрических и электронных схем и пр.) используются специальные устройства вывода — плоттеры. Принцип действия плоттера такой же, как и струйного принт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5435640" y="1946160"/>
            <a:ext cx="3384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кан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Сканеры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служат для автоматического ввода текстов и графики в компьютер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ешающая способность сканеров составляет 600 dpi и выш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4925880" y="2008080"/>
            <a:ext cx="40388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ногофункциональные устр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следнее время многие пользователи покупают многофункциональные устройства, способные копировать, сканировать и печат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4648320" y="2236680"/>
            <a:ext cx="40384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Есть и другие устройства, информацию о которых необходимо рассмотреть самостоятельно. В учебнике с.15 – 23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. Группы клавиш. Координатные устройства ввода.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Группа№1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" :) Смайлик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. Виды мониторов. Координатные устройства ввода.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Группа№2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@ -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авиа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0" t="0" r="1002" b="43656"/>
          <a:stretch/>
        </p:blipFill>
        <p:spPr>
          <a:xfrm>
            <a:off x="1258920" y="1125360"/>
            <a:ext cx="6697800" cy="2602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rcRect l="0" t="53675" r="1002" b="0"/>
          <a:stretch/>
        </p:blipFill>
        <p:spPr>
          <a:xfrm>
            <a:off x="1258920" y="3860640"/>
            <a:ext cx="66978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ды монитор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5" descr="08"/>
          <p:cNvPicPr/>
          <p:nvPr/>
        </p:nvPicPr>
        <p:blipFill>
          <a:blip r:embed="rId1"/>
          <a:stretch/>
        </p:blipFill>
        <p:spPr>
          <a:xfrm>
            <a:off x="611280" y="1762200"/>
            <a:ext cx="3673440" cy="268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352680" cy="3505320"/>
          </a:xfrm>
          <a:prstGeom prst="rect">
            <a:avLst/>
          </a:prstGeom>
          <a:ln w="0">
            <a:noFill/>
          </a:ln>
        </p:spPr>
      </p:pic>
      <p:sp>
        <p:nvSpPr>
          <p:cNvPr id="138" name="Line 7"/>
          <p:cNvSpPr/>
          <p:nvPr/>
        </p:nvSpPr>
        <p:spPr>
          <a:xfrm flipH="1">
            <a:off x="2195640" y="90792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3419640" y="907920"/>
            <a:ext cx="2520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187280" y="4508640"/>
            <a:ext cx="230508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Т - 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дания в групп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ля каждого устройства определите его вид и подпишите цифр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ввода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вывода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зложите изображения устройств по группам: устройства ввода и устройства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 компьютере откройте файл Устойства1 на Рабочем столе и разберите изображения устройств на те же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 компьютере откройте файл Устойства2 на Рабочем столе и заполните названиями устройств ввода и вывода 2 столбца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верка в групп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33829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стройство ввода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ф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м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йст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сорная пан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й планш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356000" y="1557360"/>
            <a:ext cx="3743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устройство вывода (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ш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ишние устройства в груп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цессор, винчестер, оперативная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rcRect l="0" t="0" r="1008" b="43672"/>
          <a:stretch/>
        </p:blipFill>
        <p:spPr>
          <a:xfrm>
            <a:off x="971640" y="1413000"/>
            <a:ext cx="2016000" cy="78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732720" y="1341360"/>
            <a:ext cx="934920" cy="9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3"/>
          <a:stretch/>
        </p:blipFill>
        <p:spPr>
          <a:xfrm>
            <a:off x="7308720" y="2565360"/>
            <a:ext cx="1287720" cy="1346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4"/>
          <a:stretch/>
        </p:blipFill>
        <p:spPr>
          <a:xfrm>
            <a:off x="468360" y="2684520"/>
            <a:ext cx="1008000" cy="927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5"/>
          <a:stretch/>
        </p:blipFill>
        <p:spPr>
          <a:xfrm>
            <a:off x="1619280" y="2421000"/>
            <a:ext cx="1079640" cy="801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1368360" cy="99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7"/>
          <a:stretch/>
        </p:blipFill>
        <p:spPr>
          <a:xfrm>
            <a:off x="6659640" y="4365720"/>
            <a:ext cx="1017360" cy="687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8"/>
          <a:stretch/>
        </p:blipFill>
        <p:spPr>
          <a:xfrm>
            <a:off x="2195640" y="3789360"/>
            <a:ext cx="807840" cy="98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9"/>
          <a:stretch/>
        </p:blipFill>
        <p:spPr>
          <a:xfrm>
            <a:off x="1763640" y="5084640"/>
            <a:ext cx="1374840" cy="1263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5"/>
          <p:cNvSpPr/>
          <p:nvPr/>
        </p:nvSpPr>
        <p:spPr>
          <a:xfrm>
            <a:off x="539640" y="333360"/>
            <a:ext cx="288000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5651640" y="404640"/>
            <a:ext cx="2879640" cy="7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0"/>
          <a:stretch/>
        </p:blipFill>
        <p:spPr>
          <a:xfrm>
            <a:off x="5003640" y="2708280"/>
            <a:ext cx="14893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хема обмена информацией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27236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15858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нать, как он работает, не менее важно, чем уметь работать с ПК. Вы можете вполне успешно пользоваться услугами компьютера, не понимая того, что в нем происходит. Однако чем глубже вы представляете процессы, происходящие в ПК, тем лучше будете использовать его возможности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тер Нор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оло на клавиату"/>
          <p:cNvPicPr/>
          <p:nvPr/>
        </p:nvPicPr>
        <p:blipFill>
          <a:blip r:embed="rId1"/>
          <a:stretch/>
        </p:blipFill>
        <p:spPr>
          <a:xfrm>
            <a:off x="3924360" y="508464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омашнее зада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йти информацию о проблемах утилизации устаревшей оргтехн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сто анекдо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ьютер позволяет решать все те проблемы, которые до изобретения компьютера не существова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устройства компьютера называют внутренними, а какие внешними (периферийными)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периферийные устройства вы знает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чем нужен принтер? Какие бывают принтеры? Какой принтер лучше для дома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то такое сканер? Что получается в результате сканирования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жет ли веб-камера заменить фотоаппарат или обычную камеру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устройства для воспроизведения звука вы знает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акие устройства называют периферийными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Периферийными называют устройства, подключаемые к компьютеру извне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800000"/>
                </a:solidFill>
                <a:latin typeface="Arial"/>
              </a:rPr>
              <a:t>Обычно эти устройства предназначены для ввода и вывода информ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0" t="46844" r="50881" b="6320"/>
          <a:stretch/>
        </p:blipFill>
        <p:spPr>
          <a:xfrm>
            <a:off x="4788000" y="2924280"/>
            <a:ext cx="3560760" cy="2289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rcRect l="0" t="0" r="49123" b="53163"/>
          <a:stretch/>
        </p:blipFill>
        <p:spPr>
          <a:xfrm>
            <a:off x="684360" y="2924280"/>
            <a:ext cx="38163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ан уро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ема и цель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бщая классификация периферийных устр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Знакомство с некоторыми устройствами (презентация и выступл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Самостоятельное изучение информации об устройствах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Обмен «добытой»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гра-физмину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7.Задания в группах на классификацию устр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Итог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692360" y="333360"/>
            <a:ext cx="611964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ферийные устройства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55640" y="1773360"/>
            <a:ext cx="287964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5796000" y="1773360"/>
            <a:ext cx="287964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26920" y="3213000"/>
            <a:ext cx="2737080" cy="216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ы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ревода»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языка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867280" y="3141720"/>
            <a:ext cx="2952720" cy="22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реводят» информ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воичн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а в фор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ые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2124000" y="1341360"/>
            <a:ext cx="244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4572000" y="1341360"/>
            <a:ext cx="295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2124000" y="25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752472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нтеры и их классификац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Принтер</a:t>
            </a: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 служит для вывода информации на бумажный носитель (бумагу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принтер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трич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уй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азер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цвету же печати принтеры бывают —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лноцвет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онохром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атричные принтеры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атричные принтеры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это принтеры ударного действ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достатки матричных принтеров состоят в том, что они печатают медленно, производят много шума и качество печати оставляет желать лучшего (соответствует примерно качеству пишущей машин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4648320" y="2008080"/>
            <a:ext cx="40384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уйные принт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33"/>
                </a:solidFill>
                <a:latin typeface="Arial"/>
              </a:rPr>
              <a:t>В них используется чернильная печатающая головка, которая под давлением выбрасывает чернила из ряда мельчайших отверстий на бумагу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йные принтеры могут печатать достаточно быстро (до нескольких страниц в минуту) и производят мало шума. Качество печати высокое: до 2400 dpi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4648320" y="2008080"/>
            <a:ext cx="40384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азерные принтеры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азер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теры обеспечивают практически бесшумную печать, высокую скорость печати (до 30 страниц в минут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ое типографское качество печати лазерных принтеров обеспечивается за счет высокой разрешающей способности, которая может достигать 1200 dpi и бо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4648320" y="2008080"/>
            <a:ext cx="40384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/>
  <dc:description/>
  <dc:language>en-US</dc:language>
  <cp:lastModifiedBy>Katyusha O</cp:lastModifiedBy>
  <dcterms:modified xsi:type="dcterms:W3CDTF">2019-06-04T01:22:19Z</dcterms:modified>
  <cp:revision>42</cp:revision>
  <dc:subject/>
  <dc:title>Периферийные устройства </dc:title>
</cp:coreProperties>
</file>