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AE8-A8BE-4C72-8034-F45D7D87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9D1-AEE3-4E59-B93B-F4BFC081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71F-F6ED-47FA-8494-40CBB5A0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95B-9437-4A5A-863A-9319A814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6C6-5C29-49FA-AD5F-5067A18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D351-3866-4D57-883E-A0D3B5DD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6B5-1E6C-4788-9C11-681743A9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EFFD-2EE2-4B56-A47B-6A09C22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EEEE-B84B-4654-A3F1-91600A4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684C-F865-4A4C-AB16-2E717746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A572-B8D4-425C-9CBC-E6D4AF4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3D8-4432-47DF-818E-C3718AE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1D2D-303D-4084-A6CB-FF1C14B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4C9C-7D9D-474E-9C36-40A250D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CA2-A3E4-4226-8F74-8E48B58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D842-8961-4A8E-9EA9-271F06B7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BA22-7B11-4D91-A136-119D0BC4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64B-AAC2-43B5-8023-EA91F04A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2BD-8BC5-4B19-B4F1-A82B02A4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53D-8C5C-475F-9EDC-37C9E53A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E41-C725-4C6F-94C5-E3647BF9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77D-C60D-4F32-AFA1-0D01168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7A5-AC0E-4B95-9BB0-5F036DE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77B-89F0-45D3-A65A-8DDC264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54D-FFC4-45B8-8FB8-4F13E7E7158E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C50-93F9-4A00-B30C-CFD7826E37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ериферийные устройства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тройство компь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оттер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лоттер (графопостроитель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660033"/>
                </a:solidFill>
                <a:latin typeface="Arial"/>
              </a:rPr>
              <a:t>Для вывода сложных и широкоформатных графических объект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катов, чертежей, электрических и электронных схем и пр.) используются специальные устройства вывода — плоттеры. Принцип действия плоттера такой же, как и струйного принт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5435640" y="1946160"/>
            <a:ext cx="3384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кан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Сканеры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служат для автоматического ввода текстов и графики в компьютер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ающая способность сканеров составляет 600 dpi и выш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4925880" y="2008080"/>
            <a:ext cx="40388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ногофункциональные устрой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следнее время многие пользователи покупают многофункциональные устройства, способные копировать, сканировать и печат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648320" y="22366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Есть и другие устройства, информацию о которых необходимо рассмотреть самостоятельно. В учебнике с.15 – 23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. Группы клавиш. Координатные устройства ввода.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Группа№1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 :) Смайлик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. Виды мониторов. Координатные устройства ввода. </a:t>
            </a:r>
            <a:r>
              <a:rPr b="0" lang="ru-RU" sz="3000" spc="-1" strike="noStrike">
                <a:solidFill>
                  <a:srgbClr val="800000"/>
                </a:solidFill>
                <a:latin typeface="Arial"/>
              </a:rPr>
              <a:t>Группа№2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@ -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ви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0" t="0" r="1002" b="43656"/>
          <a:stretch/>
        </p:blipFill>
        <p:spPr>
          <a:xfrm>
            <a:off x="1258920" y="1125360"/>
            <a:ext cx="6697800" cy="260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rcRect l="0" t="53675" r="1002" b="0"/>
          <a:stretch/>
        </p:blipFill>
        <p:spPr>
          <a:xfrm>
            <a:off x="1258920" y="3860640"/>
            <a:ext cx="6697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монитор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5" descr="08"/>
          <p:cNvPicPr/>
          <p:nvPr/>
        </p:nvPicPr>
        <p:blipFill>
          <a:blip r:embed="rId1"/>
          <a:stretch/>
        </p:blipFill>
        <p:spPr>
          <a:xfrm>
            <a:off x="611280" y="1762200"/>
            <a:ext cx="3673440" cy="268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138" name="Line 7"/>
          <p:cNvSpPr/>
          <p:nvPr/>
        </p:nvSpPr>
        <p:spPr>
          <a:xfrm flipH="1">
            <a:off x="2195640" y="90792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419640" y="907920"/>
            <a:ext cx="2520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187280" y="4508640"/>
            <a:ext cx="230508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- 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ния в групп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ля каждого устройства определите его вид и подпишите цифр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ввод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вывод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зложите изображения устройств по группам: устройства ввода и устройства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компьютере откройте файл Устойства1 на Рабочем столе и разберите изображения устройств на те же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 компьютере откройте файл Устойства2 на Рабочем столе и заполните названиями устройств ввода и вывода 2 столбца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ка в групп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338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ройство ввода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ф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м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йст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сорная пан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356000" y="1557360"/>
            <a:ext cx="3743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устройство вывода (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те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ш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ишние устройства в груп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цессор, винчестер, оперативная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rcRect l="0" t="0" r="1008" b="43672"/>
          <a:stretch/>
        </p:blipFill>
        <p:spPr>
          <a:xfrm>
            <a:off x="971640" y="1413000"/>
            <a:ext cx="201600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732720" y="1341360"/>
            <a:ext cx="934920" cy="9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3"/>
          <a:stretch/>
        </p:blipFill>
        <p:spPr>
          <a:xfrm>
            <a:off x="7308720" y="2565360"/>
            <a:ext cx="1287720" cy="1346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468360" y="2684520"/>
            <a:ext cx="1008000" cy="927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5"/>
          <a:stretch/>
        </p:blipFill>
        <p:spPr>
          <a:xfrm>
            <a:off x="1619280" y="2421000"/>
            <a:ext cx="1079640" cy="801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1368360" cy="99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7"/>
          <a:stretch/>
        </p:blipFill>
        <p:spPr>
          <a:xfrm>
            <a:off x="6659640" y="4365720"/>
            <a:ext cx="1017360" cy="687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8"/>
          <a:stretch/>
        </p:blipFill>
        <p:spPr>
          <a:xfrm>
            <a:off x="2195640" y="3789360"/>
            <a:ext cx="80784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9"/>
          <a:stretch/>
        </p:blipFill>
        <p:spPr>
          <a:xfrm>
            <a:off x="1763640" y="5084640"/>
            <a:ext cx="1374840" cy="1263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539640" y="333360"/>
            <a:ext cx="288000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5651640" y="404640"/>
            <a:ext cx="2879640" cy="7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0"/>
          <a:stretch/>
        </p:blipFill>
        <p:spPr>
          <a:xfrm>
            <a:off x="5003640" y="2708280"/>
            <a:ext cx="14893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хема обмена информацией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7236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15858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нать, как он работает, не менее важно, чем уметь работать с ПК. Вы можете вполне успешно пользоваться услугами компьютера, не понимая того, что в нем происходит. Однако чем глубже вы представляете процессы, происходящие в ПК, тем лучше будете использовать его возможности…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тер Нор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оло на клавиату"/>
          <p:cNvPicPr/>
          <p:nvPr/>
        </p:nvPicPr>
        <p:blipFill>
          <a:blip r:embed="rId1"/>
          <a:stretch/>
        </p:blipFill>
        <p:spPr>
          <a:xfrm>
            <a:off x="3924360" y="508464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йти информацию о проблемах утилизации устаревшей оргтехн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сто анекдо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ьютер позволяет решать все те проблемы, которые до изобретения компьютера не существова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устройства компьютера называют внутренними, а какие внешними (периферийными)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периферийные устройства вы знае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чем нужен принтер? Какие бывают принтеры? Какой принтер лучше для дом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 такое сканер? Что получается в результате сканирования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жет ли веб-камера заменить фотоаппарат или обычную камеру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кие устройства для воспроизведения звука вы знае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кие устройства называют периферийными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Периферийными называют устройства, подключаемые к компьютеру извне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800000"/>
                </a:solidFill>
                <a:latin typeface="Arial"/>
              </a:rPr>
              <a:t>Обычно эти устройства предназначены для ввода и вывода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46844" r="50881" b="6320"/>
          <a:stretch/>
        </p:blipFill>
        <p:spPr>
          <a:xfrm>
            <a:off x="4788000" y="2924280"/>
            <a:ext cx="3560760" cy="2289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rcRect l="0" t="0" r="49123" b="53163"/>
          <a:stretch/>
        </p:blipFill>
        <p:spPr>
          <a:xfrm>
            <a:off x="684360" y="2924280"/>
            <a:ext cx="381636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 уро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ема и цель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щая классификация периферийных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Знакомство с некоторыми устройствами (презентация и выступ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амостоятельное изучение информации об устройствах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Обмен «добытой»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гра-физмину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7.Задания в группах на классификацию у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Итоги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692360" y="333360"/>
            <a:ext cx="611964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ферийные устройства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773360"/>
            <a:ext cx="287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796000" y="1773360"/>
            <a:ext cx="287964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6920" y="3213000"/>
            <a:ext cx="2737080" cy="216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ревода»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языка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867280" y="3141720"/>
            <a:ext cx="2952720" cy="22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реводят»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воичн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а в фор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ые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2124000" y="1341360"/>
            <a:ext cx="244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572000" y="1341360"/>
            <a:ext cx="29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2124000" y="256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752472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нтеры и их классификац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Arial"/>
              </a:rPr>
              <a:t>Принтер</a:t>
            </a:r>
            <a:r>
              <a:rPr b="0" lang="ru-RU" sz="3000" spc="-1" strike="noStrike">
                <a:solidFill>
                  <a:srgbClr val="660033"/>
                </a:solidFill>
                <a:latin typeface="Arial"/>
              </a:rPr>
              <a:t> служит для вывода информации на бумажный носитель (бумагу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принтер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трич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уй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азер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цвету же печати принтеры бывают —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лноцвет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нохром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атричные принтер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атричные принтеры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это принтеры ударного действ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остатки матричных принтеров состоят в том, что они печатают медленно, производят много шума и качество печати оставляет желать лучшего (соответствует примерно качеству пишущей машин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йные принт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33"/>
                </a:solidFill>
                <a:latin typeface="Arial"/>
              </a:rPr>
              <a:t>В них используется чернильная печатающая головка, которая под давлением выбрасывает чернила из ряда мельчайших отверстий на бумагу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йные принтеры могут печатать достаточно быстро (до нескольких страниц в минуту) и производят мало шума. Качество печати высокое: до 2400 dpi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азерные принтер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азер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теры обеспечивают практически бесшумную печать, высокую скорость печати (до 30 страниц в мину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е типографское качество печати лазерных принтеров обеспечивается за счет высокой разрешающей способности, которая может достигать 1200 dpi и бо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648320" y="2008080"/>
            <a:ext cx="40384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/>
  <dc:description/>
  <dc:language>en-US</dc:language>
  <cp:lastModifiedBy>Katyusha O</cp:lastModifiedBy>
  <dcterms:modified xsi:type="dcterms:W3CDTF">2019-06-04T01:22:19Z</dcterms:modified>
  <cp:revision>42</cp:revision>
  <dc:subject/>
  <dc:title>Периферийные устройства </dc:title>
</cp:coreProperties>
</file>