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6C7B-730E-470A-8BE2-F1589DA143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ьянская улица, 27, Ленинградский Дом радио. Отсюда в течение всей блокады неслись в голодный и холодный город ободряющие слова сотрудников ленинградской радиостанции. Кстати, Москва траслировала эти программа на весь Советский Сою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B8D6-5526-4ED0-9B04-244DD49FC9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Блокадные радиоприемник, метроном и уличные громкоговор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F262-BEC4-4BA6-88EF-2A9C6B1A34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Единственный театр, который не был эвакуирован в глубь страны и в течение всей блокады давал представления (оперетты) для ленинградцев все 900 дней блокады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театр в тяжелейшие дни блокады стал частичкой духовной жизни города, единственным островком радости для измученных жителей города и фронтов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дин из декабрьских дней 1941 года в соседний с театром дом попала бомба; пострадало и здание театра. 24 декабря в последний раз поднялся занавес на улице Ракова (ныне Итальянская Улица, а 25 декабря очередной спектакль уже шел на подмостках Александринского театра, пустовавшего после эвакуации его т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ктакли не прерывались даже во время обстрелов: публика уже настолько привыкла к бомбежкам, что отказывалась спускаться в бомбоубежище. Да и сил на лишние передвижения не было. А когда в театре погас свет, зрители из зала подсвечивали сцену ручными фонариками, которые всегда носили с собой, ведь в городе было тем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2F49-1296-45E6-9233-339EA50BEB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Дмитрий Шостакович работает над Ленинградской симфон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Вы сейчас слышите отрывок из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дьмой («Ленинградской») симфонии компози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1E12-5428-4918-B5D0-5AA9EF72AB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Пушкарская улица, 37 («Дом Бенуа»), квартира Дмитрия Шостаковича. Здесь были написаны три первые части легендарной седьмой («ленинградской») симфонии компози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 Ленинградом тревожно выли сирены. Монотонно стучал в радиорепродукторах метроном. Иногда по улицам проходили наши танки. Била дальнобойная артиллерия Краснознаменного Балтийского флота. Может быть, изо всех этих звуков и слагались первые фразы будущей симфонии?.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D462-949C-46D2-B0D0-46CB7BD21A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ендарные 80 минут, вошедшие в истор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действий — блокадный Ленинград. Эти 80 минут были переломными в душах и сердцах всех жителей Ленинграда, переломными они были и для безжалостной и беспощадной немецкой армии, когда 80 минут враг замертво слушал 2 симфонии одновременно — «7-ую симфонию Шостаковича и «залповую симфонию» наших солдат, защищавших площадь Искусств и зал Филармо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370E-6E98-42F2-A264-EC5820195C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ичков мост — один из самых красивых мостов в мире. От прочих мостов он отличается благодаря композиции скульптора П.К. Клодт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ичков мост, переброшенный через Фонтанку по линии Невского проспекта, сильно пострадал от осколков снарядов во время обстрелов. Кони Клодта в первые дни блокады были демонтированы и сохранены, но ограда и постаменты были серьезно повреждены осколкам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EC21-521D-4514-A609-86B212602E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73c18"/>
                </a:solidFill>
                <a:latin typeface="Times New Roman"/>
                <a:ea typeface="Times New Roman"/>
              </a:rPr>
              <a:t>Аничков дворец, Санкт-Петербургский городской Дворец творчества ю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1941 году во время блокады «кони Клодта» были сняты и закопаны в саду Аничкова двор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E6FC-B0FD-4418-AD63-FFB0FCAE47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 апреле 1942 года немцы разбрасывали с самолетов листовки. Они утверждали, что «Ленинград — город мерт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 мая 1942 года в осажденном и голодающем, на стадионе «Динамо» состоялся футбольной матч. Он должен был показать, что город не только сражается, но и живет, несмотря на все испытания и потери прошедшей зи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452D-0C06-4C1F-8E9F-77E5ECE9FC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городом Ленинградский зоопарк пережил самую страшную страницу его истории – Великую Отечественную войну и блокаду. Многие сотрудники зоопарка отправились на фронт, а значительная часть животных была эвакуирована в Казань. Но многие животные и сотрудники остались в горо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E3D4-9DD9-468F-A064-C3C185D0EA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жевская площадь, д.1, железнодорожная станция Ржевка. Именно на эту ленинградскую станцию по Дороге жизни прибывали поезда с мукой, продовольствием и лекар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0949-102C-49C4-B818-45F16CB1AB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сентября 1941 года был первый обстрел Ленинграда из дальнобойных пушек. 8 сентября во время второй бомбежки снаряды попали в зоосад. Бомба попала и в слоновник, где с начала века жила знаменитая слониха Бет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егко пришлось и бегемоту Красавице, которую привезли в зоопарк вместе с Бэтти в далеком 1911 году. Конечно, ей повезло намного больше, чем ее несчастной подруге: она выжила и прожила долгую счастливую жизнь, однако без самоотверженной помощи Евдокии Дашиной чуда бы не произошло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1326-DEDF-4001-88B7-EF70CFF1A9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Уже в декабре 1943 года, еще до полного освобождения города от блокады власти решили организовать выставку «Героическая защита Ленингр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ей обороны и блокады Ленинграда, единственный в России образованный музей в тяжелое воен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A7E4-A8F5-4A20-B1C4-F6A153804B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а от Ржевки до центра города вошла в историю под названием «Ржевский коридор». В годы Великой Отечественной войны это был прифронтовой район. Здесь не было боевых действий, но эта территория ожесточённо обстреливалась.  По этому коридору в осаждённый город были доставлены сотни тысяч тонн продовольствия, медикаментов и боеприпасов. По этому пути было вывезено на «большую землю» более миллиона измождённых ленинград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B430-7703-445F-8EB5-BE22DD7816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овский проспект, павильон метро «Парк Победы». В блокадные времена на его месте располагался кирпичный завод № 1, в печах которого сжигали трупы ленинградцев, умерших от голода и бомбежек. По разным оценкам, здесь были кремированы от 100 до 600 тысяч тел, это место самой массовой кремации в человеческой ист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57C8-D8FC-4F94-A98D-35D7CA647F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арке Победы, на месте бывшего заводского глиняного карьера, находит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большая в мире братская мог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гонетка кирпичного завода была поднята со дна пруда парка 21 июля 1999 года и установлена на постамент 9 августа 2001 г. На таких вагонетках тела умерших отправляли в туннельные печи завода, а затем их прах перевозился к береговой кромке пруда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заднем фоне - Храм всех святых в земле русской просиявших. . В память о сотнях тысячах ленинградцев, которые во время блокады были кремированы и погребены в карьерах парка, в 2010 году был возведен небольшой хр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6406-7975-49A8-8B35-F1ED54031B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и вся семья Тани Савичевой погибла в период с декабря 1941 года по май 1942 года. В её дневнике девять страниц, на шести из которых даты смерти близких люде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матери, бабушки, сестры, брата и двух дядей. Блокаду пережили только её старшие сестра Нина и брат Михаил, благодаря которым дневник Тани уцелел и стал одним из символов Великой Отечественной вой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059E-8637-4CC5-A4A8-1E34ACBF61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я линия Васильевского острова, д. 13, квартира Тани Савичевой. Здесь 12-летней советской школьницей был написан самый известный блокадный дневник, который невозможно читать без слез. В 1942 году Таню эвакуировали из Ленинграда, но она так и не оправилась от последствий многодневного голодания. 1 июля 1944 года ее не ста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EBAF-F2C3-42DE-9157-E32A467E6C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с Ольги Берггольц не зря назвали символом Победы, а поэтессу – «блокадной Мадонной» и музой осажденного го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C08F-F8A7-4352-B28E-5DAF62E014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ца Рубинштейна, д.7, дом-коммуна инженеров и писателей, где жила и творила главный блокадный поэт Ольга Берггольц. Имя Ольги Берггольц было, пожалуй, самым знаменитым в доме инженеров и писателей, не считая имени самого дома, конечно. Ее стихи помогли ленинградцам выжить в насквозь промерзшем блокадном городе и не потерять человеческого достоинства. Умирающие от истощения люди слушали обращения поэтессы из черных «тарелок» репродукторов и укреплялись в вере дожить до поб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то не забыт, ничто не забыто — лозунг, употребляющийся применительно к подвигу солдат Великой Отечественной вой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эта фраза была употреблена в стихотворении Ольги Бергольц, написанном в 1959 году специально для мемориальной стены на Пискаревском кладбище, где похоронены многие жертвы Ленинградской блока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CFB9-C04F-4AB4-920A-637B9DA189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3D19-37B2-47EF-899A-902F6506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A7D-F230-4568-AA23-0BF73AE1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BA08-8521-442C-800B-D3512A68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EE08-2178-4241-84EE-23DA6930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6080-C6CE-489B-8898-A8A68904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1554-9C9A-4B59-BD63-5DCAADD3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00F8-0CA2-4488-A3F6-8CCB895D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4DC-342C-47C2-B998-3AAA1D5E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7B2-B5F2-4F24-9224-FF2CF4D2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9BD5-ACCB-46FD-BD00-56EDCE68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8CA8-CDC8-44A9-9FB6-E194B10B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26CE-90DC-4DD0-B8F5-310076E0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cc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053D-43A0-42A1-A87D-FA4EB94FF947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7"/>
          <p:cNvSpPr/>
          <p:nvPr/>
        </p:nvSpPr>
        <p:spPr>
          <a:xfrm>
            <a:off x="1042920" y="476280"/>
            <a:ext cx="792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4118"/>
                </a:solidFill>
                <a:latin typeface="Times New Roman"/>
                <a:ea typeface="Times New Roman"/>
              </a:rPr>
              <a:t>ГОСУДАРСТВЕННОЕ БЮДЖЕТНОЕ ОБЩЕОБРАЗОВАТЕЛЬНОЕ УЧРЕЖДЕНИЕ СРЕДНЯЯ ОБЩЕОБРАЗОВАТЕЛЬНАЯ ШКОЛА №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4118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134118"/>
                </a:solidFill>
                <a:latin typeface="Times New Roman"/>
                <a:ea typeface="Times New Roman"/>
              </a:rPr>
              <a:t>ПЕТРОГРАДСКОГО РАЙОНА 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9"/>
          <p:cNvSpPr/>
          <p:nvPr/>
        </p:nvSpPr>
        <p:spPr>
          <a:xfrm>
            <a:off x="1187280" y="2060640"/>
            <a:ext cx="7848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134118"/>
                </a:solidFill>
                <a:latin typeface="Times New Roman"/>
                <a:ea typeface="Times New Roman"/>
              </a:rPr>
              <a:t>Блокадные адреса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1"/>
          <p:cNvSpPr/>
          <p:nvPr/>
        </p:nvSpPr>
        <p:spPr>
          <a:xfrm>
            <a:off x="1547640" y="321300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34118"/>
                </a:solidFill>
                <a:latin typeface="Times New Roman"/>
                <a:ea typeface="Times New Roman"/>
              </a:rPr>
              <a:t>Презентация к занятию, посвященному 75-летию полного освобождения </a:t>
            </a:r>
            <a:r>
              <a:rPr b="0" lang="ru-RU" sz="1800" spc="-1" strike="noStrike">
                <a:solidFill>
                  <a:srgbClr val="273c18"/>
                </a:solidFill>
                <a:latin typeface="Times New Roman"/>
                <a:ea typeface="Times New Roman"/>
              </a:rPr>
              <a:t>Ленинграда</a:t>
            </a:r>
            <a:r>
              <a:rPr b="0" lang="ru-RU" sz="1800" spc="-1" strike="noStrike">
                <a:solidFill>
                  <a:srgbClr val="134118"/>
                </a:solidFill>
                <a:latin typeface="Times New Roman"/>
                <a:ea typeface="Times New Roman"/>
              </a:rPr>
              <a:t> от фашистской блок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3"/>
          <p:cNvSpPr/>
          <p:nvPr/>
        </p:nvSpPr>
        <p:spPr>
          <a:xfrm>
            <a:off x="2050920" y="6021360"/>
            <a:ext cx="590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4118"/>
                </a:solidFill>
                <a:latin typeface="Times New Roman"/>
                <a:ea typeface="Times New Roman"/>
              </a:rPr>
              <a:t>Санкт-Петербург, 201</a:t>
            </a:r>
            <a:r>
              <a:rPr b="0" lang="ru-RU" sz="2200" spc="-1" strike="noStrike">
                <a:solidFill>
                  <a:srgbClr val="134118"/>
                </a:solidFill>
                <a:latin typeface="Times New Roman"/>
                <a:ea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5"/>
          <p:cNvSpPr/>
          <p:nvPr/>
        </p:nvSpPr>
        <p:spPr>
          <a:xfrm>
            <a:off x="4500720" y="4645080"/>
            <a:ext cx="43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34118"/>
                </a:solidFill>
                <a:latin typeface="Times New Roman"/>
                <a:ea typeface="Times New Roman"/>
              </a:rPr>
              <a:t>Солтан Марина Александровна, воспитатель группы продленного 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7" descr="IMG_9735.jpg"/>
          <p:cNvPicPr/>
          <p:nvPr/>
        </p:nvPicPr>
        <p:blipFill>
          <a:blip r:embed="rId1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1332000" y="26028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Итальянская улица, 27, Ленинградский Дом ради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2" descr=""/>
          <p:cNvPicPr/>
          <p:nvPr/>
        </p:nvPicPr>
        <p:blipFill>
          <a:blip r:embed="rId1"/>
          <a:stretch/>
        </p:blipFill>
        <p:spPr>
          <a:xfrm>
            <a:off x="2124000" y="907920"/>
            <a:ext cx="6048360" cy="43214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3"/>
          <p:cNvSpPr/>
          <p:nvPr/>
        </p:nvSpPr>
        <p:spPr>
          <a:xfrm>
            <a:off x="1403280" y="5300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Отсюда в течение всей блокады неслись в голодный и холодный город ободряющие слова сотрудников ленинградской радиоста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4" descr="IMG_9735.jpg"/>
          <p:cNvPicPr/>
          <p:nvPr/>
        </p:nvPicPr>
        <p:blipFill>
          <a:blip r:embed="rId2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1403280" y="4076640"/>
            <a:ext cx="4584600" cy="23050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" descr=""/>
          <p:cNvPicPr/>
          <p:nvPr/>
        </p:nvPicPr>
        <p:blipFill>
          <a:blip r:embed="rId2"/>
          <a:stretch/>
        </p:blipFill>
        <p:spPr>
          <a:xfrm>
            <a:off x="1476360" y="333360"/>
            <a:ext cx="3322800" cy="3456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" descr=""/>
          <p:cNvPicPr/>
          <p:nvPr/>
        </p:nvPicPr>
        <p:blipFill>
          <a:blip r:embed="rId3"/>
          <a:stretch/>
        </p:blipFill>
        <p:spPr>
          <a:xfrm>
            <a:off x="5580000" y="333360"/>
            <a:ext cx="3056040" cy="338292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6156360" y="4653000"/>
            <a:ext cx="280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Блокадные радиоприемник, метроном и уличные громкоговор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5" descr="IMG_9735.jpg"/>
          <p:cNvPicPr/>
          <p:nvPr/>
        </p:nvPicPr>
        <p:blipFill>
          <a:blip r:embed="rId4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1258920" y="476280"/>
            <a:ext cx="76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Итальянская улица, д.13/площадь Островского, д.6, Театр музыкальной комед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3" descr="vsevobich_leningrad_okt1941_agaranin.32udrivip9es48ggckws4skss.ejcuplo1l0oo0sk8c40s8osc4.th.jpeg"/>
          <p:cNvPicPr/>
          <p:nvPr/>
        </p:nvPicPr>
        <p:blipFill>
          <a:blip r:embed="rId1"/>
          <a:stretch/>
        </p:blipFill>
        <p:spPr>
          <a:xfrm>
            <a:off x="5148360" y="1916280"/>
            <a:ext cx="3824280" cy="28256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1258920" y="5084640"/>
            <a:ext cx="76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Единственный театр, который не был эвакуирован в глубь страны и в течение всей блокады давал представления (оперетты) для ленинградцев все 900 дней блока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5" descr="0_128f3_e52f9575_L.jpg"/>
          <p:cNvPicPr/>
          <p:nvPr/>
        </p:nvPicPr>
        <p:blipFill>
          <a:blip r:embed="rId2"/>
          <a:stretch/>
        </p:blipFill>
        <p:spPr>
          <a:xfrm>
            <a:off x="1187280" y="206064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IMG_9735.jpg"/>
          <p:cNvPicPr/>
          <p:nvPr/>
        </p:nvPicPr>
        <p:blipFill>
          <a:blip r:embed="rId3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7162920" cy="48974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" descr="IMG_9735.jpg"/>
          <p:cNvPicPr/>
          <p:nvPr/>
        </p:nvPicPr>
        <p:blipFill>
          <a:blip r:embed="rId2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1403280" y="573264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Дмитрий Шостакович работает над Ленинградской симфон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muzlome_Dmitrijj_SHostakovich_-_Simfoniya_7_Leningradskaya_otryvok_Nashestvie_48989025.mp3" descr=""/>
          <p:cNvPicPr/>
          <p:nvPr/>
        </p:nvPicPr>
        <p:blipFill>
          <a:blip r:embed="rId3"/>
          <a:stretch/>
        </p:blipFill>
        <p:spPr>
          <a:xfrm>
            <a:off x="8317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249843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1403280" y="40464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Большая Пушкарская улица, 37 («Дом Бенуа»), квартира Дмитрия Шостакови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2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6193080" cy="404172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3"/>
          <p:cNvSpPr/>
          <p:nvPr/>
        </p:nvSpPr>
        <p:spPr>
          <a:xfrm>
            <a:off x="1403280" y="561168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Здесь были написаны три первые части легендарной седьмой («ленинградской») симфонии компози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4" descr="IMG_9735.jpg"/>
          <p:cNvPicPr/>
          <p:nvPr/>
        </p:nvPicPr>
        <p:blipFill>
          <a:blip r:embed="rId2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1187280" y="333360"/>
            <a:ext cx="813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Михайловская улица, 2, Ленинградская филармо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2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6302520" cy="42246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3"/>
          <p:cNvSpPr/>
          <p:nvPr/>
        </p:nvSpPr>
        <p:spPr>
          <a:xfrm>
            <a:off x="1258920" y="543708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Здесь 9 августа 1942 года была вживую исполнена Ленинградская симфония Шостаковича, что само по себе стало символом стойкости непокорного г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4" descr="IMG_9735.jpg"/>
          <p:cNvPicPr/>
          <p:nvPr/>
        </p:nvPicPr>
        <p:blipFill>
          <a:blip r:embed="rId2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4" descr="IMG_9735.jpg"/>
          <p:cNvPicPr/>
          <p:nvPr/>
        </p:nvPicPr>
        <p:blipFill>
          <a:blip r:embed="rId1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" descr="15б.jpg"/>
          <p:cNvPicPr/>
          <p:nvPr/>
        </p:nvPicPr>
        <p:blipFill>
          <a:blip r:embed="rId2"/>
          <a:stretch/>
        </p:blipFill>
        <p:spPr>
          <a:xfrm>
            <a:off x="1332000" y="3573360"/>
            <a:ext cx="3959280" cy="28800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15в.jpg"/>
          <p:cNvPicPr/>
          <p:nvPr/>
        </p:nvPicPr>
        <p:blipFill>
          <a:blip r:embed="rId3"/>
          <a:stretch/>
        </p:blipFill>
        <p:spPr>
          <a:xfrm>
            <a:off x="5651640" y="476280"/>
            <a:ext cx="3047760" cy="43210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5364000" y="4941720"/>
            <a:ext cx="37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Аничков мост. Скульптурная композиция «Укрощение кон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6" descr="anichkov-most-2.jpg"/>
          <p:cNvPicPr/>
          <p:nvPr/>
        </p:nvPicPr>
        <p:blipFill>
          <a:blip r:embed="rId4"/>
          <a:stretch/>
        </p:blipFill>
        <p:spPr>
          <a:xfrm>
            <a:off x="1332000" y="476280"/>
            <a:ext cx="395928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2594144662.jpg"/>
          <p:cNvPicPr/>
          <p:nvPr/>
        </p:nvPicPr>
        <p:blipFill>
          <a:blip r:embed="rId1"/>
          <a:stretch/>
        </p:blipFill>
        <p:spPr>
          <a:xfrm>
            <a:off x="1692360" y="1052640"/>
            <a:ext cx="6551640" cy="43671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4" descr="IMG_9735.jpg"/>
          <p:cNvPicPr/>
          <p:nvPr/>
        </p:nvPicPr>
        <p:blipFill>
          <a:blip r:embed="rId2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1835280" y="404640"/>
            <a:ext cx="36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Невский пр., 39, лит.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1476360" y="566100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73c18"/>
                </a:solidFill>
                <a:latin typeface="Times New Roman"/>
                <a:ea typeface="Times New Roman"/>
              </a:rPr>
              <a:t>Аничков дворец, Санкт-Петербургский городской Дворец творчества ю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1692360" y="40464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Проспект Динамо, 44, стадион «Динамо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6989760" cy="46782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3"/>
          <p:cNvSpPr/>
          <p:nvPr/>
        </p:nvSpPr>
        <p:spPr>
          <a:xfrm>
            <a:off x="1258920" y="587700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Здесь 31 мая 1942 года прошел матч между командами "Динамо" и ЛМ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4" descr="IMG_9735.jpg"/>
          <p:cNvPicPr/>
          <p:nvPr/>
        </p:nvPicPr>
        <p:blipFill>
          <a:blip r:embed="rId2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4" descr="IMG_9735.jpg"/>
          <p:cNvPicPr/>
          <p:nvPr/>
        </p:nvPicPr>
        <p:blipFill>
          <a:blip r:embed="rId1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2" descr="Ленинградский-зоопарк1.jpg"/>
          <p:cNvPicPr/>
          <p:nvPr/>
        </p:nvPicPr>
        <p:blipFill>
          <a:blip r:embed="rId2"/>
          <a:stretch/>
        </p:blipFill>
        <p:spPr>
          <a:xfrm>
            <a:off x="1547640" y="1052640"/>
            <a:ext cx="7099560" cy="50482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1692360" y="6093000"/>
            <a:ext cx="41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73c18"/>
                </a:solidFill>
                <a:latin typeface="Times New Roman"/>
                <a:ea typeface="Times New Roman"/>
              </a:rPr>
              <a:t>Ленинградский зоопар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1619280" y="260280"/>
            <a:ext cx="47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Александровский парк, д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AM5bg8-7Iio.jpg"/>
          <p:cNvPicPr/>
          <p:nvPr/>
        </p:nvPicPr>
        <p:blipFill>
          <a:blip r:embed="rId1"/>
          <a:stretch/>
        </p:blipFill>
        <p:spPr>
          <a:xfrm>
            <a:off x="2627280" y="1773360"/>
            <a:ext cx="4897440" cy="35589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1908000" y="620640"/>
            <a:ext cx="631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Ржевская площадь, д. 1. Железнодорожная станция Ржев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1619280" y="537372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На эту ленинградскую станцию по Дороге жизни прибывали поезда с мукой, продовольствием и лекарствами</a:t>
            </a:r>
            <a:r>
              <a:rPr b="0" lang="ru-RU" sz="2400" spc="-1" strike="noStrike">
                <a:solidFill>
                  <a:srgbClr val="2e471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IMG_9735.jpg"/>
          <p:cNvPicPr/>
          <p:nvPr/>
        </p:nvPicPr>
        <p:blipFill>
          <a:blip r:embed="rId2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20б.jpg"/>
          <p:cNvPicPr/>
          <p:nvPr/>
        </p:nvPicPr>
        <p:blipFill>
          <a:blip r:embed="rId1"/>
          <a:stretch/>
        </p:blipFill>
        <p:spPr>
          <a:xfrm>
            <a:off x="1332000" y="1052640"/>
            <a:ext cx="3744720" cy="32763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" descr="21.jpg"/>
          <p:cNvPicPr/>
          <p:nvPr/>
        </p:nvPicPr>
        <p:blipFill>
          <a:blip r:embed="rId2"/>
          <a:stretch/>
        </p:blipFill>
        <p:spPr>
          <a:xfrm>
            <a:off x="5292720" y="981000"/>
            <a:ext cx="3456000" cy="33116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3"/>
          <p:cNvSpPr/>
          <p:nvPr/>
        </p:nvSpPr>
        <p:spPr>
          <a:xfrm>
            <a:off x="1116000" y="45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От голода и бомбёжек погибали не только люд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4" descr="IMG_9735.jpg"/>
          <p:cNvPicPr/>
          <p:nvPr/>
        </p:nvPicPr>
        <p:blipFill>
          <a:blip r:embed="rId3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1692360" y="26028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Соляной переулок, д.9, музей обороны и блокады Ленинг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5977080" cy="398484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3"/>
          <p:cNvSpPr/>
          <p:nvPr/>
        </p:nvSpPr>
        <p:spPr>
          <a:xfrm>
            <a:off x="1187280" y="544500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Уже в декабре 1943 года, еще до полного освобождения города от блокады власти решили организовать выставку «Героическая защита Ленингр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4" descr="IMG_9735.jpg"/>
          <p:cNvPicPr/>
          <p:nvPr/>
        </p:nvPicPr>
        <p:blipFill>
          <a:blip r:embed="rId2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3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1187280" y="522936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471d"/>
                </a:solidFill>
                <a:latin typeface="Arial"/>
              </a:rPr>
              <a:t>https://fishki.net/1234728-zoopark-vo-vremja-blokady-leningrada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1187280" y="5877000"/>
            <a:ext cx="63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pbzoo.ru/o_nas/istoriya-zoopark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611280" y="981000"/>
            <a:ext cx="54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4"/>
          <p:cNvSpPr/>
          <p:nvPr/>
        </p:nvSpPr>
        <p:spPr>
          <a:xfrm>
            <a:off x="1187280" y="4653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471d"/>
                </a:solidFill>
                <a:latin typeface="Arial"/>
              </a:rPr>
              <a:t>https://defendingrussia.ru/a/match_zhizni_v_blokadnom_leningrade-597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5"/>
          <p:cNvSpPr/>
          <p:nvPr/>
        </p:nvSpPr>
        <p:spPr>
          <a:xfrm>
            <a:off x="1187280" y="4221000"/>
            <a:ext cx="54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471d"/>
                </a:solidFill>
                <a:latin typeface="Arial"/>
              </a:rPr>
              <a:t>https://pantv.livejou/rnal.com/28571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1187280" y="213372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471d"/>
                </a:solidFill>
                <a:latin typeface="Arial"/>
              </a:rPr>
              <a:t>https://soundtimes.rusimfonicheshttp://palmernw.ru/berggolc/berggolc.htmlkaya-muzyka/udivitelnye-simfonicheskie-proizvedeniya/shostakovich-leningradskaya-simfoni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1187280" y="3716280"/>
            <a:ext cx="48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471d"/>
                </a:solidFill>
                <a:latin typeface="Arial"/>
              </a:rPr>
              <a:t>http://muzcomedy.ru/blokad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1187280" y="3213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471d"/>
                </a:solidFill>
                <a:latin typeface="Arial"/>
              </a:rPr>
              <a:t>http://club.silver-ring.ru/posts/247-ekskursija-v-dom-radi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1187280" y="6165720"/>
            <a:ext cx="56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upmpp.ru/about/history/#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1187280" y="1484280"/>
            <a:ext cx="64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471d"/>
                </a:solidFill>
                <a:latin typeface="Arial"/>
              </a:rPr>
              <a:t>http://petersburglike.ru/2014-01-18/15-blokadnyx-adresov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2"/>
          <p:cNvSpPr/>
          <p:nvPr/>
        </p:nvSpPr>
        <p:spPr>
          <a:xfrm>
            <a:off x="2711880" y="333360"/>
            <a:ext cx="344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Интернет-источ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3"/>
          <p:cNvSpPr/>
          <p:nvPr/>
        </p:nvSpPr>
        <p:spPr>
          <a:xfrm>
            <a:off x="1187280" y="105264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471d"/>
                </a:solidFill>
                <a:latin typeface="Arial"/>
              </a:rPr>
              <a:t>https://ru.wikipedia.org/w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" descr="IMG_9735.jpg"/>
          <p:cNvPicPr/>
          <p:nvPr/>
        </p:nvPicPr>
        <p:blipFill>
          <a:blip r:embed="rId1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1692360" y="3068640"/>
            <a:ext cx="725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Спасибо за внимание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2" descr="IMG_9735.jpg"/>
          <p:cNvPicPr/>
          <p:nvPr/>
        </p:nvPicPr>
        <p:blipFill>
          <a:blip r:embed="rId1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Snimok5-8.jpg"/>
          <p:cNvPicPr/>
          <p:nvPr/>
        </p:nvPicPr>
        <p:blipFill>
          <a:blip r:embed="rId1"/>
          <a:stretch/>
        </p:blipFill>
        <p:spPr>
          <a:xfrm>
            <a:off x="1332000" y="981000"/>
            <a:ext cx="3103560" cy="38228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1258920" y="5300640"/>
            <a:ext cx="754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Дорога от Ржевки до центра города вошла в историю под названием «Ржевский коридор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3" descr="Snimok6-7.jpg"/>
          <p:cNvPicPr/>
          <p:nvPr/>
        </p:nvPicPr>
        <p:blipFill>
          <a:blip r:embed="rId2"/>
          <a:stretch/>
        </p:blipFill>
        <p:spPr>
          <a:xfrm>
            <a:off x="4643280" y="1052640"/>
            <a:ext cx="4064040" cy="36734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IMG_9735.jpg"/>
          <p:cNvPicPr/>
          <p:nvPr/>
        </p:nvPicPr>
        <p:blipFill>
          <a:blip r:embed="rId3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2" descr="5348024569877398_5569.jpg"/>
          <p:cNvPicPr/>
          <p:nvPr/>
        </p:nvPicPr>
        <p:blipFill>
          <a:blip r:embed="rId1"/>
          <a:stretch/>
        </p:blipFill>
        <p:spPr>
          <a:xfrm>
            <a:off x="1692360" y="1413000"/>
            <a:ext cx="6805440" cy="38271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3"/>
          <p:cNvSpPr/>
          <p:nvPr/>
        </p:nvSpPr>
        <p:spPr>
          <a:xfrm>
            <a:off x="1403280" y="33336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Московский проспек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павильон метро «Парк Победы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1187280" y="537372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В блокадные времена на его месте располагался кирпичный завод № 1, в печах которого сжигали, умерших от голода и бомбежек, жителей Ленингр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IMG_9735.jpg"/>
          <p:cNvPicPr/>
          <p:nvPr/>
        </p:nvPicPr>
        <p:blipFill>
          <a:blip r:embed="rId2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21175139.1.jpg"/>
          <p:cNvPicPr/>
          <p:nvPr/>
        </p:nvPicPr>
        <p:blipFill>
          <a:blip r:embed="rId1"/>
          <a:stretch/>
        </p:blipFill>
        <p:spPr>
          <a:xfrm>
            <a:off x="1619280" y="836640"/>
            <a:ext cx="6865920" cy="47512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1332000" y="5877000"/>
            <a:ext cx="47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Памятный знак «Вагонет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IMG_9735.jpg"/>
          <p:cNvPicPr/>
          <p:nvPr/>
        </p:nvPicPr>
        <p:blipFill>
          <a:blip r:embed="rId2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2" descr="1200132.jpg"/>
          <p:cNvPicPr/>
          <p:nvPr/>
        </p:nvPicPr>
        <p:blipFill>
          <a:blip r:embed="rId1"/>
          <a:stretch/>
        </p:blipFill>
        <p:spPr>
          <a:xfrm>
            <a:off x="1763640" y="836640"/>
            <a:ext cx="6919920" cy="46116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IMG_9735.jpg"/>
          <p:cNvPicPr/>
          <p:nvPr/>
        </p:nvPicPr>
        <p:blipFill>
          <a:blip r:embed="rId2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1763640" y="573264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Таня Савич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dom_Savicheva_2_linia_d_13.jpg"/>
          <p:cNvPicPr/>
          <p:nvPr/>
        </p:nvPicPr>
        <p:blipFill>
          <a:blip r:embed="rId1"/>
          <a:stretch/>
        </p:blipFill>
        <p:spPr>
          <a:xfrm>
            <a:off x="1332000" y="1557360"/>
            <a:ext cx="4786200" cy="3591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1975650_original.jpg"/>
          <p:cNvPicPr/>
          <p:nvPr/>
        </p:nvPicPr>
        <p:blipFill>
          <a:blip r:embed="rId2"/>
          <a:stretch/>
        </p:blipFill>
        <p:spPr>
          <a:xfrm>
            <a:off x="6516720" y="1557360"/>
            <a:ext cx="2317680" cy="358776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1332000" y="406440"/>
            <a:ext cx="735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2-я линия Васильевского острова, д. 13, квартира Тани Савичевой</a:t>
            </a:r>
            <a:r>
              <a:rPr b="0" lang="ru-RU" sz="1800" spc="-1" strike="noStrike">
                <a:solidFill>
                  <a:srgbClr val="2e471d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5"/>
          <p:cNvSpPr/>
          <p:nvPr/>
        </p:nvSpPr>
        <p:spPr>
          <a:xfrm>
            <a:off x="1258920" y="5589720"/>
            <a:ext cx="734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Здесь 12-летней советской школьницей был написан самый известный блокадный дне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5" descr="IMG_9735.jpg"/>
          <p:cNvPicPr/>
          <p:nvPr/>
        </p:nvPicPr>
        <p:blipFill>
          <a:blip r:embed="rId3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2" descr="Olga-Bergholz-9.jpg"/>
          <p:cNvPicPr/>
          <p:nvPr/>
        </p:nvPicPr>
        <p:blipFill>
          <a:blip r:embed="rId1"/>
          <a:stretch/>
        </p:blipFill>
        <p:spPr>
          <a:xfrm>
            <a:off x="1692360" y="333360"/>
            <a:ext cx="6697440" cy="49528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6084720" y="1557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1258920" y="544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73c18"/>
                </a:solidFill>
                <a:latin typeface="Times New Roman"/>
                <a:ea typeface="Times New Roman"/>
              </a:rPr>
              <a:t>Голос Ольги Берггольц назвали символом Победы, а поэтессу – «блокадной Мадонной» и музой осажденного г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4" descr="IMG_9735.jpg"/>
          <p:cNvPicPr/>
          <p:nvPr/>
        </p:nvPicPr>
        <p:blipFill>
          <a:blip r:embed="rId2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07120038.1.jpg"/>
          <p:cNvPicPr/>
          <p:nvPr/>
        </p:nvPicPr>
        <p:blipFill>
          <a:blip r:embed="rId1"/>
          <a:stretch/>
        </p:blipFill>
        <p:spPr>
          <a:xfrm>
            <a:off x="1332000" y="476280"/>
            <a:ext cx="3328920" cy="29527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" descr="86808.jpg"/>
          <p:cNvPicPr/>
          <p:nvPr/>
        </p:nvPicPr>
        <p:blipFill>
          <a:blip r:embed="rId2"/>
          <a:stretch/>
        </p:blipFill>
        <p:spPr>
          <a:xfrm>
            <a:off x="1332000" y="3716280"/>
            <a:ext cx="3311280" cy="2808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IMG_6150.jpg"/>
          <p:cNvPicPr/>
          <p:nvPr/>
        </p:nvPicPr>
        <p:blipFill>
          <a:blip r:embed="rId3"/>
          <a:stretch/>
        </p:blipFill>
        <p:spPr>
          <a:xfrm>
            <a:off x="4859280" y="3933720"/>
            <a:ext cx="4006800" cy="259236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5076720" y="18900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Ул. Рубинштейна, д.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6" descr="IMG_9735.jpg"/>
          <p:cNvPicPr/>
          <p:nvPr/>
        </p:nvPicPr>
        <p:blipFill>
          <a:blip r:embed="rId4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7"/>
          <p:cNvSpPr/>
          <p:nvPr/>
        </p:nvSpPr>
        <p:spPr>
          <a:xfrm>
            <a:off x="4967280" y="836640"/>
            <a:ext cx="417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Их имен благородных мы здесь перечислить не сможем,</a:t>
            </a:r>
            <a:br>
              <a:rPr sz="2400"/>
            </a:b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так их много под вечной охраной гранита.</a:t>
            </a:r>
            <a:br>
              <a:rPr sz="2400"/>
            </a:b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Но знай, внимающий этим камням,</a:t>
            </a:r>
            <a:br>
              <a:rPr sz="2400"/>
            </a:b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никто не забыт и ничто не забы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4T14:27:36Z</dcterms:created>
  <dc:creator>soltan_ma</dc:creator>
  <dc:description/>
  <dc:language>en-US</dc:language>
  <cp:lastModifiedBy>soltan_ma</cp:lastModifiedBy>
  <dcterms:modified xsi:type="dcterms:W3CDTF">2019-06-05T12:25:35Z</dcterms:modified>
  <cp:revision>79</cp:revision>
  <dc:subject/>
  <dc:title>Слайд 1</dc:title>
</cp:coreProperties>
</file>