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4FD-FF67-42C4-A62B-D4376694F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ая улица, 27, Ленинградский Дом радио. Отсюда в течение всей блокады неслись в голодный и холодный город ободряющие слова сотрудников ленинградской радиостанции. Кстати, Москва траслировала эти программа на весь Советский Сою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E373-6876-4404-8A17-E2095F95A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локадные радиоприемник, метроном и уличные громкоговор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D02-5AEC-4E8D-91EC-B756A8C1B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Единственный театр, который не был эвакуирован в глубь страны и в течение всей блокады давал представления (оперетты) для ленинградцев все 900 дней блока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атр в тяжелейшие дни блокады стал частичкой духовной жизни города, единственным островком радости для измученных жителей города и фронтов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ин из декабрьских дней 1941 года в соседний с театром дом попала бомба; пострадало и здание театра. 24 декабря в последний раз поднялся занавес на улице Ракова (ныне Итальянская Улица, а 25 декабря очередной спектакль уже шел на подмостках Александринского театра, пустовавшего после эвакуации его т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такли не прерывались даже во время обстрелов: публика уже настолько привыкла к бомбежкам, что отказывалась спускаться в бомбоубежище. Да и сил на лишние передвижения не было. А когда в театре погас свет, зрители из зала подсвечивали сцену ручными фонариками, которые всегда носили с собой, ведь в городе было тем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141-46AC-431D-A2FF-98C1216FF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митрий Шостакович работает над Ленинградской симфо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Вы сейчас слышите отрывок из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дьмой («Ленинградской») симфонии композ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1E3-9461-410C-AF12-02A5AA70D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ушкарская улица, 37 («Дом Бенуа»), квартира Дмитрия Шостаковича. Здесь были написаны три первые части легендарной седьмой («ленинградской») симфонии композ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Ленинградом тревожно выли сирены. Монотонно стучал в радиорепродукторах метроном. Иногда по улицам проходили наши танки. Била дальнобойная артиллерия Краснознаменного Балтийского флота. Может быть, изо всех этих звуков и слагались первые фразы будущей симфонии?.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BB7C-244D-4952-B66D-08EA54AFE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ендарные 80 минут, вошедшие в ис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действий — блокадный Ленинград. Эти 80 минут были переломными в душах и сердцах всех жителей Ленинграда, переломными они были и для безжалостной и беспощадной немецкой армии, когда 80 минут враг замертво слушал 2 симфонии одновременно — «7-ую симфонию Шостаковича и «залповую симфонию» наших солдат, защищавших площадь Искусств и зал Филарм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F20-21E0-4420-8715-9209908F1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чков мост — один из самых красивых мостов в мире. От прочих мостов он отличается благодаря композиции скульптора П.К. Клод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ичков мост, переброшенный через Фонтанку по линии Невского проспекта, сильно пострадал от осколков снарядов во время обстрелов. Кони Клодта в первые дни блокады были демонтированы и сохранены, но ограда и постаменты были серьезно повреждены осколк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B5D-5AA0-408B-89A8-4A61BFBB9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Аничков дворец, Санкт-Петербургский городской Дворец творчества ю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41 году во время блокады «кони Клодта» были сняты и закопаны в саду Аничкова двор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2C1-2C78-4CF4-ADBE-F9AD18B1C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апреле 1942 года немцы разбрасывали с самолетов листовки. Они утверждали, что «Ленинград — город ме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 мая 1942 года в осажденном и голодающем, на стадионе «Динамо» состоялся футбольной матч. Он должен был показать, что город не только сражается, но и живет, несмотря на все испытания и потери прошедшей зи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789-4565-4092-B916-E795D39DE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городом Ленинградский зоопарк пережил самую страшную страницу его истории – Великую Отечественную войну и блокаду. Многие сотрудники зоопарка отправились на фронт, а значительная часть животных была эвакуирована в Казань. Но многие животные и сотрудники остались в го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673-B12D-4ADD-96A1-18869C4C25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евская площадь, д.1, железнодорожная станция Ржевка. Именно на эту ленинградскую станцию по Дороге жизни прибывали поезда с мукой, продовольствием и лекар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181-B209-4DD3-A17D-6092DA489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ентября 1941 года был первый обстрел Ленинграда из дальнобойных пушек. 8 сентября во время второй бомбежки снаряды попали в зоосад. Бомба попала и в слоновник, где с начала века жила знаменитая слониха Бет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ко пришлось и бегемоту Красавице, которую привезли в зоопарк вместе с Бэтти в далеком 1911 году. Конечно, ей повезло намного больше, чем ее несчастной подруге: она выжила и прожила долгую счастливую жизнь, однако без самоотверженной помощи Евдокии Дашиной чуда бы не произошл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56F9-000F-41E0-9CD3-FC944C0F5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же в декабре 1943 года, еще до полного освобождения города от блокады власти решили организовать выставку «Героическая защита Ленинг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ей обороны и блокады Ленинграда, единственный в России образованный музей в тяжелое вое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9D48-4049-4BDE-B0FE-BA67CD7A0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 от Ржевки до центра города вошла в историю под названием «Ржевский коридор». В годы Великой Отечественной войны это был прифронтовой район. Здесь не было боевых действий, но эта территория ожесточённо обстреливалась.  По этому коридору в осаждённый город были доставлены сотни тысяч тонн продовольствия, медикаментов и боеприпасов. По этому пути было вывезено на «большую землю» более миллиона измождённых ленинград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F3E9-9ABB-44C3-8E72-8E617D7D5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ий проспект, павильон метро «Парк Победы». В блокадные времена на его месте располагался кирпичный завод № 1, в печах которого сжигали трупы ленинградцев, умерших от голода и бомбежек. По разным оценкам, здесь были кремированы от 100 до 600 тысяч тел, это место самой массовой кремации в человече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66E7-489A-45E4-8DDF-06D9B94EE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е Победы, на месте бывшего заводского глиняного карьера, находит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в мире братская мог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гонетка кирпичного завода была поднята со дна пруда парка 21 июля 1999 года и установлена на постамент 9 августа 2001 г. На таких вагонетках тела умерших отправляли в туннельные печи завода, а затем их прах перевозился к береговой кромке пруда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аднем фоне - Храм всех святых в земле русской просиявших. . В память о сотнях тысячах ленинградцев, которые во время блокады были кремированы и погребены в карьерах парка, в 2010 году был возведен небольшой х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12FC-5853-4A91-B23A-FFFF9583C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вся семья Тани Савичевой погибла в период с декабря 1941 года по май 1942 года. В её дневнике девять страниц, на шести из которых даты смерти близких люд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атери, бабушки, сестры, брата и двух дядей. Блокаду пережили только её старшие сестра Нина и брат Михаил, благодаря которым дневник Тани уцелел и стал одним из символов Великой Отечественной вой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024-420B-406F-AD7B-9E801428D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я линия Васильевского острова, д. 13, квартира Тани Савичевой. Здесь 12-летней советской школьницей был написан самый известный блокадный дневник, который невозможно читать без слез. В 1942 году Таню эвакуировали из Ленинграда, но она так и не оправилась от последствий многодневного голодания. 1 июля 1944 года ее не 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0E48-CB9A-4CE4-B3EA-AA84868F5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 Ольги Берггольц не зря назвали символом Победы, а поэтессу – «блокадной Мадонной» и музой осажденного г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397-1660-4C32-BE74-BAC319AFD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ца Рубинштейна, д.7, дом-коммуна инженеров и писателей, где жила и творила главный блокадный поэт Ольга Берггольц. Имя Ольги Берггольц было, пожалуй, самым знаменитым в доме инженеров и писателей, не считая имени самого дома, конечно. Ее стихи помогли ленинградцам выжить в насквозь промерзшем блокадном городе и не потерять человеческого достоинства. Умирающие от истощения люди слушали обращения поэтессы из черных «тарелок» репродукторов и укреплялись в вере дожить до поб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забыт, ничто не забыто — лозунг, употребляющийся применительно к подвигу солдат Великой Отечественн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а фраза была употреблена в стихотворении Ольги Бергольц, написанном в 1959 году специально для мемориальной стены на Пискаревском кладбище, где похоронены многие жертвы Ленинградской блока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D92-5D4D-409E-9B70-093A7172B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A77-C450-47E2-BE5C-4D53D5ED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552-832A-4573-B3E1-F7A2F2C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22B-27EA-4029-A791-50925D30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9D7-B344-459D-8DD2-51F4B963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71C-3DAC-491E-A55D-E253DDF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1C0-B29F-4A6E-8894-926B93E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DCD-D283-4635-A703-7B48F73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B74-4C6D-4150-8791-9C34AE3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10A-A106-4E7B-B894-5816320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54D-AE1F-42D0-AA42-5B802D7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137-3E77-42C0-AFEF-2F9A2B7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29E-7EAE-437B-BDD2-1EE4670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cc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D74-51E2-41BB-86C3-B12F67BE6E09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7"/>
          <p:cNvSpPr/>
          <p:nvPr/>
        </p:nvSpPr>
        <p:spPr>
          <a:xfrm>
            <a:off x="1042920" y="47628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РЕДНЯЯ ОБЩЕОБРАЗОВАТЕЛЬНАЯ ШКОЛА №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ПЕТРОГРАД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9"/>
          <p:cNvSpPr/>
          <p:nvPr/>
        </p:nvSpPr>
        <p:spPr>
          <a:xfrm>
            <a:off x="1187280" y="2060640"/>
            <a:ext cx="78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Блокадные адреса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1"/>
          <p:cNvSpPr/>
          <p:nvPr/>
        </p:nvSpPr>
        <p:spPr>
          <a:xfrm>
            <a:off x="1547640" y="3213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Презентация к занятию, посвященному 75-летию полного освобождения </a:t>
            </a:r>
            <a:r>
              <a:rPr b="0" lang="ru-RU" sz="18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Ленинграда</a:t>
            </a:r>
            <a:r>
              <a:rPr b="0" lang="ru-RU" sz="18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 от фашистской блок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3"/>
          <p:cNvSpPr/>
          <p:nvPr/>
        </p:nvSpPr>
        <p:spPr>
          <a:xfrm>
            <a:off x="2050920" y="6021360"/>
            <a:ext cx="59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Санкт-Петербург, 201</a:t>
            </a:r>
            <a:r>
              <a:rPr b="0" lang="ru-RU" sz="22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5"/>
          <p:cNvSpPr/>
          <p:nvPr/>
        </p:nvSpPr>
        <p:spPr>
          <a:xfrm>
            <a:off x="4500720" y="46450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4118"/>
                </a:solidFill>
                <a:latin typeface="Times New Roman"/>
                <a:ea typeface="Times New Roman"/>
              </a:rPr>
              <a:t>Солтан Марина Александровна, воспитатель группы продленного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332000" y="26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тальянская улица, 27, Ленинградский Дом рад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6048360" cy="4321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1403280" y="5300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Отсюда в течение всей блокады неслись в голодный и холодный город ободряющие слова сотрудников ленинградской радиост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458460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3322800" cy="3456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056040" cy="3382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6156360" y="4653000"/>
            <a:ext cx="280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локадные радиоприемник, метроном и уличные громкоговор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IMG_9735.jpg"/>
          <p:cNvPicPr/>
          <p:nvPr/>
        </p:nvPicPr>
        <p:blipFill>
          <a:blip r:embed="rId4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258920" y="476280"/>
            <a:ext cx="76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тальянская улица, д.13/площадь Островского, д.6, Театр музыкальной коме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vsevobich_leningrad_okt1941_agaranin.32udrivip9es48ggckws4skss.ejcuplo1l0oo0sk8c40s8osc4.th.jpeg"/>
          <p:cNvPicPr/>
          <p:nvPr/>
        </p:nvPicPr>
        <p:blipFill>
          <a:blip r:embed="rId1"/>
          <a:stretch/>
        </p:blipFill>
        <p:spPr>
          <a:xfrm>
            <a:off x="5148360" y="1916280"/>
            <a:ext cx="3824280" cy="28256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258920" y="508464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Единственный театр, который не был эвакуирован в глубь страны и в течение всей блокады давал представления (оперетты) для ленинградцев все 900 дней блок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0_128f3_e52f9575_L.jpg"/>
          <p:cNvPicPr/>
          <p:nvPr/>
        </p:nvPicPr>
        <p:blipFill>
          <a:blip r:embed="rId2"/>
          <a:stretch/>
        </p:blipFill>
        <p:spPr>
          <a:xfrm>
            <a:off x="1187280" y="206064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7162920" cy="4897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403280" y="5732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митрий Шостакович работает над Ленинградской симфо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muzlome_Dmitrijj_SHostakovich_-_Simfoniya_7_Leningradskaya_otryvok_Nashestvie_48989025.mp3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49843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03280" y="404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Большая Пушкарская улица, 37 («Дом Бенуа»), квартира Дмитрия Шостако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2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6193080" cy="40417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403280" y="56116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были написаны три первые части легендарной седьмой («ленинградской») симфонии композ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87280" y="33336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Михайловская улица, 2, Ленинградская фил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302520" cy="4224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258920" y="543708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9 августа 1942 года была вживую исполнена Ленинградская симфония Шостаковича, что само по себе стало символом стойкости непокор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15б.jpg"/>
          <p:cNvPicPr/>
          <p:nvPr/>
        </p:nvPicPr>
        <p:blipFill>
          <a:blip r:embed="rId2"/>
          <a:stretch/>
        </p:blipFill>
        <p:spPr>
          <a:xfrm>
            <a:off x="1332000" y="357336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15в.jpg"/>
          <p:cNvPicPr/>
          <p:nvPr/>
        </p:nvPicPr>
        <p:blipFill>
          <a:blip r:embed="rId3"/>
          <a:stretch/>
        </p:blipFill>
        <p:spPr>
          <a:xfrm>
            <a:off x="5651640" y="476280"/>
            <a:ext cx="3047760" cy="4321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5364000" y="4941720"/>
            <a:ext cx="37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Аничков мост. Скульптурная композиция «Укрощение ко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6" descr="anichkov-most-2.jpg"/>
          <p:cNvPicPr/>
          <p:nvPr/>
        </p:nvPicPr>
        <p:blipFill>
          <a:blip r:embed="rId4"/>
          <a:stretch/>
        </p:blipFill>
        <p:spPr>
          <a:xfrm>
            <a:off x="1332000" y="47628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2594144662.jpg"/>
          <p:cNvPicPr/>
          <p:nvPr/>
        </p:nvPicPr>
        <p:blipFill>
          <a:blip r:embed="rId1"/>
          <a:stretch/>
        </p:blipFill>
        <p:spPr>
          <a:xfrm>
            <a:off x="1692360" y="1052640"/>
            <a:ext cx="6551640" cy="4367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835280" y="404640"/>
            <a:ext cx="36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евский пр., 39, лит.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476360" y="5661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Аничков дворец, Санкт-Петербургский городской Дворец творчества ю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1692360" y="404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роспект Динамо, 44, стадион «Динам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989760" cy="4678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1258920" y="5877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31 мая 1942 года прошел матч между командами "Динамо" и ЛМ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Ленинградский-зоопарк1.jpg"/>
          <p:cNvPicPr/>
          <p:nvPr/>
        </p:nvPicPr>
        <p:blipFill>
          <a:blip r:embed="rId2"/>
          <a:stretch/>
        </p:blipFill>
        <p:spPr>
          <a:xfrm>
            <a:off x="1547640" y="1052640"/>
            <a:ext cx="7099560" cy="5048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1692360" y="6093000"/>
            <a:ext cx="41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Ленинградский зоопа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619280" y="260280"/>
            <a:ext cx="47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Александровский парк, д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AM5bg8-7Iio.jpg"/>
          <p:cNvPicPr/>
          <p:nvPr/>
        </p:nvPicPr>
        <p:blipFill>
          <a:blip r:embed="rId1"/>
          <a:stretch/>
        </p:blipFill>
        <p:spPr>
          <a:xfrm>
            <a:off x="2627280" y="1773360"/>
            <a:ext cx="4897440" cy="3558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908000" y="62064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Ржевская площадь, д. 1. Железнодорожная станция Рже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619280" y="537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а эту ленинградскую станцию по Дороге жизни прибывали поезда с мукой, продовольствием и лекарствами</a:t>
            </a:r>
            <a:r>
              <a:rPr b="0" lang="ru-RU" sz="2400" spc="-1" strike="noStrike">
                <a:solidFill>
                  <a:srgbClr val="2e471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20б.jpg"/>
          <p:cNvPicPr/>
          <p:nvPr/>
        </p:nvPicPr>
        <p:blipFill>
          <a:blip r:embed="rId1"/>
          <a:stretch/>
        </p:blipFill>
        <p:spPr>
          <a:xfrm>
            <a:off x="1332000" y="1052640"/>
            <a:ext cx="3744720" cy="3276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21.jpg"/>
          <p:cNvPicPr/>
          <p:nvPr/>
        </p:nvPicPr>
        <p:blipFill>
          <a:blip r:embed="rId2"/>
          <a:stretch/>
        </p:blipFill>
        <p:spPr>
          <a:xfrm>
            <a:off x="5292720" y="981000"/>
            <a:ext cx="3456000" cy="33116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1116000" y="45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От голода и бомбёжек погибали не только люд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692360" y="26028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Соляной переулок, д.9, музей обороны и блокады Ленин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977080" cy="39848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1187280" y="5445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же в декабре 1943 года, еще до полного освобождения города от блокады власти решили организовать выставку «Героическая защита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187280" y="5229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471d"/>
                </a:solidFill>
                <a:latin typeface="Arial"/>
              </a:rPr>
              <a:t>https://fishki.net/1234728-zoopark-vo-vremja-blokady-leningrad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1187280" y="5877000"/>
            <a:ext cx="63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pbzoo.ru/o_nas/istoriya-zoopar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611280" y="98100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118728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defendingrussia.ru/a/match_zhizni_v_blokadnom_leningrade-59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1187280" y="4221000"/>
            <a:ext cx="54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pantv.livejou/rnal.com/2857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87280" y="213372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soundtimes.rusimfonicheshttp://palmernw.ru/berggolc/berggolc.htmlkaya-muzyka/udivitelnye-simfonicheskie-proizvedeniya/shostakovich-leningradskaya-simfoni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1187280" y="3716280"/>
            <a:ext cx="48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muzcomedy.ru/blokad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187280" y="3213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club.silver-ring.ru/posts/247-ekskursija-v-dom-radi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1187280" y="616572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upmpp.ru/about/history/#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1187280" y="148428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://petersburglike.ru/2014-01-18/15-blokadnyx-adres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711880" y="33336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нтернет-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1187280" y="10526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471d"/>
                </a:solidFill>
                <a:latin typeface="Arial"/>
              </a:rPr>
              <a:t>https://ru.wikipedia.org/w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1692360" y="306864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2" descr="IMG_9735.jpg"/>
          <p:cNvPicPr/>
          <p:nvPr/>
        </p:nvPicPr>
        <p:blipFill>
          <a:blip r:embed="rId1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Snimok5-8.jpg"/>
          <p:cNvPicPr/>
          <p:nvPr/>
        </p:nvPicPr>
        <p:blipFill>
          <a:blip r:embed="rId1"/>
          <a:stretch/>
        </p:blipFill>
        <p:spPr>
          <a:xfrm>
            <a:off x="1332000" y="981000"/>
            <a:ext cx="3103560" cy="3822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1258920" y="5300640"/>
            <a:ext cx="754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Дорога от Ржевки до центра города вошла в историю под названием «Ржевский коридор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Snimok6-7.jpg"/>
          <p:cNvPicPr/>
          <p:nvPr/>
        </p:nvPicPr>
        <p:blipFill>
          <a:blip r:embed="rId2"/>
          <a:stretch/>
        </p:blipFill>
        <p:spPr>
          <a:xfrm>
            <a:off x="4643280" y="1052640"/>
            <a:ext cx="4064040" cy="3673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5348024569877398_5569.jpg"/>
          <p:cNvPicPr/>
          <p:nvPr/>
        </p:nvPicPr>
        <p:blipFill>
          <a:blip r:embed="rId1"/>
          <a:stretch/>
        </p:blipFill>
        <p:spPr>
          <a:xfrm>
            <a:off x="1692360" y="1413000"/>
            <a:ext cx="6805440" cy="38271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1403280" y="33336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Московский проспек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авильон метро «Парк Побед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1187280" y="5373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В блокадные времена на его месте располагался кирпичный завод № 1, в печах которого сжигали, умерших от голода и бомбежек, жителей 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1175139.1.jpg"/>
          <p:cNvPicPr/>
          <p:nvPr/>
        </p:nvPicPr>
        <p:blipFill>
          <a:blip r:embed="rId1"/>
          <a:stretch/>
        </p:blipFill>
        <p:spPr>
          <a:xfrm>
            <a:off x="1619280" y="836640"/>
            <a:ext cx="6865920" cy="4751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332000" y="5877000"/>
            <a:ext cx="47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Памятный знак «Вагоне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1200132.jpg"/>
          <p:cNvPicPr/>
          <p:nvPr/>
        </p:nvPicPr>
        <p:blipFill>
          <a:blip r:embed="rId1"/>
          <a:stretch/>
        </p:blipFill>
        <p:spPr>
          <a:xfrm>
            <a:off x="1763640" y="836640"/>
            <a:ext cx="6919920" cy="46116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763640" y="573264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Таня Сави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dom_Savicheva_2_linia_d_13.jpg"/>
          <p:cNvPicPr/>
          <p:nvPr/>
        </p:nvPicPr>
        <p:blipFill>
          <a:blip r:embed="rId1"/>
          <a:stretch/>
        </p:blipFill>
        <p:spPr>
          <a:xfrm>
            <a:off x="1332000" y="1557360"/>
            <a:ext cx="4786200" cy="3591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1975650_original.jpg"/>
          <p:cNvPicPr/>
          <p:nvPr/>
        </p:nvPicPr>
        <p:blipFill>
          <a:blip r:embed="rId2"/>
          <a:stretch/>
        </p:blipFill>
        <p:spPr>
          <a:xfrm>
            <a:off x="6516720" y="1557360"/>
            <a:ext cx="2317680" cy="35877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1332000" y="406440"/>
            <a:ext cx="73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2-я линия Васильевского острова, д. 13, квартира Тани Савичевой</a:t>
            </a:r>
            <a:r>
              <a:rPr b="0" lang="ru-RU" sz="1800" spc="-1" strike="noStrike">
                <a:solidFill>
                  <a:srgbClr val="2e471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1258920" y="5589720"/>
            <a:ext cx="73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Здесь 12-летней советской школьницей был написан самый известный блокадный дне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IMG_9735.jpg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Olga-Bergholz-9.jpg"/>
          <p:cNvPicPr/>
          <p:nvPr/>
        </p:nvPicPr>
        <p:blipFill>
          <a:blip r:embed="rId1"/>
          <a:stretch/>
        </p:blipFill>
        <p:spPr>
          <a:xfrm>
            <a:off x="1692360" y="333360"/>
            <a:ext cx="669744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084720" y="155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25892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3c18"/>
                </a:solidFill>
                <a:latin typeface="Times New Roman"/>
                <a:ea typeface="Times New Roman"/>
              </a:rPr>
              <a:t>Голос Ольги Берггольц назвали символом Победы, а поэтессу – «блокадной Мадонной» и музой осажденного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IMG_9735.jpg"/>
          <p:cNvPicPr/>
          <p:nvPr/>
        </p:nvPicPr>
        <p:blipFill>
          <a:blip r:embed="rId2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7120038.1.jpg"/>
          <p:cNvPicPr/>
          <p:nvPr/>
        </p:nvPicPr>
        <p:blipFill>
          <a:blip r:embed="rId1"/>
          <a:stretch/>
        </p:blipFill>
        <p:spPr>
          <a:xfrm>
            <a:off x="1332000" y="476280"/>
            <a:ext cx="3328920" cy="2952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86808.jpg"/>
          <p:cNvPicPr/>
          <p:nvPr/>
        </p:nvPicPr>
        <p:blipFill>
          <a:blip r:embed="rId2"/>
          <a:stretch/>
        </p:blipFill>
        <p:spPr>
          <a:xfrm>
            <a:off x="1332000" y="3716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IMG_6150.jpg"/>
          <p:cNvPicPr/>
          <p:nvPr/>
        </p:nvPicPr>
        <p:blipFill>
          <a:blip r:embed="rId3"/>
          <a:stretch/>
        </p:blipFill>
        <p:spPr>
          <a:xfrm>
            <a:off x="4859280" y="3933720"/>
            <a:ext cx="400680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76720" y="189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Ул. Рубинштейна, д.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IMG_9735.jpg"/>
          <p:cNvPicPr/>
          <p:nvPr/>
        </p:nvPicPr>
        <p:blipFill>
          <a:blip r:embed="rId4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4967280" y="836640"/>
            <a:ext cx="41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Их имен благородных мы здесь перечислить не сможем,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так их много под вечной охраной гранита.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о знай, внимающий этим камням,</a:t>
            </a:r>
            <a:br>
              <a:rPr sz="2400"/>
            </a:br>
            <a:r>
              <a:rPr b="0" lang="ru-RU" sz="2400" spc="-1" strike="noStrike">
                <a:solidFill>
                  <a:srgbClr val="2e471d"/>
                </a:solidFill>
                <a:latin typeface="Times New Roman"/>
                <a:ea typeface="Times New Roman"/>
              </a:rPr>
              <a:t>никто не забыт и ничто не забы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4T14:27:36Z</dcterms:created>
  <dc:creator>soltan_ma</dc:creator>
  <dc:description/>
  <dc:language>en-US</dc:language>
  <cp:lastModifiedBy>soltan_ma</cp:lastModifiedBy>
  <dcterms:modified xsi:type="dcterms:W3CDTF">2019-06-05T12:25:35Z</dcterms:modified>
  <cp:revision>79</cp:revision>
  <dc:subject/>
  <dc:title>Слайд 1</dc:title>
</cp:coreProperties>
</file>