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93.wmf" ContentType="image/x-wmf"/>
  <Override PartName="/ppt/media/image30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2.wmf" ContentType="image/x-wmf"/>
  <Override PartName="/ppt/media/image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43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40.jpeg" ContentType="image/jpeg"/>
  <Override PartName="/ppt/media/image13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52.png" ContentType="image/png"/>
  <Override PartName="/ppt/media/image50.jpeg" ContentType="image/jpeg"/>
  <Override PartName="/ppt/media/image4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65.jpeg" ContentType="image/jpeg"/>
  <Override PartName="/ppt/media/image98.wmf" ContentType="image/x-wmf"/>
  <Override PartName="/ppt/media/image68.jpeg" ContentType="image/jpeg"/>
  <Override PartName="/ppt/media/image61.jpeg" ContentType="image/jpeg"/>
  <Override PartName="/ppt/media/image78.jpeg" ContentType="image/jpeg"/>
  <Override PartName="/ppt/media/image70.jpeg" ContentType="image/jpeg"/>
  <Override PartName="/ppt/media/image66.jpeg" ContentType="image/jpeg"/>
  <Override PartName="/ppt/media/image96.wmf" ContentType="image/x-wmf"/>
  <Override PartName="/ppt/media/image71.jpeg" ContentType="image/jpeg"/>
  <Override PartName="/ppt/media/image94.wmf" ContentType="image/x-wmf"/>
  <Override PartName="/ppt/media/image14.jpeg" ContentType="image/jpeg"/>
  <Override PartName="/ppt/media/image41.jpeg" ContentType="image/jpeg"/>
  <Override PartName="/ppt/media/image72.jpeg" ContentType="image/jpeg"/>
  <Override PartName="/ppt/media/image95.wmf" ContentType="image/x-wmf"/>
  <Override PartName="/ppt/media/image74.jpeg" ContentType="image/jpeg"/>
  <Override PartName="/ppt/media/image67.jpeg" ContentType="image/jpeg"/>
  <Override PartName="/ppt/media/image91.wmf" ContentType="image/x-wmf"/>
  <Override PartName="/ppt/media/image69.jpeg" ContentType="image/jpeg"/>
  <Override PartName="/ppt/media/image76.jpeg" ContentType="image/jpeg"/>
  <Override PartName="/ppt/media/image75.jpeg" ContentType="image/jpeg"/>
  <Override PartName="/ppt/media/image73.jpeg" ContentType="image/jpeg"/>
  <Override PartName="/ppt/media/image85.jpeg" ContentType="image/jpeg"/>
  <Override PartName="/ppt/media/image26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36.jpeg" ContentType="image/jpeg"/>
  <Override PartName="/ppt/media/image97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99.wmf" ContentType="image/x-wmf"/>
  <Override PartName="/ppt/media/image24.jpeg" ContentType="image/jpeg"/>
  <Override PartName="/ppt/media/image83.jpeg" ContentType="image/jpeg"/>
  <Override PartName="/ppt/media/image8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D81-8053-4B4F-B366-32CB208F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668-38B2-4561-838E-66B57202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8FF3-6BF5-498E-BEFF-3D657D1E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FB4-6E64-4672-88FF-CA63580D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915-DB65-4D99-AF09-4AAE4D03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34B-B50D-4C27-A28A-E3D493CF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2B9-0AFB-4BC0-8DD4-E9A6E115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461-A45F-4A55-80C1-00063B80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12B-4A7A-41AE-A515-6AB77351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C7B-89C4-4B13-852A-D5E5A8DF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547-ED07-4B76-93B9-8B23FCD9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78B-7F24-430A-92F0-5EFDA5A2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41C8-1DE4-4395-A5FA-A2B29FC6D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zone.arsvest.ru/images/upl-2010/article_1273575060_25160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53/540px-Moskva_river_dams.png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www.bes-chagda.ru/arles_gallery1/images/Dscn0639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kemclub.ru/best/3452579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sq.narod.ru/images/nature/moskva_river_0402.jp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g-fotki.yandex.ru/get/3202/kudryashovalexander.2/0_22613_4f4fbb60_XL" TargetMode="External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otomoskva.net.ru/imgk/157mostk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seaexpo.ru/files/image/moskva_reka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6494876.ru/images/009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static2.aif.ru/public/news/193/b5ae854865833134e7b59213cf67ec2c_medium.jpg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vka-dubravka.users.photofile.ru/photo/ivka-dubravka/1332221/xlarge/28528984.jpg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yjulia.ru/data/cache/2010/08/17/492742_5155-0x600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fotki.yandex.ru/users/maks-landkovskij/view/297456/?page=0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kostromag.ru/i/phg/102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historyancient.ru/wp-content/uploads/2010/04/knyaz-yurij-dolgorukij.jpg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11.nnm.ru/imagez/gallery/5/1/7/7/5/51775317dadab141bdac5b6aab161134_full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g11.nnm.ru/imagez/gallery/1/4/2/c/c/142ccf02acc91209364979a9180a2038_full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g-fotki.yandex.ru/get/25/askiba.1b/0_fa05_130cdcd1_XL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ctoday.ru/images/article/33/2.jpg" TargetMode="External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uslanka.ru/mos/kreml18vek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b3p.imgsrc.ru/s/stare_misto/1/18962891XZN.jpg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g-fotki.yandex.ru/get/3001/ser02020.c/0_21a75_f7a3a545_XL.jpg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g0.liveinternet.ru/images/attach/c/1/49/644/49644397_Rascvet_Kremlya.jpg" TargetMode="External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ota.ru/upload/wallpapers/towns_064-320x480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foto.planetadruzey.ru/2140670.jpe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www.alnika-reisen.de/images/news/Moskau-haupt.jpg" TargetMode="External"/><Relationship Id="rId6" Type="http://schemas.openxmlformats.org/officeDocument/2006/relationships/image" Target="../media/image31.jpeg"/><Relationship Id="rId7" Type="http://schemas.openxmlformats.org/officeDocument/2006/relationships/hyperlink" Target="http://www.votpusk.ru/gallery/large/12651.jpg" TargetMode="External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skusstvu.ru/electronnoe_uchebnoe_posobie/image/8_1/7.jpg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orfey.net/upload/uf/976/kmuyog,aduacrv.jpg" TargetMode="External"/><Relationship Id="rId4" Type="http://schemas.openxmlformats.org/officeDocument/2006/relationships/image" Target="../media/image34.jpeg"/><Relationship Id="rId5" Type="http://schemas.openxmlformats.org/officeDocument/2006/relationships/hyperlink" Target="http://i057.radikal.ru/0905/bb/7bb84f1bdbc3.jpg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www.photodm.ru/img/protocol/88982447teremnoy-palace1-2-k.jpg" TargetMode="External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r.foto.radikal.ru/0704/4e/5bab2a4d0cac.jpg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rtsait.ru/art/r/rabus/img/2.jpg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s3.webpark.ru/uploads53/090415/Red_28.jpg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img12.nnm.ru/imagez/gallery/9/6/1/6/d/9616d1cd3afbb7c2ab91920c13ab9b2c_full.jpg" TargetMode="External"/><Relationship Id="rId6" Type="http://schemas.openxmlformats.org/officeDocument/2006/relationships/image" Target="../media/image41.jpeg"/><Relationship Id="rId7" Type="http://schemas.openxmlformats.org/officeDocument/2006/relationships/hyperlink" Target="http://en.gallerix.ru/pic/Vasnecov/glrx-123345947.jpg" TargetMode="External"/><Relationship Id="rId8" Type="http://schemas.openxmlformats.org/officeDocument/2006/relationships/image" Target="../media/image42.jpeg"/><Relationship Id="rId9" Type="http://schemas.openxmlformats.org/officeDocument/2006/relationships/hyperlink" Target="http://www.artap.ru/picture/picture83.jpg" TargetMode="External"/><Relationship Id="rId10" Type="http://schemas.openxmlformats.org/officeDocument/2006/relationships/image" Target="../media/image43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8/losalex.1/0_bf10_403a6732_XL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www.sostav.ru/articles/rus/2005/columns/rek-time/images/minin907.jp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i034.radikal.ru/0710/a1/1c9e5d3fd766.jpg" TargetMode="External"/><Relationship Id="rId6" Type="http://schemas.openxmlformats.org/officeDocument/2006/relationships/image" Target="../media/image46.jpeg"/><Relationship Id="rId7" Type="http://schemas.openxmlformats.org/officeDocument/2006/relationships/hyperlink" Target="http://img-fotki.yandex.ru/get/22/log-strim.2/0_bd31_52d0008b_XL" TargetMode="External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-2006-07.photosight.ru/29/1561088.jpg" TargetMode="External"/><Relationship Id="rId2" Type="http://schemas.openxmlformats.org/officeDocument/2006/relationships/image" Target="../media/image48.jpeg"/><Relationship Id="rId3" Type="http://schemas.openxmlformats.org/officeDocument/2006/relationships/hyperlink" Target="http://www.rptrus.it/it/images_locations/Moscow/Moscow_RedSquare_615x359.jpg" TargetMode="External"/><Relationship Id="rId4" Type="http://schemas.openxmlformats.org/officeDocument/2006/relationships/image" Target="../media/image49.jpeg"/><Relationship Id="rId5" Type="http://schemas.openxmlformats.org/officeDocument/2006/relationships/hyperlink" Target="http://www.photohost.ru/t/600/400/18254.jpg" TargetMode="External"/><Relationship Id="rId6" Type="http://schemas.openxmlformats.org/officeDocument/2006/relationships/image" Target="../media/image50.jpeg"/><Relationship Id="rId7" Type="http://schemas.openxmlformats.org/officeDocument/2006/relationships/hyperlink" Target="http://all-photo.ru/photos/7014-0.jpg" TargetMode="External"/><Relationship Id="rId8" Type="http://schemas.openxmlformats.org/officeDocument/2006/relationships/image" Target="../media/image51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3/let-lyubov.c/0_a2f9_276dcc02_XL" TargetMode="External"/><Relationship Id="rId2" Type="http://schemas.openxmlformats.org/officeDocument/2006/relationships/image" Target="../media/image53.jpeg"/><Relationship Id="rId3" Type="http://schemas.openxmlformats.org/officeDocument/2006/relationships/hyperlink" Target="http://www.bogoslov.ru/data/2010/01/15/1235127825/1397.jpg" TargetMode="External"/><Relationship Id="rId4" Type="http://schemas.openxmlformats.org/officeDocument/2006/relationships/image" Target="../media/image54.jpeg"/><Relationship Id="rId5" Type="http://schemas.openxmlformats.org/officeDocument/2006/relationships/hyperlink" Target="http://www.my-art.biz/uploads/posts/2009-05/1242197036_2.jpg" TargetMode="External"/><Relationship Id="rId6" Type="http://schemas.openxmlformats.org/officeDocument/2006/relationships/image" Target="../media/image55.jpeg"/><Relationship Id="rId7" Type="http://schemas.openxmlformats.org/officeDocument/2006/relationships/hyperlink" Target="http://www.culturemap.ru/upload/img/object_50.1233215499.55415.jpg" TargetMode="External"/><Relationship Id="rId8" Type="http://schemas.openxmlformats.org/officeDocument/2006/relationships/image" Target="../media/image56.jpeg"/><Relationship Id="rId9" Type="http://schemas.openxmlformats.org/officeDocument/2006/relationships/hyperlink" Target="http://img-fotki.yandex.ru/get/17/o-ly-na.d/0_be2d_5315d6c3_XL" TargetMode="External"/><Relationship Id="rId10" Type="http://schemas.openxmlformats.org/officeDocument/2006/relationships/image" Target="../media/image57.jpe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tat17.privet.ru/lr/09272be415178044fde7b163c9d0c38d" TargetMode="External"/><Relationship Id="rId2" Type="http://schemas.openxmlformats.org/officeDocument/2006/relationships/image" Target="../media/image58.jpeg"/><Relationship Id="rId3" Type="http://schemas.openxmlformats.org/officeDocument/2006/relationships/hyperlink" Target="http://www.biletcenter.ru/uploads/posts/2010-05/1274712364_1009024-a00025e9.jpg" TargetMode="External"/><Relationship Id="rId4" Type="http://schemas.openxmlformats.org/officeDocument/2006/relationships/image" Target="../media/image59.jpeg"/><Relationship Id="rId5" Type="http://schemas.openxmlformats.org/officeDocument/2006/relationships/hyperlink" Target="http://img0.liveinternet.ru/images/attach/c/1/48/744/48744913_Teatr_kukol.jpg" TargetMode="External"/><Relationship Id="rId6" Type="http://schemas.openxmlformats.org/officeDocument/2006/relationships/image" Target="../media/image60.jpeg"/><Relationship Id="rId7" Type="http://schemas.openxmlformats.org/officeDocument/2006/relationships/hyperlink" Target="http://i035.radikal.ru/0812/db/c5d7356c05a7.jpg" TargetMode="External"/><Relationship Id="rId8" Type="http://schemas.openxmlformats.org/officeDocument/2006/relationships/image" Target="../media/image61.jpeg"/><Relationship Id="rId9" Type="http://schemas.openxmlformats.org/officeDocument/2006/relationships/hyperlink" Target="http://www.taksi-taksi.ru/tel/teatr.jpg" TargetMode="External"/><Relationship Id="rId10" Type="http://schemas.openxmlformats.org/officeDocument/2006/relationships/image" Target="../media/image62.jpe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tatic.diary.ru/userdir/2/3/6/8/236825/32856595.jpg" TargetMode="External"/><Relationship Id="rId2" Type="http://schemas.openxmlformats.org/officeDocument/2006/relationships/image" Target="../media/image63.jpeg"/><Relationship Id="rId3" Type="http://schemas.openxmlformats.org/officeDocument/2006/relationships/hyperlink" Target="http://basik.ru/images/monument/33.jpg" TargetMode="External"/><Relationship Id="rId4" Type="http://schemas.openxmlformats.org/officeDocument/2006/relationships/image" Target="../media/image64.jpeg"/><Relationship Id="rId5" Type="http://schemas.openxmlformats.org/officeDocument/2006/relationships/hyperlink" Target="http://www.mosinform.ru/images/gale/18797_01.jpg" TargetMode="External"/><Relationship Id="rId6" Type="http://schemas.openxmlformats.org/officeDocument/2006/relationships/image" Target="../media/image65.jpeg"/><Relationship Id="rId7" Type="http://schemas.openxmlformats.org/officeDocument/2006/relationships/hyperlink" Target="http://upload.wikimedia.org/wikipedia/commons/thumb/6/68/Russia-Moscow-Georgy_Zhukov_Monument.jpg/800px-Russia-Moscow-Georgy_Zhukov_Monument.jpg" TargetMode="External"/><Relationship Id="rId8" Type="http://schemas.openxmlformats.org/officeDocument/2006/relationships/image" Target="../media/image66.jpeg"/><Relationship Id="rId9" Type="http://schemas.openxmlformats.org/officeDocument/2006/relationships/hyperlink" Target="http://www.sedmitza.ru/data/671/027/1235/&#1058;&#1042;.jpg" TargetMode="External"/><Relationship Id="rId10" Type="http://schemas.openxmlformats.org/officeDocument/2006/relationships/image" Target="../media/image67.jpeg"/><Relationship Id="rId11" Type="http://schemas.openxmlformats.org/officeDocument/2006/relationships/hyperlink" Target="http://www.rudata.ru/w/images/thumb/6/64/Monument_to_Yuri_Gagarin_in_Moscow.jpg/180px-Monument_to_Yuri_Gagarin_in_Moscow.jpg" TargetMode="External"/><Relationship Id="rId12" Type="http://schemas.openxmlformats.org/officeDocument/2006/relationships/image" Target="../media/image68.jpeg"/><Relationship Id="rId13" Type="http://schemas.openxmlformats.org/officeDocument/2006/relationships/hyperlink" Target="http://www.mkn.com.mos.ru/upload/003.jpg" TargetMode="External"/><Relationship Id="rId14" Type="http://schemas.openxmlformats.org/officeDocument/2006/relationships/image" Target="../media/image69.jpeg"/><Relationship Id="rId15" Type="http://schemas.openxmlformats.org/officeDocument/2006/relationships/hyperlink" Target="http://www.panevin.ru/uploads/draw/proekt_kopii_pamyatnika_vzorvannogo_600.jpg" TargetMode="External"/><Relationship Id="rId16" Type="http://schemas.openxmlformats.org/officeDocument/2006/relationships/image" Target="../media/image70.jpeg"/><Relationship Id="rId17" Type="http://schemas.openxmlformats.org/officeDocument/2006/relationships/hyperlink" Target="http://img-fotki.yandex.ru/get/3305/inn5917.3/0_1db56_e1160871_XL" TargetMode="External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111/prodg.9d/0_33d79_354cacbb_XL" TargetMode="External"/><Relationship Id="rId2" Type="http://schemas.openxmlformats.org/officeDocument/2006/relationships/image" Target="../media/image72.jpeg"/><Relationship Id="rId3" Type="http://schemas.openxmlformats.org/officeDocument/2006/relationships/hyperlink" Target="http://www.stihi.ru/pics/2009/09/09/4490.jpg" TargetMode="External"/><Relationship Id="rId4" Type="http://schemas.openxmlformats.org/officeDocument/2006/relationships/image" Target="../media/image73.jpeg"/><Relationship Id="rId5" Type="http://schemas.openxmlformats.org/officeDocument/2006/relationships/hyperlink" Target="http://travelling.ucoz.ru/_fr/2/4882003.jpg" TargetMode="External"/><Relationship Id="rId6" Type="http://schemas.openxmlformats.org/officeDocument/2006/relationships/image" Target="../media/image74.jpeg"/><Relationship Id="rId7" Type="http://schemas.openxmlformats.org/officeDocument/2006/relationships/hyperlink" Target="http://photo1.fotodia.ru/2006/07/21/25989_ndfgBPs8VL.jpg" TargetMode="External"/><Relationship Id="rId8" Type="http://schemas.openxmlformats.org/officeDocument/2006/relationships/image" Target="../media/image75.jpeg"/><Relationship Id="rId9" Type="http://schemas.openxmlformats.org/officeDocument/2006/relationships/hyperlink" Target="http://www.scinet.ru/hrams/77_hrams/028/7764002801.jpg" TargetMode="External"/><Relationship Id="rId10" Type="http://schemas.openxmlformats.org/officeDocument/2006/relationships/image" Target="../media/image76.jpeg"/><Relationship Id="rId11" Type="http://schemas.openxmlformats.org/officeDocument/2006/relationships/hyperlink" Target="http://content.foto.mail.ru/mail/andanto7/100/i-529.jpg" TargetMode="External"/><Relationship Id="rId12" Type="http://schemas.openxmlformats.org/officeDocument/2006/relationships/image" Target="../media/image77.jpeg"/><Relationship Id="rId13" Type="http://schemas.openxmlformats.org/officeDocument/2006/relationships/hyperlink" Target="http://prav.at.ua/_ph/3/514080906.jpg" TargetMode="External"/><Relationship Id="rId14" Type="http://schemas.openxmlformats.org/officeDocument/2006/relationships/image" Target="../media/image78.jpeg"/><Relationship Id="rId15" Type="http://schemas.openxmlformats.org/officeDocument/2006/relationships/hyperlink" Target="http://img-2002-06.photosight.ru/24/31296.jpg" TargetMode="External"/><Relationship Id="rId16" Type="http://schemas.openxmlformats.org/officeDocument/2006/relationships/image" Target="../media/image79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ev-massiv.ru/images/goods/143247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eloisaozonas.files.wordpress.com/2009/05/metro-2.jpg" TargetMode="External"/><Relationship Id="rId2" Type="http://schemas.openxmlformats.org/officeDocument/2006/relationships/image" Target="../media/image80.jpeg"/><Relationship Id="rId3" Type="http://schemas.openxmlformats.org/officeDocument/2006/relationships/hyperlink" Target="http://s60.radikal.ru/i170/0903/87/6af0a5416a90.jpg" TargetMode="External"/><Relationship Id="rId4" Type="http://schemas.openxmlformats.org/officeDocument/2006/relationships/image" Target="../media/image81.jpeg"/><Relationship Id="rId5" Type="http://schemas.openxmlformats.org/officeDocument/2006/relationships/hyperlink" Target="http://dic.academic.ru/pictures/wiki/files/77/Moscow_-_GUM.jpg" TargetMode="External"/><Relationship Id="rId6" Type="http://schemas.openxmlformats.org/officeDocument/2006/relationships/image" Target="../media/image82.jpeg"/><Relationship Id="rId7" Type="http://schemas.openxmlformats.org/officeDocument/2006/relationships/hyperlink" Target="http://www.photocity.ru/Album113/00020.jpg" TargetMode="External"/><Relationship Id="rId8" Type="http://schemas.openxmlformats.org/officeDocument/2006/relationships/image" Target="../media/image83.jpeg"/><Relationship Id="rId9" Type="http://schemas.openxmlformats.org/officeDocument/2006/relationships/hyperlink" Target="http://www.pravoslavie.ru/sas/image/100284/28455.b.jpg" TargetMode="External"/><Relationship Id="rId10" Type="http://schemas.openxmlformats.org/officeDocument/2006/relationships/image" Target="../media/image84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forum.sibnic.ru/uploads/gallery_2349_142_66083.jpg" TargetMode="External"/><Relationship Id="rId2" Type="http://schemas.openxmlformats.org/officeDocument/2006/relationships/image" Target="../media/image85.jpeg"/><Relationship Id="rId3" Type="http://schemas.openxmlformats.org/officeDocument/2006/relationships/hyperlink" Target="http://img0.liveinternet.ru/images/attach/c/0/48/288/48288115_opt_1195573001.jpg" TargetMode="External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image" Target="../media/image88.jpeg"/><Relationship Id="rId7" Type="http://schemas.openxmlformats.org/officeDocument/2006/relationships/image" Target="../media/image89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wmf"/><Relationship Id="rId3" Type="http://schemas.openxmlformats.org/officeDocument/2006/relationships/image" Target="../media/image92.wmf"/><Relationship Id="rId4" Type="http://schemas.openxmlformats.org/officeDocument/2006/relationships/image" Target="../media/image9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image" Target="../media/image91.wmf"/><Relationship Id="rId5" Type="http://schemas.openxmlformats.org/officeDocument/2006/relationships/image" Target="../media/image97.wmf"/><Relationship Id="rId6" Type="http://schemas.openxmlformats.org/officeDocument/2006/relationships/image" Target="../media/image98.wmf"/><Relationship Id="rId7" Type="http://schemas.openxmlformats.org/officeDocument/2006/relationships/image" Target="../media/image99.wmf"/><Relationship Id="rId8" Type="http://schemas.openxmlformats.org/officeDocument/2006/relationships/image" Target="../media/image10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068.radikal.ru/0809/46/756beaab3ef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8/vldmc.0/0_dd8d_676cab9_X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rchla.de/Bilder/Coat_of_Arms_of_Moscow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Картинка 577 из 71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066680"/>
            <a:ext cx="2543400" cy="3276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182400">
            <a:off x="1676520" y="1143000"/>
            <a:ext cx="3152520" cy="40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00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Картинка 4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828800"/>
            <a:ext cx="5486400" cy="3171960"/>
          </a:xfrm>
          <a:prstGeom prst="rect">
            <a:avLst/>
          </a:prstGeom>
          <a:ln w="12600">
            <a:solidFill>
              <a:srgbClr val="660066"/>
            </a:solidFill>
            <a:miter/>
          </a:ln>
        </p:spPr>
      </p:pic>
      <p:pic>
        <p:nvPicPr>
          <p:cNvPr id="99" name="Picture 7" descr="Картинка 38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419720"/>
            <a:ext cx="2971800" cy="223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Picture 8" descr="Картинка 71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419720"/>
            <a:ext cx="2971800" cy="22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Picture 10" descr="moskva_river_040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228600"/>
            <a:ext cx="2971800" cy="22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11" descr="Картинка 154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228600"/>
            <a:ext cx="2971800" cy="22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Картинка 115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514600"/>
            <a:ext cx="342900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Picture 7" descr="Картинка 20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514600"/>
            <a:ext cx="342900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Picture 8" descr="Картинка 236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2514600"/>
            <a:ext cx="342900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Picture 9" descr="Картинка 86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19520" y="2514600"/>
            <a:ext cx="342900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Picture 11" descr="Картинка 9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2209680"/>
            <a:ext cx="342900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7916 -0.08582 L -0.27916 -0.30789 E">
                                      <p:cBhvr>
                                        <p:cTn id="19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125 -0.07471 L 0.2875 -0.30789 E">
                                      <p:cBhvr>
                                        <p:cTn id="20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2.84987E-006 L -0.27916 0.22508 E">
                                      <p:cBhvr>
                                        <p:cTn id="21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2.84987E-006 L 0.2875 0.22508 E">
                                      <p:cBhvr>
                                        <p:cTn id="22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8"/>
          <p:cNvGrpSpPr/>
          <p:nvPr/>
        </p:nvGrpSpPr>
        <p:grpSpPr>
          <a:xfrm>
            <a:off x="166680" y="200160"/>
            <a:ext cx="8839080" cy="6476760"/>
            <a:chOff x="166680" y="200160"/>
            <a:chExt cx="8839080" cy="6476760"/>
          </a:xfrm>
        </p:grpSpPr>
        <p:pic>
          <p:nvPicPr>
            <p:cNvPr id="113" name="Picture 3" descr="сканирование0005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166680" y="200160"/>
              <a:ext cx="8839080" cy="6476760"/>
            </a:xfrm>
            <a:prstGeom prst="rect">
              <a:avLst/>
            </a:prstGeom>
            <a:ln w="9360">
              <a:solidFill>
                <a:srgbClr val="006600"/>
              </a:solidFill>
              <a:miter/>
            </a:ln>
          </p:spPr>
        </p:pic>
        <p:sp>
          <p:nvSpPr>
            <p:cNvPr id="114" name="WordArt 4"/>
            <p:cNvSpPr txBox="1"/>
            <p:nvPr/>
          </p:nvSpPr>
          <p:spPr>
            <a:xfrm>
              <a:off x="3659040" y="4430880"/>
              <a:ext cx="108000" cy="17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5" name="WordArt 5"/>
            <p:cNvSpPr txBox="1"/>
            <p:nvPr/>
          </p:nvSpPr>
          <p:spPr>
            <a:xfrm>
              <a:off x="6276960" y="1870200"/>
              <a:ext cx="109440" cy="17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6" name="WordArt 6"/>
            <p:cNvSpPr txBox="1"/>
            <p:nvPr/>
          </p:nvSpPr>
          <p:spPr>
            <a:xfrm>
              <a:off x="5405400" y="979560"/>
              <a:ext cx="1080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7" name="WordArt 7"/>
            <p:cNvSpPr txBox="1"/>
            <p:nvPr/>
          </p:nvSpPr>
          <p:spPr>
            <a:xfrm>
              <a:off x="4859280" y="431964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8" name="WordArt 8"/>
            <p:cNvSpPr txBox="1"/>
            <p:nvPr/>
          </p:nvSpPr>
          <p:spPr>
            <a:xfrm>
              <a:off x="5950080" y="4430880"/>
              <a:ext cx="109440" cy="17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19" name="WordArt 9"/>
            <p:cNvSpPr txBox="1"/>
            <p:nvPr/>
          </p:nvSpPr>
          <p:spPr>
            <a:xfrm>
              <a:off x="3986280" y="476568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0" name="WordArt 10"/>
            <p:cNvSpPr txBox="1"/>
            <p:nvPr/>
          </p:nvSpPr>
          <p:spPr>
            <a:xfrm>
              <a:off x="5076720" y="2092320"/>
              <a:ext cx="1098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1" name="WordArt 11"/>
            <p:cNvSpPr txBox="1"/>
            <p:nvPr/>
          </p:nvSpPr>
          <p:spPr>
            <a:xfrm>
              <a:off x="6276960" y="4208400"/>
              <a:ext cx="10944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2" name="WordArt 12"/>
            <p:cNvSpPr txBox="1"/>
            <p:nvPr/>
          </p:nvSpPr>
          <p:spPr>
            <a:xfrm>
              <a:off x="4095720" y="3986280"/>
              <a:ext cx="1080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3" name="WordArt 13"/>
            <p:cNvSpPr txBox="1"/>
            <p:nvPr/>
          </p:nvSpPr>
          <p:spPr>
            <a:xfrm>
              <a:off x="3767040" y="2649600"/>
              <a:ext cx="1098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4" name="WordArt 14"/>
            <p:cNvSpPr txBox="1"/>
            <p:nvPr/>
          </p:nvSpPr>
          <p:spPr>
            <a:xfrm>
              <a:off x="6823080" y="342900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5" name="WordArt 15"/>
            <p:cNvSpPr txBox="1"/>
            <p:nvPr/>
          </p:nvSpPr>
          <p:spPr>
            <a:xfrm>
              <a:off x="4532400" y="4987800"/>
              <a:ext cx="10800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6" name="WordArt 16"/>
            <p:cNvSpPr txBox="1"/>
            <p:nvPr/>
          </p:nvSpPr>
          <p:spPr>
            <a:xfrm>
              <a:off x="4968720" y="2427120"/>
              <a:ext cx="108000" cy="17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7" name="WordArt 17"/>
            <p:cNvSpPr txBox="1"/>
            <p:nvPr/>
          </p:nvSpPr>
          <p:spPr>
            <a:xfrm>
              <a:off x="6605640" y="3875040"/>
              <a:ext cx="108000" cy="17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8" name="WordArt 18"/>
            <p:cNvSpPr txBox="1"/>
            <p:nvPr/>
          </p:nvSpPr>
          <p:spPr>
            <a:xfrm>
              <a:off x="7696080" y="2427120"/>
              <a:ext cx="109800" cy="17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29" name="WordArt 19"/>
            <p:cNvSpPr txBox="1"/>
            <p:nvPr/>
          </p:nvSpPr>
          <p:spPr>
            <a:xfrm>
              <a:off x="4968720" y="5210280"/>
              <a:ext cx="108000" cy="17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0" name="WordArt 20"/>
            <p:cNvSpPr txBox="1"/>
            <p:nvPr/>
          </p:nvSpPr>
          <p:spPr>
            <a:xfrm>
              <a:off x="5513400" y="532296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1" name="WordArt 21"/>
            <p:cNvSpPr txBox="1"/>
            <p:nvPr/>
          </p:nvSpPr>
          <p:spPr>
            <a:xfrm>
              <a:off x="6059520" y="532296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2" name="WordArt 22"/>
            <p:cNvSpPr txBox="1"/>
            <p:nvPr/>
          </p:nvSpPr>
          <p:spPr>
            <a:xfrm>
              <a:off x="6605640" y="5099040"/>
              <a:ext cx="10800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3" name="WordArt 23"/>
            <p:cNvSpPr txBox="1"/>
            <p:nvPr/>
          </p:nvSpPr>
          <p:spPr>
            <a:xfrm>
              <a:off x="6932520" y="4765680"/>
              <a:ext cx="1098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4" name="WordArt 24"/>
            <p:cNvSpPr txBox="1"/>
            <p:nvPr/>
          </p:nvSpPr>
          <p:spPr>
            <a:xfrm>
              <a:off x="7259760" y="4430880"/>
              <a:ext cx="109440" cy="17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5" name="WordArt 25"/>
            <p:cNvSpPr txBox="1"/>
            <p:nvPr/>
          </p:nvSpPr>
          <p:spPr>
            <a:xfrm>
              <a:off x="7586640" y="398628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6" name="WordArt 26"/>
            <p:cNvSpPr txBox="1"/>
            <p:nvPr/>
          </p:nvSpPr>
          <p:spPr>
            <a:xfrm>
              <a:off x="7848720" y="342900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7" name="WordArt 27"/>
            <p:cNvSpPr txBox="1"/>
            <p:nvPr/>
          </p:nvSpPr>
          <p:spPr>
            <a:xfrm>
              <a:off x="7805880" y="2984400"/>
              <a:ext cx="10944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8" name="WordArt 28"/>
            <p:cNvSpPr txBox="1"/>
            <p:nvPr/>
          </p:nvSpPr>
          <p:spPr>
            <a:xfrm>
              <a:off x="5842080" y="979560"/>
              <a:ext cx="1080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39" name="WordArt 29"/>
            <p:cNvSpPr txBox="1"/>
            <p:nvPr/>
          </p:nvSpPr>
          <p:spPr>
            <a:xfrm>
              <a:off x="7478640" y="1870200"/>
              <a:ext cx="1080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0" name="WordArt 30"/>
            <p:cNvSpPr txBox="1"/>
            <p:nvPr/>
          </p:nvSpPr>
          <p:spPr>
            <a:xfrm>
              <a:off x="5950080" y="175896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1" name="WordArt 31"/>
            <p:cNvSpPr txBox="1"/>
            <p:nvPr/>
          </p:nvSpPr>
          <p:spPr>
            <a:xfrm>
              <a:off x="7149960" y="1425600"/>
              <a:ext cx="1098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2" name="WordArt 32"/>
            <p:cNvSpPr txBox="1"/>
            <p:nvPr/>
          </p:nvSpPr>
          <p:spPr>
            <a:xfrm>
              <a:off x="6823080" y="1201680"/>
              <a:ext cx="10944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3" name="WordArt 33"/>
            <p:cNvSpPr txBox="1"/>
            <p:nvPr/>
          </p:nvSpPr>
          <p:spPr>
            <a:xfrm>
              <a:off x="6276960" y="979560"/>
              <a:ext cx="109440" cy="171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4" name="WordArt 34"/>
            <p:cNvSpPr txBox="1"/>
            <p:nvPr/>
          </p:nvSpPr>
          <p:spPr>
            <a:xfrm>
              <a:off x="5513400" y="4430880"/>
              <a:ext cx="109440" cy="17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5" name="WordArt 35"/>
            <p:cNvSpPr txBox="1"/>
            <p:nvPr/>
          </p:nvSpPr>
          <p:spPr>
            <a:xfrm>
              <a:off x="4968720" y="1090440"/>
              <a:ext cx="10800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6" name="WordArt 36"/>
            <p:cNvSpPr txBox="1"/>
            <p:nvPr/>
          </p:nvSpPr>
          <p:spPr>
            <a:xfrm>
              <a:off x="4532400" y="1312920"/>
              <a:ext cx="1080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7" name="WordArt 37"/>
            <p:cNvSpPr txBox="1"/>
            <p:nvPr/>
          </p:nvSpPr>
          <p:spPr>
            <a:xfrm>
              <a:off x="4203720" y="153684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8" name="WordArt 38"/>
            <p:cNvSpPr txBox="1"/>
            <p:nvPr/>
          </p:nvSpPr>
          <p:spPr>
            <a:xfrm>
              <a:off x="3986280" y="187020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Ю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9" name="WordArt 39"/>
            <p:cNvSpPr txBox="1"/>
            <p:nvPr/>
          </p:nvSpPr>
          <p:spPr>
            <a:xfrm>
              <a:off x="3767040" y="2205000"/>
              <a:ext cx="10980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0" name="WordArt 40"/>
            <p:cNvSpPr txBox="1"/>
            <p:nvPr/>
          </p:nvSpPr>
          <p:spPr>
            <a:xfrm>
              <a:off x="3767040" y="3095640"/>
              <a:ext cx="10980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1" name="WordArt 41"/>
            <p:cNvSpPr txBox="1"/>
            <p:nvPr/>
          </p:nvSpPr>
          <p:spPr>
            <a:xfrm>
              <a:off x="3876840" y="3540240"/>
              <a:ext cx="109440" cy="17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2" name="WordArt 42"/>
            <p:cNvSpPr txBox="1"/>
            <p:nvPr/>
          </p:nvSpPr>
          <p:spPr>
            <a:xfrm>
              <a:off x="4422600" y="4208400"/>
              <a:ext cx="10980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3" name="WordArt 43"/>
            <p:cNvSpPr txBox="1"/>
            <p:nvPr/>
          </p:nvSpPr>
          <p:spPr>
            <a:xfrm>
              <a:off x="6605640" y="2205000"/>
              <a:ext cx="10800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4" name="WordArt 44"/>
            <p:cNvSpPr txBox="1"/>
            <p:nvPr/>
          </p:nvSpPr>
          <p:spPr>
            <a:xfrm>
              <a:off x="5186520" y="4430880"/>
              <a:ext cx="109440" cy="17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5" name="WordArt 45"/>
            <p:cNvSpPr txBox="1"/>
            <p:nvPr/>
          </p:nvSpPr>
          <p:spPr>
            <a:xfrm>
              <a:off x="6932520" y="2984400"/>
              <a:ext cx="109800" cy="17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6" name="WordArt 46"/>
            <p:cNvSpPr txBox="1"/>
            <p:nvPr/>
          </p:nvSpPr>
          <p:spPr>
            <a:xfrm>
              <a:off x="5513400" y="1870200"/>
              <a:ext cx="109440" cy="17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7" name="WordArt 47"/>
            <p:cNvSpPr txBox="1"/>
            <p:nvPr/>
          </p:nvSpPr>
          <p:spPr>
            <a:xfrm>
              <a:off x="6823080" y="2538360"/>
              <a:ext cx="109440" cy="17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Картинка 1 из 60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80880"/>
            <a:ext cx="2752560" cy="36576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59" name="Picture 3" descr="0_49441_45703883_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380880"/>
            <a:ext cx="2743200" cy="36576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60" name="Picture 4" descr="Картинка 51 из 60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95480" y="4191120"/>
            <a:ext cx="3353040" cy="25146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161" name="Picture 5" descr="Картинка 14 из 60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72200" y="380880"/>
            <a:ext cx="2743200" cy="36576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6"/>
          <p:cNvGrpSpPr/>
          <p:nvPr/>
        </p:nvGrpSpPr>
        <p:grpSpPr>
          <a:xfrm>
            <a:off x="1219320" y="5153040"/>
            <a:ext cx="6742800" cy="1199520"/>
            <a:chOff x="1219320" y="5153040"/>
            <a:chExt cx="6742800" cy="1199520"/>
          </a:xfrm>
        </p:grpSpPr>
        <p:sp>
          <p:nvSpPr>
            <p:cNvPr id="167" name="AutoShape 7"/>
            <p:cNvSpPr/>
            <p:nvPr/>
          </p:nvSpPr>
          <p:spPr>
            <a:xfrm>
              <a:off x="1219320" y="5410080"/>
              <a:ext cx="799920" cy="800280"/>
            </a:xfrm>
            <a:prstGeom prst="plus">
              <a:avLst>
                <a:gd name="adj" fmla="val 25000"/>
              </a:avLst>
            </a:pr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8"/>
            <p:cNvSpPr/>
            <p:nvPr/>
          </p:nvSpPr>
          <p:spPr>
            <a:xfrm>
              <a:off x="3619440" y="5524560"/>
              <a:ext cx="799560" cy="685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2361960" y="5524560"/>
              <a:ext cx="914040" cy="68580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4762440" y="5524560"/>
              <a:ext cx="68544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1"/>
            <p:cNvSpPr/>
            <p:nvPr/>
          </p:nvSpPr>
          <p:spPr>
            <a:xfrm rot="19606800">
              <a:off x="5790960" y="5409720"/>
              <a:ext cx="1142640" cy="6858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12"/>
            <p:cNvSpPr/>
            <p:nvPr/>
          </p:nvSpPr>
          <p:spPr>
            <a:xfrm rot="10800000">
              <a:off x="6933600" y="5524200"/>
              <a:ext cx="1028520" cy="685800"/>
            </a:xfrm>
            <a:custGeom>
              <a:avLst/>
              <a:gdLst>
                <a:gd name="textAreaLeft" fmla="*/ 214200 w 1028520"/>
                <a:gd name="textAreaRight" fmla="*/ 814320 w 102852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3"/>
          <p:cNvGrpSpPr/>
          <p:nvPr/>
        </p:nvGrpSpPr>
        <p:grpSpPr>
          <a:xfrm>
            <a:off x="1066680" y="152280"/>
            <a:ext cx="6777000" cy="3907080"/>
            <a:chOff x="1066680" y="152280"/>
            <a:chExt cx="6777000" cy="3907080"/>
          </a:xfrm>
        </p:grpSpPr>
        <p:sp>
          <p:nvSpPr>
            <p:cNvPr id="174" name="Rectangle 14"/>
            <p:cNvSpPr/>
            <p:nvPr/>
          </p:nvSpPr>
          <p:spPr>
            <a:xfrm>
              <a:off x="1409760" y="380880"/>
              <a:ext cx="1485720" cy="91440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5"/>
            <p:cNvSpPr/>
            <p:nvPr/>
          </p:nvSpPr>
          <p:spPr>
            <a:xfrm>
              <a:off x="2095560" y="1523880"/>
              <a:ext cx="1028520" cy="1028880"/>
            </a:xfrm>
            <a:prstGeom prst="ellipse">
              <a:avLst/>
            </a:prstGeom>
            <a:noFill/>
            <a:ln w="381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6"/>
            <p:cNvSpPr/>
            <p:nvPr/>
          </p:nvSpPr>
          <p:spPr>
            <a:xfrm rot="10800000">
              <a:off x="4724280" y="380880"/>
              <a:ext cx="1214640" cy="914400"/>
            </a:xfrm>
            <a:custGeom>
              <a:avLst/>
              <a:gdLst>
                <a:gd name="textAreaLeft" fmla="*/ 252360 w 1214640"/>
                <a:gd name="textAreaRight" fmla="*/ 962280 w 1214640"/>
                <a:gd name="textAreaTop" fmla="*/ 190440 h 914400"/>
                <a:gd name="textAreaBottom" fmla="*/ 7239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7"/>
            <p:cNvSpPr/>
            <p:nvPr/>
          </p:nvSpPr>
          <p:spPr>
            <a:xfrm>
              <a:off x="6324480" y="152280"/>
              <a:ext cx="1057320" cy="9144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8"/>
            <p:cNvSpPr/>
            <p:nvPr/>
          </p:nvSpPr>
          <p:spPr>
            <a:xfrm>
              <a:off x="5257800" y="1523880"/>
              <a:ext cx="914400" cy="9144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9"/>
            <p:cNvSpPr/>
            <p:nvPr/>
          </p:nvSpPr>
          <p:spPr>
            <a:xfrm rot="19606800">
              <a:off x="2552400" y="2781000"/>
              <a:ext cx="1600200" cy="9144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20"/>
            <p:cNvSpPr/>
            <p:nvPr/>
          </p:nvSpPr>
          <p:spPr>
            <a:xfrm>
              <a:off x="6629400" y="1219320"/>
              <a:ext cx="1214280" cy="1214280"/>
            </a:xfrm>
            <a:prstGeom prst="diamond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21"/>
            <p:cNvSpPr/>
            <p:nvPr/>
          </p:nvSpPr>
          <p:spPr>
            <a:xfrm>
              <a:off x="6438960" y="2552760"/>
              <a:ext cx="1028520" cy="1143000"/>
            </a:xfrm>
            <a:prstGeom prst="octagon">
              <a:avLst>
                <a:gd name="adj" fmla="val 29287"/>
              </a:avLst>
            </a:prstGeom>
            <a:noFill/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22"/>
            <p:cNvSpPr/>
            <p:nvPr/>
          </p:nvSpPr>
          <p:spPr>
            <a:xfrm>
              <a:off x="3581280" y="1523880"/>
              <a:ext cx="1257480" cy="914400"/>
            </a:xfrm>
            <a:prstGeom prst="plus">
              <a:avLst>
                <a:gd name="adj" fmla="val 25000"/>
              </a:avLst>
            </a:pr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23"/>
            <p:cNvSpPr/>
            <p:nvPr/>
          </p:nvSpPr>
          <p:spPr>
            <a:xfrm>
              <a:off x="3352680" y="152280"/>
              <a:ext cx="1028880" cy="1143000"/>
            </a:xfrm>
            <a:prstGeom prst="pentagon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24"/>
            <p:cNvSpPr/>
            <p:nvPr/>
          </p:nvSpPr>
          <p:spPr>
            <a:xfrm>
              <a:off x="1066680" y="2895480"/>
              <a:ext cx="1028880" cy="800280"/>
            </a:xfrm>
            <a:prstGeom prst="parallelogram">
              <a:avLst>
                <a:gd name="adj" fmla="val 32141"/>
              </a:avLst>
            </a:prstGeom>
            <a:solidFill>
              <a:srgbClr val="ffffff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5"/>
            <p:cNvSpPr/>
            <p:nvPr/>
          </p:nvSpPr>
          <p:spPr>
            <a:xfrm>
              <a:off x="4724280" y="2819520"/>
              <a:ext cx="1028880" cy="914400"/>
            </a:xfrm>
            <a:prstGeom prst="flowChartDelay">
              <a:avLst/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WordArt 26"/>
            <p:cNvSpPr txBox="1"/>
            <p:nvPr/>
          </p:nvSpPr>
          <p:spPr>
            <a:xfrm>
              <a:off x="2438280" y="1752480"/>
              <a:ext cx="3049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87" name="WordArt 27"/>
            <p:cNvSpPr txBox="1"/>
            <p:nvPr/>
          </p:nvSpPr>
          <p:spPr>
            <a:xfrm>
              <a:off x="3733920" y="533520"/>
              <a:ext cx="3045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88" name="WordArt 28"/>
            <p:cNvSpPr txBox="1"/>
            <p:nvPr/>
          </p:nvSpPr>
          <p:spPr>
            <a:xfrm>
              <a:off x="4038480" y="1752480"/>
              <a:ext cx="2667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К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89" name="WordArt 29"/>
            <p:cNvSpPr txBox="1"/>
            <p:nvPr/>
          </p:nvSpPr>
          <p:spPr>
            <a:xfrm>
              <a:off x="1981080" y="609480"/>
              <a:ext cx="3049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90" name="WordArt 30"/>
            <p:cNvSpPr txBox="1"/>
            <p:nvPr/>
          </p:nvSpPr>
          <p:spPr>
            <a:xfrm>
              <a:off x="6667560" y="495360"/>
              <a:ext cx="304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91" name="WordArt 31"/>
            <p:cNvSpPr txBox="1"/>
            <p:nvPr/>
          </p:nvSpPr>
          <p:spPr>
            <a:xfrm>
              <a:off x="5562720" y="1752480"/>
              <a:ext cx="3715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М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92" name="WordArt 32"/>
            <p:cNvSpPr txBox="1"/>
            <p:nvPr/>
          </p:nvSpPr>
          <p:spPr>
            <a:xfrm>
              <a:off x="3124080" y="3009960"/>
              <a:ext cx="304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Л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93" name="WordArt 33"/>
            <p:cNvSpPr txBox="1"/>
            <p:nvPr/>
          </p:nvSpPr>
          <p:spPr>
            <a:xfrm>
              <a:off x="5181480" y="609480"/>
              <a:ext cx="3049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94" name="WordArt 34"/>
            <p:cNvSpPr txBox="1"/>
            <p:nvPr/>
          </p:nvSpPr>
          <p:spPr>
            <a:xfrm>
              <a:off x="6781680" y="2895480"/>
              <a:ext cx="4194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Ж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95" name="WordArt 35"/>
            <p:cNvSpPr txBox="1"/>
            <p:nvPr/>
          </p:nvSpPr>
          <p:spPr>
            <a:xfrm>
              <a:off x="4952880" y="3009960"/>
              <a:ext cx="352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96" name="WordArt 36"/>
            <p:cNvSpPr txBox="1"/>
            <p:nvPr/>
          </p:nvSpPr>
          <p:spPr>
            <a:xfrm>
              <a:off x="1409760" y="3009960"/>
              <a:ext cx="3142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Д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97" name="WordArt 37"/>
            <p:cNvSpPr txBox="1"/>
            <p:nvPr/>
          </p:nvSpPr>
          <p:spPr>
            <a:xfrm>
              <a:off x="7086600" y="1600200"/>
              <a:ext cx="2952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"/>
                </a:rPr>
                <a:t>У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8" name="Group 38"/>
          <p:cNvGrpSpPr/>
          <p:nvPr/>
        </p:nvGrpSpPr>
        <p:grpSpPr>
          <a:xfrm>
            <a:off x="1219320" y="5153040"/>
            <a:ext cx="6742800" cy="1199520"/>
            <a:chOff x="1219320" y="5153040"/>
            <a:chExt cx="6742800" cy="1199520"/>
          </a:xfrm>
        </p:grpSpPr>
        <p:grpSp>
          <p:nvGrpSpPr>
            <p:cNvPr id="199" name="Group 39"/>
            <p:cNvGrpSpPr/>
            <p:nvPr/>
          </p:nvGrpSpPr>
          <p:grpSpPr>
            <a:xfrm>
              <a:off x="1219320" y="5153040"/>
              <a:ext cx="6742800" cy="1199520"/>
              <a:chOff x="1219320" y="5153040"/>
              <a:chExt cx="6742800" cy="1199520"/>
            </a:xfrm>
          </p:grpSpPr>
          <p:sp>
            <p:nvSpPr>
              <p:cNvPr id="200" name="AutoShape 40"/>
              <p:cNvSpPr/>
              <p:nvPr/>
            </p:nvSpPr>
            <p:spPr>
              <a:xfrm>
                <a:off x="1219320" y="5410080"/>
                <a:ext cx="799920" cy="799920"/>
              </a:xfrm>
              <a:prstGeom prst="plus">
                <a:avLst>
                  <a:gd name="adj" fmla="val 25000"/>
                </a:avLst>
              </a:prstGeom>
              <a:noFill/>
              <a:ln w="381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41"/>
              <p:cNvSpPr/>
              <p:nvPr/>
            </p:nvSpPr>
            <p:spPr>
              <a:xfrm>
                <a:off x="3619440" y="5524200"/>
                <a:ext cx="799560" cy="6854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2"/>
              <p:cNvSpPr/>
              <p:nvPr/>
            </p:nvSpPr>
            <p:spPr>
              <a:xfrm>
                <a:off x="2361960" y="5524200"/>
                <a:ext cx="914040" cy="685440"/>
              </a:xfrm>
              <a:prstGeom prst="rect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3"/>
              <p:cNvSpPr/>
              <p:nvPr/>
            </p:nvSpPr>
            <p:spPr>
              <a:xfrm>
                <a:off x="4762440" y="5524200"/>
                <a:ext cx="685440" cy="68544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44"/>
              <p:cNvSpPr/>
              <p:nvPr/>
            </p:nvSpPr>
            <p:spPr>
              <a:xfrm rot="19606800">
                <a:off x="5790960" y="5409720"/>
                <a:ext cx="1142640" cy="68544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45"/>
              <p:cNvSpPr/>
              <p:nvPr/>
            </p:nvSpPr>
            <p:spPr>
              <a:xfrm rot="10800000">
                <a:off x="6933600" y="5524200"/>
                <a:ext cx="1028520" cy="685440"/>
              </a:xfrm>
              <a:custGeom>
                <a:avLst/>
                <a:gdLst>
                  <a:gd name="textAreaLeft" fmla="*/ 214200 w 1028520"/>
                  <a:gd name="textAreaRight" fmla="*/ 814320 w 1028520"/>
                  <a:gd name="textAreaTop" fmla="*/ 142560 h 685440"/>
                  <a:gd name="textAreaBottom" fmla="*/ 542880 h 68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WordArt 46"/>
            <p:cNvSpPr txBox="1"/>
            <p:nvPr/>
          </p:nvSpPr>
          <p:spPr>
            <a:xfrm>
              <a:off x="1523880" y="5638680"/>
              <a:ext cx="2095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4d4d"/>
                  </a:solidFill>
                  <a:latin typeface="Arial"/>
                </a:rPr>
                <a:t>К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Arial"/>
                <a:ea typeface="Arial"/>
              </a:endParaRPr>
            </a:p>
          </p:txBody>
        </p:sp>
        <p:sp>
          <p:nvSpPr>
            <p:cNvPr id="207" name="WordArt 47"/>
            <p:cNvSpPr txBox="1"/>
            <p:nvPr/>
          </p:nvSpPr>
          <p:spPr>
            <a:xfrm>
              <a:off x="2743200" y="5638680"/>
              <a:ext cx="23796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4d4d"/>
                  </a:solidFill>
                  <a:latin typeface="Arial"/>
                </a:rPr>
                <a:t>Р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Arial"/>
                <a:ea typeface="Arial"/>
              </a:endParaRPr>
            </a:p>
          </p:txBody>
        </p:sp>
        <p:sp>
          <p:nvSpPr>
            <p:cNvPr id="208" name="WordArt 48"/>
            <p:cNvSpPr txBox="1"/>
            <p:nvPr/>
          </p:nvSpPr>
          <p:spPr>
            <a:xfrm>
              <a:off x="3886200" y="5714640"/>
              <a:ext cx="237960" cy="40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4d4d"/>
                  </a:solidFill>
                  <a:latin typeface="Arial"/>
                </a:rPr>
                <a:t>Е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Arial"/>
                <a:ea typeface="Arial"/>
              </a:endParaRPr>
            </a:p>
          </p:txBody>
        </p:sp>
        <p:sp>
          <p:nvSpPr>
            <p:cNvPr id="209" name="WordArt 49"/>
            <p:cNvSpPr txBox="1"/>
            <p:nvPr/>
          </p:nvSpPr>
          <p:spPr>
            <a:xfrm>
              <a:off x="4952880" y="5638680"/>
              <a:ext cx="29556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4d4d"/>
                  </a:solidFill>
                  <a:latin typeface="Arial"/>
                </a:rPr>
                <a:t>М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Arial"/>
                <a:ea typeface="Arial"/>
              </a:endParaRPr>
            </a:p>
          </p:txBody>
        </p:sp>
        <p:sp>
          <p:nvSpPr>
            <p:cNvPr id="210" name="WordArt 50"/>
            <p:cNvSpPr txBox="1"/>
            <p:nvPr/>
          </p:nvSpPr>
          <p:spPr>
            <a:xfrm>
              <a:off x="6172200" y="5638680"/>
              <a:ext cx="22860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4d4d"/>
                  </a:solidFill>
                  <a:latin typeface="Arial"/>
                </a:rPr>
                <a:t>Л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Arial"/>
                <a:ea typeface="Arial"/>
              </a:endParaRPr>
            </a:p>
          </p:txBody>
        </p:sp>
        <p:sp>
          <p:nvSpPr>
            <p:cNvPr id="211" name="WordArt 51"/>
            <p:cNvSpPr txBox="1"/>
            <p:nvPr/>
          </p:nvSpPr>
          <p:spPr>
            <a:xfrm>
              <a:off x="7315200" y="5638680"/>
              <a:ext cx="22860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4d4d"/>
                  </a:solidFill>
                  <a:latin typeface="Arial"/>
                </a:rPr>
                <a:t>Ь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51"/>
          <p:cNvGrpSpPr/>
          <p:nvPr/>
        </p:nvGrpSpPr>
        <p:grpSpPr>
          <a:xfrm>
            <a:off x="4952880" y="380880"/>
            <a:ext cx="3733920" cy="2381400"/>
            <a:chOff x="4952880" y="380880"/>
            <a:chExt cx="3733920" cy="2381400"/>
          </a:xfrm>
        </p:grpSpPr>
        <p:pic>
          <p:nvPicPr>
            <p:cNvPr id="217" name="Picture 29" descr="Картинка 9 из 64000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952880" y="380880"/>
              <a:ext cx="3733920" cy="2381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18" name="Text Box 30"/>
            <p:cNvSpPr/>
            <p:nvPr/>
          </p:nvSpPr>
          <p:spPr>
            <a:xfrm>
              <a:off x="6477120" y="3808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3"/>
          <p:cNvGrpSpPr/>
          <p:nvPr/>
        </p:nvGrpSpPr>
        <p:grpSpPr>
          <a:xfrm>
            <a:off x="4952880" y="4114800"/>
            <a:ext cx="3733920" cy="2362320"/>
            <a:chOff x="4952880" y="4114800"/>
            <a:chExt cx="3733920" cy="2362320"/>
          </a:xfrm>
        </p:grpSpPr>
        <p:pic>
          <p:nvPicPr>
            <p:cNvPr id="220" name="Picture 31" descr="Картинка 15 из 64000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952880" y="4114800"/>
              <a:ext cx="3733920" cy="2362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21" name="Text Box 32"/>
            <p:cNvSpPr/>
            <p:nvPr/>
          </p:nvSpPr>
          <p:spPr>
            <a:xfrm>
              <a:off x="6400800" y="4114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2"/>
          <p:cNvGrpSpPr/>
          <p:nvPr/>
        </p:nvGrpSpPr>
        <p:grpSpPr>
          <a:xfrm>
            <a:off x="457200" y="4114800"/>
            <a:ext cx="3809880" cy="2362320"/>
            <a:chOff x="457200" y="4114800"/>
            <a:chExt cx="3809880" cy="2362320"/>
          </a:xfrm>
        </p:grpSpPr>
        <p:pic>
          <p:nvPicPr>
            <p:cNvPr id="223" name="Picture 38" descr="Картинка 195 из 64000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57200" y="4114800"/>
              <a:ext cx="3809880" cy="2362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24" name="Text Box 42"/>
            <p:cNvSpPr/>
            <p:nvPr/>
          </p:nvSpPr>
          <p:spPr>
            <a:xfrm>
              <a:off x="1905120" y="4114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50"/>
          <p:cNvGrpSpPr/>
          <p:nvPr/>
        </p:nvGrpSpPr>
        <p:grpSpPr>
          <a:xfrm>
            <a:off x="457200" y="380880"/>
            <a:ext cx="3733920" cy="2362320"/>
            <a:chOff x="457200" y="380880"/>
            <a:chExt cx="3733920" cy="2362320"/>
          </a:xfrm>
        </p:grpSpPr>
        <p:pic>
          <p:nvPicPr>
            <p:cNvPr id="226" name="Picture 44" descr="Картинка 93 из 8030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57200" y="380880"/>
              <a:ext cx="3733920" cy="2362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27" name="Text Box 49"/>
            <p:cNvSpPr/>
            <p:nvPr/>
          </p:nvSpPr>
          <p:spPr>
            <a:xfrm>
              <a:off x="1828800" y="380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7"/>
          <p:cNvGrpSpPr/>
          <p:nvPr/>
        </p:nvGrpSpPr>
        <p:grpSpPr>
          <a:xfrm>
            <a:off x="4952880" y="380880"/>
            <a:ext cx="3733920" cy="2362320"/>
            <a:chOff x="4952880" y="380880"/>
            <a:chExt cx="3733920" cy="2362320"/>
          </a:xfrm>
        </p:grpSpPr>
        <p:pic>
          <p:nvPicPr>
            <p:cNvPr id="233" name="Picture 15" descr="Картинка 3 из 5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952880" y="380880"/>
              <a:ext cx="3733920" cy="2362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4" name="Text Box 16"/>
            <p:cNvSpPr/>
            <p:nvPr/>
          </p:nvSpPr>
          <p:spPr>
            <a:xfrm>
              <a:off x="6477120" y="3808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6"/>
          <p:cNvGrpSpPr/>
          <p:nvPr/>
        </p:nvGrpSpPr>
        <p:grpSpPr>
          <a:xfrm>
            <a:off x="457200" y="4114800"/>
            <a:ext cx="3733920" cy="2362320"/>
            <a:chOff x="457200" y="4114800"/>
            <a:chExt cx="3733920" cy="2362320"/>
          </a:xfrm>
        </p:grpSpPr>
        <p:pic>
          <p:nvPicPr>
            <p:cNvPr id="236" name="Picture 11" descr="Картинка 92 из 64000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57200" y="4114800"/>
              <a:ext cx="3733920" cy="2362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7" name="Text Box 17"/>
            <p:cNvSpPr/>
            <p:nvPr/>
          </p:nvSpPr>
          <p:spPr>
            <a:xfrm>
              <a:off x="1752480" y="4114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4952880" y="4114800"/>
            <a:ext cx="3733920" cy="2362320"/>
            <a:chOff x="4952880" y="4114800"/>
            <a:chExt cx="3733920" cy="2362320"/>
          </a:xfrm>
        </p:grpSpPr>
        <p:pic>
          <p:nvPicPr>
            <p:cNvPr id="239" name="Picture 19" descr="Картинка 171 из 8030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952880" y="4114800"/>
              <a:ext cx="3733920" cy="2362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40" name="Text Box 22"/>
            <p:cNvSpPr/>
            <p:nvPr/>
          </p:nvSpPr>
          <p:spPr>
            <a:xfrm>
              <a:off x="6477120" y="4114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5"/>
          <p:cNvGrpSpPr/>
          <p:nvPr/>
        </p:nvGrpSpPr>
        <p:grpSpPr>
          <a:xfrm>
            <a:off x="457200" y="380880"/>
            <a:ext cx="3733920" cy="2362320"/>
            <a:chOff x="457200" y="380880"/>
            <a:chExt cx="3733920" cy="2362320"/>
          </a:xfrm>
        </p:grpSpPr>
        <p:pic>
          <p:nvPicPr>
            <p:cNvPr id="242" name="Picture 23" descr="Картинка 68 из 64000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57200" y="380880"/>
              <a:ext cx="3733920" cy="2362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43" name="Text Box 24"/>
            <p:cNvSpPr/>
            <p:nvPr/>
          </p:nvSpPr>
          <p:spPr>
            <a:xfrm>
              <a:off x="1752480" y="380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 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Картинка 26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3429000"/>
            <a:ext cx="198432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9" name="Picture 11" descr="Картинка 61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80880"/>
            <a:ext cx="34290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Picture 12" descr="Картинка 53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380880"/>
            <a:ext cx="34290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Picture 13" descr="Картинка 67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4114800"/>
            <a:ext cx="34290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Картинка 16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380880"/>
            <a:ext cx="36576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3" name="Picture 4" descr="Картинка 330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3429000"/>
            <a:ext cx="220968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4" name="Picture 5" descr="Картинка 16 из 34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29200" y="4114800"/>
            <a:ext cx="36576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5" name="Picture 6" descr="Картинка 5 из 32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" y="380880"/>
            <a:ext cx="36576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6"/>
          <p:cNvGrpSpPr/>
          <p:nvPr/>
        </p:nvGrpSpPr>
        <p:grpSpPr>
          <a:xfrm>
            <a:off x="380880" y="1752480"/>
            <a:ext cx="8153640" cy="2416320"/>
            <a:chOff x="380880" y="1752480"/>
            <a:chExt cx="8153640" cy="2416320"/>
          </a:xfrm>
        </p:grpSpPr>
        <p:grpSp>
          <p:nvGrpSpPr>
            <p:cNvPr id="261" name="Group 7"/>
            <p:cNvGrpSpPr/>
            <p:nvPr/>
          </p:nvGrpSpPr>
          <p:grpSpPr>
            <a:xfrm>
              <a:off x="380880" y="2362320"/>
              <a:ext cx="2062440" cy="1764720"/>
              <a:chOff x="380880" y="2362320"/>
              <a:chExt cx="2062440" cy="1764720"/>
            </a:xfrm>
          </p:grpSpPr>
          <p:sp>
            <p:nvSpPr>
              <p:cNvPr id="262" name="WordArt 8"/>
              <p:cNvSpPr txBox="1"/>
              <p:nvPr/>
            </p:nvSpPr>
            <p:spPr>
              <a:xfrm>
                <a:off x="623160" y="2362320"/>
                <a:ext cx="1698480" cy="97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крас</a:t>
                </a:r>
                <a:endParaRPr b="0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63" name="Line 9"/>
              <p:cNvSpPr/>
              <p:nvPr/>
            </p:nvSpPr>
            <p:spPr>
              <a:xfrm>
                <a:off x="380880" y="3245040"/>
                <a:ext cx="2062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WordArt 10"/>
              <p:cNvSpPr txBox="1"/>
              <p:nvPr/>
            </p:nvSpPr>
            <p:spPr>
              <a:xfrm>
                <a:off x="1230120" y="3370680"/>
                <a:ext cx="353880" cy="75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я</a:t>
                </a:r>
                <a:endParaRPr b="0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</p:grpSp>
        <p:pic>
          <p:nvPicPr>
            <p:cNvPr id="265" name="Picture 11" descr="сканирование0002"/>
            <p:cNvPicPr/>
            <p:nvPr/>
          </p:nvPicPr>
          <p:blipFill>
            <a:blip r:embed="rId1"/>
            <a:stretch/>
          </p:blipFill>
          <p:spPr>
            <a:xfrm>
              <a:off x="3657600" y="2438280"/>
              <a:ext cx="176688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12"/>
            <p:cNvSpPr/>
            <p:nvPr/>
          </p:nvSpPr>
          <p:spPr>
            <a:xfrm>
              <a:off x="5334120" y="1752480"/>
              <a:ext cx="392040" cy="9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3"/>
            <p:cNvSpPr/>
            <p:nvPr/>
          </p:nvSpPr>
          <p:spPr>
            <a:xfrm>
              <a:off x="6248520" y="1752480"/>
              <a:ext cx="8222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,,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i-main-pic" descr="Картинка 19 из 9092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864480" y="2655720"/>
              <a:ext cx="156816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15"/>
            <p:cNvSpPr/>
            <p:nvPr/>
          </p:nvSpPr>
          <p:spPr>
            <a:xfrm>
              <a:off x="6864480" y="1871640"/>
              <a:ext cx="1670040" cy="58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Ш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36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609480" y="1600200"/>
            <a:ext cx="7772400" cy="914400"/>
            <a:chOff x="609480" y="1600200"/>
            <a:chExt cx="7772400" cy="914400"/>
          </a:xfrm>
        </p:grpSpPr>
        <p:sp>
          <p:nvSpPr>
            <p:cNvPr id="44" name="Oval 3"/>
            <p:cNvSpPr/>
            <p:nvPr/>
          </p:nvSpPr>
          <p:spPr>
            <a:xfrm>
              <a:off x="609480" y="1600200"/>
              <a:ext cx="914400" cy="9144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"/>
            <p:cNvSpPr/>
            <p:nvPr/>
          </p:nvSpPr>
          <p:spPr>
            <a:xfrm>
              <a:off x="1752480" y="1600200"/>
              <a:ext cx="914400" cy="9144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5"/>
            <p:cNvSpPr/>
            <p:nvPr/>
          </p:nvSpPr>
          <p:spPr>
            <a:xfrm>
              <a:off x="2895480" y="1600200"/>
              <a:ext cx="914400" cy="914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6"/>
            <p:cNvSpPr/>
            <p:nvPr/>
          </p:nvSpPr>
          <p:spPr>
            <a:xfrm>
              <a:off x="4038480" y="1600200"/>
              <a:ext cx="914400" cy="9144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7"/>
            <p:cNvSpPr/>
            <p:nvPr/>
          </p:nvSpPr>
          <p:spPr>
            <a:xfrm>
              <a:off x="5181480" y="1600200"/>
              <a:ext cx="914400" cy="914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8"/>
            <p:cNvSpPr/>
            <p:nvPr/>
          </p:nvSpPr>
          <p:spPr>
            <a:xfrm>
              <a:off x="6324480" y="1600200"/>
              <a:ext cx="914400" cy="9144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9"/>
            <p:cNvSpPr/>
            <p:nvPr/>
          </p:nvSpPr>
          <p:spPr>
            <a:xfrm>
              <a:off x="7467480" y="1600200"/>
              <a:ext cx="914400" cy="914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10"/>
          <p:cNvSpPr/>
          <p:nvPr/>
        </p:nvSpPr>
        <p:spPr>
          <a:xfrm>
            <a:off x="2057400" y="35053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СТ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ЛИЦ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828800" y="35053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ЛИЦ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Картинка 39 из 55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286000"/>
            <a:ext cx="3276720" cy="2371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75" name="Picture 7" descr="Картинка 24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2286000"/>
            <a:ext cx="327672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76" name="Picture 8" descr="Картинка 9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71800" y="2286000"/>
            <a:ext cx="327672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77" name="Picture 9" descr="Картинка 17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71800" y="2286000"/>
            <a:ext cx="3276720" cy="23734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78" name="Picture 10" descr="Картинка 1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95480" y="2286000"/>
            <a:ext cx="327672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4.71895E-006 L -0.29584 -0.25053 E">
                                      <p:cBhvr>
                                        <p:cTn id="423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1.31853E-006 L 0.2875 -0.24983 E">
                                      <p:cBhvr>
                                        <p:cTn id="433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1.31853E-006 L 0.2875 0.26093 E">
                                      <p:cBhvr>
                                        <p:cTn id="443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4.71895E-006 L -0.29584 0.26023 E">
                                      <p:cBhvr>
                                        <p:cTn id="453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Картинка 5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286000"/>
            <a:ext cx="358128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80" name="Picture 3" descr="Картинка 3 из 60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1905120"/>
            <a:ext cx="2233440" cy="31240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81" name="Picture 4" descr="Картинка 13 из 552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2286000"/>
            <a:ext cx="358128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82" name="Picture 5" descr="Картинка 29 из 552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19520" y="2286000"/>
            <a:ext cx="358128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4.71895E-006 L -0.27084 -0.24982 E">
                                      <p:cBhvr>
                                        <p:cTn id="473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-4.71895E-006 L 0.26962 0.21652 E">
                                      <p:cBhvr>
                                        <p:cTn id="483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4.71895E-006 L 0.27083 -0.24982 E">
                                      <p:cBhvr>
                                        <p:cTn id="493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2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4.71895E-006 L -0.27084 0.23873 E">
                                      <p:cBhvr>
                                        <p:cTn id="50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Картинка 6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286000"/>
            <a:ext cx="365760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88" name="Picture 7" descr="Картинка 7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2286000"/>
            <a:ext cx="365760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89" name="Picture 8" descr="Картинка 118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43200" y="2286000"/>
            <a:ext cx="365760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290" name="Picture 9" descr="Картинка 49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43200" y="2286000"/>
            <a:ext cx="3657600" cy="2362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4.71895E-006 L -0.26667 -0.24982 E">
                                      <p:cBhvr>
                                        <p:cTn id="51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4.71895E-006 L 0.26667 -0.24982 E">
                                      <p:cBhvr>
                                        <p:cTn id="52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8.29979E-006 L -0.26667 0.24428 E">
                                      <p:cBhvr>
                                        <p:cTn id="53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4.71895E-006 L 0.26667 0.24983 E">
                                      <p:cBhvr>
                                        <p:cTn id="54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886200" y="1905120"/>
            <a:ext cx="1142640" cy="2286000"/>
            <a:chOff x="3886200" y="1905120"/>
            <a:chExt cx="1142640" cy="2286000"/>
          </a:xfrm>
        </p:grpSpPr>
        <p:sp>
          <p:nvSpPr>
            <p:cNvPr id="292" name="Line 3"/>
            <p:cNvSpPr/>
            <p:nvPr/>
          </p:nvSpPr>
          <p:spPr>
            <a:xfrm flipV="1">
              <a:off x="4000320" y="350496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4"/>
            <p:cNvSpPr/>
            <p:nvPr/>
          </p:nvSpPr>
          <p:spPr>
            <a:xfrm>
              <a:off x="445752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5"/>
            <p:cNvSpPr/>
            <p:nvPr/>
          </p:nvSpPr>
          <p:spPr>
            <a:xfrm>
              <a:off x="422892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>
              <a:off x="4457520" y="2705040"/>
              <a:ext cx="57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>
              <a:off x="3886200" y="2705040"/>
              <a:ext cx="57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8"/>
            <p:cNvSpPr/>
            <p:nvPr/>
          </p:nvSpPr>
          <p:spPr>
            <a:xfrm>
              <a:off x="4457520" y="350532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9"/>
          <p:cNvGrpSpPr/>
          <p:nvPr/>
        </p:nvGrpSpPr>
        <p:grpSpPr>
          <a:xfrm>
            <a:off x="3886200" y="1905120"/>
            <a:ext cx="1028520" cy="2285640"/>
            <a:chOff x="3886200" y="1905120"/>
            <a:chExt cx="1028520" cy="2285640"/>
          </a:xfrm>
        </p:grpSpPr>
        <p:sp>
          <p:nvSpPr>
            <p:cNvPr id="299" name="Line 10"/>
            <p:cNvSpPr/>
            <p:nvPr/>
          </p:nvSpPr>
          <p:spPr>
            <a:xfrm>
              <a:off x="4457520" y="350532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1"/>
            <p:cNvSpPr/>
            <p:nvPr/>
          </p:nvSpPr>
          <p:spPr>
            <a:xfrm>
              <a:off x="4457520" y="2590920"/>
              <a:ext cx="228600" cy="57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>
              <a:off x="3886200" y="2590920"/>
              <a:ext cx="57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>
              <a:off x="422892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4"/>
            <p:cNvSpPr/>
            <p:nvPr/>
          </p:nvSpPr>
          <p:spPr>
            <a:xfrm>
              <a:off x="445752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5"/>
            <p:cNvSpPr/>
            <p:nvPr/>
          </p:nvSpPr>
          <p:spPr>
            <a:xfrm flipV="1">
              <a:off x="4000320" y="350532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6"/>
          <p:cNvGrpSpPr/>
          <p:nvPr/>
        </p:nvGrpSpPr>
        <p:grpSpPr>
          <a:xfrm>
            <a:off x="3962520" y="1905120"/>
            <a:ext cx="914400" cy="2285640"/>
            <a:chOff x="3962520" y="1905120"/>
            <a:chExt cx="914400" cy="2285640"/>
          </a:xfrm>
        </p:grpSpPr>
        <p:sp>
          <p:nvSpPr>
            <p:cNvPr id="306" name="Oval 17"/>
            <p:cNvSpPr/>
            <p:nvPr/>
          </p:nvSpPr>
          <p:spPr>
            <a:xfrm>
              <a:off x="3962520" y="2590560"/>
              <a:ext cx="914400" cy="48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8"/>
            <p:cNvSpPr/>
            <p:nvPr/>
          </p:nvSpPr>
          <p:spPr>
            <a:xfrm flipV="1">
              <a:off x="3962520" y="350496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9"/>
            <p:cNvSpPr/>
            <p:nvPr/>
          </p:nvSpPr>
          <p:spPr>
            <a:xfrm flipH="1" flipV="1">
              <a:off x="4419720" y="350496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>
              <a:off x="441972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1"/>
            <p:cNvSpPr/>
            <p:nvPr/>
          </p:nvSpPr>
          <p:spPr>
            <a:xfrm>
              <a:off x="419112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2"/>
          <p:cNvGrpSpPr/>
          <p:nvPr/>
        </p:nvGrpSpPr>
        <p:grpSpPr>
          <a:xfrm>
            <a:off x="3886200" y="1905120"/>
            <a:ext cx="1143000" cy="2285640"/>
            <a:chOff x="3886200" y="1905120"/>
            <a:chExt cx="1143000" cy="2285640"/>
          </a:xfrm>
        </p:grpSpPr>
        <p:sp>
          <p:nvSpPr>
            <p:cNvPr id="312" name="Oval 23"/>
            <p:cNvSpPr/>
            <p:nvPr/>
          </p:nvSpPr>
          <p:spPr>
            <a:xfrm>
              <a:off x="422892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>
              <a:off x="445752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5"/>
            <p:cNvSpPr/>
            <p:nvPr/>
          </p:nvSpPr>
          <p:spPr>
            <a:xfrm flipV="1">
              <a:off x="4457520" y="2362320"/>
              <a:ext cx="5716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6"/>
            <p:cNvSpPr/>
            <p:nvPr/>
          </p:nvSpPr>
          <p:spPr>
            <a:xfrm>
              <a:off x="3886200" y="2362320"/>
              <a:ext cx="57132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7"/>
            <p:cNvSpPr/>
            <p:nvPr/>
          </p:nvSpPr>
          <p:spPr>
            <a:xfrm>
              <a:off x="4457520" y="350532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8"/>
            <p:cNvSpPr/>
            <p:nvPr/>
          </p:nvSpPr>
          <p:spPr>
            <a:xfrm flipV="1">
              <a:off x="4000320" y="350532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3886200" y="1905120"/>
            <a:ext cx="1142640" cy="2286000"/>
            <a:chOff x="3886200" y="1905120"/>
            <a:chExt cx="1142640" cy="2286000"/>
          </a:xfrm>
        </p:grpSpPr>
        <p:sp>
          <p:nvSpPr>
            <p:cNvPr id="319" name="Oval 30"/>
            <p:cNvSpPr/>
            <p:nvPr/>
          </p:nvSpPr>
          <p:spPr>
            <a:xfrm>
              <a:off x="422892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45752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2"/>
            <p:cNvGrpSpPr/>
            <p:nvPr/>
          </p:nvGrpSpPr>
          <p:grpSpPr>
            <a:xfrm>
              <a:off x="4000320" y="3504960"/>
              <a:ext cx="914400" cy="686160"/>
              <a:chOff x="4000320" y="3504960"/>
              <a:chExt cx="914400" cy="686160"/>
            </a:xfrm>
          </p:grpSpPr>
          <p:sp>
            <p:nvSpPr>
              <p:cNvPr id="322" name="Line 33"/>
              <p:cNvSpPr/>
              <p:nvPr/>
            </p:nvSpPr>
            <p:spPr>
              <a:xfrm flipV="1">
                <a:off x="4000320" y="3504960"/>
                <a:ext cx="4572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34"/>
              <p:cNvSpPr/>
              <p:nvPr/>
            </p:nvSpPr>
            <p:spPr>
              <a:xfrm>
                <a:off x="4457520" y="3505320"/>
                <a:ext cx="4572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Line 35"/>
            <p:cNvSpPr/>
            <p:nvPr/>
          </p:nvSpPr>
          <p:spPr>
            <a:xfrm>
              <a:off x="3886200" y="2247840"/>
              <a:ext cx="57132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36"/>
            <p:cNvSpPr/>
            <p:nvPr/>
          </p:nvSpPr>
          <p:spPr>
            <a:xfrm>
              <a:off x="4457520" y="2590560"/>
              <a:ext cx="57132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37"/>
          <p:cNvGrpSpPr/>
          <p:nvPr/>
        </p:nvGrpSpPr>
        <p:grpSpPr>
          <a:xfrm>
            <a:off x="4038480" y="1905120"/>
            <a:ext cx="914400" cy="2285640"/>
            <a:chOff x="4038480" y="1905120"/>
            <a:chExt cx="914400" cy="2285640"/>
          </a:xfrm>
        </p:grpSpPr>
        <p:sp>
          <p:nvSpPr>
            <p:cNvPr id="327" name="Oval 38"/>
            <p:cNvSpPr/>
            <p:nvPr/>
          </p:nvSpPr>
          <p:spPr>
            <a:xfrm>
              <a:off x="426672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39"/>
            <p:cNvSpPr/>
            <p:nvPr/>
          </p:nvSpPr>
          <p:spPr>
            <a:xfrm>
              <a:off x="449568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40"/>
            <p:cNvGrpSpPr/>
            <p:nvPr/>
          </p:nvGrpSpPr>
          <p:grpSpPr>
            <a:xfrm>
              <a:off x="4038480" y="3505320"/>
              <a:ext cx="914400" cy="685440"/>
              <a:chOff x="4038480" y="3505320"/>
              <a:chExt cx="914400" cy="685440"/>
            </a:xfrm>
          </p:grpSpPr>
          <p:sp>
            <p:nvSpPr>
              <p:cNvPr id="330" name="Line 41"/>
              <p:cNvSpPr/>
              <p:nvPr/>
            </p:nvSpPr>
            <p:spPr>
              <a:xfrm flipV="1">
                <a:off x="4038480" y="3505320"/>
                <a:ext cx="457200" cy="685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42"/>
              <p:cNvSpPr/>
              <p:nvPr/>
            </p:nvSpPr>
            <p:spPr>
              <a:xfrm>
                <a:off x="4495680" y="3505320"/>
                <a:ext cx="457200" cy="685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43"/>
            <p:cNvGrpSpPr/>
            <p:nvPr/>
          </p:nvGrpSpPr>
          <p:grpSpPr>
            <a:xfrm>
              <a:off x="4038480" y="2590920"/>
              <a:ext cx="914400" cy="457200"/>
              <a:chOff x="4038480" y="2590920"/>
              <a:chExt cx="914400" cy="457200"/>
            </a:xfrm>
          </p:grpSpPr>
          <p:sp>
            <p:nvSpPr>
              <p:cNvPr id="333" name="Line 44"/>
              <p:cNvSpPr/>
              <p:nvPr/>
            </p:nvSpPr>
            <p:spPr>
              <a:xfrm flipV="1">
                <a:off x="4038480" y="2590920"/>
                <a:ext cx="4572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45"/>
              <p:cNvSpPr/>
              <p:nvPr/>
            </p:nvSpPr>
            <p:spPr>
              <a:xfrm>
                <a:off x="4495680" y="2590920"/>
                <a:ext cx="45720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Group 46"/>
          <p:cNvGrpSpPr/>
          <p:nvPr/>
        </p:nvGrpSpPr>
        <p:grpSpPr>
          <a:xfrm>
            <a:off x="4038480" y="1905120"/>
            <a:ext cx="1028880" cy="2285640"/>
            <a:chOff x="4038480" y="1905120"/>
            <a:chExt cx="1028880" cy="2285640"/>
          </a:xfrm>
        </p:grpSpPr>
        <p:sp>
          <p:nvSpPr>
            <p:cNvPr id="336" name="Oval 47"/>
            <p:cNvSpPr/>
            <p:nvPr/>
          </p:nvSpPr>
          <p:spPr>
            <a:xfrm>
              <a:off x="426708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48"/>
            <p:cNvSpPr/>
            <p:nvPr/>
          </p:nvSpPr>
          <p:spPr>
            <a:xfrm>
              <a:off x="449568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49"/>
            <p:cNvSpPr/>
            <p:nvPr/>
          </p:nvSpPr>
          <p:spPr>
            <a:xfrm>
              <a:off x="4495680" y="2590920"/>
              <a:ext cx="571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50"/>
            <p:cNvSpPr/>
            <p:nvPr/>
          </p:nvSpPr>
          <p:spPr>
            <a:xfrm flipV="1">
              <a:off x="4152600" y="2590560"/>
              <a:ext cx="342720" cy="57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51"/>
            <p:cNvGrpSpPr/>
            <p:nvPr/>
          </p:nvGrpSpPr>
          <p:grpSpPr>
            <a:xfrm>
              <a:off x="4038480" y="3505320"/>
              <a:ext cx="914400" cy="685440"/>
              <a:chOff x="4038480" y="3505320"/>
              <a:chExt cx="914400" cy="685440"/>
            </a:xfrm>
          </p:grpSpPr>
          <p:sp>
            <p:nvSpPr>
              <p:cNvPr id="341" name="Line 52"/>
              <p:cNvSpPr/>
              <p:nvPr/>
            </p:nvSpPr>
            <p:spPr>
              <a:xfrm flipV="1">
                <a:off x="4038480" y="3505320"/>
                <a:ext cx="457200" cy="685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53"/>
              <p:cNvSpPr/>
              <p:nvPr/>
            </p:nvSpPr>
            <p:spPr>
              <a:xfrm>
                <a:off x="4495680" y="3505320"/>
                <a:ext cx="457200" cy="685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3" name="Group 54"/>
          <p:cNvGrpSpPr/>
          <p:nvPr/>
        </p:nvGrpSpPr>
        <p:grpSpPr>
          <a:xfrm>
            <a:off x="3886200" y="1905120"/>
            <a:ext cx="1143000" cy="2286000"/>
            <a:chOff x="3886200" y="1905120"/>
            <a:chExt cx="1143000" cy="2286000"/>
          </a:xfrm>
        </p:grpSpPr>
        <p:sp>
          <p:nvSpPr>
            <p:cNvPr id="344" name="Oval 55"/>
            <p:cNvSpPr/>
            <p:nvPr/>
          </p:nvSpPr>
          <p:spPr>
            <a:xfrm>
              <a:off x="422892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6"/>
            <p:cNvSpPr/>
            <p:nvPr/>
          </p:nvSpPr>
          <p:spPr>
            <a:xfrm>
              <a:off x="445788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57"/>
            <p:cNvGrpSpPr/>
            <p:nvPr/>
          </p:nvGrpSpPr>
          <p:grpSpPr>
            <a:xfrm>
              <a:off x="4000320" y="3504960"/>
              <a:ext cx="914400" cy="686160"/>
              <a:chOff x="4000320" y="3504960"/>
              <a:chExt cx="914400" cy="686160"/>
            </a:xfrm>
          </p:grpSpPr>
          <p:sp>
            <p:nvSpPr>
              <p:cNvPr id="347" name="Line 58"/>
              <p:cNvSpPr/>
              <p:nvPr/>
            </p:nvSpPr>
            <p:spPr>
              <a:xfrm flipV="1">
                <a:off x="4000320" y="3504960"/>
                <a:ext cx="4572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59"/>
              <p:cNvSpPr/>
              <p:nvPr/>
            </p:nvSpPr>
            <p:spPr>
              <a:xfrm>
                <a:off x="4457520" y="3505320"/>
                <a:ext cx="4572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Line 60"/>
            <p:cNvSpPr/>
            <p:nvPr/>
          </p:nvSpPr>
          <p:spPr>
            <a:xfrm flipV="1">
              <a:off x="3886200" y="2590560"/>
              <a:ext cx="5716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61"/>
            <p:cNvSpPr/>
            <p:nvPr/>
          </p:nvSpPr>
          <p:spPr>
            <a:xfrm flipV="1">
              <a:off x="4457880" y="2247840"/>
              <a:ext cx="57132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62"/>
          <p:cNvGrpSpPr/>
          <p:nvPr/>
        </p:nvGrpSpPr>
        <p:grpSpPr>
          <a:xfrm>
            <a:off x="4038480" y="1905120"/>
            <a:ext cx="914400" cy="2285640"/>
            <a:chOff x="4038480" y="1905120"/>
            <a:chExt cx="914400" cy="2285640"/>
          </a:xfrm>
        </p:grpSpPr>
        <p:sp>
          <p:nvSpPr>
            <p:cNvPr id="352" name="Oval 63"/>
            <p:cNvSpPr/>
            <p:nvPr/>
          </p:nvSpPr>
          <p:spPr>
            <a:xfrm>
              <a:off x="4038480" y="2590560"/>
              <a:ext cx="914400" cy="48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64"/>
            <p:cNvSpPr/>
            <p:nvPr/>
          </p:nvSpPr>
          <p:spPr>
            <a:xfrm flipV="1">
              <a:off x="4038480" y="350496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65"/>
            <p:cNvSpPr/>
            <p:nvPr/>
          </p:nvSpPr>
          <p:spPr>
            <a:xfrm flipH="1" flipV="1">
              <a:off x="4495680" y="350496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66"/>
            <p:cNvSpPr/>
            <p:nvPr/>
          </p:nvSpPr>
          <p:spPr>
            <a:xfrm>
              <a:off x="4495680" y="2476440"/>
              <a:ext cx="0" cy="102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7"/>
            <p:cNvSpPr/>
            <p:nvPr/>
          </p:nvSpPr>
          <p:spPr>
            <a:xfrm>
              <a:off x="4267080" y="1905120"/>
              <a:ext cx="457200" cy="5713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7" name="raznotsvetnaya_igra.mp3" descr=""/>
          <p:cNvPicPr/>
          <p:nvPr/>
        </p:nvPicPr>
        <p:blipFill>
          <a:blip r:embed="rId1"/>
          <a:stretch/>
        </p:blipFill>
        <p:spPr>
          <a:xfrm>
            <a:off x="9144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2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447920" y="2209680"/>
            <a:ext cx="624816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А, ВО, МУ, СТА, АЛ, ЗЕЙ, КО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Л, ТЕ, ДРА, СИ, АТР, ФИ, ОР, П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О, ЖИ, МЯТ, ЯЗ, ДЫ, НИК, Б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447920" y="2209680"/>
            <a:ext cx="5790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А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МЯ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9"/>
          <p:cNvGrpSpPr/>
          <p:nvPr/>
        </p:nvGrpSpPr>
        <p:grpSpPr>
          <a:xfrm>
            <a:off x="1752480" y="2158560"/>
            <a:ext cx="5410080" cy="2174040"/>
            <a:chOff x="1752480" y="2158560"/>
            <a:chExt cx="5410080" cy="2174040"/>
          </a:xfrm>
        </p:grpSpPr>
        <p:sp>
          <p:nvSpPr>
            <p:cNvPr id="361" name="Text Box 5"/>
            <p:cNvSpPr/>
            <p:nvPr/>
          </p:nvSpPr>
          <p:spPr>
            <a:xfrm>
              <a:off x="1828800" y="2514600"/>
              <a:ext cx="533376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Е  ,     Е    А  ,      А    Я    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28"/>
            <p:cNvGrpSpPr/>
            <p:nvPr/>
          </p:nvGrpSpPr>
          <p:grpSpPr>
            <a:xfrm>
              <a:off x="1752480" y="2158560"/>
              <a:ext cx="5334120" cy="1041840"/>
              <a:chOff x="1752480" y="2158560"/>
              <a:chExt cx="5334120" cy="1041840"/>
            </a:xfrm>
          </p:grpSpPr>
          <p:sp>
            <p:nvSpPr>
              <p:cNvPr id="363" name="Line 10"/>
              <p:cNvSpPr/>
              <p:nvPr/>
            </p:nvSpPr>
            <p:spPr>
              <a:xfrm>
                <a:off x="1752480" y="29718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11"/>
              <p:cNvSpPr/>
              <p:nvPr/>
            </p:nvSpPr>
            <p:spPr>
              <a:xfrm>
                <a:off x="2438280" y="29718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2"/>
              <p:cNvSpPr/>
              <p:nvPr/>
            </p:nvSpPr>
            <p:spPr>
              <a:xfrm>
                <a:off x="3429000" y="297180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3"/>
              <p:cNvSpPr/>
              <p:nvPr/>
            </p:nvSpPr>
            <p:spPr>
              <a:xfrm>
                <a:off x="4114800" y="297180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14"/>
              <p:cNvSpPr/>
              <p:nvPr/>
            </p:nvSpPr>
            <p:spPr>
              <a:xfrm>
                <a:off x="5867280" y="29718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15"/>
              <p:cNvSpPr/>
              <p:nvPr/>
            </p:nvSpPr>
            <p:spPr>
              <a:xfrm>
                <a:off x="5181480" y="29718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9"/>
              <p:cNvSpPr/>
              <p:nvPr/>
            </p:nvSpPr>
            <p:spPr>
              <a:xfrm>
                <a:off x="6553080" y="29718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21"/>
              <p:cNvSpPr/>
              <p:nvPr/>
            </p:nvSpPr>
            <p:spPr>
              <a:xfrm flipV="1">
                <a:off x="2286000" y="2666880"/>
                <a:ext cx="1522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22"/>
              <p:cNvSpPr/>
              <p:nvPr/>
            </p:nvSpPr>
            <p:spPr>
              <a:xfrm flipV="1">
                <a:off x="3962160" y="2666880"/>
                <a:ext cx="1526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23"/>
              <p:cNvSpPr/>
              <p:nvPr/>
            </p:nvSpPr>
            <p:spPr>
              <a:xfrm flipV="1">
                <a:off x="5715000" y="2666880"/>
                <a:ext cx="1522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24"/>
              <p:cNvSpPr/>
              <p:nvPr/>
            </p:nvSpPr>
            <p:spPr>
              <a:xfrm flipV="1">
                <a:off x="6400800" y="2666880"/>
                <a:ext cx="1522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AutoShape 25"/>
              <p:cNvSpPr/>
              <p:nvPr/>
            </p:nvSpPr>
            <p:spPr>
              <a:xfrm rot="3408000">
                <a:off x="5409720" y="2209680"/>
                <a:ext cx="266760" cy="26676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AutoShape 26"/>
              <p:cNvSpPr/>
              <p:nvPr/>
            </p:nvSpPr>
            <p:spPr>
              <a:xfrm rot="3408000">
                <a:off x="4266720" y="2209680"/>
                <a:ext cx="266760" cy="26676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27"/>
              <p:cNvSpPr/>
              <p:nvPr/>
            </p:nvSpPr>
            <p:spPr>
              <a:xfrm rot="3408000">
                <a:off x="2666520" y="2209680"/>
                <a:ext cx="266760" cy="26676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Картинка 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828800"/>
            <a:ext cx="4114800" cy="32194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382" name="Picture 9" descr="Картинка 16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14600" y="1828800"/>
            <a:ext cx="4114800" cy="322092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383" name="Picture 7" descr="Картинка 19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14600" y="1828800"/>
            <a:ext cx="4114800" cy="32004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384" name="Picture 8" descr="Картинка 3 из 64000">
            <a:hlinkClick r:id="rId7"/>
          </p:cNvPr>
          <p:cNvPicPr/>
          <p:nvPr/>
        </p:nvPicPr>
        <p:blipFill>
          <a:blip r:embed="rId8"/>
          <a:srcRect l="3005" t="2431" r="20283" b="7600"/>
          <a:stretch/>
        </p:blipFill>
        <p:spPr>
          <a:xfrm>
            <a:off x="2514600" y="1828800"/>
            <a:ext cx="4114800" cy="32004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385" name="Picture 11" descr="Картинка 120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133720" y="1676520"/>
            <a:ext cx="4876560" cy="3456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01874E-006 L -0.33333 -0.3331 E">
                                      <p:cBhvr>
                                        <p:cTn id="708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0" dur="2000" fill="hold"/>
                                        <p:tgtEl>
                                          <p:spTgt spid="38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43789E-007 L 0.33333 0.33172 E">
                                      <p:cBhvr>
                                        <p:cTn id="719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1" dur="2000" fill="hold"/>
                                        <p:tgtEl>
                                          <p:spTgt spid="3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01874E-006 L 0.33333 -0.3331 E">
                                      <p:cBhvr>
                                        <p:cTn id="730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2" dur="2000" fill="hold"/>
                                        <p:tgtEl>
                                          <p:spTgt spid="38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01874E-006 L -0.33333 0.33311 E">
                                      <p:cBhvr>
                                        <p:cTn id="741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3" dur="2000" fill="hold"/>
                                        <p:tgtEl>
                                          <p:spTgt spid="3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1" dur="2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1" descr="Картинка 1 из 239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752480"/>
            <a:ext cx="4724640" cy="34178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391" name="Picture 12" descr="Картинка 67 из 896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1752480"/>
            <a:ext cx="4724640" cy="3429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392" name="Picture 7" descr="48744913_Teatr_kuko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09680" y="1752480"/>
            <a:ext cx="4724640" cy="3429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393" name="Picture 8" descr="Картинка 25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09680" y="1752480"/>
            <a:ext cx="4724640" cy="3429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394" name="Picture 6" descr="Картинка 3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09680" y="1731960"/>
            <a:ext cx="4724640" cy="344952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64423E-007 L -0.325 -0.33773 E">
                                      <p:cBhvr>
                                        <p:cTn id="763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5" dur="2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71895E-006 L 0.325 0.32756 E">
                                      <p:cBhvr>
                                        <p:cTn id="774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6" dur="2000" fill="hold"/>
                                        <p:tgtEl>
                                          <p:spTgt spid="39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71895E-006 L 0.325 -0.33865 E">
                                      <p:cBhvr>
                                        <p:cTn id="785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7" dur="2000" fill="hold"/>
                                        <p:tgtEl>
                                          <p:spTgt spid="39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71895E-006 L -0.325 0.32756 E">
                                      <p:cBhvr>
                                        <p:cTn id="796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8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6" dur="2000" fill="hold"/>
                                        <p:tgtEl>
                                          <p:spTgt spid="3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Картинка 1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057400"/>
            <a:ext cx="3757680" cy="276228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396" name="Picture 3" descr="Картинка 1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2057400"/>
            <a:ext cx="3733920" cy="27432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397" name="Picture 4" descr="Картинка 80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2057400"/>
            <a:ext cx="3733920" cy="27432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398" name="Picture 5" descr="Картинка 65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666880" y="2057400"/>
            <a:ext cx="3733920" cy="27432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399" name="Picture 6" descr="Картинка 47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00400" y="1523880"/>
            <a:ext cx="2743200" cy="38102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400" name="Picture 7" descr="Картинка 199 из 6400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00400" y="1523880"/>
            <a:ext cx="2743200" cy="38102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401" name="Picture 8" descr="003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00400" y="1523880"/>
            <a:ext cx="2743200" cy="38102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402" name="Picture 9" descr="proekt_kopii_pamyatnika_vzorvannogo_600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00400" y="1523880"/>
            <a:ext cx="2724120" cy="38102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403" name="Picture 10" descr="Картинка 13 из 19207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666880" y="2057400"/>
            <a:ext cx="3733920" cy="27432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07495E-006 L -0.36667 -0.3442 E">
                                      <p:cBhvr>
                                        <p:cTn id="818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0" dur="2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01874E-006 L 0.37917 0.35531 E">
                                      <p:cBhvr>
                                        <p:cTn id="829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1" dur="2000" fill="hold"/>
                                        <p:tgtEl>
                                          <p:spTgt spid="39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01874E-006 L 0.37917 -0.3442 E">
                                      <p:cBhvr>
                                        <p:cTn id="840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2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01874E-006 L -0.37083 0.35531 E">
                                      <p:cBhvr>
                                        <p:cTn id="851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3" dur="2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01874E-006 L 0 -0.322 E">
                                      <p:cBhvr>
                                        <p:cTn id="862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4" dur="2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01874E-006 L 0 0.322 E">
                                      <p:cBhvr>
                                        <p:cTn id="873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5" dur="2000" fill="hold"/>
                                        <p:tgtEl>
                                          <p:spTgt spid="40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8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01874E-006 L -0.28333 -3.01874E-006 E">
                                      <p:cBhvr>
                                        <p:cTn id="884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6" dur="2000" fill="hold"/>
                                        <p:tgtEl>
                                          <p:spTgt spid="4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8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8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01874E-006 L 0.28438 -3.01874E-006 E">
                                      <p:cBhvr>
                                        <p:cTn id="895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7" dur="2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5" dur="2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3"/>
          <p:cNvSpPr txBox="1"/>
          <p:nvPr/>
        </p:nvSpPr>
        <p:spPr>
          <a:xfrm>
            <a:off x="1981080" y="2590920"/>
            <a:ext cx="54104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в ц ь е к р о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6 1  7 2 4 3 5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405" name="WordArt 5"/>
          <p:cNvSpPr txBox="1"/>
          <p:nvPr/>
        </p:nvSpPr>
        <p:spPr>
          <a:xfrm>
            <a:off x="2209680" y="2743200"/>
            <a:ext cx="4724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церковь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6" descr="Картинка 1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362320"/>
            <a:ext cx="2824200" cy="2209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411" name="Picture 7" descr="Картинка 2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914400"/>
            <a:ext cx="1754280" cy="25146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412" name="Picture 8" descr="Картинка 31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2362320"/>
            <a:ext cx="3224160" cy="21542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413" name="Picture 9" descr="Картинка 93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9920" y="4648320"/>
            <a:ext cx="2209680" cy="20574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414" name="Picture 10" descr="Картинка 111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4724280"/>
            <a:ext cx="2690640" cy="20196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415" name="Picture 11" descr="Картинка 128 из 6400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248520" y="152280"/>
            <a:ext cx="2171520" cy="20574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416" name="Picture 12" descr="Картинка 155 из 64000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33520" y="152280"/>
            <a:ext cx="2766960" cy="20764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pic>
        <p:nvPicPr>
          <p:cNvPr id="417" name="Picture 13" descr="Картинка 4 из 64000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76720" y="3962520"/>
            <a:ext cx="2385720" cy="16603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1447920" y="1998000"/>
            <a:ext cx="6247800" cy="2421000"/>
            <a:chOff x="1447920" y="1998000"/>
            <a:chExt cx="6247800" cy="2421000"/>
          </a:xfrm>
        </p:grpSpPr>
        <p:pic>
          <p:nvPicPr>
            <p:cNvPr id="54" name="Picture 3" descr="Картинка 8 из 8634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642400" y="2164680"/>
              <a:ext cx="2100960" cy="20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WordArt 4"/>
            <p:cNvSpPr txBox="1"/>
            <p:nvPr/>
          </p:nvSpPr>
          <p:spPr>
            <a:xfrm rot="686400">
              <a:off x="3279600" y="2057040"/>
              <a:ext cx="796680" cy="198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О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6" name="WordArt 5"/>
            <p:cNvSpPr txBox="1"/>
            <p:nvPr/>
          </p:nvSpPr>
          <p:spPr>
            <a:xfrm>
              <a:off x="1447920" y="2271600"/>
              <a:ext cx="1353960" cy="170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СТ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7" name="WordArt 6"/>
            <p:cNvSpPr txBox="1"/>
            <p:nvPr/>
          </p:nvSpPr>
          <p:spPr>
            <a:xfrm>
              <a:off x="4554360" y="2271600"/>
              <a:ext cx="3141360" cy="214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ЛИЦА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09480" y="304920"/>
          <a:ext cx="7905960" cy="5386320"/>
        </p:xfrm>
        <a:graphic>
          <a:graphicData uri="http://schemas.openxmlformats.org/drawingml/2006/table">
            <a:tbl>
              <a:tblPr/>
              <a:tblGrid>
                <a:gridCol w="704880"/>
                <a:gridCol w="1809720"/>
                <a:gridCol w="1847880"/>
                <a:gridCol w="1714680"/>
                <a:gridCol w="18288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Rectangle 47"/>
          <p:cNvSpPr/>
          <p:nvPr/>
        </p:nvSpPr>
        <p:spPr>
          <a:xfrm>
            <a:off x="1800" y="58917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8"/>
          <p:cNvSpPr/>
          <p:nvPr/>
        </p:nvSpPr>
        <p:spPr>
          <a:xfrm>
            <a:off x="297180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2, А4, Д1, В3, Г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9"/>
          <p:cNvGrpSpPr/>
          <p:nvPr/>
        </p:nvGrpSpPr>
        <p:grpSpPr>
          <a:xfrm>
            <a:off x="1981080" y="1872720"/>
            <a:ext cx="5334120" cy="2833560"/>
            <a:chOff x="1981080" y="1872720"/>
            <a:chExt cx="5334120" cy="2833560"/>
          </a:xfrm>
        </p:grpSpPr>
        <p:sp>
          <p:nvSpPr>
            <p:cNvPr id="423" name="Text Box 2"/>
            <p:cNvSpPr/>
            <p:nvPr/>
          </p:nvSpPr>
          <p:spPr>
            <a:xfrm>
              <a:off x="1981080" y="2209680"/>
              <a:ext cx="5334120" cy="24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ЗЛА - ТО - ГЛА - ВА - 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ххХх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8"/>
            <p:cNvSpPr/>
            <p:nvPr/>
          </p:nvSpPr>
          <p:spPr>
            <a:xfrm rot="3361800">
              <a:off x="5295600" y="1866600"/>
              <a:ext cx="228600" cy="4572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Картинка 5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286000"/>
            <a:ext cx="3200400" cy="243828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430" name="Picture 8" descr="Картинка 111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2286000"/>
            <a:ext cx="3224160" cy="241920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431" name="Picture 9" descr="Картинка 194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71800" y="2286000"/>
            <a:ext cx="3200400" cy="240840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432" name="Picture 18" descr="Картинка 225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71800" y="2286000"/>
            <a:ext cx="3200400" cy="244620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433" name="Picture 10" descr="Картинка 21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971800" y="2286000"/>
            <a:ext cx="3200400" cy="243828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01874E-006 L 0.275 -0.25538 E">
                                      <p:cBhvr>
                                        <p:cTn id="1012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72222E-006 4.90632E-006 L 0.27378 0.24566 E">
                                      <p:cBhvr>
                                        <p:cTn id="1022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20842E-006 L -0.275 -0.25538 E">
                                      <p:cBhvr>
                                        <p:cTn id="1032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4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0.00046 L -0.275 0.24381 E">
                                      <p:cBhvr>
                                        <p:cTn id="1042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6" descr="Картинка 19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286000"/>
            <a:ext cx="3200400" cy="243828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439" name="Picture 7" descr="Картинка 96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2286000"/>
            <a:ext cx="3200400" cy="243828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440" name="Picture 8" descr="Картинка 204 из 64000"/>
          <p:cNvPicPr/>
          <p:nvPr/>
        </p:nvPicPr>
        <p:blipFill>
          <a:blip r:embed="rId5"/>
          <a:stretch/>
        </p:blipFill>
        <p:spPr>
          <a:xfrm>
            <a:off x="2971800" y="2286000"/>
            <a:ext cx="3200400" cy="246204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441" name="Picture 9" descr="Картинка 64 из 64000"/>
          <p:cNvPicPr/>
          <p:nvPr/>
        </p:nvPicPr>
        <p:blipFill>
          <a:blip r:embed="rId6"/>
          <a:stretch/>
        </p:blipFill>
        <p:spPr>
          <a:xfrm>
            <a:off x="2971800" y="2286000"/>
            <a:ext cx="3200400" cy="243828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  <p:pic>
        <p:nvPicPr>
          <p:cNvPr id="442" name="Picture 11" descr="Картинка 14 из 64000"/>
          <p:cNvPicPr/>
          <p:nvPr/>
        </p:nvPicPr>
        <p:blipFill>
          <a:blip r:embed="rId7"/>
          <a:stretch/>
        </p:blipFill>
        <p:spPr>
          <a:xfrm>
            <a:off x="2971800" y="2286000"/>
            <a:ext cx="3200400" cy="2438280"/>
          </a:xfrm>
          <a:prstGeom prst="rect">
            <a:avLst/>
          </a:prstGeom>
          <a:ln w="9360">
            <a:solidFill>
              <a:srgbClr val="99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nodeType="clickEffect" fill="hold">
                      <p:stCondLst>
                        <p:cond delay="0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01874E-006 L -0.26667 -0.24427 E">
                                      <p:cBhvr>
                                        <p:cTn id="1062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7.54106E-007 L 0.26667 0.24428 E">
                                      <p:cBhvr>
                                        <p:cTn id="1072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-3.01874E-006 L -0.26667 0.24428 E">
                                      <p:cBhvr>
                                        <p:cTn id="1082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1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3.58085E-006 L 0.26667 -0.24428 E">
                                      <p:cBhvr>
                                        <p:cTn id="1092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1447920" y="1981080"/>
            <a:ext cx="7010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ро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окгород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овойгородищезагор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ишкопри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жанегор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городныйгорожа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447920" y="2057400"/>
            <a:ext cx="7391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род,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родок,  городской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родовой,  городище,  загор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родишко,  приго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рожане,  гор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городный,  горож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8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2" dur="2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1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2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380880" y="457200"/>
            <a:ext cx="8456400" cy="5981760"/>
            <a:chOff x="380880" y="457200"/>
            <a:chExt cx="8456400" cy="5981760"/>
          </a:xfrm>
        </p:grpSpPr>
        <p:grpSp>
          <p:nvGrpSpPr>
            <p:cNvPr id="446" name="Group 3"/>
            <p:cNvGrpSpPr/>
            <p:nvPr/>
          </p:nvGrpSpPr>
          <p:grpSpPr>
            <a:xfrm>
              <a:off x="609480" y="457200"/>
              <a:ext cx="8189640" cy="1104840"/>
              <a:chOff x="609480" y="457200"/>
              <a:chExt cx="8189640" cy="1104840"/>
            </a:xfrm>
          </p:grpSpPr>
          <p:sp>
            <p:nvSpPr>
              <p:cNvPr id="447" name="Line 4"/>
              <p:cNvSpPr/>
              <p:nvPr/>
            </p:nvSpPr>
            <p:spPr>
              <a:xfrm flipV="1">
                <a:off x="609480" y="557280"/>
                <a:ext cx="0" cy="903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5"/>
              <p:cNvSpPr/>
              <p:nvPr/>
            </p:nvSpPr>
            <p:spPr>
              <a:xfrm>
                <a:off x="609480" y="1461600"/>
                <a:ext cx="117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6"/>
              <p:cNvSpPr/>
              <p:nvPr/>
            </p:nvSpPr>
            <p:spPr>
              <a:xfrm flipH="1">
                <a:off x="2204640" y="1461600"/>
                <a:ext cx="1276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7"/>
              <p:cNvSpPr/>
              <p:nvPr/>
            </p:nvSpPr>
            <p:spPr>
              <a:xfrm flipH="1">
                <a:off x="5182920" y="1461600"/>
                <a:ext cx="1276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Group 8"/>
              <p:cNvGrpSpPr/>
              <p:nvPr/>
            </p:nvGrpSpPr>
            <p:grpSpPr>
              <a:xfrm>
                <a:off x="4013280" y="657720"/>
                <a:ext cx="637920" cy="803520"/>
                <a:chOff x="4013280" y="657720"/>
                <a:chExt cx="637920" cy="803520"/>
              </a:xfrm>
            </p:grpSpPr>
            <p:sp>
              <p:nvSpPr>
                <p:cNvPr id="452" name="Rectangle 9"/>
                <p:cNvSpPr/>
                <p:nvPr/>
              </p:nvSpPr>
              <p:spPr>
                <a:xfrm>
                  <a:off x="4013280" y="858600"/>
                  <a:ext cx="637920" cy="602640"/>
                </a:xfrm>
                <a:prstGeom prst="rect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10"/>
                <p:cNvSpPr/>
                <p:nvPr/>
              </p:nvSpPr>
              <p:spPr>
                <a:xfrm>
                  <a:off x="4225680" y="657720"/>
                  <a:ext cx="212400" cy="2008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54" name="i-main-pic" descr="Картинка 7 из 64000"/>
              <p:cNvPicPr/>
              <p:nvPr/>
            </p:nvPicPr>
            <p:blipFill>
              <a:blip r:embed="rId1"/>
              <a:stretch/>
            </p:blipFill>
            <p:spPr>
              <a:xfrm>
                <a:off x="6885360" y="457200"/>
                <a:ext cx="1485360" cy="105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Oval 12"/>
              <p:cNvSpPr/>
              <p:nvPr/>
            </p:nvSpPr>
            <p:spPr>
              <a:xfrm>
                <a:off x="8693640" y="1461600"/>
                <a:ext cx="105480" cy="100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13"/>
            <p:cNvGrpSpPr/>
            <p:nvPr/>
          </p:nvGrpSpPr>
          <p:grpSpPr>
            <a:xfrm>
              <a:off x="380880" y="1981080"/>
              <a:ext cx="8456400" cy="1943280"/>
              <a:chOff x="380880" y="1981080"/>
              <a:chExt cx="8456400" cy="1943280"/>
            </a:xfrm>
          </p:grpSpPr>
          <p:sp>
            <p:nvSpPr>
              <p:cNvPr id="457" name="Line 14"/>
              <p:cNvSpPr/>
              <p:nvPr/>
            </p:nvSpPr>
            <p:spPr>
              <a:xfrm flipH="1">
                <a:off x="1865880" y="3810240"/>
                <a:ext cx="137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8" name="Group 15"/>
              <p:cNvGrpSpPr/>
              <p:nvPr/>
            </p:nvGrpSpPr>
            <p:grpSpPr>
              <a:xfrm>
                <a:off x="380880" y="3124080"/>
                <a:ext cx="1028520" cy="685800"/>
                <a:chOff x="380880" y="3124080"/>
                <a:chExt cx="1028520" cy="685800"/>
              </a:xfrm>
            </p:grpSpPr>
            <p:sp>
              <p:nvSpPr>
                <p:cNvPr id="459" name="AutoShape 16"/>
                <p:cNvSpPr/>
                <p:nvPr/>
              </p:nvSpPr>
              <p:spPr>
                <a:xfrm>
                  <a:off x="380880" y="3581280"/>
                  <a:ext cx="228600" cy="22860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Rectangle 17"/>
                <p:cNvSpPr/>
                <p:nvPr/>
              </p:nvSpPr>
              <p:spPr>
                <a:xfrm>
                  <a:off x="723600" y="3124080"/>
                  <a:ext cx="685800" cy="685800"/>
                </a:xfrm>
                <a:prstGeom prst="rect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Line 18"/>
              <p:cNvSpPr/>
              <p:nvPr/>
            </p:nvSpPr>
            <p:spPr>
              <a:xfrm flipH="1">
                <a:off x="5752080" y="3810240"/>
                <a:ext cx="137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2" name="Picture 19" descr="MC900194186[1]"/>
              <p:cNvPicPr/>
              <p:nvPr/>
            </p:nvPicPr>
            <p:blipFill>
              <a:blip r:embed="rId2"/>
              <a:stretch/>
            </p:blipFill>
            <p:spPr>
              <a:xfrm>
                <a:off x="3695040" y="2895480"/>
                <a:ext cx="1596240" cy="96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3" name="Picture 20" descr="MC900308144[1]"/>
              <p:cNvPicPr/>
              <p:nvPr/>
            </p:nvPicPr>
            <p:blipFill>
              <a:blip r:embed="rId3"/>
              <a:stretch/>
            </p:blipFill>
            <p:spPr>
              <a:xfrm>
                <a:off x="7581240" y="1981080"/>
                <a:ext cx="657000" cy="18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Oval 21"/>
              <p:cNvSpPr/>
              <p:nvPr/>
            </p:nvSpPr>
            <p:spPr>
              <a:xfrm>
                <a:off x="8723880" y="3810240"/>
                <a:ext cx="113400" cy="114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22"/>
            <p:cNvGrpSpPr/>
            <p:nvPr/>
          </p:nvGrpSpPr>
          <p:grpSpPr>
            <a:xfrm>
              <a:off x="685800" y="4724280"/>
              <a:ext cx="8000640" cy="1714680"/>
              <a:chOff x="685800" y="4724280"/>
              <a:chExt cx="8000640" cy="1714680"/>
            </a:xfrm>
          </p:grpSpPr>
          <p:pic>
            <p:nvPicPr>
              <p:cNvPr id="466" name="Picture 23" descr="MCj04342270000[1]"/>
              <p:cNvPicPr/>
              <p:nvPr/>
            </p:nvPicPr>
            <p:blipFill>
              <a:blip r:embed="rId4"/>
              <a:stretch/>
            </p:blipFill>
            <p:spPr>
              <a:xfrm>
                <a:off x="7086600" y="4724280"/>
                <a:ext cx="1216800" cy="16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Line 24"/>
              <p:cNvSpPr/>
              <p:nvPr/>
            </p:nvSpPr>
            <p:spPr>
              <a:xfrm>
                <a:off x="685800" y="6338160"/>
                <a:ext cx="140004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25"/>
              <p:cNvSpPr/>
              <p:nvPr/>
            </p:nvSpPr>
            <p:spPr>
              <a:xfrm flipV="1">
                <a:off x="685800" y="5429880"/>
                <a:ext cx="0" cy="907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26"/>
              <p:cNvSpPr/>
              <p:nvPr/>
            </p:nvSpPr>
            <p:spPr>
              <a:xfrm>
                <a:off x="2485800" y="6338160"/>
                <a:ext cx="140004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27"/>
              <p:cNvSpPr/>
              <p:nvPr/>
            </p:nvSpPr>
            <p:spPr>
              <a:xfrm>
                <a:off x="5486400" y="6338160"/>
                <a:ext cx="140004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28"/>
              <p:cNvSpPr/>
              <p:nvPr/>
            </p:nvSpPr>
            <p:spPr>
              <a:xfrm>
                <a:off x="8586720" y="6338160"/>
                <a:ext cx="99720" cy="1008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2" name="Group 29"/>
              <p:cNvGrpSpPr/>
              <p:nvPr/>
            </p:nvGrpSpPr>
            <p:grpSpPr>
              <a:xfrm>
                <a:off x="4386240" y="5733000"/>
                <a:ext cx="600120" cy="605160"/>
                <a:chOff x="4386240" y="5733000"/>
                <a:chExt cx="600120" cy="605160"/>
              </a:xfrm>
            </p:grpSpPr>
            <p:sp>
              <p:nvSpPr>
                <p:cNvPr id="473" name="Rectangle 30"/>
                <p:cNvSpPr/>
                <p:nvPr/>
              </p:nvSpPr>
              <p:spPr>
                <a:xfrm>
                  <a:off x="4386240" y="5733000"/>
                  <a:ext cx="600120" cy="605160"/>
                </a:xfrm>
                <a:prstGeom prst="rect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AutoShape 31"/>
                <p:cNvSpPr/>
                <p:nvPr/>
              </p:nvSpPr>
              <p:spPr>
                <a:xfrm>
                  <a:off x="4586040" y="5934600"/>
                  <a:ext cx="199800" cy="20160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1" dur="2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3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609480" y="175248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г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В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Е т Н 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Г л Р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и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i="1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я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Я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Ф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Ч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7" dur="2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2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914400" y="220968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Франция   Германия   Шве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Венгрия   Италия   Анг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Финляндия   Чехия   Исп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9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3" dur="20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5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3"/>
          <p:cNvGrpSpPr/>
          <p:nvPr/>
        </p:nvGrpSpPr>
        <p:grpSpPr>
          <a:xfrm>
            <a:off x="1600200" y="762120"/>
            <a:ext cx="5934240" cy="5486400"/>
            <a:chOff x="1600200" y="762120"/>
            <a:chExt cx="5934240" cy="5486400"/>
          </a:xfrm>
        </p:grpSpPr>
        <p:pic>
          <p:nvPicPr>
            <p:cNvPr id="482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62120"/>
              <a:ext cx="59342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WordArt 5"/>
            <p:cNvSpPr txBox="1"/>
            <p:nvPr/>
          </p:nvSpPr>
          <p:spPr>
            <a:xfrm>
              <a:off x="4191120" y="2971800"/>
              <a:ext cx="1137960" cy="107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00"/>
                  </a:solidFill>
                  <a:latin typeface="Arial"/>
                </a:rPr>
                <a:t>М </a:t>
              </a:r>
              <a:endPara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  <a:ea typeface="Arial"/>
              </a:endParaRPr>
            </a:p>
          </p:txBody>
        </p:sp>
        <p:pic>
          <p:nvPicPr>
            <p:cNvPr id="484" name="Picture 6" descr="MC900414964[1]"/>
            <p:cNvPicPr/>
            <p:nvPr/>
          </p:nvPicPr>
          <p:blipFill>
            <a:blip r:embed="rId2"/>
            <a:stretch/>
          </p:blipFill>
          <p:spPr>
            <a:xfrm>
              <a:off x="5867280" y="4648320"/>
              <a:ext cx="1484280" cy="13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7" descr="MC900415336[1]"/>
            <p:cNvPicPr/>
            <p:nvPr/>
          </p:nvPicPr>
          <p:blipFill>
            <a:blip r:embed="rId3"/>
            <a:stretch/>
          </p:blipFill>
          <p:spPr>
            <a:xfrm>
              <a:off x="1828800" y="4800600"/>
              <a:ext cx="1608120" cy="10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8" descr="MC900194186[1]"/>
            <p:cNvPicPr/>
            <p:nvPr/>
          </p:nvPicPr>
          <p:blipFill>
            <a:blip r:embed="rId4"/>
            <a:stretch/>
          </p:blipFill>
          <p:spPr>
            <a:xfrm>
              <a:off x="1828800" y="1219320"/>
              <a:ext cx="165096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9" descr="MC900435777[1]"/>
            <p:cNvPicPr/>
            <p:nvPr/>
          </p:nvPicPr>
          <p:blipFill>
            <a:blip r:embed="rId5"/>
            <a:stretch/>
          </p:blipFill>
          <p:spPr>
            <a:xfrm>
              <a:off x="4038480" y="47246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10" descr="MC900414892[1]"/>
            <p:cNvPicPr/>
            <p:nvPr/>
          </p:nvPicPr>
          <p:blipFill>
            <a:blip r:embed="rId6"/>
            <a:stretch/>
          </p:blipFill>
          <p:spPr>
            <a:xfrm>
              <a:off x="5791320" y="1067040"/>
              <a:ext cx="1574640" cy="12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11" descr="MC900084484[1]"/>
            <p:cNvPicPr/>
            <p:nvPr/>
          </p:nvPicPr>
          <p:blipFill>
            <a:blip r:embed="rId7"/>
            <a:stretch/>
          </p:blipFill>
          <p:spPr>
            <a:xfrm>
              <a:off x="5715000" y="3048120"/>
              <a:ext cx="165096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12" descr="MP900433365[1]"/>
            <p:cNvPicPr/>
            <p:nvPr/>
          </p:nvPicPr>
          <p:blipFill>
            <a:blip r:embed="rId8"/>
            <a:stretch/>
          </p:blipFill>
          <p:spPr>
            <a:xfrm>
              <a:off x="3809880" y="1143000"/>
              <a:ext cx="160020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WordArt 13"/>
            <p:cNvSpPr txBox="1"/>
            <p:nvPr/>
          </p:nvSpPr>
          <p:spPr>
            <a:xfrm>
              <a:off x="2209680" y="3124440"/>
              <a:ext cx="7621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057400" y="35812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СК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057400" y="358128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СК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057400" y="12952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Р 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СС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057400" y="12952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СС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1371600" y="1295280"/>
            <a:ext cx="6400800" cy="4190760"/>
            <a:chOff x="1371600" y="1295280"/>
            <a:chExt cx="6400800" cy="4190760"/>
          </a:xfrm>
        </p:grpSpPr>
        <p:grpSp>
          <p:nvGrpSpPr>
            <p:cNvPr id="71" name="Group 7"/>
            <p:cNvGrpSpPr/>
            <p:nvPr/>
          </p:nvGrpSpPr>
          <p:grpSpPr>
            <a:xfrm>
              <a:off x="1600200" y="1295280"/>
              <a:ext cx="3132000" cy="4190760"/>
              <a:chOff x="1600200" y="1295280"/>
              <a:chExt cx="3132000" cy="4190760"/>
            </a:xfrm>
          </p:grpSpPr>
          <p:pic>
            <p:nvPicPr>
              <p:cNvPr id="72" name="Picture 8" descr="Картинка 152 из 14697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600200" y="1295280"/>
                <a:ext cx="3132000" cy="4190760"/>
              </a:xfrm>
              <a:prstGeom prst="rect">
                <a:avLst/>
              </a:prstGeom>
              <a:ln w="9360">
                <a:solidFill>
                  <a:srgbClr val="800000"/>
                </a:solidFill>
                <a:miter/>
              </a:ln>
            </p:spPr>
          </p:pic>
          <p:sp>
            <p:nvSpPr>
              <p:cNvPr id="73" name="WordArt 9"/>
              <p:cNvSpPr txBox="1"/>
              <p:nvPr/>
            </p:nvSpPr>
            <p:spPr>
              <a:xfrm rot="21054000">
                <a:off x="2582280" y="2895120"/>
                <a:ext cx="1454400" cy="1903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38160">
                      <a:solidFill>
                        <a:srgbClr val="ff0000"/>
                      </a:solidFill>
                      <a:miter/>
                    </a:ln>
                    <a:solidFill>
                      <a:srgbClr val="800000"/>
                    </a:solidFill>
                    <a:latin typeface="Arial"/>
                  </a:rPr>
                  <a:t>О</a:t>
                </a:r>
                <a:endParaRPr b="0" lang="en-US" sz="1800" spc="1" strike="noStrike">
                  <a:ln w="38160">
                    <a:solidFill>
                      <a:srgbClr val="ff0000"/>
                    </a:solidFill>
                    <a:miter/>
                  </a:ln>
                  <a:solidFill>
                    <a:srgbClr val="800000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74" name="WordArt 10"/>
            <p:cNvSpPr txBox="1"/>
            <p:nvPr/>
          </p:nvSpPr>
          <p:spPr>
            <a:xfrm>
              <a:off x="1371600" y="3124080"/>
              <a:ext cx="990360" cy="15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Р</a:t>
              </a:r>
              <a:endParaRPr b="0" lang="en-US" sz="7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  <p:sp>
          <p:nvSpPr>
            <p:cNvPr id="75" name="WordArt 11"/>
            <p:cNvSpPr txBox="1"/>
            <p:nvPr/>
          </p:nvSpPr>
          <p:spPr>
            <a:xfrm>
              <a:off x="4267080" y="3124080"/>
              <a:ext cx="3505320" cy="15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ССИЯ</a:t>
              </a:r>
              <a:endParaRPr b="0" lang="en-US" sz="7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11"/>
          <p:cNvGrpSpPr/>
          <p:nvPr/>
        </p:nvGrpSpPr>
        <p:grpSpPr>
          <a:xfrm>
            <a:off x="838080" y="304920"/>
            <a:ext cx="5410440" cy="6400800"/>
            <a:chOff x="838080" y="304920"/>
            <a:chExt cx="5410440" cy="6400800"/>
          </a:xfrm>
        </p:grpSpPr>
        <p:pic>
          <p:nvPicPr>
            <p:cNvPr id="77" name="Picture 5" descr="Картинка 165 из 3734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838080" y="304920"/>
              <a:ext cx="5410440" cy="6400800"/>
            </a:xfrm>
            <a:prstGeom prst="rect">
              <a:avLst/>
            </a:prstGeom>
            <a:ln w="12600">
              <a:solidFill>
                <a:srgbClr val="000099"/>
              </a:solidFill>
              <a:miter/>
            </a:ln>
          </p:spPr>
        </p:pic>
        <p:grpSp>
          <p:nvGrpSpPr>
            <p:cNvPr id="78" name="Group 10"/>
            <p:cNvGrpSpPr/>
            <p:nvPr/>
          </p:nvGrpSpPr>
          <p:grpSpPr>
            <a:xfrm>
              <a:off x="2666880" y="2819520"/>
              <a:ext cx="3505320" cy="685800"/>
              <a:chOff x="2666880" y="2819520"/>
              <a:chExt cx="3505320" cy="685800"/>
            </a:xfrm>
          </p:grpSpPr>
          <p:sp>
            <p:nvSpPr>
              <p:cNvPr id="79" name="WordArt 7"/>
              <p:cNvSpPr txBox="1"/>
              <p:nvPr/>
            </p:nvSpPr>
            <p:spPr>
              <a:xfrm>
                <a:off x="2666880" y="2819520"/>
                <a:ext cx="576360" cy="667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</a:t>
                </a:r>
                <a:endParaRPr b="0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80" name="WordArt 8"/>
              <p:cNvSpPr txBox="1"/>
              <p:nvPr/>
            </p:nvSpPr>
            <p:spPr>
              <a:xfrm>
                <a:off x="3352680" y="2819520"/>
                <a:ext cx="685800" cy="685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О</a:t>
                </a:r>
                <a:endParaRPr b="0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81" name="WordArt 9"/>
              <p:cNvSpPr txBox="1"/>
              <p:nvPr/>
            </p:nvSpPr>
            <p:spPr>
              <a:xfrm>
                <a:off x="4114800" y="2819520"/>
                <a:ext cx="2057400" cy="662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СКВА</a:t>
                </a:r>
                <a:endParaRPr b="0" lang="en-US" sz="6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8"/>
          <p:cNvGrpSpPr/>
          <p:nvPr/>
        </p:nvGrpSpPr>
        <p:grpSpPr>
          <a:xfrm>
            <a:off x="838080" y="1288800"/>
            <a:ext cx="7696080" cy="3701160"/>
            <a:chOff x="838080" y="1288800"/>
            <a:chExt cx="7696080" cy="3701160"/>
          </a:xfrm>
        </p:grpSpPr>
        <p:sp>
          <p:nvSpPr>
            <p:cNvPr id="83" name="Text Box 4"/>
            <p:cNvSpPr/>
            <p:nvPr/>
          </p:nvSpPr>
          <p:spPr>
            <a:xfrm>
              <a:off x="838080" y="1295280"/>
              <a:ext cx="7696080" cy="369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</a:rPr>
                <a:t>СТО - ЛИ - ЦА</a:t>
              </a: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</a:rPr>
                <a:t>       хХх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</a:rPr>
                <a:t>РОС - СИ - Я            хХх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Times New Roman"/>
                </a:rPr>
                <a:t>МОС - КВА               хХ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 rot="3903000">
              <a:off x="3839760" y="1264680"/>
              <a:ext cx="230040" cy="44316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6"/>
            <p:cNvSpPr/>
            <p:nvPr/>
          </p:nvSpPr>
          <p:spPr>
            <a:xfrm rot="3903000">
              <a:off x="3763800" y="2484360"/>
              <a:ext cx="230040" cy="4428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7"/>
            <p:cNvSpPr/>
            <p:nvPr/>
          </p:nvSpPr>
          <p:spPr>
            <a:xfrm rot="3903000">
              <a:off x="4449600" y="3779640"/>
              <a:ext cx="230040" cy="4428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-114480" y="5126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14480" y="2674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-112680" y="2674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-112680" y="5704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Картинка 110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762120"/>
            <a:ext cx="4748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743200" y="2286000"/>
            <a:ext cx="39625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3 м - 62 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 13 д - 50 к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895480" y="2438280"/>
            <a:ext cx="3353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МВ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СА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06-05T09:29:52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