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C0C-7502-4878-8E48-5A6E3A60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A5B-C810-4498-8BC6-4407429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778-42DE-446A-BE46-9B62D3DE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879-CCFB-4355-8058-F4A39595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EB8-D868-4076-8FE9-90E900F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27B-FDBB-485A-AE3D-55BAEE9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5D3-C117-4A75-9908-69F8865C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8DA-7CF1-420C-81F8-B36102B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67F-88C6-4876-A302-101F304C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D32-5EA2-48F4-B40B-12576E0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309-A085-4BCF-926F-4000BFE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54D-979F-4957-972E-DD3B34F8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44D5-0F18-42F5-8CE8-154DBAFB8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Bookman Old Style"/>
              </a:rPr>
              <a:t>История религий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903400" y="155736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нязь Влади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гале 005"/>
          <p:cNvPicPr/>
          <p:nvPr/>
        </p:nvPicPr>
        <p:blipFill>
          <a:blip r:embed="rId1"/>
          <a:stretch/>
        </p:blipFill>
        <p:spPr>
          <a:xfrm>
            <a:off x="2700360" y="1413000"/>
            <a:ext cx="38527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ревня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img1.jpg"/>
          <p:cNvPicPr/>
          <p:nvPr/>
        </p:nvPicPr>
        <p:blipFill>
          <a:blip r:embed="rId1"/>
          <a:srcRect l="25053" t="16427" r="20384" b="4763"/>
          <a:stretch/>
        </p:blipFill>
        <p:spPr>
          <a:xfrm>
            <a:off x="2484360" y="1268280"/>
            <a:ext cx="4248360" cy="5146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6740280" y="2556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усуль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5513760" y="4613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иу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146240" y="46944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ристи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ещение князя Владимира</a:t>
            </a:r>
            <a:br>
              <a:rPr sz="40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988г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68280" y="1197000"/>
            <a:ext cx="66247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13:52Z</dcterms:modified>
  <cp:revision>32</cp:revision>
  <dc:subject/>
  <dc:title>История Московского Кремля  (Из серии «100 великих замков»)</dc:title>
</cp:coreProperties>
</file>