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553-7924-48F0-9543-C8006A0A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3D3-AAD6-475C-A1C5-541B61C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679-9DFA-43B3-86A7-A9A9C780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65D-60FF-49B5-BBB6-0FD79AEF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D34-5C50-4F72-ADE5-8430411E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B74-CBC4-43BE-A29F-EFD0B08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6F9-0C86-4F60-99B2-283FE22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A08-6E6D-48FB-B27F-EF79E4E6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D59-F465-47FE-8EEB-5560FDE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ABB-D40F-4700-A9F9-CE5B61D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F0C-2CDF-4218-8406-F00BF71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FB2-C66A-45E2-A471-7FAE2DF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9cc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80F-182C-45C8-BF51-6A5C4FE2B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Bookman Old Style"/>
              </a:rPr>
              <a:t>История религий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903400" y="155736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нязь Влади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гале 005"/>
          <p:cNvPicPr/>
          <p:nvPr/>
        </p:nvPicPr>
        <p:blipFill>
          <a:blip r:embed="rId1"/>
          <a:stretch/>
        </p:blipFill>
        <p:spPr>
          <a:xfrm>
            <a:off x="2700360" y="1413000"/>
            <a:ext cx="38527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ревня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img1.jpg"/>
          <p:cNvPicPr/>
          <p:nvPr/>
        </p:nvPicPr>
        <p:blipFill>
          <a:blip r:embed="rId1"/>
          <a:srcRect l="25053" t="16427" r="20384" b="4763"/>
          <a:stretch/>
        </p:blipFill>
        <p:spPr>
          <a:xfrm>
            <a:off x="2484360" y="1268280"/>
            <a:ext cx="4248360" cy="5146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6740280" y="2556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мусуль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5513760" y="4613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иу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146240" y="46944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ристи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ещение князя Владимира</a:t>
            </a:r>
            <a:br>
              <a:rPr sz="40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988г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68280" y="1197000"/>
            <a:ext cx="66247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20:30Z</dcterms:created>
  <dc:creator>Мама</dc:creator>
  <dc:description/>
  <dc:language>en-US</dc:language>
  <cp:lastModifiedBy>Microsoft</cp:lastModifiedBy>
  <dcterms:modified xsi:type="dcterms:W3CDTF">2019-06-05T18:13:52Z</dcterms:modified>
  <cp:revision>32</cp:revision>
  <dc:subject/>
  <dc:title>История Московского Кремля  (Из серии «100 великих замков»)</dc:title>
</cp:coreProperties>
</file>