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261-0932-4B0D-905C-951EC98F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84A-76FA-4538-B504-AF9B612E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242-47F7-45A9-A050-5059897D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FA6-E0DD-4949-91AA-41A2770E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D52-C0F1-48DA-9D30-E7D596F8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E79-7330-44AC-9BA3-26580C16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AC6-C929-4309-8195-D707ABDD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0B7-9423-4BAC-B25F-746EDD7B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840-800C-43D7-8EDB-DBB31417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1F6-693D-4311-AF9F-3C7D5BC4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113-FB59-45C1-87C8-3B7D2DF6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2F7-A5B8-4568-9AAB-94796156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F1F3-96FA-42B7-8B20-A0778F15C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ebedev_baptis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ещение киевлян. 988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5" descr="320px-Lebedev_bapti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628640"/>
            <a:ext cx="6969240" cy="49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Созданы первые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x_17ac9eb8.jpg"/>
          <p:cNvPicPr/>
          <p:nvPr/>
        </p:nvPicPr>
        <p:blipFill>
          <a:blip r:embed="rId1"/>
          <a:srcRect l="2440" t="1661" r="1183" b="0"/>
          <a:stretch/>
        </p:blipFill>
        <p:spPr>
          <a:xfrm>
            <a:off x="1403280" y="1601640"/>
            <a:ext cx="64818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1040" y="274320"/>
            <a:ext cx="837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Начиналась славянская письм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rcRect l="0" t="2373" r="0" b="4127"/>
          <a:stretch/>
        </p:blipFill>
        <p:spPr>
          <a:xfrm>
            <a:off x="299880" y="1413000"/>
            <a:ext cx="8534520" cy="4182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426240" y="6021360"/>
            <a:ext cx="82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тые Кирилл и Мефодий переводят церковные книги на славянски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оявление летопис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"/>
          <p:cNvPicPr/>
          <p:nvPr/>
        </p:nvPicPr>
        <p:blipFill>
          <a:blip r:embed="rId1"/>
          <a:srcRect l="0" t="7754" r="0" b="0"/>
          <a:stretch/>
        </p:blipFill>
        <p:spPr>
          <a:xfrm>
            <a:off x="755640" y="1241280"/>
            <a:ext cx="7632720" cy="528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rcRect l="2516" t="11703" r="64348" b="12043"/>
          <a:stretch/>
        </p:blipFill>
        <p:spPr>
          <a:xfrm>
            <a:off x="755640" y="1130400"/>
            <a:ext cx="34560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7:20:30Z</dcterms:created>
  <dc:creator>Мама</dc:creator>
  <dc:description/>
  <dc:language>en-US</dc:language>
  <cp:lastModifiedBy>Microsoft</cp:lastModifiedBy>
  <dcterms:modified xsi:type="dcterms:W3CDTF">2019-06-05T18:15:42Z</dcterms:modified>
  <cp:revision>32</cp:revision>
  <dc:subject/>
  <dc:title>История Московского Кремля  (Из серии «100 великих замков»)</dc:title>
</cp:coreProperties>
</file>