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E5C-2CE8-4CCC-84ED-A610543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1C7-DCEE-41E7-80F0-1F8F861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DFB-BF26-4348-9950-C6297B4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FC2-5278-4FE7-9AE6-9DFAFEFA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021-C5C5-4945-8B5A-6F31580A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EF2-85DC-4DF9-9759-122681D9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D89-CF7B-49AA-98D7-8CF1A806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AE5-8D7F-4D1B-9E91-B8A6CD0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5D8-DC0D-4FAF-B21B-380B537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7AC-B376-4DD4-93FD-01EBA09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D70-47B2-4E00-B757-29575B40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004-8760-4260-9FC5-BBA5294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6C73-1995-4E2D-B7ED-BD4E7B018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ebedev_baptis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ещение киевлян. 98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5" descr="320px-Lebedev_bapti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628640"/>
            <a:ext cx="6969240" cy="49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озданы первые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x_17ac9eb8.jpg"/>
          <p:cNvPicPr/>
          <p:nvPr/>
        </p:nvPicPr>
        <p:blipFill>
          <a:blip r:embed="rId1"/>
          <a:srcRect l="2440" t="1661" r="1183" b="0"/>
          <a:stretch/>
        </p:blipFill>
        <p:spPr>
          <a:xfrm>
            <a:off x="1403280" y="1601640"/>
            <a:ext cx="64818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1040" y="2743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Начиналась славянская письм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rcRect l="0" t="2373" r="0" b="4127"/>
          <a:stretch/>
        </p:blipFill>
        <p:spPr>
          <a:xfrm>
            <a:off x="299880" y="1413000"/>
            <a:ext cx="8534520" cy="4182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26240" y="6021360"/>
            <a:ext cx="82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ые Кирилл и Мефодий переводят церковные книги на славян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оявление летопи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1"/>
          <a:srcRect l="0" t="7754" r="0" b="0"/>
          <a:stretch/>
        </p:blipFill>
        <p:spPr>
          <a:xfrm>
            <a:off x="755640" y="1241280"/>
            <a:ext cx="7632720" cy="528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rcRect l="2516" t="11703" r="64348" b="12043"/>
          <a:stretch/>
        </p:blipFill>
        <p:spPr>
          <a:xfrm>
            <a:off x="755640" y="1130400"/>
            <a:ext cx="3456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Microsoft</cp:lastModifiedBy>
  <dcterms:modified xsi:type="dcterms:W3CDTF">2019-06-05T18:15:42Z</dcterms:modified>
  <cp:revision>32</cp:revision>
  <dc:subject/>
  <dc:title>История Московского Кремля  (Из серии «100 великих замков»)</dc:title>
</cp:coreProperties>
</file>