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9BD-764D-4454-823B-B5717316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8DE-0500-4219-8D93-93107396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F5D6E-3D71-473B-A2C4-4A381DE6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382A5-945A-4912-A8C3-45366EBB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9F2AF-4EC9-4F49-97B3-D8E6795C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2D588-66F1-4CAE-95FE-63BEB014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D6270-9F52-452A-A619-A43A3D87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2120B-3764-41C6-9E48-F0924D22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22AB5-EE44-4E4D-870C-49C85A31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3F5D0-E8AB-43DE-BFC9-C728085B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66721-0457-46EA-8509-C12E4BF0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6E94C-9934-458B-A75F-3CAB1AE2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C45-FEBC-4C1C-89DF-E68AFEEB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DB76F-358C-4232-BE23-8789392F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04FA8-1E4D-4DAE-A430-E80A40B6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74A82-945B-4686-B0D0-86D36F76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B512D-0164-4C56-B1BF-BEE4205B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D1DC5-37FD-476D-8A36-C3328337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0F445-6BE5-4A85-9251-FF83B580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26585-1905-417F-8E30-F52C7A56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85380-BC49-460D-90C8-A8EFA2B5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DA6B1-6A02-4C89-9E36-A4D36CD7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8B313-7153-485D-A41E-9F92EA99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67F-6AF0-4CD4-B93D-29E11B74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CCB6B-737B-43A7-A4C0-F8B318E1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422BC-29F6-4728-9603-9AE64ABA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273E2-3F21-45B5-B822-2F5F55BD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D6828-2643-45AB-A264-4AE1E366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B76DB-F654-4844-842D-4E66A8CB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6B7B6-304C-47D2-A234-36CC3F18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443E0-C9D0-44EF-88F6-EDBDE4DB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52EEB-16D5-4676-87D4-59EA0634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6C475-0320-4057-B106-0A5F745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93AF7-AAFD-4771-BD55-D9A6685A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2743-84F0-4A6C-83D7-ACF5FA75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8EC58-4350-42D8-A4D8-568A8637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F9FFC-8EF2-418F-98DD-97C18FEF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D007D-D172-493E-B0E8-D5E3835B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0E543-744C-4C79-B943-31D6C358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C966A-FD3D-463C-9243-ED1C3575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8C88E-D4F8-40B2-B3C5-B73F262A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CA461-BF17-45EB-A0E5-34601881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1EA27-C55C-43B7-A06E-64F52371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40DE6-2C26-4EA2-8AE5-B9DCA02D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4F791-9465-4AD7-9392-8FB15199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BF3F-31C6-407E-B9D4-68CBFC25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9F7E9-6CF3-479E-A8E2-4BD70C9D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D6FEC-5A77-49BA-BAC6-C26B81CC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A09D4-2C6C-4507-899A-941C86BA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399A7-F723-415F-A528-43640D53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6DE17-70E9-4B7E-83D0-F4DB6D5B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D33F2-E734-43DA-9D01-56CFBFD1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B7A59-28DB-4408-82CF-0B9539BD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790F6-51FC-42A1-8AEE-AE68E3B9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E4550-0D57-4C5E-8CFA-8CFDB5FF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4396A-45AE-4D7C-8876-3127AF8F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1758-4B86-49F4-876D-02503183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BC1C5-ABDA-4E8A-B6DA-88F941A3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55D99-A752-41FA-A765-D034F390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E207C-ADC9-4F93-ACCF-C0AB0B94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BFF36-EEDE-4405-A729-3D86B736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66E13-915F-41BE-9FB4-E4845EB8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610CD-FB2F-4853-BA10-64B0ECF7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F860F-3654-4DC1-A18C-0CBD9B6E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D46CF-6176-4EFE-B0FE-646832E8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F9996-64BE-41CE-8731-7547DC68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EBB77-0043-4E95-AEBF-A48D1608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D2F2-12CE-479F-AB73-6E5BD6C0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BD247-E028-4497-A0C2-8AA4DBC2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EA5F5-9E71-41E2-9ECA-DACD8D19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201A3-9D1F-448E-8DC7-B65C0D85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9F750-D0A3-4D24-976C-167234AA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BADEA-A15E-4C87-BEA6-441C358F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2D159-D863-405E-AFF5-9B366853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A1A1FA-8853-41BE-98EC-41B1C362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16063-2B86-4F4F-B12E-B758DBEC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5F9F8-246F-497A-A963-E5078BAB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ED07-26C9-47B4-A325-A20E3A19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867A-86BA-45E3-9755-71CE800B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E509-3C01-4F14-A3EF-921E8E12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98F-12EA-438B-8B32-A4854E66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C325-5373-48F6-A931-31876993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0095-426E-4033-8153-5CC76BA9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D38D-8946-420D-85FC-66681FDD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A0A8-2EE0-4BD4-B7C4-931543E5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70C9-3C35-4E7B-B86C-7643934E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6893-4233-474E-9755-AE861553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24DE-EA19-4FEA-A0ED-F35AF114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A199C-A3DA-47CD-BF19-1E0A4762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E477-4E19-4311-B49E-FF98677B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DD7F-0141-4975-BC1F-BCB4D294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BD1-D703-4663-9F3D-7C682047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7D9B7-5E49-4913-B1FB-75B6F75C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4E20-5210-46CE-A5E7-62948C97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6A5E-9F05-4410-A48D-99449F3C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4C232-CEEA-413F-9DE0-B1E072C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1DB66-8DEB-46C6-A2C7-B6965430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9C23F-32B0-40FA-912C-6FBBBE27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0A02-62AB-4C81-9AEB-671CBE04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5307F-046A-4F2F-B6A8-F09ACDAE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C9DC6-C309-486D-BF56-6CED62C3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178C9-EE80-4259-A3FA-46B5521D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FA3-4BC0-4717-A306-0E8615FA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917D5-8945-4C1F-B403-A6A08733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A6F88-9940-443A-977D-14CB259A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5A644-35D6-4EDA-B977-9BCF7026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E046A-00A5-4B74-BBEE-BDF00320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CCE7-7052-4596-A7D0-554D810C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87F48-03AC-4D8D-8058-7D0DEE69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E20D-55BB-43E4-ABC8-30C4CD0C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D269-C204-4499-8161-63CF84A3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F2FF9-0538-44C5-B8A3-5EE45825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87DAC-2F56-426C-A0D8-50E83BB9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2BB-C9B0-404B-BFEF-5748B30D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8AD38-6D8D-41ED-97DC-241868CD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40FB6-481A-4FF8-BA56-B4F04AE0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3B6E5-EC42-4F9E-B30A-0BD967E2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869DA-3A50-4135-936F-977D68BB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880EB-07FA-47F9-AF95-4FB29FCD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C801F-B8B0-481D-A368-FBC2D33D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FB23C-CEC0-4F20-BF1D-4B84CBBB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FA7B3-7EF1-456D-B240-3C3A53D5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4AAB9-1023-49EC-851C-73930422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6519A-08A7-4CCB-83BB-D5F9D6E0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586-FDC8-4A80-A9DE-6A1F89DF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15EBA-6338-4F98-9502-71F0F51D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DE2C2-F800-4082-8903-F7E9B6BD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91808-1201-458D-8224-7415FBAC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97A78-9707-4675-A433-3D48D94E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FD824-52DE-4F31-9D5B-FF0C7151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1DA69-3179-477A-832B-2552CD9F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2769B-06AA-49A2-BC73-5B6C32CC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6A8D8-50F5-45FD-A23B-C193850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59C7C-70A0-41A1-9269-7C59D6AE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E4E6D-BCF9-411D-B91E-BCF18D58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26C-F1BB-46BC-ABD5-9EE8D245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0701E-B73F-466B-B78A-1314AA67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B96A7-18FA-4EAA-A7A3-CD0ACE99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193EA-75A9-4EBF-94A5-00965D91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860DC-AE11-4904-A3A7-FA225F76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21DE3-8A79-4155-BDDA-A00F2B48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EB792-A594-4A52-8C28-4FD87F87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70E29-35D7-4B16-8659-BD927777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99215-1D6D-4926-B738-A6A1A5D0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669CC-1973-492C-81EF-4BE73066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198F7-00F6-4E1B-A87C-5E921C1B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B5D-17F0-43E1-B58B-26BB1A81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3BF1D-53B1-467F-8F6F-351CEFDF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BD296-0A4C-4B8B-B167-382EDD6B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975F8-BC39-42AB-9055-74AEC512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77517-F316-4771-A9F2-EDC01DDF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8A8CB-1F3B-4D56-92F9-9895F1A4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52183-AAE0-4297-B912-5DE1CB57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27444-AA05-43B1-81CD-91809197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7F7E1-1FD8-43DF-9C6A-B9A9FF5B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01FE5-6B38-475B-838A-D069DB30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A2DDC-9A59-40D6-8594-148C0BAA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9DC-6C23-4ED6-A0E8-C4D72325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E85F7-3662-45F9-A420-8D1CD4CA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E6566-0843-4ED0-93E8-A7C3E2C8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77AA4-CF93-4AC1-90C0-DEF3CAE2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D46F5-AF48-43C7-B4A2-9B43C53D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83732-6B29-4620-8CD6-8101EF2B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F7768-6671-496D-88ED-E056E6BE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B9814-F238-4C3A-8B4F-90A4010F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5FF43-1B3C-4058-A82A-BA5DEEC1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369C1-934A-4A8B-96FB-C9405914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2F5E2-ECC3-46B5-9C08-57E21208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B617-BFE2-4E8D-B01D-6CFF3ADDE4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7880-A5AC-4B18-9324-0C637E79591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E8AD-C1CB-4116-A543-708EFEAB37B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9B5F-320A-4F80-AF4E-B3EFCF6D078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9F99-2FAF-4F12-889F-D33C46EEA6E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7950-2B13-4940-8C89-704DC4BCF4B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9B3B-2CA9-48B6-890A-BAFB99BD8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F3AA-1D17-4479-AFEA-14AA8D1779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028C-3898-482C-8E8F-4DEDC93CB4F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44FF-A865-4125-8B28-447A8548D41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1B45-61D8-4D52-864C-4121552E749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42CC-14F9-4ED8-A281-2A73675CA78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71E5-4A60-4139-9A3A-4895E361066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599A-6FE2-4726-8CF9-AEACC4DD1F4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Построены первые хра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3" descr="E:\ОРКСЭ\2012-2013\публикация\800px-Saint_Sophia_Cathedral_in_Novgorod_1.jpg"/>
          <p:cNvPicPr/>
          <p:nvPr/>
        </p:nvPicPr>
        <p:blipFill>
          <a:blip r:embed="rId1"/>
          <a:stretch/>
        </p:blipFill>
        <p:spPr>
          <a:xfrm>
            <a:off x="250920" y="1484280"/>
            <a:ext cx="4289400" cy="28623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E:\ОРКСЭ\2012-2013\публикация\sofiyskiy_sobor1s.jpg"/>
          <p:cNvPicPr/>
          <p:nvPr/>
        </p:nvPicPr>
        <p:blipFill>
          <a:blip r:embed="rId2"/>
          <a:stretch/>
        </p:blipFill>
        <p:spPr>
          <a:xfrm>
            <a:off x="4788000" y="3141720"/>
            <a:ext cx="4041720" cy="3021120"/>
          </a:xfrm>
          <a:prstGeom prst="rect">
            <a:avLst/>
          </a:prstGeom>
          <a:ln w="0">
            <a:noFill/>
          </a:ln>
        </p:spPr>
      </p:pic>
      <p:sp>
        <p:nvSpPr>
          <p:cNvPr id="577" name="Прямоугольник 4"/>
          <p:cNvSpPr/>
          <p:nvPr/>
        </p:nvSpPr>
        <p:spPr>
          <a:xfrm>
            <a:off x="4927680" y="2565360"/>
            <a:ext cx="37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йский собор в Кие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5"/>
          <p:cNvSpPr/>
          <p:nvPr/>
        </p:nvSpPr>
        <p:spPr>
          <a:xfrm>
            <a:off x="201960" y="45100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йский собор в Нов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Особая роль монастыр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E:\ОРКСЭ\2012-2013\публикация\prpSerg02.jpg"/>
          <p:cNvPicPr/>
          <p:nvPr/>
        </p:nvPicPr>
        <p:blipFill>
          <a:blip r:embed="rId1"/>
          <a:stretch/>
        </p:blipFill>
        <p:spPr>
          <a:xfrm>
            <a:off x="636480" y="1454040"/>
            <a:ext cx="2881440" cy="4497480"/>
          </a:xfrm>
          <a:prstGeom prst="rect">
            <a:avLst/>
          </a:prstGeom>
          <a:ln w="0">
            <a:noFill/>
          </a:ln>
        </p:spPr>
      </p:pic>
      <p:sp>
        <p:nvSpPr>
          <p:cNvPr id="581" name="TextBox 3"/>
          <p:cNvSpPr/>
          <p:nvPr/>
        </p:nvSpPr>
        <p:spPr>
          <a:xfrm>
            <a:off x="795600" y="611172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гий Радонеж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8" descr="E:\ОРКСЭ\2012-2013\публикация\Рисунок3.jpg"/>
          <p:cNvPicPr/>
          <p:nvPr/>
        </p:nvPicPr>
        <p:blipFill>
          <a:blip r:embed="rId2"/>
          <a:stretch/>
        </p:blipFill>
        <p:spPr>
          <a:xfrm>
            <a:off x="3851280" y="2924280"/>
            <a:ext cx="5114880" cy="2992320"/>
          </a:xfrm>
          <a:prstGeom prst="rect">
            <a:avLst/>
          </a:prstGeom>
          <a:ln w="0">
            <a:noFill/>
          </a:ln>
        </p:spPr>
      </p:pic>
      <p:sp>
        <p:nvSpPr>
          <p:cNvPr id="583" name="TextBox 5"/>
          <p:cNvSpPr/>
          <p:nvPr/>
        </p:nvSpPr>
        <p:spPr>
          <a:xfrm>
            <a:off x="4192920" y="220500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ице-Сергиев монасты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ая соединительная линия 10"/>
          <p:cNvSpPr/>
          <p:nvPr/>
        </p:nvSpPr>
        <p:spPr>
          <a:xfrm flipH="1">
            <a:off x="1115640" y="6013440"/>
            <a:ext cx="142920" cy="1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ая соединительная линия 13"/>
          <p:cNvSpPr/>
          <p:nvPr/>
        </p:nvSpPr>
        <p:spPr>
          <a:xfrm flipH="1">
            <a:off x="2017800" y="6013440"/>
            <a:ext cx="17784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0180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7030a0"/>
                </a:solidFill>
                <a:latin typeface="Calibri"/>
              </a:rPr>
              <a:t>Преподобный Сергий Радонежский благословляет Дмитрия Донского на битву с Мама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C:\Users\Ленчик\Desktop\529840c001ab (1).jpg"/>
          <p:cNvPicPr/>
          <p:nvPr/>
        </p:nvPicPr>
        <p:blipFill>
          <a:blip r:embed="rId1"/>
          <a:stretch/>
        </p:blipFill>
        <p:spPr>
          <a:xfrm>
            <a:off x="2556000" y="260280"/>
            <a:ext cx="39607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ачало книгопечатания на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8" descr="E:\ОРКСЭ\2012-2013\публикация\fedorov.jpg"/>
          <p:cNvPicPr/>
          <p:nvPr/>
        </p:nvPicPr>
        <p:blipFill>
          <a:blip r:embed="rId1"/>
          <a:srcRect l="0" t="0" r="0" b="21429"/>
          <a:stretch/>
        </p:blipFill>
        <p:spPr>
          <a:xfrm>
            <a:off x="528480" y="2060640"/>
            <a:ext cx="3611880" cy="38876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E:\ОРКСЭ\2012-2013\публикация\apostol.jpg"/>
          <p:cNvPicPr/>
          <p:nvPr/>
        </p:nvPicPr>
        <p:blipFill>
          <a:blip r:embed="rId2"/>
          <a:srcRect l="3126" t="3569" r="3126" b="5357"/>
          <a:stretch/>
        </p:blipFill>
        <p:spPr>
          <a:xfrm>
            <a:off x="4356000" y="2384280"/>
            <a:ext cx="4448160" cy="3240360"/>
          </a:xfrm>
          <a:prstGeom prst="rect">
            <a:avLst/>
          </a:prstGeom>
          <a:ln w="0">
            <a:noFill/>
          </a:ln>
        </p:spPr>
      </p:pic>
      <p:sp>
        <p:nvSpPr>
          <p:cNvPr id="591" name="TextBox 4"/>
          <p:cNvSpPr/>
          <p:nvPr/>
        </p:nvSpPr>
        <p:spPr>
          <a:xfrm>
            <a:off x="192600" y="1557360"/>
            <a:ext cx="50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русский книгопечатник Иван Фёд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5259600" y="594684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ечат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Появление иконо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икона"/>
          <p:cNvPicPr/>
          <p:nvPr/>
        </p:nvPicPr>
        <p:blipFill>
          <a:blip r:embed="rId1"/>
          <a:srcRect l="10018" t="0" r="10750" b="0"/>
          <a:stretch/>
        </p:blipFill>
        <p:spPr>
          <a:xfrm>
            <a:off x="1314360" y="1916280"/>
            <a:ext cx="2719440" cy="38178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гале 010"/>
          <p:cNvPicPr/>
          <p:nvPr/>
        </p:nvPicPr>
        <p:blipFill>
          <a:blip r:embed="rId2"/>
          <a:stretch/>
        </p:blipFill>
        <p:spPr>
          <a:xfrm>
            <a:off x="6227640" y="1484280"/>
            <a:ext cx="16542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 Black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итрополит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шее почетное звание. Стоял во главе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"/>
          <p:cNvSpPr/>
          <p:nvPr/>
        </p:nvSpPr>
        <p:spPr>
          <a:xfrm>
            <a:off x="1117440" y="595152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трополит Мак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Рисунок 1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876760" cy="36576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2"/>
          <a:stretch/>
        </p:blipFill>
        <p:spPr>
          <a:xfrm>
            <a:off x="4500720" y="1873080"/>
            <a:ext cx="3608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 txBox="1"/>
          <p:nvPr/>
        </p:nvSpPr>
        <p:spPr>
          <a:xfrm>
            <a:off x="248760" y="5732280"/>
            <a:ext cx="40388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атриарх Гермог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Подзаголовок 4" descr=""/>
          <p:cNvPicPr/>
          <p:nvPr/>
        </p:nvPicPr>
        <p:blipFill>
          <a:blip r:embed="rId2"/>
          <a:stretch/>
        </p:blipFill>
        <p:spPr>
          <a:xfrm>
            <a:off x="469800" y="1054080"/>
            <a:ext cx="6838920" cy="7509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E:\ОРКСЭ\2012-2013\публикация\f_svl2.jpg"/>
          <p:cNvPicPr/>
          <p:nvPr/>
        </p:nvPicPr>
        <p:blipFill>
          <a:blip r:embed="rId3"/>
          <a:stretch/>
        </p:blipFill>
        <p:spPr>
          <a:xfrm>
            <a:off x="971640" y="2133720"/>
            <a:ext cx="2592360" cy="3294000"/>
          </a:xfrm>
          <a:prstGeom prst="rect">
            <a:avLst/>
          </a:prstGeom>
          <a:ln w="0">
            <a:noFill/>
          </a:ln>
        </p:spPr>
      </p:pic>
      <p:pic>
        <p:nvPicPr>
          <p:cNvPr id="605" name="Рисунок 3" descr=""/>
          <p:cNvPicPr/>
          <p:nvPr/>
        </p:nvPicPr>
        <p:blipFill>
          <a:blip r:embed="rId4"/>
          <a:stretch/>
        </p:blipFill>
        <p:spPr>
          <a:xfrm>
            <a:off x="4067280" y="1889280"/>
            <a:ext cx="4645080" cy="3538440"/>
          </a:xfrm>
          <a:prstGeom prst="rect">
            <a:avLst/>
          </a:prstGeom>
          <a:ln w="0">
            <a:noFill/>
          </a:ln>
        </p:spPr>
      </p:pic>
      <p:sp>
        <p:nvSpPr>
          <p:cNvPr id="606" name="TextBox 5"/>
          <p:cNvSpPr/>
          <p:nvPr/>
        </p:nvSpPr>
        <p:spPr>
          <a:xfrm>
            <a:off x="5445000" y="57294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н и Пожа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инод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ой России: высшее учреждение, управляющее православной церковью.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18 ве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Рисунок 1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124520" cy="524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7:20:30Z</dcterms:created>
  <dc:creator>Мама</dc:creator>
  <dc:description/>
  <dc:language>en-US</dc:language>
  <cp:lastModifiedBy>Microsoft</cp:lastModifiedBy>
  <dcterms:modified xsi:type="dcterms:W3CDTF">2019-06-05T18:06:58Z</dcterms:modified>
  <cp:revision>31</cp:revision>
  <dc:subject/>
  <dc:title>История Московского Кремля  (Из серии «100 великих замков»)</dc:title>
</cp:coreProperties>
</file>