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E19-E976-4386-8542-54F4D71A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8D1-B414-47E1-9B00-7A156876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893E5-5177-4FDB-8F41-EA1821A7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0BB89-1B3C-443C-A92D-29C8AAB3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91621-E1DB-4F3F-A63E-3C7FF350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D6C00-77E1-4B62-884E-43F95461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D9E12-C3E6-4D8D-8713-DF9F6777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6721E-EE36-48D8-96B4-08A54EFB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D6F2E-1159-4500-9C43-356B6019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B513C-A97E-4061-818B-BE929A55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C7AF5-AB00-4FF0-9EFC-62E6EF8B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1242B-6284-4317-96ED-98F56495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775-58CB-4AE6-BB0D-070771CB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C13A8-C3C1-4338-8B85-32C78E0D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DECE1-7DF2-4632-BDCD-BA8ED96D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741C5-A279-484C-9A91-40411DA6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88D63-52D7-4060-AF4B-62D92819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118B3-D793-4F74-97D9-ECA65FD9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39377-EE5C-4260-ACB3-120EECC5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B9985-95BE-4039-BFC2-0640859B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B8B4B-8328-48FF-B1FD-DC3C193B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5126A-B6C9-4442-ADE9-D8F60217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55F54-B4C0-467A-A65B-8A8AFA97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F4D-48CC-44E2-A09E-9057EEE9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C63D7-61E1-4273-B778-B17C0B7A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73726-A9C5-4B02-955C-4046A616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0AEF4-ABE0-4B07-8970-852C9CBD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A2A6B-4CD4-4C27-9D5D-51FC5333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7BD05-7B40-4F0E-ABB4-BCB11E3B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4C2AC-B4B1-4B22-903F-5DC7BC3D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B097B-0557-4DA3-8957-EFE02E41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C4A9E-B2CB-4D97-BF42-8348A40E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9C621-1BCA-4964-B523-AACBA52C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C79F6-D71D-4FF7-96C9-0400FE60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E9FE-FC59-4321-8745-7C431DE6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05E29-160B-4130-8D8A-BB87C6C7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4CA69-B1F8-44DF-B878-B0640312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0555A-A15E-4738-A807-82FEA9DB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78856-240A-4633-A5FA-5F19FBCC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850ED-0A91-4DF1-8859-8F7C2CC8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BAEB3-71C9-4C12-B4B1-CDBB9F1B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4F9DF-D66D-4EA2-A58F-FA06B33C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A6BDF-1A11-496E-BD89-08C657AA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70A8E-413D-4278-A44F-AC3B7B42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52D05-D4F6-4A95-89ED-82215B3C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A6FD-BE82-4E8E-A0BC-05C78778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3C70A-3E78-4E18-A9C5-2B6A05AD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7D1A5-3058-4B5F-9F29-826316D5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ACB30-7FB5-4361-A2CE-0E9CD9B9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7F9B2-7B4B-4277-9D9C-933561C6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9D7BC-3748-4AAE-B7B5-658FEA4C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E22F3-142E-4265-AF0C-CFD581C0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54468-6946-4894-8BDF-81AB60CF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02412-BABD-4196-9F92-E401F2A6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DA23A-DFF3-4D1F-828C-92D77387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70BF1-106F-4879-A540-F831FC95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79BD-846E-4FED-A992-EDDA8974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E9ACF-78D8-4B82-A12B-272F6869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8166B-CC21-41B4-BC9B-5585240D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4994A-70DB-497A-9731-35CEC15A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5DE3F-D896-4120-AD2C-B5CDACF4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864CF-9D30-4E1E-8294-760149C3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4B157-7631-42FE-A19F-1D1B88ED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DAFAC-1E4C-4C2E-9982-E93A7054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FD966-12DD-4C76-83F3-2EC75E08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D04EF-7BC4-45AE-9A9D-AB6E3DC7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4C21C-0414-44EA-BB84-ECC25D2B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E9A6-1AA6-4416-87C4-BF3DCA6B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C5AB5-09B8-40BA-9B0E-940B439F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2210E-5DC7-44BA-B626-5419FCF5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CA401-1701-4A0E-B3DA-E9C6860F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3F53E-4AFE-4BCB-9E4F-1270EB3D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B86877-169A-414A-B692-C33A8830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4A110-FD36-4B3A-8291-63C411CE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5A3B0-DFFE-4CF1-BAAD-1505CC37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8204C0-FB98-47CB-BDCA-72D3BA55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31A09A-176B-44C0-8188-35E4E5ED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4F2E-A2F4-4A5D-BFC8-272C00F6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FB12-34EC-49BA-A09A-BE925EE7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0630-B12B-4DAA-B7BA-C220D673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749-2E89-43BE-B8E1-BC60383F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CDB7-7273-4672-865D-A82E76C9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0FFD-1ACA-4A79-AD05-3FCCB876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ACC7-88DB-4B91-B7E3-A5343D16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0929-F5CF-44D1-95A8-61CC98D7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1331-3BE2-4314-93C4-F81428D7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E69B0-5C13-4F0F-92D7-41696558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E689-2383-4894-A432-93FF73C6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DC9E0-A575-4826-80D4-CAA15194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59905-6E26-4707-A7CF-C3D19687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64D0F-C34B-4EC2-B422-B7019C7A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8EB-52BF-45ED-B8EC-35558413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9FB0B-A523-49DC-870D-74AF82A1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88E50-5B0D-484B-907C-7185FA07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3EF79-1BEF-4627-9F33-4D1A172A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2FF07-ADB4-4B4C-B4CA-DACA7974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8B4D-E5CC-40C8-A63C-4297BDA8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7171-ACE3-486F-9C67-7723ED07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AE671-D013-4628-866A-1BD0E8DF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F77BF-28F3-4473-A31C-F8FD5F79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5C7D1-2C60-4973-8AD3-5D43DCEA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86C4C-62B1-4892-BC35-1E22B14C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EC6-637F-450F-95F4-5C63D4BB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45821-3820-4156-93BF-14D1D3B1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91819-69FF-474F-89CA-FBFC2F9F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09982-A3EE-44E2-9A39-12CDA886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81636-7787-4FDB-9106-B14A5E38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6057F-950E-4092-8C9B-4155717A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2C448-6C23-480F-820D-0E5CF7F8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1DE6-CA9B-4B81-AAAE-85678B4A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0ECC5-88D0-4826-B704-4DFB851D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0924C-6868-482C-956F-0AEC4806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CE82D-5A54-4DD4-8F28-448D0D1E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60E-3E61-4EC7-A831-5FACA405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226FB-5A51-4067-BDF6-9456826F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10DEF-370C-42C0-A9E4-0C8A8945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48694-B3B9-423F-ADC4-9D9ED8AC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31607-F90C-4314-8A90-7D2DFFE7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F6705-0005-4B3F-B96A-CCCBF343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F06E4-5D95-4CD8-8C00-E2DD91CA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58A6A-71F8-439C-86EB-732C3D0D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836A7-5477-4BC7-AFA1-C0F5210B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1CE06-9FE5-4B00-B32B-699E4977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43758-3EDE-468C-B9D6-0C835512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457-E7EB-4216-BA70-694B6E72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CB732-C81C-4E9A-915B-A6AE606C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CE094-2B6C-47DB-B391-BF7B04AA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D88B9-DE38-470E-BA76-F5EEAAF1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5049A-9C8B-4C60-A36E-D247918B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C0589-89D0-4B13-9460-7A665131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BD1E8-6F25-41A8-B5B5-D7700A0D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6C135-8218-4872-B85B-E16DFDE7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305BE-A003-49A3-9A78-7884ACF8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50F7B-F9AC-4D81-8F05-4366617E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392EF-9795-46CB-B47F-C2BAFA36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F31-B472-4E80-99D0-E20A458F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5CB34-6C26-4E57-B777-D4948C73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D5744-D7CC-40B7-B70C-5A31673C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BEE40-4F43-400A-A85D-A85B7872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6358E-0D37-4FF0-9903-8DB1F52D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0C28E-7638-42C9-A23D-93786945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94D7E-6E27-4197-8A24-63631D51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E6438-78C6-457D-B7F5-10B3BD8D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B5901-1D0D-45BA-B345-A78F9270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AC454-1406-4F51-BE90-06C0B768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147F2-C12E-490C-B83D-D7A1C23D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BA79-E481-4114-95FA-CDACBE1B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66014-BB0E-4E89-A879-2E90EEC7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A6581-9A90-4BDA-A4A6-63554341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80708-09ED-4CF3-A5AA-C66BC8BD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44477-FF3F-46C9-AB2F-6D65835C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597BD-BA7C-4505-B5AA-135EE030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EAAFF-4DF3-4395-94E5-DFF2BC51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D6135-772B-4876-904F-168899A7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82EE9-0BE3-422C-9D81-B9907506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99413-B67D-461B-AE4D-30D64643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C1C26-0C64-4636-B88C-4A08A8BC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A35-32D2-4D81-87CD-ECA49809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83EB8-3B15-45D2-A14A-6C9848CE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795B8-0B40-442E-B6BD-D82F64D5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E5128-94AF-421A-93FD-D31DAA60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83B8E-379B-4C4D-908D-44888E71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CF5EF-DF6B-4AEF-8B64-7619284D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5A190-5DDE-4F19-81C8-F5E0D19D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C6FE4-A53B-4E0A-A826-5ED04001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DC375-16A8-4404-87EF-85E16A91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66CF0-CCFF-4D67-B2AF-E518C454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8E0EE-E67F-4442-9F0D-B18B6476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956C-6C63-4FAD-A77B-78CDD74D69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54BF-83A7-4870-A51F-A70DF109DF4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2473-B74A-4F04-8590-3D00CD789B4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C5BA-6FBB-451E-B8D6-C179477D8A3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9122-D366-4D2F-B4C0-F7F39037D2C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2DD9-BCA2-49B3-8205-1A0A80B8D2D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A7AB-A070-40F4-BE99-327E1C8242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03AA-D739-4FE1-8AB6-A95468EAA0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61B2-9E97-451E-83E0-DCE8E1C904C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3E63-E918-4A0A-AA9C-EBDF9CE479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C5D9-2FC7-43BC-BA1C-841C907B04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28DA-87F2-48E8-8616-5A30027997E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27B1-9F33-41B7-AA42-3EADEB45300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A299-A259-4051-B61E-69F222C14A9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Построены первые хра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3" descr="E:\ОРКСЭ\2012-2013\публикация\800px-Saint_Sophia_Cathedral_in_Novgorod_1.jpg"/>
          <p:cNvPicPr/>
          <p:nvPr/>
        </p:nvPicPr>
        <p:blipFill>
          <a:blip r:embed="rId1"/>
          <a:stretch/>
        </p:blipFill>
        <p:spPr>
          <a:xfrm>
            <a:off x="250920" y="1484280"/>
            <a:ext cx="4289400" cy="28623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2" descr="E:\ОРКСЭ\2012-2013\публикация\sofiyskiy_sobor1s.jpg"/>
          <p:cNvPicPr/>
          <p:nvPr/>
        </p:nvPicPr>
        <p:blipFill>
          <a:blip r:embed="rId2"/>
          <a:stretch/>
        </p:blipFill>
        <p:spPr>
          <a:xfrm>
            <a:off x="4788000" y="3141720"/>
            <a:ext cx="4041720" cy="3021120"/>
          </a:xfrm>
          <a:prstGeom prst="rect">
            <a:avLst/>
          </a:prstGeom>
          <a:ln w="0">
            <a:noFill/>
          </a:ln>
        </p:spPr>
      </p:pic>
      <p:sp>
        <p:nvSpPr>
          <p:cNvPr id="577" name="Прямоугольник 4"/>
          <p:cNvSpPr/>
          <p:nvPr/>
        </p:nvSpPr>
        <p:spPr>
          <a:xfrm>
            <a:off x="4927680" y="2565360"/>
            <a:ext cx="37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йский собор в Кие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5"/>
          <p:cNvSpPr/>
          <p:nvPr/>
        </p:nvSpPr>
        <p:spPr>
          <a:xfrm>
            <a:off x="201960" y="451008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йский собор в Нов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Особая роль монастыр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6" descr="E:\ОРКСЭ\2012-2013\публикация\prpSerg02.jpg"/>
          <p:cNvPicPr/>
          <p:nvPr/>
        </p:nvPicPr>
        <p:blipFill>
          <a:blip r:embed="rId1"/>
          <a:stretch/>
        </p:blipFill>
        <p:spPr>
          <a:xfrm>
            <a:off x="636480" y="1454040"/>
            <a:ext cx="2881440" cy="4497480"/>
          </a:xfrm>
          <a:prstGeom prst="rect">
            <a:avLst/>
          </a:prstGeom>
          <a:ln w="0">
            <a:noFill/>
          </a:ln>
        </p:spPr>
      </p:pic>
      <p:sp>
        <p:nvSpPr>
          <p:cNvPr id="581" name="TextBox 3"/>
          <p:cNvSpPr/>
          <p:nvPr/>
        </p:nvSpPr>
        <p:spPr>
          <a:xfrm>
            <a:off x="795600" y="611172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гий Радонеж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8" descr="E:\ОРКСЭ\2012-2013\публикация\Рисунок3.jpg"/>
          <p:cNvPicPr/>
          <p:nvPr/>
        </p:nvPicPr>
        <p:blipFill>
          <a:blip r:embed="rId2"/>
          <a:stretch/>
        </p:blipFill>
        <p:spPr>
          <a:xfrm>
            <a:off x="3851280" y="2924280"/>
            <a:ext cx="5114880" cy="2992320"/>
          </a:xfrm>
          <a:prstGeom prst="rect">
            <a:avLst/>
          </a:prstGeom>
          <a:ln w="0">
            <a:noFill/>
          </a:ln>
        </p:spPr>
      </p:pic>
      <p:sp>
        <p:nvSpPr>
          <p:cNvPr id="583" name="TextBox 5"/>
          <p:cNvSpPr/>
          <p:nvPr/>
        </p:nvSpPr>
        <p:spPr>
          <a:xfrm>
            <a:off x="4192920" y="220500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ице-Сергиев монасты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ая соединительная линия 10"/>
          <p:cNvSpPr/>
          <p:nvPr/>
        </p:nvSpPr>
        <p:spPr>
          <a:xfrm flipH="1">
            <a:off x="1115640" y="6013440"/>
            <a:ext cx="142920" cy="15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ая соединительная линия 13"/>
          <p:cNvSpPr/>
          <p:nvPr/>
        </p:nvSpPr>
        <p:spPr>
          <a:xfrm flipH="1">
            <a:off x="2017800" y="6013440"/>
            <a:ext cx="177840" cy="1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0180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7030a0"/>
                </a:solidFill>
                <a:latin typeface="Calibri"/>
              </a:rPr>
              <a:t>Преподобный Сергий Радонежский благословляет Дмитрия Донского на битву с Мама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C:\Users\Ленчик\Desktop\529840c001ab (1).jpg"/>
          <p:cNvPicPr/>
          <p:nvPr/>
        </p:nvPicPr>
        <p:blipFill>
          <a:blip r:embed="rId1"/>
          <a:stretch/>
        </p:blipFill>
        <p:spPr>
          <a:xfrm>
            <a:off x="2556000" y="260280"/>
            <a:ext cx="39607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Начало книгопечатания на Р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8" descr="E:\ОРКСЭ\2012-2013\публикация\fedorov.jpg"/>
          <p:cNvPicPr/>
          <p:nvPr/>
        </p:nvPicPr>
        <p:blipFill>
          <a:blip r:embed="rId1"/>
          <a:srcRect l="0" t="0" r="0" b="21429"/>
          <a:stretch/>
        </p:blipFill>
        <p:spPr>
          <a:xfrm>
            <a:off x="528480" y="2060640"/>
            <a:ext cx="3611880" cy="38876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E:\ОРКСЭ\2012-2013\публикация\apostol.jpg"/>
          <p:cNvPicPr/>
          <p:nvPr/>
        </p:nvPicPr>
        <p:blipFill>
          <a:blip r:embed="rId2"/>
          <a:srcRect l="3126" t="3569" r="3126" b="5357"/>
          <a:stretch/>
        </p:blipFill>
        <p:spPr>
          <a:xfrm>
            <a:off x="4356000" y="2384280"/>
            <a:ext cx="4448160" cy="3240360"/>
          </a:xfrm>
          <a:prstGeom prst="rect">
            <a:avLst/>
          </a:prstGeom>
          <a:ln w="0">
            <a:noFill/>
          </a:ln>
        </p:spPr>
      </p:pic>
      <p:sp>
        <p:nvSpPr>
          <p:cNvPr id="591" name="TextBox 4"/>
          <p:cNvSpPr/>
          <p:nvPr/>
        </p:nvSpPr>
        <p:spPr>
          <a:xfrm>
            <a:off x="192600" y="1557360"/>
            <a:ext cx="50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русский книгопечатник Иван Фёд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5259600" y="594684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печатная 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Появление иконо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икона"/>
          <p:cNvPicPr/>
          <p:nvPr/>
        </p:nvPicPr>
        <p:blipFill>
          <a:blip r:embed="rId1"/>
          <a:srcRect l="10018" t="0" r="10750" b="0"/>
          <a:stretch/>
        </p:blipFill>
        <p:spPr>
          <a:xfrm>
            <a:off x="1314360" y="1916280"/>
            <a:ext cx="2719440" cy="38178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8" descr="гале 010"/>
          <p:cNvPicPr/>
          <p:nvPr/>
        </p:nvPicPr>
        <p:blipFill>
          <a:blip r:embed="rId2"/>
          <a:stretch/>
        </p:blipFill>
        <p:spPr>
          <a:xfrm>
            <a:off x="6227640" y="1484280"/>
            <a:ext cx="16542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 Black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итрополит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шее почетное звание. Стоял во главе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1"/>
          <p:cNvSpPr/>
          <p:nvPr/>
        </p:nvSpPr>
        <p:spPr>
          <a:xfrm>
            <a:off x="1117440" y="595152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трополит Мак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Рисунок 1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2876760" cy="36576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"/>
          <p:cNvPicPr/>
          <p:nvPr/>
        </p:nvPicPr>
        <p:blipFill>
          <a:blip r:embed="rId2"/>
          <a:stretch/>
        </p:blipFill>
        <p:spPr>
          <a:xfrm>
            <a:off x="4500720" y="1873080"/>
            <a:ext cx="3608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 txBox="1"/>
          <p:nvPr/>
        </p:nvSpPr>
        <p:spPr>
          <a:xfrm>
            <a:off x="248760" y="5732280"/>
            <a:ext cx="40388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атриарх Гермог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Подзаголовок 4" descr=""/>
          <p:cNvPicPr/>
          <p:nvPr/>
        </p:nvPicPr>
        <p:blipFill>
          <a:blip r:embed="rId2"/>
          <a:stretch/>
        </p:blipFill>
        <p:spPr>
          <a:xfrm>
            <a:off x="469800" y="1054080"/>
            <a:ext cx="6838920" cy="7509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E:\ОРКСЭ\2012-2013\публикация\f_svl2.jpg"/>
          <p:cNvPicPr/>
          <p:nvPr/>
        </p:nvPicPr>
        <p:blipFill>
          <a:blip r:embed="rId3"/>
          <a:stretch/>
        </p:blipFill>
        <p:spPr>
          <a:xfrm>
            <a:off x="971640" y="2133720"/>
            <a:ext cx="2592360" cy="3294000"/>
          </a:xfrm>
          <a:prstGeom prst="rect">
            <a:avLst/>
          </a:prstGeom>
          <a:ln w="0">
            <a:noFill/>
          </a:ln>
        </p:spPr>
      </p:pic>
      <p:pic>
        <p:nvPicPr>
          <p:cNvPr id="605" name="Рисунок 3" descr=""/>
          <p:cNvPicPr/>
          <p:nvPr/>
        </p:nvPicPr>
        <p:blipFill>
          <a:blip r:embed="rId4"/>
          <a:stretch/>
        </p:blipFill>
        <p:spPr>
          <a:xfrm>
            <a:off x="4067280" y="1889280"/>
            <a:ext cx="4645080" cy="3538440"/>
          </a:xfrm>
          <a:prstGeom prst="rect">
            <a:avLst/>
          </a:prstGeom>
          <a:ln w="0">
            <a:noFill/>
          </a:ln>
        </p:spPr>
      </p:pic>
      <p:sp>
        <p:nvSpPr>
          <p:cNvPr id="606" name="TextBox 5"/>
          <p:cNvSpPr/>
          <p:nvPr/>
        </p:nvSpPr>
        <p:spPr>
          <a:xfrm>
            <a:off x="5445000" y="57294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н и Пожа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инод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арой России: высшее учреждение, управляющее православной церковью.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18 ве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Рисунок 1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124520" cy="524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7:20:30Z</dcterms:created>
  <dc:creator>Мама</dc:creator>
  <dc:description/>
  <dc:language>en-US</dc:language>
  <cp:lastModifiedBy>Microsoft</cp:lastModifiedBy>
  <dcterms:modified xsi:type="dcterms:W3CDTF">2019-06-05T18:06:58Z</dcterms:modified>
  <cp:revision>31</cp:revision>
  <dc:subject/>
  <dc:title>История Московского Кремля  (Из серии «100 великих замков»)</dc:title>
</cp:coreProperties>
</file>