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90E-97FD-4092-B6FB-996B4B0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6EA-EFF6-4433-A822-CB0F6FA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9CB-9FF0-49EE-BC6D-03157CA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8EE-31B5-413C-9E28-54E6A5D0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E25-E649-4766-AF14-382165A0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9F0-47D5-4157-BC7D-FDB7CCE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475-884B-47E3-89EC-7275263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7FF-25E6-45F4-8FEF-0C092F0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B33-C965-489A-956C-8D65620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D71-A706-4697-9973-0E4F251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745-D829-4562-8B61-74C2CCD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414-C581-4D8A-BEFD-651FB27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328-CD02-4E74-ABE4-C74771C1D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catalog/" TargetMode="External"/><Relationship Id="rId3" Type="http://schemas.openxmlformats.org/officeDocument/2006/relationships/hyperlink" Target="http://metodist.lbz.ru/iumk/files/hwwfcior.pdf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2b776069-458b-4a83-b9e5-ed436b2b66e4/%5BNS-RUS_2-04%5D_%5BTQ_073%5D.html" TargetMode="External"/><Relationship Id="rId2" Type="http://schemas.openxmlformats.org/officeDocument/2006/relationships/hyperlink" Target="http://files.school-collection.edu.ru/dlrstore/2b776069-458b-4a83-b9e5-ed436b2b66e4/%5BNS-RUS_2-04%5D_%5BTQ_073%5D.html" TargetMode="External"/><Relationship Id="rId3" Type="http://schemas.openxmlformats.org/officeDocument/2006/relationships/hyperlink" Target="http://files.school-collection.edu.ru/dlrstore/b2d500bb-fd89-4a87-b9df-8d5126c01fd1/%5BNS-RUS_2-04%5D_%5BIM_072%5D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80614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курсовой подготовки в  форме стажиров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цесса в начальной школе с использованием электронных образователь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ТОГОВ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Презентация новых профессиональных возможностей  и их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56000" y="5157720"/>
            <a:ext cx="658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43280" y="5300640"/>
            <a:ext cx="41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рага Наталья Вениаминовна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У СОШ № 10 Г.о. Подо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773360"/>
          <a:ext cx="9144000" cy="3981240"/>
        </p:xfrm>
        <a:graphic>
          <a:graphicData uri="http://schemas.openxmlformats.org/drawingml/2006/table">
            <a:tbl>
              <a:tblPr/>
              <a:tblGrid>
                <a:gridCol w="324000"/>
                <a:gridCol w="3671640"/>
                <a:gridCol w="2664000"/>
                <a:gridCol w="1512720"/>
                <a:gridCol w="971640"/>
              </a:tblGrid>
              <a:tr h="15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ятся на группы, каждая группа составляет рассказ по заданной иллюстрации,  находит в своих предложениях имена существительные, определяют их известные морфологические призна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защищают свои рабо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групповую работу с иллюстрациями. Предлагает составить рассказ по картинке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ой группе защитить свою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ация иллюстраций на интерактивной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ывают имена существительные, указывают морфологические признаки, проверяют записи на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ать имена существительные, указать род, число, собственное или нарицательно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проверку на интерактивной дос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сновной  этап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дачи: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1. Формирование знаний, отношений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, опыта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 Разрешение интеллектуального затруднения  (находится ответ на проблемный вопрос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1628640"/>
          <a:ext cx="8964720" cy="4753080"/>
        </p:xfrm>
        <a:graphic>
          <a:graphicData uri="http://schemas.openxmlformats.org/drawingml/2006/table">
            <a:tbl>
              <a:tblPr/>
              <a:tblGrid>
                <a:gridCol w="317520"/>
                <a:gridCol w="3600360"/>
                <a:gridCol w="2611440"/>
                <a:gridCol w="1482840"/>
                <a:gridCol w="952560"/>
              </a:tblGrid>
              <a:tr h="151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2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интерактивной доске выводится карточка с заданием, группа слов (все части речи). Дети выбирают только имена существительные, объясняют свой выбор, называют признаки имен существительных, проверяют работу друг друга, объясняют, доказывают свою точку з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работу с карточками, задание: из предложенной группы слов выбрать имена существительные, указать их признаки, известные ученикам, составить пред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активная дос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ps://nsportal.ru/nachalnaya-shkola/russkii-yazyk/2013/08/29/raznourovnevye-zadaniya-po-russkomu-yazy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. Дети анализируют свою работу, рассказывают, кому было на уроке трудно, что нужно сделать, чтобы преодолеть тру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организует рефлексивную деятельность, задает домашнее задание, подводит итог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5843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Творческий этап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дачи: 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Первичное закрепление знаний, отношений, действий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а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2.Повышение уровня формируемых знаний на основе применения разноуровневых и творческих заданий. </a:t>
            </a:r>
            <a:br>
              <a:rPr sz="25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ация 1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пецифика  коллекций ЕКЦОР и ФЦИОР, возможность использования ресурсов  коллекций в образовательном процессе начальной школы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14240" y="1628640"/>
          <a:ext cx="7715520" cy="4959360"/>
        </p:xfrm>
        <a:graphic>
          <a:graphicData uri="http://schemas.openxmlformats.org/drawingml/2006/table">
            <a:tbl>
              <a:tblPr/>
              <a:tblGrid>
                <a:gridCol w="3105360"/>
                <a:gridCol w="46101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кол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и использования  ресурсов ЕКЦОР и ФЦИ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 ЕКЦ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school-collection.edu.r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school-collection.edu.ru/catalo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ЕКЦОР используются всеми участниками образовательного процесса, доступна для массового пользователя. Коллекция характеризуется наглядным, удобным для работы программным обеспечением, понятным и наглядным интерфейс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 ФЦИ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портала ФЦИОР для системы общего и начального профессионального образования содержат материалы, специально разработанные для школников с целью поддержки освоение учебных предметов, включая самостоятельную работу. Это электронные учебные модули трех типов: информационные, практические, контроль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metodist.lbz.ru/iumk/files/hwwfcior.p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ация 2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Разноуровневые задания для учащихся начальной школы»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4360" y="874800"/>
          <a:ext cx="8713800" cy="5402160"/>
        </p:xfrm>
        <a:graphic>
          <a:graphicData uri="http://schemas.openxmlformats.org/drawingml/2006/table">
            <a:tbl>
              <a:tblPr/>
              <a:tblGrid>
                <a:gridCol w="2338200"/>
                <a:gridCol w="3470400"/>
                <a:gridCol w="29052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ни усвоения предметного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 действий обучающихся, отражающие  их индивидуальные дост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 разноуровневых заданий для учащихся, используемые  для выявления уровня сформированных результатов ЕКЦОР , ФЦИ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гипер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ологич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ающийся получает знания, имеет представления и понятия, узнает и называет объекты и явления по их признакам, оперирует фактами, классифицирует и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files.school-collection.edu.ru/dlrstore/2b776069-458b-4a83-b9e5-ed436b2b66e4/%5BNS-RUS_2-04%5D_%5BTQ_073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те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оизводит информацию с элементами анализа и синтеза, сравнивает, проводит аналогии, устанавливает ассоциации, приводит прим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files.school-collection.edu.ru/dlrstore/2b776069-458b-4a83-b9e5-ed436b2b66e4/%5BNS-RUS_2-04%5D_%5BTQ_073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аза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деляет признаки объектов и явлений, использует знания для работы по ранее усвоенному образцу, устанавливает причинно-следственные связ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files.school-collection.edu.ru/dlrstore/b2d500bb-fd89-4a87-b9df-8d5126c01fd1/%5BNS-RUS_2-04%5D_%5BIM_072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уществляет продуктивную деятельность, связанную с использованием усвоенной информации для поиска новых путей выполнения заданий, решения учебных проблем, самостоятельно решает творческий задачи в разных предметных област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files.school-collection.edu.ru/dlrstore/64a77282-2cf6-4d76-8cb7-dc54cc11814f/%5BNS-RUS_2-04%5D_%5BIM_075%5D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я 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ехнологическая карта уро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1628640"/>
          <a:ext cx="7632720" cy="4587840"/>
        </p:xfrm>
        <a:graphic>
          <a:graphicData uri="http://schemas.openxmlformats.org/drawingml/2006/table">
            <a:tbl>
              <a:tblPr/>
              <a:tblGrid>
                <a:gridCol w="2098800"/>
                <a:gridCol w="3144960"/>
                <a:gridCol w="238896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120" rIns="114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 этап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апта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аптировать учащихся к деятельности на уроках, выявление предварительных знаний обучаю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е, беседа, наблюд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УУД, знаний, умений, опыта, решение учебных зада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е, наглядные, практические, с использованием ЭО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ение знаний, действий, опыта с помощью творческих зад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, опыт, практические и лабораторные работы, конструирование, моделир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жерские площадки образовательных организаций №1,2,3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7840" y="692280"/>
          <a:ext cx="8265960" cy="6035400"/>
        </p:xfrm>
        <a:graphic>
          <a:graphicData uri="http://schemas.openxmlformats.org/drawingml/2006/table">
            <a:tbl>
              <a:tblPr/>
              <a:tblGrid>
                <a:gridCol w="1471320"/>
                <a:gridCol w="2308320"/>
                <a:gridCol w="2174760"/>
                <a:gridCol w="231156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 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мотренный материал (опыт, представленный О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я, умения, опыт, приобретенные в процессе  ознакомления с представленн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ы использования знаний, умений и опыта в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Лицей Г. Дед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а О.В.: Коспект урока русского языка во 2 классе. Праздник «Азбука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ортова Л.А.: Презентация «Портфоли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карина Е.В.: Гимнастика для ума. Сценарий праздника посвященный 9 мая.\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В.Коленко Разработки уро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отрела вариант оформления портфолио, узнала новую информацию о функциях интерактивной дос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ю практику применения интерактивной доски. Фрагменты праздника «Азбука ПДД» можно применять  при проведении классных часов. Задание с «ловушками» внесет разнообразие в уро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Фруктовская СОШ Луховиц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ова Т.Н.: Окружающий мир. Все профессии важ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ина Г.Г.: Окружающий мир. Лес и челов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ила для себя, как составляется технологическая карта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 в практике  некоторые фрагменты уроков: загадки о профессиях, задание «Собери пословицы», физ. минутку «Новый дом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Зверосовхозская СОШ Пушкинского  муниципального рай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рева С.П.: Письмо строчной буквы ч, сочетаний ча-ч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ёдорова Р.Ю.: Окружающий мир. Из чего что сдела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ри использовании И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тельно,  что учитель выходит на тему, задачи, цели урока в соавторстве с деть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использование технологической карты урока помогают максимально эффективно провести ур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йшее использование полученного опыта в свое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ские площадки учителей №1,2,3</a:t>
            </a:r>
            <a:br>
              <a:rPr sz="2400"/>
            </a:b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7440" y="357120"/>
          <a:ext cx="8429400" cy="5303880"/>
        </p:xfrm>
        <a:graphic>
          <a:graphicData uri="http://schemas.openxmlformats.org/drawingml/2006/table">
            <a:tbl>
              <a:tblPr/>
              <a:tblGrid>
                <a:gridCol w="1500120"/>
                <a:gridCol w="2143080"/>
                <a:gridCol w="2428920"/>
                <a:gridCol w="2357280"/>
              </a:tblGrid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О уч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 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енный материал (опыт, представленный О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умения, опыт, приобретенные в процессе  ознакомления с представленным материал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спективы использования знаний, умений и опыта в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В. Гросул МОУ СОШ №27 г.о. Балаши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азработки внеклассных меропри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но выполненные анализ и план подготовки позволяют увидеть связь между воспитательной работой педагога и уровнем воспитанности обучающихся, с которыми эта работа проводила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ное применения на внеурочн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А. Чулих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дубенская СОШ Орехово-Зуевского района Москов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xpression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а урок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КТ на уроках начальной школы необходимо для формирования познавательной активности де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ИКТ на уроках математики, русского языка и литературного чте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С. Барык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ополянская СОШ г. Пушк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ое письмо «Контроль и оценка результатов обучени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контроля и оценки позволяет установить персональную ответственность учителя и школы в целом за качество процесса обучен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истемы оценивания знаний учащихся различных видов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бинар «Применение ЭОР на современном уроке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. Выберите 5 вопросов. Ответьте на ни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440" y="1111320"/>
          <a:ext cx="8785440" cy="5479920"/>
        </p:xfrm>
        <a:graphic>
          <a:graphicData uri="http://schemas.openxmlformats.org/drawingml/2006/table">
            <a:tbl>
              <a:tblPr/>
              <a:tblGrid>
                <a:gridCol w="399960"/>
                <a:gridCol w="2264040"/>
                <a:gridCol w="6121440"/>
              </a:tblGrid>
              <a:tr h="4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такое ЭО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материалы, для воспроизведения которых используются электронные устройства., совокупность информационного, программного, технического обеспе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чего используется ЭОР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янное обновление учебного материала, облегчение подготовки учителя к уроку, нет зависимости от Интернета, вставка в виде гиперссылки, индивидуализация и дифференциация учебного процесса, визуализация  учебной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характеристики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льтимедийность (тексты, видео, звуковое сопровождение), моделирование, вариативность, интерактивность (модели, анимации, упражнения), доступно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ционные  (лекции, схемы, презентации), практические (лабораторные работы, практикумы, тренажеры), контрольные материа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ие требования к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ветствие ГОСТ, научность, доступность, наглядность, отражение межпредметных связей, реализация принципа историзма, проблемный подход, индивидуализация обучения, управление познавательной деятельностью ученика, реализация контроля знаний, обеспечение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сообразность использования ЭОР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личные подходы и уровни изложения, большое количество наглядности, обращение к дополнительному содержан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я к организации образовательной деятельности учителя на уроке с использованием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дение ИКТ-компетентностями, программным обеспечением, понимание различия между ними, знание разнообразия ЭО, методики работы с ними на разных этапах урока, готовность к применению новых программных проду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 деятельности ученика на уроке с использованием Э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ум и индивидуализированный , дифференцированный практикум, исследовательские, лабораторные, практические работы, тренажеры, конструирование, создание анимаций, контроль и самоконтро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56196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ехнологическая карта  урока 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7280" y="1074600"/>
          <a:ext cx="8856720" cy="5249880"/>
        </p:xfrm>
        <a:graphic>
          <a:graphicData uri="http://schemas.openxmlformats.org/drawingml/2006/table">
            <a:tbl>
              <a:tblPr/>
              <a:tblGrid>
                <a:gridCol w="2521080"/>
                <a:gridCol w="63356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и номер урока в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Упражнения в различении имен существительных, одушевленных и неодушевленных, собственных и нарицательных  ( 5 уро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ая программа и её 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Школа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ы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анакина В.П., Горецкий В.Г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 уро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ствовать закреплению знаний об  именах существительных, одушевленных и неодушевленных, собственных и нарицательных, их значении и употреблением в речи; создать условия для формирования умения различать и называть признаки имен существитель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 комплексного применения знаний,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ь организации УПД младших школь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зированное рабочее место учителя.  Фронтальная, групповая работа кла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ое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ечатанные материалы, карточки с зад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8000" y="1628640"/>
          <a:ext cx="8856720" cy="4984920"/>
        </p:xfrm>
        <a:graphic>
          <a:graphicData uri="http://schemas.openxmlformats.org/drawingml/2006/table">
            <a:tbl>
              <a:tblPr/>
              <a:tblGrid>
                <a:gridCol w="312840"/>
                <a:gridCol w="3557520"/>
                <a:gridCol w="2466720"/>
                <a:gridCol w="1584360"/>
                <a:gridCol w="935280"/>
              </a:tblGrid>
              <a:tr h="158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06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с указанием действий с ЭОР, например, демон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звание используемых ЭОР (гиперссыл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в мин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. Поздоровались с гостями, улыбнулись друг друг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говорки с отработкой согласных т,п. Характеристика зву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стихотворных строк , работа с частью речи, ее морфологическими признак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мом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с артикуляционным аппарат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вслух, с продолж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йдите здесь существительные. Дайте их характеристи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ует фронтальную раб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активная доска. Скорогово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х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ми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ки называют тему урока. Отвечают на вопросы учителя. Формулируют ц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ит сформулировать цель и тему уро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Адаптационный этап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. Адаптировать учащихся к деятельности на  уро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Выявить предварительные знания учащихся  и определить их границы.</a:t>
            </a:r>
            <a:br>
              <a:rPr sz="25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8T12:26:45Z</dcterms:created>
  <dc:creator>Иванов Сергей Геннадьевич</dc:creator>
  <dc:description/>
  <dc:language>en-US</dc:language>
  <cp:lastModifiedBy>преподаватель</cp:lastModifiedBy>
  <dcterms:modified xsi:type="dcterms:W3CDTF">2019-04-22T14:24:44Z</dcterms:modified>
  <cp:revision>227</cp:revision>
  <dc:subject/>
  <dc:title>Слайд 1</dc:title>
</cp:coreProperties>
</file>