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2F9-634B-453C-AB0C-CC7DF966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F27-27FE-432D-9B3C-22B417D6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A5A-E27B-4D20-BF1C-734DF2B8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9E62-0BE4-40DA-A8D4-0F85B8B5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7F0-A29F-4E13-A5E6-802A87C5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3AE-0771-46C2-B3C0-CE11D664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D36-41CC-4AAC-8EA3-D1CA791D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8B4-AE09-4649-9F46-49389EE8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18A-16AB-408B-8BF6-AAA2577F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BE6-3A60-4689-B544-5D78D838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5C4-D9BB-4A3A-9F0A-A42A701A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AE8-5EFF-4DA0-8BD2-CE9884D5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7435-12E2-4DAA-A07C-4F5A964137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727200" y="293760"/>
            <a:ext cx="716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униципальное бюджетное дошкольно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Центр развития ребёнка – детский сад № 13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608040" y="2529000"/>
            <a:ext cx="740556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атр – это волшебный мир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готовил  воспитатель ВК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ейкина Любовь Иван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6"/>
          <p:cNvSpPr/>
          <p:nvPr/>
        </p:nvSpPr>
        <p:spPr>
          <a:xfrm>
            <a:off x="608040" y="2529000"/>
            <a:ext cx="74055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1" descr=""/>
          <p:cNvPicPr/>
          <p:nvPr/>
        </p:nvPicPr>
        <p:blipFill>
          <a:blip r:embed="rId1"/>
          <a:stretch/>
        </p:blipFill>
        <p:spPr>
          <a:xfrm>
            <a:off x="152280" y="1365120"/>
            <a:ext cx="78822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22360" y="745920"/>
            <a:ext cx="7399440" cy="54306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я жизнь детей насыщена игрой. Каждый ребенок хочет сыграть свою роль. Научить ребенка играть, брать на себя роль и действовать, вместе с тем приобретать жизненный опыт, - все это помогает осуществить теат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28560" y="635040"/>
            <a:ext cx="6881760" cy="55418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 позволяет формировать социальные навыки поведения благодаря тому, что каждая сказка или литературное произведение для детей дошкольного возраста всегда имеют нравственную направл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агодаря театру ребенок познает мир не только умом, но и сердцем и выражает свое собственное отношение к добру и зл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 помогает ребенку преодолеть робость, неуверенность в себе, застенчив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Users\детский сад №133\Desktop\20181211_150256.jpg"/>
          <p:cNvPicPr/>
          <p:nvPr/>
        </p:nvPicPr>
        <p:blipFill>
          <a:blip r:embed="rId1"/>
          <a:stretch/>
        </p:blipFill>
        <p:spPr>
          <a:xfrm>
            <a:off x="2963880" y="3927600"/>
            <a:ext cx="354312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28560" y="475920"/>
            <a:ext cx="7461360" cy="57006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способностей детей средствами театрального искус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вать условия для развития творческой активности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овать артистические навыки детей в плане переживания и воплощения образа, а также их исполнительские ум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ть у детей простейшие образно-выразительные умения, учить имитировать характерные движения сказочных персонаж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учать детей элементам образных выразительных средств (мимика, интонация, пантомимик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навыки публичного выступления и творческого содруж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4360" y="365040"/>
            <a:ext cx="68086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Театр масок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Picture 2" descr="C:\Users\детский сад №133\Desktop\20181211_150338.jpg"/>
          <p:cNvPicPr/>
          <p:nvPr/>
        </p:nvPicPr>
        <p:blipFill>
          <a:blip r:embed="rId1"/>
          <a:stretch/>
        </p:blipFill>
        <p:spPr>
          <a:xfrm>
            <a:off x="1673280" y="1825560"/>
            <a:ext cx="57974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Светлана</cp:lastModifiedBy>
  <dcterms:modified xsi:type="dcterms:W3CDTF">2019-06-06T16:53:42Z</dcterms:modified>
  <cp:revision>49</cp:revision>
  <dc:subject/>
  <dc:title>Название презентации</dc:title>
</cp:coreProperties>
</file>