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506D-8A2C-4FE0-A505-31E8CA59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7992-0095-49B2-837B-35938978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6266-520F-4867-B214-D4996B54A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DC62-1709-4C4D-BEC5-4125E061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50B0-2979-4226-AB8C-A643DE90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8898-8A01-4929-B3BC-88D7AD63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2A9D-5BC9-4E66-86EB-3CAEE740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87F9-2886-4E60-8194-BA1FF580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0EED-E97D-4000-8FA2-B9CCE501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4E6F-7C58-4F8F-B60E-8960179E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F5F9-6C8A-4B74-8EA8-52778018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A020-AB3A-48A2-A15D-8BCC9896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3518-EE2E-4472-B962-AA2DFB0A22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727200" y="293760"/>
            <a:ext cx="716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униципальное бюджетное дошкольно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зовательное учрежден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Центр развития ребёнка – детский сад № 133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608040" y="2529000"/>
            <a:ext cx="740556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атр – это волшебный мир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готовил  воспитатель ВК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Шейкина Любовь Иван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6"/>
          <p:cNvSpPr/>
          <p:nvPr/>
        </p:nvSpPr>
        <p:spPr>
          <a:xfrm>
            <a:off x="608040" y="2529000"/>
            <a:ext cx="74055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Прямоугольник 1" descr=""/>
          <p:cNvPicPr/>
          <p:nvPr/>
        </p:nvPicPr>
        <p:blipFill>
          <a:blip r:embed="rId1"/>
          <a:stretch/>
        </p:blipFill>
        <p:spPr>
          <a:xfrm>
            <a:off x="152280" y="1365120"/>
            <a:ext cx="78822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22360" y="745920"/>
            <a:ext cx="7399440" cy="54306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я жизнь детей насыщена игрой. Каждый ребенок хочет сыграть свою роль. Научить ребенка играть, брать на себя роль и действовать, вместе с тем приобретать жизненный опыт, - все это помогает осуществить теат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28560" y="635040"/>
            <a:ext cx="6881760" cy="554184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атрализованная деятельность позволяет формировать социальные навыки поведения благодаря тому, что каждая сказка или литературное произведение для детей дошкольного возраста всегда имеют нравственную направлен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лагодаря театру ребенок познает мир не только умом, но и сердцем и выражает свое собственное отношение к добру и зл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атрализованная деятельность помогает ребенку преодолеть робость, неуверенность в себе, застенчив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C:\Users\детский сад №133\Desktop\20181211_150256.jpg"/>
          <p:cNvPicPr/>
          <p:nvPr/>
        </p:nvPicPr>
        <p:blipFill>
          <a:blip r:embed="rId1"/>
          <a:stretch/>
        </p:blipFill>
        <p:spPr>
          <a:xfrm>
            <a:off x="2963880" y="3927600"/>
            <a:ext cx="354312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28560" y="475920"/>
            <a:ext cx="7461360" cy="57006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: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способностей детей средствами театрального искус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вать условия для развития творческой активности де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ршенствовать артистические навыки детей в плане переживания и воплощения образа, а также их исполнительские ум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ть у детей простейшие образно-выразительные умения, учить имитировать характерные движения сказочных персонаж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учать детей элементам образных выразительных средств (мимика, интонация, пантомимик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ть навыки публичного выступления и творческого содруже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4360" y="365040"/>
            <a:ext cx="680868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 Light"/>
              </a:rPr>
              <a:t>Театр масок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Picture 2" descr="C:\Users\детский сад №133\Desktop\20181211_150338.jpg"/>
          <p:cNvPicPr/>
          <p:nvPr/>
        </p:nvPicPr>
        <p:blipFill>
          <a:blip r:embed="rId1"/>
          <a:stretch/>
        </p:blipFill>
        <p:spPr>
          <a:xfrm>
            <a:off x="1673280" y="1825560"/>
            <a:ext cx="57974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0:52:53Z</dcterms:created>
  <dc:creator>Инна</dc:creator>
  <dc:description/>
  <dc:language>en-US</dc:language>
  <cp:lastModifiedBy>Светлана</cp:lastModifiedBy>
  <dcterms:modified xsi:type="dcterms:W3CDTF">2019-06-06T16:53:42Z</dcterms:modified>
  <cp:revision>49</cp:revision>
  <dc:subject/>
  <dc:title>Название презентации</dc:title>
</cp:coreProperties>
</file>