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14.jpeg" ContentType="image/jpeg"/>
  <Override PartName="/ppt/media/image8.png" ContentType="image/png"/>
  <Override PartName="/ppt/media/image11.jpeg" ContentType="image/jpeg"/>
  <Override PartName="/ppt/media/image7.jpeg" ContentType="image/jpeg"/>
  <Override PartName="/ppt/media/image12.jpeg" ContentType="image/jpeg"/>
  <Override PartName="/ppt/media/image9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2225E-FD50-4787-A86E-3911FE5AC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98023-19E7-4DE1-82FB-6C366E468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CBFAA-E1DF-4E5C-9150-5F8374035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5AC68-60EA-477E-8E57-8B9B0F267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1EE01-DB96-4708-BF77-7DA272ADB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6E93C-52C4-41DF-A94E-E15A6C706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99EAA-4D6E-4A82-8933-DF078CAC2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06ED5-446B-4472-ADDF-B816A39EF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E19AD-66B0-43AF-A9A5-5BE37438B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E9B48-1DD5-4904-A83B-00322CF1C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12067-123D-4F63-9B19-4AEE4BF6A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02F35-C17D-4919-8D60-A4447CFE5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08CB3-A3B8-4715-8E8A-8C0216307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005C1-FF81-459F-80DB-756569A57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26896-D416-49BB-AA0F-9B48F2BFF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479B5-E199-44ED-B22C-A0EABB036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0C7A6-7AF5-4810-82D1-6349ADF2F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3CEEAC-2A42-437F-B73E-8785C8160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461049-7221-4C46-9EB6-D2D953108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5BC1ED-72FF-4ABB-A46F-43975A7BC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50CCA5-C9E8-47A5-8412-9D54EDB90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A26AAF-6984-4238-9C31-8F59E704B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47A62-1EF7-4B64-841A-991638E11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113FD0-AAFE-41D4-9C74-8871EFD04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0C02D5-4170-4642-A4BD-D7DEF082A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4836EE-B947-4FE4-9144-5F04567F2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0B99C7-B962-4584-92DF-E53AA98EC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805878-4EC1-4847-AC69-2C86AB220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0E0DDB-E5A1-42DA-B91D-A37A5EBAF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4D59D4-8B04-46F4-9A67-6532DFDD2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EA1434-6A53-4F64-A12A-80E9B5CAA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CD89F7-AD7D-42DA-8906-95C2A455B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9FB1F1-561B-4D85-A9E8-8A01F3616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30F78-5800-499C-9160-C86E77CC1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7AE56E-C9BA-417A-A9FE-B8C462B22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A1172C-46ED-4435-AB17-2184B988F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30F66B-49CF-408E-A065-ADC32295C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6882FE-09CF-4433-A4A1-6A3756C5B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4DF8E9-D2A1-4E90-A4E4-FB34AD868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A3FAEF-2BC5-48C6-A0B3-460481F4F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053AE0-E124-4692-A109-F59E39447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1FC241-1A93-462E-9C67-BB15FA4E3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B4F8B0-71CD-42D4-B222-46F7CCAB0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DC65B2-9198-4C29-B507-5B4965B1C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150F6-ACE7-4130-BB34-ED770782C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FC5187-9E8A-4395-A0D1-B55FDB950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695227-6546-433F-B851-DF2BC2EC3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7B5433-7196-4DBD-B52A-1DCA68E29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07A322-1754-4682-B34E-AA946585D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C0F79C-F9AF-49FE-B707-127114CCC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8CFB53-BA45-43C2-93A3-D1CC89782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EEBB3B-63D9-42FD-A464-63EC6D412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53EF6E-DA6D-494A-9FBB-D350B1E58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0282D3-5D70-4A11-841A-2FBE45CF6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250C0E-A53F-4286-9367-7D5E10A83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5BDC6-3086-4C83-B5DE-A9918B6CE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56B1CF-DECE-42DD-9AF6-913B95877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A6D3A-39BF-4A1A-A7E5-126A81BF5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38BC7-EA1D-4E63-B9F9-7F913EEF8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365B6-1151-4487-87FC-4CE2C8A7D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2E60D-E3D4-44BA-B487-162C9D83865A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97CF6-382F-4A1A-8983-D13F9997BFB6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D2D0B-01F1-400C-8851-8EA04B55D83D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00320-4902-4F49-BF2E-45D1368CCC41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>
              <a:gd name="textAreaLeft" fmla="*/ 0 w 2324160"/>
              <a:gd name="textAreaRight" fmla="*/ 2305800 w 2324160"/>
              <a:gd name="textAreaTop" fmla="*/ 0 h 4343400"/>
              <a:gd name="textAreaBottom" fmla="*/ 4343760 h 4343400"/>
            </a:gdLst>
            <a:ahLst/>
            <a:rect l="textAreaLeft" t="textAreaTop" r="textAreaRight" b="textAreaBottom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lnTo>
                  <a:pt x="2260234" y="0"/>
                </a:lnTo>
                <a:arcTo wR="63866" hR="63866" stAng="-5400000" swAng="5400000"/>
                <a:lnTo>
                  <a:pt x="2324100" y="4343400"/>
                </a:lnTo>
                <a:lnTo>
                  <a:pt x="0" y="434340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0781D-0047-4D3A-99F7-E5F14E67D38D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714240" y="7858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ff8d3e"/>
                </a:solidFill>
                <a:latin typeface="Verdana"/>
              </a:rPr>
              <a:t>ОБНИНСК – первый наукоград России</a:t>
            </a:r>
            <a:endParaRPr b="1" lang="en-US" sz="45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1" name="Подзаголовок 2"/>
          <p:cNvSpPr/>
          <p:nvPr/>
        </p:nvSpPr>
        <p:spPr>
          <a:xfrm>
            <a:off x="5500800" y="4929120"/>
            <a:ext cx="3557520" cy="15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47560" indent="-41112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Verdana"/>
              </a:rPr>
              <a:t>Подготовил:</a:t>
            </a:r>
            <a:r>
              <a:rPr b="0" lang="ru-RU" sz="1300" spc="-1" strike="noStrike">
                <a:solidFill>
                  <a:srgbClr val="000000"/>
                </a:solidFill>
                <a:latin typeface="Verdana"/>
              </a:rPr>
              <a:t> Никифоров Валерий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Verdana"/>
              </a:rPr>
              <a:t>ученик 4 Б класса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Verdana"/>
              </a:rPr>
              <a:t>МБОУ Лицея № 15 города Саров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Verdana"/>
              </a:rPr>
              <a:t>Руководитель: </a:t>
            </a:r>
            <a:r>
              <a:rPr b="0" lang="ru-RU" sz="1300" spc="-1" strike="noStrike">
                <a:solidFill>
                  <a:srgbClr val="000000"/>
                </a:solidFill>
                <a:latin typeface="Verdana"/>
              </a:rPr>
              <a:t>Т.В. Стрижова учитель начальных классов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6" descr="https://naklejki-na-avto.ru/images/product/l/306807df8.png"/>
          <p:cNvPicPr/>
          <p:nvPr/>
        </p:nvPicPr>
        <p:blipFill>
          <a:blip r:embed="rId1"/>
          <a:stretch/>
        </p:blipFill>
        <p:spPr>
          <a:xfrm>
            <a:off x="1357200" y="3571920"/>
            <a:ext cx="2500560" cy="28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356760" y="785880"/>
            <a:ext cx="5286600" cy="46432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нинск -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род основан в1946 году, находится на севере Калужской области, на реке Протве (приток Оки); расположен к юго-западу от Москвы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селение – около 116 тыс. чел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род обладает высоким научно-техническим потенциалом (10 академических и отраслевых НИИ плюс университет)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нинск первым в России получил официальный статус города-наукограда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4" name="Picture 2" descr=""/>
          <p:cNvPicPr/>
          <p:nvPr/>
        </p:nvPicPr>
        <p:blipFill>
          <a:blip r:embed="rId1"/>
          <a:stretch/>
        </p:blipFill>
        <p:spPr>
          <a:xfrm>
            <a:off x="5572080" y="928800"/>
            <a:ext cx="3457800" cy="55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71320" y="214200"/>
            <a:ext cx="421452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Обнинск известен первой в мире атомной электростанцией</a:t>
            </a:r>
            <a:endParaRPr b="1" lang="en-US" sz="30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285840" y="1643040"/>
            <a:ext cx="4286160" cy="29196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настоящее время станция служит экспериментально-исследовательской базой и экскурсионной достопримечательностью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7" name="Picture 2" descr="C:\Users\MSA_04\Desktop\0018-018-Aes.jpg"/>
          <p:cNvPicPr/>
          <p:nvPr/>
        </p:nvPicPr>
        <p:blipFill>
          <a:blip r:embed="rId1"/>
          <a:stretch/>
        </p:blipFill>
        <p:spPr>
          <a:xfrm>
            <a:off x="4857840" y="500040"/>
            <a:ext cx="3835440" cy="287640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3" descr="C:\Users\MSA_04\Desktop\7e440598d923522da357f0734334238b.jpg"/>
          <p:cNvPicPr/>
          <p:nvPr/>
        </p:nvPicPr>
        <p:blipFill>
          <a:blip r:embed="rId2"/>
          <a:stretch/>
        </p:blipFill>
        <p:spPr>
          <a:xfrm>
            <a:off x="4857840" y="3571920"/>
            <a:ext cx="3819600" cy="2671560"/>
          </a:xfrm>
          <a:prstGeom prst="rect">
            <a:avLst/>
          </a:prstGeom>
          <a:ln w="0">
            <a:noFill/>
          </a:ln>
        </p:spPr>
      </p:pic>
      <p:sp>
        <p:nvSpPr>
          <p:cNvPr id="229" name="Прямоугольник 6"/>
          <p:cNvSpPr/>
          <p:nvPr/>
        </p:nvSpPr>
        <p:spPr>
          <a:xfrm>
            <a:off x="571680" y="3714840"/>
            <a:ext cx="40716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имо первой АЭС в Обнинске впервые заработали также «быстрый» реактор, метеорологическая лаборатория в поднебесье, центр подготовки экипажей атомных подводных лодок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285840" y="142920"/>
            <a:ext cx="857232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В Обнинске жили и работали известные ученые</a:t>
            </a:r>
            <a:endParaRPr b="1" lang="en-US" sz="30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1" name="Заголовок 1"/>
          <p:cNvSpPr/>
          <p:nvPr/>
        </p:nvSpPr>
        <p:spPr>
          <a:xfrm>
            <a:off x="0" y="4500720"/>
            <a:ext cx="2928960" cy="2357280"/>
          </a:xfrm>
          <a:prstGeom prst="rect">
            <a:avLst/>
          </a:prstGeom>
          <a:solidFill>
            <a:srgbClr val="e3ded1"/>
          </a:solidFill>
          <a:ln w="9360">
            <a:solidFill>
              <a:srgbClr val="3232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орь Васильевич Курчатов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903–1960 гг.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ветский физик, «отец» советской атомной бомбы. Трижды Герой Социалистического Труда, доктор физико-математических наук, профессор. Основатель и первый директор Института атомной энергии.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Заголовок 1"/>
          <p:cNvSpPr/>
          <p:nvPr/>
        </p:nvSpPr>
        <p:spPr>
          <a:xfrm>
            <a:off x="5929200" y="4429080"/>
            <a:ext cx="2857680" cy="2071800"/>
          </a:xfrm>
          <a:prstGeom prst="rect">
            <a:avLst/>
          </a:prstGeom>
          <a:solidFill>
            <a:srgbClr val="e3ded1"/>
          </a:solidFill>
          <a:ln w="9360">
            <a:solidFill>
              <a:srgbClr val="3232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хаил Федотович Троянов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931 – 2017 гг.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ветский и российский  физик занимавшийся разработкой ядерных реакторов на быстрых нейтронах Также ученый занимался тем, что анализировал итоги пуска и исследования различных характеристик этих реакторов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9" descr="http://www.admobninsk.ru/netcat_files/Image/Troyanov.jpg"/>
          <p:cNvPicPr/>
          <p:nvPr/>
        </p:nvPicPr>
        <p:blipFill>
          <a:blip r:embed="rId1"/>
          <a:stretch/>
        </p:blipFill>
        <p:spPr>
          <a:xfrm>
            <a:off x="5748480" y="706320"/>
            <a:ext cx="3444840" cy="373248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11" descr="https://24smi.org/public/media/resize/660x-/celebrity/2018/09/17/9uojjfcbwv1s-igor-kurchatov.jpg"/>
          <p:cNvPicPr/>
          <p:nvPr/>
        </p:nvPicPr>
        <p:blipFill>
          <a:blip r:embed="rId2"/>
          <a:stretch/>
        </p:blipFill>
        <p:spPr>
          <a:xfrm>
            <a:off x="-171360" y="639720"/>
            <a:ext cx="3262320" cy="418140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13" descr="https://www.ippe.ru/images/founders/gromov.jpg"/>
          <p:cNvPicPr/>
          <p:nvPr/>
        </p:nvPicPr>
        <p:blipFill>
          <a:blip r:embed="rId3"/>
          <a:stretch/>
        </p:blipFill>
        <p:spPr>
          <a:xfrm>
            <a:off x="3011400" y="579600"/>
            <a:ext cx="2835360" cy="3730320"/>
          </a:xfrm>
          <a:prstGeom prst="rect">
            <a:avLst/>
          </a:prstGeom>
          <a:ln w="0">
            <a:noFill/>
          </a:ln>
        </p:spPr>
      </p:pic>
      <p:sp>
        <p:nvSpPr>
          <p:cNvPr id="236" name="Заголовок 1"/>
          <p:cNvSpPr/>
          <p:nvPr/>
        </p:nvSpPr>
        <p:spPr>
          <a:xfrm>
            <a:off x="3000240" y="4071960"/>
            <a:ext cx="2786040" cy="2786040"/>
          </a:xfrm>
          <a:prstGeom prst="rect">
            <a:avLst/>
          </a:prstGeom>
          <a:solidFill>
            <a:srgbClr val="f2f2f2"/>
          </a:solidFill>
          <a:ln w="9360">
            <a:solidFill>
              <a:srgbClr val="3232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рис Федорович Гром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927–2001 гг.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ветский и российский  физик, впервые в мире обосновал атомную энергетическую установку с жидкометаллическим теплоносителем, ставшей прообразом последующих реакторов для атомных подводных лодок. Участвовал в создании атомных подводных лодок различных проектов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 rot="21154200">
            <a:off x="43920" y="309240"/>
            <a:ext cx="485784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я «Обнинск» носит одна из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томных подводных лодок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МФ России.</a:t>
            </a:r>
            <a:endParaRPr b="1" lang="en-US" sz="18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38" name="Picture 2" descr="C:\Users\MSA_04\Desktop\_20101112_1887327398.jpg"/>
          <p:cNvPicPr/>
          <p:nvPr/>
        </p:nvPicPr>
        <p:blipFill>
          <a:blip r:embed="rId1"/>
          <a:stretch/>
        </p:blipFill>
        <p:spPr>
          <a:xfrm rot="21191400">
            <a:off x="704520" y="1406160"/>
            <a:ext cx="3397320" cy="244620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239" name="Прямоугольник 3"/>
          <p:cNvSpPr/>
          <p:nvPr/>
        </p:nvSpPr>
        <p:spPr>
          <a:xfrm rot="176400">
            <a:off x="4537440" y="401760"/>
            <a:ext cx="4572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десь находится самая высокая в Европе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еорологическая мачта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310 метров) – интересно, что она не имеет фундамента, а стоит на огромном шаре и поддерживается с помощью растяже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7" descr="http://photocdn.photogoroda.com/source2/cn3159/r3841/c3863/1674344.jpg?v=20171213112136"/>
          <p:cNvPicPr/>
          <p:nvPr/>
        </p:nvPicPr>
        <p:blipFill>
          <a:blip r:embed="rId2"/>
          <a:stretch/>
        </p:blipFill>
        <p:spPr>
          <a:xfrm rot="171000">
            <a:off x="6588000" y="1625760"/>
            <a:ext cx="2264040" cy="35287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241" name="Рисунок 5" descr="18.jpg"/>
          <p:cNvPicPr/>
          <p:nvPr/>
        </p:nvPicPr>
        <p:blipFill>
          <a:blip r:embed="rId3"/>
          <a:stretch/>
        </p:blipFill>
        <p:spPr>
          <a:xfrm rot="21209400">
            <a:off x="564840" y="4124160"/>
            <a:ext cx="3014640" cy="257184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242" name="Прямоугольник 10"/>
          <p:cNvSpPr/>
          <p:nvPr/>
        </p:nvSpPr>
        <p:spPr>
          <a:xfrm>
            <a:off x="3786120" y="5072040"/>
            <a:ext cx="50720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Кот учёный»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-скульптура в Обнинске возле Дома учёных, установленная в 2013 году в честь одноимённого литературного персонажа поэмы «Руслан и Людмила» Александра Пушки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Picture 8" descr=""/>
          <p:cNvPicPr/>
          <p:nvPr/>
        </p:nvPicPr>
        <p:blipFill>
          <a:blip r:embed="rId4"/>
          <a:stretch/>
        </p:blipFill>
        <p:spPr>
          <a:xfrm>
            <a:off x="4429080" y="2062080"/>
            <a:ext cx="1785960" cy="28609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25T16:30:16Z</dcterms:created>
  <dc:creator>MSA_04</dc:creator>
  <dc:description/>
  <dc:language>en-US</dc:language>
  <cp:lastModifiedBy>Admin</cp:lastModifiedBy>
  <dcterms:modified xsi:type="dcterms:W3CDTF">2019-04-09T17:21:23Z</dcterms:modified>
  <cp:revision>14</cp:revision>
  <dc:subject/>
  <dc:title>Обнинск – город наукоград</dc:title>
</cp:coreProperties>
</file>