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4F4-62B7-4694-BEF2-78848BD6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D2F-C62D-4776-968B-7F9F1C8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884-0AE9-4852-824B-621BB6F2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6F5-787D-401D-AF54-7FA3AEB1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AB2D-2E28-4C0A-A366-57DCDF6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9531-687E-4DC1-A5DE-66C6D86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914-622D-4E06-8543-B90FAEC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BD19-978C-4FD0-8E4F-FA9C416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BDE8-F921-4B24-B036-7A054DD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1B98-2642-4910-9327-254B901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4C06-B593-4E7A-A25B-E0CBFDE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915-DFA4-488C-8124-E2D1819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4B13-199C-4D86-A31D-543B3FD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6DAD-D7B4-429A-918B-4FF0D95C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1C35-EC57-4AF0-AA74-3B8DD6E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4666-EE54-4B08-B4D4-DF174183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DDF0-DFA4-4291-BDB9-71A96B3C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D2DF-4F4A-4C4E-BBB0-A97CE139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6242-EB2A-4C33-AEA5-FDAF20A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04BB-7AB1-4DBF-84BD-66E95CB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38AF-D472-48E7-9F64-4EF5D24F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A18C-E680-42E5-A107-522F2B83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D25-6AC7-4E84-8725-5541CEC1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31D5-86E7-4070-B5CA-071EC5C3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9012-DF74-4A1F-80B2-980A925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638B-DFC4-42E0-8F62-D781E22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FBB7-70EF-4583-BC25-9CA316E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86AF-C42A-47A1-B732-0492E5FA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C5D0-A4EF-4E45-B308-AF1B9002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AE7F-1DD2-4069-9DBD-CFE375C6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C71C-BF11-4357-A326-45F5DBF5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1C65-444A-413E-8651-805C2FB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8BDCF-78DD-42D4-B086-888331F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6A4-E7DF-4519-8AB8-595A789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F4AC-71CD-4A29-9731-9E16456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E781-CB58-445E-ABC1-271A1A4A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F8AA-F0F4-4E8F-A2DE-D3D7C4B5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8234-C3D5-4AAD-AD24-3FC508E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B488-77F0-4CCB-87F6-821D29AB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9552-17FE-48A0-8E9E-06B51F1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95CA-AED2-41DB-86FF-C908AFE7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C700-9BF6-4A62-9E73-B60C92F0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3A9C-65BD-4E5C-B9A3-3CBEB933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28DCA-7206-4C46-9DC7-2E84DEC5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64B-455D-45BF-B974-CCB3EEC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82EC2-E5D8-46A5-A5E3-494F30B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7DF5-2D54-498C-BF32-8FD7D10F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6A79-966D-4D6B-BA51-AB4E3F9A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BACB-1012-4C11-B26F-0C1F529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D7DD-FAD0-4782-A9D2-309BC06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46B6-7FDA-43BC-8347-1F08FDF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0F47-3DCA-417A-9D87-6BDC02D9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0611-DEFB-4805-88ED-E0271D5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CA71-C079-4B2D-AFD8-FF3A96C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DA33-5150-4165-BF1D-4C51AC6B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55F-399D-4766-AFB5-F67C267A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6B96-9347-4BE8-9689-585BFD68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B91-3E0D-4F13-ACD4-670CCEA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E4C-C557-431A-8995-0C3F55A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BB3-3C98-49B7-A6CD-35B6180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C985-F370-4B39-B4D9-D0149D4B90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5CE-8356-4E68-8E7F-97AE65D88D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CF5-3DBC-42C8-8F40-2686CE4DC0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B38-68DB-4679-A41D-5C92CE6F185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A8CF-76FF-4F7D-B279-8414800D96A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НИНСК – первый наукоград Росси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500800" y="4929120"/>
            <a:ext cx="3557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Подготовил: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Никифоров Валер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ченик 4 Б клас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БОУ Лицея № 15 города С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Руководитель: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.В. Стрижова учитель начальных клас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s://naklejki-na-avto.ru/images/product/l/306807df8.png"/>
          <p:cNvPicPr/>
          <p:nvPr/>
        </p:nvPicPr>
        <p:blipFill>
          <a:blip r:embed="rId1"/>
          <a:stretch/>
        </p:blipFill>
        <p:spPr>
          <a:xfrm>
            <a:off x="1357200" y="3571920"/>
            <a:ext cx="25005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56760" y="785880"/>
            <a:ext cx="528660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нск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основан в1946 году, находится на севере Калужской области, на реке Протве (приток Оки); расположен к юго-западу от Москв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– около 116 тыс. че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обладает высоким научно-техническим потенциалом (10 академических и отраслевых НИИ плюс университет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нск первым в России получил официальный статус города-наукогра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572080" y="928800"/>
            <a:ext cx="34578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4214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бнинск известен первой в мире атомной электростанцией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643040"/>
            <a:ext cx="4286160" cy="291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танция служит экспериментально-исследовательской базой и экскурсионной достопримеча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C:\Users\MSA_04\Desktop\0018-018-Aes.jpg"/>
          <p:cNvPicPr/>
          <p:nvPr/>
        </p:nvPicPr>
        <p:blipFill>
          <a:blip r:embed="rId1"/>
          <a:stretch/>
        </p:blipFill>
        <p:spPr>
          <a:xfrm>
            <a:off x="4857840" y="500040"/>
            <a:ext cx="3835440" cy="2876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MSA_04\Desktop\7e440598d923522da357f0734334238b.jpg"/>
          <p:cNvPicPr/>
          <p:nvPr/>
        </p:nvPicPr>
        <p:blipFill>
          <a:blip r:embed="rId2"/>
          <a:stretch/>
        </p:blipFill>
        <p:spPr>
          <a:xfrm>
            <a:off x="4857840" y="3571920"/>
            <a:ext cx="3819600" cy="26715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6"/>
          <p:cNvSpPr/>
          <p:nvPr/>
        </p:nvSpPr>
        <p:spPr>
          <a:xfrm>
            <a:off x="571680" y="3714840"/>
            <a:ext cx="40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ервой АЭС в Обнинске впервые заработали также «быстрый» реактор, метеорологическая лаборатория в поднебесье, центр подготовки экипажей атомных подводных ло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Обнинске жили и работали известные ученые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0" y="4500720"/>
            <a:ext cx="2928960" cy="2357280"/>
          </a:xfrm>
          <a:prstGeom prst="rect">
            <a:avLst/>
          </a:prstGeom>
          <a:solidFill>
            <a:srgbClr val="e3ded1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асильевич Курчатов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–1960 г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физик, «отец» советской атомной бомбы. Трижды Герой Социалистического Труда, доктор физико-математических наук, профессор. Основатель и первый директор Института атомной энерги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5929200" y="4429080"/>
            <a:ext cx="2857680" cy="2071800"/>
          </a:xfrm>
          <a:prstGeom prst="rect">
            <a:avLst/>
          </a:prstGeom>
          <a:solidFill>
            <a:srgbClr val="e3ded1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Федотович Троя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31 – 2017 г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и российский  физик занимавшийся разработкой ядерных реакторов на быстрых нейтронах Также ученый занимался тем, что анализировал итоги пуска и исследования различных характеристик этих реакто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http://www.admobninsk.ru/netcat_files/Image/Troyanov.jpg"/>
          <p:cNvPicPr/>
          <p:nvPr/>
        </p:nvPicPr>
        <p:blipFill>
          <a:blip r:embed="rId1"/>
          <a:stretch/>
        </p:blipFill>
        <p:spPr>
          <a:xfrm>
            <a:off x="5748480" y="706320"/>
            <a:ext cx="3444840" cy="373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https://24smi.org/public/media/resize/660x-/celebrity/2018/09/17/9uojjfcbwv1s-igor-kurchatov.jpg"/>
          <p:cNvPicPr/>
          <p:nvPr/>
        </p:nvPicPr>
        <p:blipFill>
          <a:blip r:embed="rId2"/>
          <a:stretch/>
        </p:blipFill>
        <p:spPr>
          <a:xfrm>
            <a:off x="-171360" y="639720"/>
            <a:ext cx="3262320" cy="4181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ttps://www.ippe.ru/images/founders/gromov.jpg"/>
          <p:cNvPicPr/>
          <p:nvPr/>
        </p:nvPicPr>
        <p:blipFill>
          <a:blip r:embed="rId3"/>
          <a:stretch/>
        </p:blipFill>
        <p:spPr>
          <a:xfrm>
            <a:off x="3011400" y="579600"/>
            <a:ext cx="2835360" cy="3730320"/>
          </a:xfrm>
          <a:prstGeom prst="rect">
            <a:avLst/>
          </a:prstGeom>
          <a:ln w="0">
            <a:noFill/>
          </a:ln>
        </p:spPr>
      </p:pic>
      <p:sp>
        <p:nvSpPr>
          <p:cNvPr id="236" name="Заголовок 1"/>
          <p:cNvSpPr/>
          <p:nvPr/>
        </p:nvSpPr>
        <p:spPr>
          <a:xfrm>
            <a:off x="3000240" y="4071960"/>
            <a:ext cx="2786040" cy="2786040"/>
          </a:xfrm>
          <a:prstGeom prst="rect">
            <a:avLst/>
          </a:prstGeom>
          <a:solidFill>
            <a:srgbClr val="f2f2f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Федорович Гро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7–2001 г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и российский  физик, впервые в мире обосновал атомную энергетическую установку с жидкометаллическим теплоносителем, ставшей прообразом последующих реакторов для атомных подводных лодок. Участвовал в создании атомных подводных лодок различных проек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21154200">
            <a:off x="43920" y="309240"/>
            <a:ext cx="48578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«Обнинск» носит одна из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ых подводных ло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МФ России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2" descr="C:\Users\MSA_04\Desktop\_20101112_1887327398.jpg"/>
          <p:cNvPicPr/>
          <p:nvPr/>
        </p:nvPicPr>
        <p:blipFill>
          <a:blip r:embed="rId1"/>
          <a:stretch/>
        </p:blipFill>
        <p:spPr>
          <a:xfrm rot="21191400">
            <a:off x="704520" y="1406160"/>
            <a:ext cx="3397320" cy="244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9" name="Прямоугольник 3"/>
          <p:cNvSpPr/>
          <p:nvPr/>
        </p:nvSpPr>
        <p:spPr>
          <a:xfrm rot="176400">
            <a:off x="4537440" y="401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ходится самая высокая в Европ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ая мач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0 метров) – интересно, что она не имеет фундамента, а стоит на огромном шаре и поддерживается с помощью растяж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http://photocdn.photogoroda.com/source2/cn3159/r3841/c3863/1674344.jpg?v=20171213112136"/>
          <p:cNvPicPr/>
          <p:nvPr/>
        </p:nvPicPr>
        <p:blipFill>
          <a:blip r:embed="rId2"/>
          <a:stretch/>
        </p:blipFill>
        <p:spPr>
          <a:xfrm rot="171000">
            <a:off x="6588000" y="1625760"/>
            <a:ext cx="2264040" cy="3528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41" name="Рисунок 5" descr="18.jpg"/>
          <p:cNvPicPr/>
          <p:nvPr/>
        </p:nvPicPr>
        <p:blipFill>
          <a:blip r:embed="rId3"/>
          <a:stretch/>
        </p:blipFill>
        <p:spPr>
          <a:xfrm rot="21209400">
            <a:off x="564840" y="4124160"/>
            <a:ext cx="301464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42" name="Прямоугольник 10"/>
          <p:cNvSpPr/>
          <p:nvPr/>
        </p:nvSpPr>
        <p:spPr>
          <a:xfrm>
            <a:off x="3786120" y="50720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 учё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скульптура в Обнинске возле Дома учёных, установленная в 2013 году в честь одноимённого литературного персонажа поэмы «Руслан и Людмила» Александра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4"/>
          <a:stretch/>
        </p:blipFill>
        <p:spPr>
          <a:xfrm>
            <a:off x="4429080" y="2062080"/>
            <a:ext cx="1785960" cy="286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6:30:16Z</dcterms:created>
  <dc:creator>MSA_04</dc:creator>
  <dc:description/>
  <dc:language>en-US</dc:language>
  <cp:lastModifiedBy>Admin</cp:lastModifiedBy>
  <dcterms:modified xsi:type="dcterms:W3CDTF">2019-04-09T17:21:23Z</dcterms:modified>
  <cp:revision>14</cp:revision>
  <dc:subject/>
  <dc:title>Обнинск – город наукоград</dc:title>
</cp:coreProperties>
</file>