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610E-9E20-4BF7-9113-2A0D78264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336F-722F-4090-8CA3-40AF27776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F5F9-FA89-4E12-BC49-2CDDC4969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8EA3-DBEE-469E-BA30-F64CA624B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1E0D-627A-4B3A-A079-91C07AFEB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605D-A817-4B14-8EDB-6FEBC1064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5E9F-B499-4196-A2F8-C7C2D61DC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2A3F-62EE-4E79-9CA9-889549A76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89BF-0826-48E7-BEF4-B83943CA4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AAAF-F60D-473C-952F-3C44E08E3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F2C0-E214-404C-8608-A7FFDABF8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5680-B937-42AA-9FAA-7B1B1F6A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6C20A-3608-4120-A5FD-7A9D7954AA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Вектор магнитной индукции. Линии магнитной ин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2 учебника, ответить на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just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я вектор магнитной индукции и линии магнитной ин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Вектор магнитной ин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052640"/>
            <a:ext cx="83739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кторная характеристика магнитного поля –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агнитная индукц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направление вектора магнитной индукции принимается направление, которое показыв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еверный полюс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агнитной стрелки, свободно устанавливающейся в магнитном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правление совпадает с направлением положительной нормали к замкнутому контуру с 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17062" b="0"/>
          <a:stretch/>
        </p:blipFill>
        <p:spPr>
          <a:xfrm>
            <a:off x="2050920" y="1413000"/>
            <a:ext cx="216000" cy="28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36069" r="59646" b="21213"/>
          <a:stretch/>
        </p:blipFill>
        <p:spPr>
          <a:xfrm>
            <a:off x="3276720" y="3068640"/>
            <a:ext cx="331308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9474" t="0" r="35081" b="1527"/>
          <a:stretch/>
        </p:blipFill>
        <p:spPr>
          <a:xfrm>
            <a:off x="5796000" y="4508640"/>
            <a:ext cx="2305080" cy="2065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ая нормаль направлена в ту сторону, куда перемещается буравчик (с правой нарезкой), если вращать его по направлению тока в рам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997360"/>
            <a:ext cx="8535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: направление вектора магнитной индукции устанавливают с помощ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авила буравчи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если направление поступательного движения буравчика (винта) совпадает с направлением тока в проводнике, то направление вращения ручки буравчика совпадает с направлением вектора магнитной ин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64923" t="19701" r="0" b="4705"/>
          <a:stretch/>
        </p:blipFill>
        <p:spPr>
          <a:xfrm>
            <a:off x="2556000" y="1268280"/>
            <a:ext cx="2879640" cy="165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786800" cy="585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рафическое изображение магнит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графически изображается с помощью линий магнитной индукции – это линии, касательные к которым в любой их точке совпадают с вектором    в данной точке п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магнитной индукции не пересек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магнитной индукции замкнуты, поэтому МП является вихре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0" r="17062" b="0"/>
          <a:stretch/>
        </p:blipFill>
        <p:spPr>
          <a:xfrm>
            <a:off x="8715240" y="3214800"/>
            <a:ext cx="216000" cy="2854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929120" y="364320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24481" y="7493"/>
                </a:moveTo>
                <a:lnTo>
                  <a:pt x="27988" y="7493"/>
                </a:lnTo>
                <a:lnTo>
                  <a:pt x="27988" y="12828"/>
                </a:lnTo>
                <a:cubicBezTo>
                  <a:pt x="27988" y="13751"/>
                  <a:pt x="28789" y="14482"/>
                  <a:pt x="29825" y="14482"/>
                </a:cubicBezTo>
                <a:lnTo>
                  <a:pt x="31487" y="14482"/>
                </a:lnTo>
                <a:cubicBezTo>
                  <a:pt x="32523" y="14482"/>
                  <a:pt x="33324" y="13751"/>
                  <a:pt x="33324" y="12828"/>
                </a:cubicBezTo>
                <a:lnTo>
                  <a:pt x="33324" y="7493"/>
                </a:lnTo>
                <a:lnTo>
                  <a:pt x="31487" y="7493"/>
                </a:lnTo>
                <a:lnTo>
                  <a:pt x="34995" y="3985"/>
                </a:lnTo>
                <a:lnTo>
                  <a:pt x="38668" y="7493"/>
                </a:lnTo>
                <a:lnTo>
                  <a:pt x="36831" y="7493"/>
                </a:lnTo>
                <a:lnTo>
                  <a:pt x="36831" y="12828"/>
                </a:lnTo>
                <a:cubicBezTo>
                  <a:pt x="36831" y="15596"/>
                  <a:pt x="34255" y="18155"/>
                  <a:pt x="31487" y="18155"/>
                </a:cubicBezTo>
                <a:lnTo>
                  <a:pt x="29825" y="18155"/>
                </a:lnTo>
                <a:cubicBezTo>
                  <a:pt x="27057" y="18155"/>
                  <a:pt x="24481" y="15596"/>
                  <a:pt x="24481" y="12828"/>
                </a:cubicBezTo>
                <a:close/>
              </a:path>
            </a:pathLst>
          </a:custGeom>
          <a:solidFill>
            <a:srgbClr val="1db31d"/>
          </a:solidFill>
          <a:ln cap="sq" w="25560">
            <a:solidFill>
              <a:srgbClr val="1d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5400000">
            <a:off x="3767040" y="1599840"/>
            <a:ext cx="1414440" cy="928800"/>
          </a:xfrm>
          <a:prstGeom prst="pie">
            <a:avLst/>
          </a:prstGeom>
          <a:solidFill>
            <a:srgbClr val="000000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85840"/>
            <a:ext cx="849780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гнитное поле прямолинейного пров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онцентрические замкнутые окружности, перпендикулярные этому проводнику с т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гнитное поле катушки с током (солено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4200" y="3976560"/>
            <a:ext cx="374508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67280" y="4076640"/>
            <a:ext cx="4608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Если длина соленоида много больше его диаметра, то МП внутри соленоида можно считат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однородны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Линии магнитной индукции такого пол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параллельн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 и находятся на равных расстояниях друг от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1640" y="3011400"/>
            <a:ext cx="969840" cy="30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428840" y="1357200"/>
            <a:ext cx="5259240" cy="1409760"/>
            <a:chOff x="1428840" y="1357200"/>
            <a:chExt cx="5259240" cy="1409760"/>
          </a:xfrm>
        </p:grpSpPr>
        <p:sp>
          <p:nvSpPr>
            <p:cNvPr id="64" name=""/>
            <p:cNvSpPr/>
            <p:nvPr/>
          </p:nvSpPr>
          <p:spPr>
            <a:xfrm>
              <a:off x="2857680" y="1854000"/>
              <a:ext cx="3423960" cy="280800"/>
            </a:xfrm>
            <a:prstGeom prst="flowChartMagneticDrum">
              <a:avLst/>
            </a:prstGeom>
            <a:solidFill>
              <a:srgbClr val="bbe0e3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3750480" y="1607400"/>
              <a:ext cx="1409760" cy="909360"/>
            </a:xfrm>
            <a:prstGeom prst="pie">
              <a:avLst/>
            </a:prstGeom>
            <a:solidFill>
              <a:srgbClr val="0000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1925280"/>
              <a:ext cx="973080" cy="138240"/>
            </a:xfrm>
            <a:prstGeom prst="rightArrow">
              <a:avLst>
                <a:gd name="adj1" fmla="val 50000"/>
                <a:gd name="adj2" fmla="val 51424"/>
              </a:avLst>
            </a:prstGeom>
            <a:solidFill>
              <a:srgbClr val="00ff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800000">
              <a:off x="1778760" y="1536840"/>
              <a:ext cx="266760" cy="909720"/>
            </a:xfrm>
            <a:prstGeom prst="lightningBolt">
              <a:avLst/>
            </a:prstGeom>
            <a:solidFill>
              <a:srgbClr val="60606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840" y="1496880"/>
              <a:ext cx="123840" cy="909720"/>
            </a:xfrm>
            <a:prstGeom prst="ellipse">
              <a:avLst/>
            </a:prstGeom>
            <a:solidFill>
              <a:srgbClr val="9933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895400" y="1696680"/>
              <a:ext cx="336600" cy="64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0" name=""/>
            <p:cNvCxnSpPr/>
            <p:nvPr/>
          </p:nvCxnSpPr>
          <p:spPr>
            <a:xfrm>
              <a:off x="3998520" y="2068200"/>
              <a:ext cx="26280" cy="456480"/>
            </a:xfrm>
            <a:prstGeom prst="straightConnector1">
              <a:avLst/>
            </a:prstGeom>
            <a:ln cap="sq" w="25560">
              <a:solidFill>
                <a:srgbClr val="0000cc"/>
              </a:solidFill>
              <a:miter/>
              <a:tailEnd len="med" type="arrow" w="med"/>
            </a:ln>
          </p:spPr>
        </p:cxnSp>
        <p:sp>
          <p:nvSpPr>
            <p:cNvPr id="71" name=""/>
            <p:cNvSpPr/>
            <p:nvPr/>
          </p:nvSpPr>
          <p:spPr>
            <a:xfrm>
              <a:off x="4214880" y="2568240"/>
              <a:ext cx="137880" cy="1238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rcRect l="0" t="0" r="17062" b="0"/>
            <a:stretch/>
          </p:blipFill>
          <p:spPr>
            <a:xfrm>
              <a:off x="3643200" y="2282760"/>
              <a:ext cx="21132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85600" y="149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Магнитное пол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072640" cy="44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– вихревое поле, в каждой точке поля вектор магнитной индукции имеет определенное направление, которое указывает магнитная стрелка или его можно определить по правилу бурав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не имеет источников (магнитных зарядов в природе не существу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0:59:41Z</dcterms:created>
  <dc:creator>Morena</dc:creator>
  <dc:description/>
  <dc:language>en-US</dc:language>
  <cp:lastModifiedBy>Марта</cp:lastModifiedBy>
  <dcterms:modified xsi:type="dcterms:W3CDTF">2012-09-04T20:11:06Z</dcterms:modified>
  <cp:revision>13</cp:revision>
  <dc:subject/>
  <dc:title>§2  Вектор магнитной индукции. Линии магнитной индукции</dc:title>
</cp:coreProperties>
</file>