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4C0A-1E19-442F-BC20-0238FD145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7440-EB4F-4300-B919-6945EE8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DC04-7A24-4A72-93C6-DCA03AA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CD69-81FA-48C0-A2A0-A3602FD62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EC6D-2F29-467A-9FEA-70361B96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2407-DB1E-4449-99E4-4580CA0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2408-6BE8-4251-B817-D9A2952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2811-38D8-43CF-B114-821C26E6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7588-0B92-417D-8F58-89116136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C438-7AAD-40A2-8DD5-C8243C6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3C80-93C5-4FC9-8C3F-5DDA61E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8B15-1B4B-4D10-9216-F95DFE29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990AD9-E826-403A-B470-1A42C6F6D4D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ка и техни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3886200"/>
            <a:ext cx="4535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ыполнил учитель физики МБОУ  СОШ№22 имени Г.Ф.Пономарё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гарамов З.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2019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3783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ве сестры качалис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ды добивалис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когда добилис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 остановилис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45324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говорило говорило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ышно по всему ми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88000" y="3068640"/>
            <a:ext cx="3240000" cy="28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я тебя пове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давай ты мне ове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рми меня бензин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пытца дай рези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огда, поднявши пыл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жи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16360" y="3935520"/>
            <a:ext cx="338472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облаками он лет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ую ленту за собой оставля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3916440"/>
            <a:ext cx="338292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773360"/>
            <a:ext cx="58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удо-птица, алый хвос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етела в стаю звезд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3749760"/>
            <a:ext cx="2519640" cy="25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домики подр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лесах стоя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бежал к ним сам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вар с тр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хватил, покатил, и след просты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548" t="3856" r="3546" b="0"/>
          <a:stretch/>
        </p:blipFill>
        <p:spPr>
          <a:xfrm>
            <a:off x="4859280" y="4273560"/>
            <a:ext cx="428472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ла я солнц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свое оконц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отолку повесил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о дома весел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259236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 и ночь стоит на кры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чудо-посто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видит все услыш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поделится со м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64000" y="4049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 Москве, он в Барна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зных комнатах сид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леко, а будто ря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вариваем с н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нам помог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280836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ое значение имеют открытия в области физики для развития тех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403848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ою очередь развитие техники влияет на развитие на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276640"/>
            <a:ext cx="403848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два дивных ок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ним все близк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дале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086280" cy="23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ка изучает физические яв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Механ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Тепло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Свето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Электр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Магни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 основе изучения этих явлений  создают различную тех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Проверь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еб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чески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566040" cy="394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5003640" cy="5162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16000" y="1152360"/>
            <a:ext cx="7091280" cy="532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14360" y="5616720"/>
            <a:ext cx="593640" cy="6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87640" y="1297080"/>
            <a:ext cx="7282080" cy="45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9680" y="3521160"/>
            <a:ext cx="7402320" cy="324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-1079640" y="1816200"/>
            <a:ext cx="4969080" cy="45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товые ( оптические)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1680" y="2625840"/>
            <a:ext cx="815796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68360" y="1555920"/>
            <a:ext cx="4751640" cy="424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487760" cy="4968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521160" y="1295280"/>
            <a:ext cx="6054480" cy="45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-163440" y="1778040"/>
            <a:ext cx="693108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ически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63640" y="1270080"/>
            <a:ext cx="5400720" cy="558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582768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835280" y="2298600"/>
            <a:ext cx="4897440" cy="37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нитн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113080" cy="31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124000" y="625968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584360" y="2154240"/>
            <a:ext cx="5832360" cy="3533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167600" y="6181560"/>
            <a:ext cx="1440" cy="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и, определите на  основе каких физических явлений  созданы данные прибо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2:31:54Z</dcterms:created>
  <dc:creator>саломатов</dc:creator>
  <dc:description/>
  <dc:language>en-US</dc:language>
  <cp:lastModifiedBy>николай</cp:lastModifiedBy>
  <dcterms:modified xsi:type="dcterms:W3CDTF">2012-11-28T01:49:12Z</dcterms:modified>
  <cp:revision>13</cp:revision>
  <dc:subject/>
  <dc:title>Физика и техника 7 класс</dc:title>
</cp:coreProperties>
</file>