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32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8BCB-E4EA-4C1D-9444-CB7C8159C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EAB1-E548-498C-8A61-AF5C1149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4541-1466-4DC2-B29A-861F2EEE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847A-B97D-412A-87C6-A9CA759B07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F24E-1449-40B6-AF63-E475D64F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EBAB-3D41-4690-8B62-2E76E41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2617-516F-4512-B64D-A5ABF8A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51D9-AA9E-4D84-8EA7-3F5E9C41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AF783-E431-4B9A-8483-D463CF44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71BD-1157-4F30-9CB1-E1A02DE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F7A9-77D9-4FDB-BA21-88A30F7F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E976-03AA-4779-B0B7-D128ADBA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202C1B-22AA-4D76-A4D5-4BD332A376D0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76280"/>
            <a:ext cx="7772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ка и техни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3886200"/>
            <a:ext cx="4535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Выполнил учитель физики МБОУ  СОШ№22 имени Г.Ф.Пономарё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г. Сург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агарамов З.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2019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3783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ве сестры качались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ды добивались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когда добилис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о остановилис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84720" y="2924280"/>
            <a:ext cx="453240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говорило говорило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ышно по всему ми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788000" y="3068640"/>
            <a:ext cx="3240000" cy="28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я тебя пове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давай ты мне ове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рми меня бензин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опытца дай резин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огда, поднявши пыл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бежит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16360" y="3935520"/>
            <a:ext cx="3384720" cy="24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облаками он лета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ую ленту за собой оставля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3916440"/>
            <a:ext cx="3382920" cy="22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773360"/>
            <a:ext cx="58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удо-птица, алый хвос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етела в стаю звезд.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3749760"/>
            <a:ext cx="2519640" cy="25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за домики подря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олесах стоя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бежал к ним сам со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вар с труб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хватил, покатил, и след просты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548" t="3856" r="3546" b="0"/>
          <a:stretch/>
        </p:blipFill>
        <p:spPr>
          <a:xfrm>
            <a:off x="4859280" y="4273560"/>
            <a:ext cx="428472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ла я солнц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свое оконц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потолку повесил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ло дома весел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259236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ь и ночь стоит на кры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чудо-постов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увидит все услыш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поделится со мн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64000" y="4049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в Москве, он в Барна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азных комнатах сид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леко, а будто ря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овариваем с н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нам помогае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03640" y="3284640"/>
            <a:ext cx="2808360" cy="20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жное значение имеют открытия в области физики для развития тех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403848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ою очередь развитие техники влияет на развитие на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2276640"/>
            <a:ext cx="403848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680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два дивных ок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ним все близк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далек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3086280" cy="23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ка изучает физические явл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Механическ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Теплов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Светов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Электрическ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Магнит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а основе изучения этих явлений  создают различную тех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Calibri"/>
              </a:rPr>
              <a:t>Проверь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себ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чески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6566040" cy="394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92360" y="1197000"/>
            <a:ext cx="5003640" cy="5162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16000" y="1152360"/>
            <a:ext cx="7091280" cy="532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14360" y="5616720"/>
            <a:ext cx="593640" cy="62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вы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87640" y="1297080"/>
            <a:ext cx="7282080" cy="45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49680" y="3521160"/>
            <a:ext cx="7402320" cy="3246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-1079640" y="1816200"/>
            <a:ext cx="4969080" cy="45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етовые ( оптические)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1680" y="2625840"/>
            <a:ext cx="8157960" cy="1882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68360" y="1555920"/>
            <a:ext cx="4751640" cy="4240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556000" y="1197000"/>
            <a:ext cx="4487760" cy="4968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521160" y="1295280"/>
            <a:ext cx="6054480" cy="455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-163440" y="1778040"/>
            <a:ext cx="693108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ически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63640" y="1270080"/>
            <a:ext cx="5400720" cy="5587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5827680" cy="39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835280" y="2298600"/>
            <a:ext cx="4897440" cy="37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гнитны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8783640" y="6451560"/>
            <a:ext cx="360360" cy="4064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6440"/>
              <a:gd name="textAreaBottom" fmla="*/ 383400 h 406440"/>
            </a:gdLst>
            <a:ahLst/>
            <a:rect l="textAreaLeft" t="textAreaTop" r="textAreaRight" b="textAreaBottom"/>
            <a:pathLst>
              <a:path w="21600" h="24359">
                <a:moveTo>
                  <a:pt x="0" y="0"/>
                </a:moveTo>
                <a:lnTo>
                  <a:pt x="21600" y="0"/>
                </a:lnTo>
                <a:lnTo>
                  <a:pt x="21600" y="24359"/>
                </a:lnTo>
                <a:lnTo>
                  <a:pt x="0" y="24359"/>
                </a:lnTo>
                <a:close/>
              </a:path>
              <a:path fill="lightenLess" w="21600" h="243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59">
                <a:moveTo>
                  <a:pt x="21600" y="0"/>
                </a:moveTo>
                <a:lnTo>
                  <a:pt x="21600" y="24359"/>
                </a:lnTo>
                <a:lnTo>
                  <a:pt x="20200" y="22959"/>
                </a:lnTo>
                <a:lnTo>
                  <a:pt x="20200" y="1400"/>
                </a:lnTo>
                <a:close/>
              </a:path>
              <a:path fill="darkenLess" w="21600" h="24359">
                <a:moveTo>
                  <a:pt x="21600" y="24359"/>
                </a:moveTo>
                <a:lnTo>
                  <a:pt x="0" y="24359"/>
                </a:lnTo>
                <a:lnTo>
                  <a:pt x="1400" y="22959"/>
                </a:lnTo>
                <a:lnTo>
                  <a:pt x="20200" y="22959"/>
                </a:lnTo>
                <a:close/>
              </a:path>
              <a:path fill="lighten" w="21600" h="24359">
                <a:moveTo>
                  <a:pt x="0" y="243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59"/>
                </a:lnTo>
                <a:close/>
              </a:path>
              <a:path fill="darken" w="21600" h="24359">
                <a:moveTo>
                  <a:pt x="10800" y="5217"/>
                </a:moveTo>
                <a:lnTo>
                  <a:pt x="13376" y="7828"/>
                </a:ln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lnTo>
                  <a:pt x="17763" y="12180"/>
                </a:lnTo>
                <a:lnTo>
                  <a:pt x="16109" y="12180"/>
                </a:lnTo>
                <a:lnTo>
                  <a:pt x="16109" y="19369"/>
                </a:lnTo>
                <a:lnTo>
                  <a:pt x="5491" y="19369"/>
                </a:lnTo>
                <a:lnTo>
                  <a:pt x="5491" y="12180"/>
                </a:lnTo>
                <a:lnTo>
                  <a:pt x="3837" y="12180"/>
                </a:lnTo>
                <a:close/>
              </a:path>
              <a:path fill="darkenLess" w="21600" h="24359">
                <a:moveTo>
                  <a:pt x="13376" y="7828"/>
                </a:moveTo>
                <a:lnTo>
                  <a:pt x="13376" y="6087"/>
                </a:lnTo>
                <a:lnTo>
                  <a:pt x="15152" y="6087"/>
                </a:lnTo>
                <a:lnTo>
                  <a:pt x="15152" y="9603"/>
                </a:lnTo>
                <a:close/>
              </a:path>
              <a:path fill="darkenLess" w="21600" h="24359">
                <a:moveTo>
                  <a:pt x="9877" y="15679"/>
                </a:moveTo>
                <a:lnTo>
                  <a:pt x="11723" y="15679"/>
                </a:lnTo>
                <a:lnTo>
                  <a:pt x="11723" y="19369"/>
                </a:lnTo>
                <a:lnTo>
                  <a:pt x="16109" y="19369"/>
                </a:lnTo>
                <a:lnTo>
                  <a:pt x="16109" y="12180"/>
                </a:lnTo>
                <a:lnTo>
                  <a:pt x="5491" y="12180"/>
                </a:lnTo>
                <a:lnTo>
                  <a:pt x="5491" y="19369"/>
                </a:lnTo>
                <a:lnTo>
                  <a:pt x="9877" y="1936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sq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5113080" cy="31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124000" y="6259680"/>
            <a:ext cx="1800" cy="1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584360" y="2154240"/>
            <a:ext cx="5832360" cy="3533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167600" y="6181560"/>
            <a:ext cx="1440" cy="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гадайте загадки, определите на  основе каких физических явлений  созданы данные прибор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2:31:54Z</dcterms:created>
  <dc:creator>саломатов</dc:creator>
  <dc:description/>
  <dc:language>en-US</dc:language>
  <cp:lastModifiedBy>николай</cp:lastModifiedBy>
  <dcterms:modified xsi:type="dcterms:W3CDTF">2012-11-28T01:49:12Z</dcterms:modified>
  <cp:revision>13</cp:revision>
  <dc:subject/>
  <dc:title>Физика и техника 7 класс</dc:title>
</cp:coreProperties>
</file>