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6.gif" ContentType="image/gi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F62F8-F39D-4036-906B-574B602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65BFB-E30A-49CE-9DEB-1A9B722C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40A4A-3B1D-4C8C-BA27-D10EE1DA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DF29C-21F9-491A-89AF-48933C4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C1015-B2E1-4F61-BCCF-9FC1726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66693-DBAC-4DA8-97DB-7DD4781B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02982-D67D-4B99-BAA0-5ECD3A08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53563-9175-42A5-A519-7118B88F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9508F-E0C3-4838-8467-FAF8135E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9E87D-9E42-4EF8-8174-D1AD4779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55DCA-180B-463F-8DE9-CA85F5DE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F2D88-6F9E-42B3-95AC-5BBEB62F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5FBCE-118E-4F2F-9EB8-EFC2A1B9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31953-8425-409F-BF40-941BBA9C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E850E-4163-4650-89D5-A029E47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E2325-0632-4C0A-B54B-91F84ED2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9A3CF-3396-4E29-8299-7298A10E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7BB17-3C58-4926-956D-B544D4A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1BDDE-A315-49B7-81A2-358960FC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F61F4-F47C-4B01-955B-43F9DDA5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A22FB-15B5-44D8-B764-B05B3834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17390-4F93-44BE-AF66-4057DC06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DE092-3343-42E3-8F5F-9221D008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140DF-DAF5-4F40-BA24-D9000CC5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64003-0FF0-4CC0-BB79-800BC885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54401-1BD6-473A-ACDF-1F587CA9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2194D-5777-45CA-AFC8-E1B1BCFE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D6078-2D5A-4A3C-A004-160945BA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2DF57-7D49-458F-9DC9-F12A0B56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F3600-7510-426E-B619-93BD1074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59F-8707-48C7-B34E-B72FFFAC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07352-C9EE-4492-8E6F-4B23FE96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F7735-92CF-40B5-843B-B367BBBF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21427-883B-4F74-AF41-CBCB1B00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468DA-C8A2-4164-81BE-F8D8F264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66A94-010D-4A39-B85A-99B7C7A2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53DAD-1FE8-4A41-84A4-384F01C5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8EE73-FA52-4EB2-8E0E-EB5D8424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DE828-C61B-4FCB-A064-1B8E41CD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9DB67-6179-4C8F-99EE-5E5BD4BC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03870-B426-482F-91CD-0BB83DB0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CAE-22E3-4484-966E-AE181FA7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2F320-7401-42E0-95A8-E7375EFD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92302-3963-4417-A42F-5329D439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CEDE5-546E-4C2F-A5B2-AC5FE54E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70433-B64F-4449-BBF8-D04942F9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78AF8-41B6-45D7-A70F-FEC4CB22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286-898F-476B-BA03-B1094627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76E-1A40-438B-B3E0-51DACA24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D1D-60EF-4FAC-869C-2B138422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E57-6861-4921-BB6A-1243A55C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89C-04AA-4779-9DCD-99CFE073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B49-712A-42A0-AD42-3FC787F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0D3-8A08-40E0-B7D3-9E60C64A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D69-0576-4BAF-8942-F18DC848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8DE-5582-45D6-9728-F5792DB5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429-2701-406B-BB78-F6B82697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E939-53A5-4221-8F21-076B5B33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F0B8-3396-472C-AB7F-6997E141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5997-17A7-4B4D-B1FA-901C744C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AB9A-5D02-4221-BDA2-7B6B354D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A892-F7A5-4AB2-A849-BB39CF08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E518-F6FA-4977-ACD3-FC27993D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E140-56FB-47AE-B3EA-D52816FC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18FF-07FD-472D-946F-A547139B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31D0-66CA-4D67-9AEE-0AC65C6C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5934-FF49-42F4-83B0-DB895726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5F22-E47B-4BA3-AD47-3413F8FC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32A8-466D-4D54-99DF-F2ABD0E1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8CE63-9564-4D39-B77D-1DD789D3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D354-D0C8-41D6-8327-FC3D7B40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06DC-6F62-4185-8692-35C70B74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9C84-5975-42AE-88F5-D76421FE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2F79-1301-482E-945A-B1CDFAAD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3993-F78C-4D86-9585-D6788523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87027-17FE-40C3-B968-62F97DE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9A23-E034-4566-AFF8-FB06ECE6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5C68-2242-497C-84C2-90727C20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30EC-674E-425B-BC93-68EFB6E3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0619-7AED-415C-893C-4EEC8653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957D-D985-4A23-8F92-0FA3FDB9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9266-3BD0-4710-8B79-7F95778C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1C735-22C3-4780-ABAE-37D4B91D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14A17-2051-4835-9E47-4906AA11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502D-D87E-4B3D-BEB2-5D463008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99206-5DDC-4159-8878-9D7813B2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4471F-862E-410B-9538-048B00FA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D960-6BA3-47FC-B1C0-B4BFA988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2EC01-A4B6-491B-BA55-5EC488FF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CBDC3-7E44-4C4A-A1CC-BEC3E885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CF0C-3D01-43B0-ABFF-4C641D18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AC48F-73BD-46A6-962F-F3F7B48B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53505-A363-44F4-9B09-C5C8AFE9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F8389-A35C-4F3D-81A9-C1FDBF0D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565BA-92FC-4DA6-B70A-38ECF810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FF011-217A-4B94-825C-83C06614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4C67C-82B9-494B-95FB-AE11B2C5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F3AA0-BB5C-4CE1-ABE5-93E51A42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46A47-4674-4D85-B842-FBFC8076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75A64-D6F4-4F4E-BF90-F71FEA3F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6A75D-9095-4850-9119-753E046C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98D08-E495-4400-A808-6B49C101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E1F5-7CAA-418E-A591-21FBB0EF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A57B6-072D-49AA-A812-468B3D12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CB31-5F7B-41D9-9106-3188E959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A6EEA-7F58-4AA1-A9E0-4188B77C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188D1-A258-46F4-A4B4-0D6E975F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C608-E21F-449D-84F7-9112569E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49E94-CA07-4373-9FBB-1D819FC2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C9747-A471-4951-9D94-0F111FE8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A9BED-F23B-442A-A9C5-C45A2AB2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2B35-443B-43FF-B23B-5AD9B6A6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19379-D95D-47E4-8A31-5E48B20F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5910B-C4D4-4921-88F3-C46A4D3A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137A6-5240-42E7-8751-4E822A53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4B05-5F5C-4EBC-BDAB-C94446E8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A5488-81F4-43D7-A3D1-8F3C65F1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9E006-FC67-481C-BF69-366ADF75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19768-19EC-4203-ADF6-B5BDB511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B06A-3563-422A-B6D7-BFC768DD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4F2F2-4E91-45D2-B160-87AABA7C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ECBE7-AAEB-4A75-8D10-D9D30C5B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4842F-FA9B-451A-8860-1A96DF5F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4F86A-13EF-4E4F-BAB3-B5EF4D4A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2C912-72F6-49D8-B8A1-A8B1A598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A13E5-3FC5-4522-A691-62740038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BB397-D921-40EB-B07B-4E7F1307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76B3-60F4-4507-9F79-3026E6DA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F41A2-2D1C-44BE-BA0B-E451C2D7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6DD73-09A5-4608-AA05-1B666878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FD08-26E7-405B-80AB-E86BD768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1003A-F465-4012-85D5-9FC4E06C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CDAF-578D-4A58-8667-8B336B9DF043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4495-D05D-477B-8A4F-01661FAE829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C84B-1B36-4A5C-9154-0C0EA3935F89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B4DC-37F8-41BF-B504-AAC548248FC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633D-9F8F-46BD-8407-8EC0B10AF3C9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24D1-0BDF-4DAF-BA28-DB3A5556711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8EEA-EF7F-46FF-B8D3-0D0217F40AC3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7046-38A3-41C4-931F-A2E7EB6CC14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9926-CF85-49A5-A639-1DA992D4586E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0CA9-BDB1-4E61-BF93-7F342A76325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3AE3-7E55-4A74-BA99-5FC21AFB04A4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7B59-6247-4EB8-87DB-28F5DA4F26D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6857-6E55-462C-BAC5-41DD0C6F4C9C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A53C-5699-41D9-8E17-DB147B84E22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3FCD-7C1D-427B-9E59-2D97F9906132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BED0-9A83-4997-AB6F-EE055EE8B15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6726-7A11-404D-8851-490F07341DD2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AF98-8020-43C3-BC3A-F9F8B2DC920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5E6C-B2C5-478C-95EF-023DC2B79CE0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638D-2E52-4477-A249-9FB236EAAAF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02AC-061E-443D-83EF-332C44431317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5512-FF06-486E-849E-C44FD98A3F7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5" descr=""/>
          <p:cNvPicPr/>
          <p:nvPr/>
        </p:nvPicPr>
        <p:blipFill>
          <a:blip r:embed="rId1"/>
          <a:stretch/>
        </p:blipFill>
        <p:spPr>
          <a:xfrm>
            <a:off x="914400" y="2130480"/>
            <a:ext cx="10363320" cy="169236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52560" y="-511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647640" y="174600"/>
            <a:ext cx="1083780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Замещающее содержимое 3" descr="9060317_2c62329d765b26338a6c9046cf04e1c2_800"/>
          <p:cNvPicPr/>
          <p:nvPr/>
        </p:nvPicPr>
        <p:blipFill>
          <a:blip r:embed="rId1"/>
          <a:stretch/>
        </p:blipFill>
        <p:spPr>
          <a:xfrm>
            <a:off x="106200" y="-28440"/>
            <a:ext cx="1195884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Замещающее содержимое 6" descr="fotosmall"/>
          <p:cNvPicPr/>
          <p:nvPr/>
        </p:nvPicPr>
        <p:blipFill>
          <a:blip r:embed="rId1"/>
          <a:stretch/>
        </p:blipFill>
        <p:spPr>
          <a:xfrm>
            <a:off x="206280" y="-82440"/>
            <a:ext cx="11722320" cy="72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Замещающее содержимое 4" descr="img_2789"/>
          <p:cNvPicPr/>
          <p:nvPr/>
        </p:nvPicPr>
        <p:blipFill>
          <a:blip r:embed="rId1"/>
          <a:stretch/>
        </p:blipFill>
        <p:spPr>
          <a:xfrm>
            <a:off x="270000" y="-231840"/>
            <a:ext cx="11822040" cy="72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Замещающее содержимое 4" descr="Semenovskaj_matreshka_enly5_enl"/>
          <p:cNvPicPr/>
          <p:nvPr/>
        </p:nvPicPr>
        <p:blipFill>
          <a:blip r:embed="rId1"/>
          <a:stretch/>
        </p:blipFill>
        <p:spPr>
          <a:xfrm>
            <a:off x="798480" y="-133200"/>
            <a:ext cx="10291680" cy="71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Замещающее содержимое 4" descr="матр"/>
          <p:cNvPicPr/>
          <p:nvPr/>
        </p:nvPicPr>
        <p:blipFill>
          <a:blip r:embed="rId1"/>
          <a:stretch/>
        </p:blipFill>
        <p:spPr>
          <a:xfrm>
            <a:off x="554040" y="-257040"/>
            <a:ext cx="11131560" cy="73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Замещающее содержимое 5" descr=""/>
          <p:cNvPicPr/>
          <p:nvPr/>
        </p:nvPicPr>
        <p:blipFill>
          <a:blip r:embed="rId1"/>
          <a:stretch/>
        </p:blipFill>
        <p:spPr>
          <a:xfrm>
            <a:off x="1612800" y="61920"/>
            <a:ext cx="8918640" cy="6689880"/>
          </a:xfrm>
          <a:prstGeom prst="rect">
            <a:avLst/>
          </a:prstGeom>
          <a:ln w="0">
            <a:noFill/>
          </a:ln>
        </p:spPr>
      </p:pic>
      <p:pic>
        <p:nvPicPr>
          <p:cNvPr id="509" name="Замещающее содержимое 4" descr=""/>
          <p:cNvPicPr/>
          <p:nvPr/>
        </p:nvPicPr>
        <p:blipFill>
          <a:blip r:embed="rId2"/>
          <a:stretch/>
        </p:blipFill>
        <p:spPr>
          <a:xfrm>
            <a:off x="87480" y="47520"/>
            <a:ext cx="12072600" cy="70264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200160" y="9360"/>
            <a:ext cx="1176804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612720" y="19080"/>
            <a:ext cx="1102824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7:29:02Z</dcterms:created>
  <dc:creator>Acer</dc:creator>
  <dc:description/>
  <dc:language>en-US</dc:language>
  <cp:lastModifiedBy>Acer</cp:lastModifiedBy>
  <dcterms:modified xsi:type="dcterms:W3CDTF">2017-03-12T08:29:3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674</vt:lpwstr>
  </property>
</Properties>
</file>