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60246-5123-4E27-96FC-5C4C10B3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430A-62A5-4CDD-9B43-C3A0D85A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0F3C-C04F-4CB4-8EF9-B715B75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3CACE-E360-46F9-B7E7-1EEB2C05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14B16-261D-43CB-AA56-78FBF37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11AF-0FEA-4EB3-BAA6-F2CDE691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7B5F-72B1-4414-A413-CF1530A2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65CB-69D7-4E52-A851-2833A786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6CC5-3F12-461A-831C-42B66564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07D92-81FC-47D1-AC61-47F21991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87BCE-9057-4376-80B2-E50DCF1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D410-9131-4FBB-9D47-E6F50D9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60571-73BB-4D2F-BC3B-C188FDD3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12099-B919-498E-84AC-C78E3851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29FAD-A6D1-4B84-A578-54A0EB09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1D41-C763-4DAD-9815-53AF35E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69CE4-8CC4-4EB9-8DF9-8394791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C1FAB-B7F6-4FE2-AACB-257BFBA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D3E0C-8F75-4696-B6F2-4D3D75E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7A003-BC6D-413C-A488-C2A9C930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F84E8-6590-4A9E-A4EF-84860213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05C9-5EEE-4C61-B8F5-02879AAE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3BA57-19CA-4314-819A-053F0C5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57B9F-2652-4D6C-8077-F5003F11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4E592-86B0-49CB-BCF3-1F26CDC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A04EC-137C-4E99-AB4E-7387A2B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74FDC-677B-4D06-8173-C49F1D7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270FA-3971-4359-AF08-EB75966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D8B4C-B17B-4331-9D99-4F2A627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581B2-5712-49D8-99AD-D6EC249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2EE-1AF1-4A6B-88DE-1B68EF51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BD437-0CE8-422E-A220-79B78A4C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518E-9964-4E53-927F-B77EAF32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9CB1E-88FC-4C78-B8D2-FFC841E9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3F60-644C-4D20-9BE7-ED3B783C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5708E-691B-4075-B8F1-BECDDDC0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45047-DB81-4738-967D-0537EAA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74E64-EAA9-4E3D-821A-B8DA24B1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F15FA-28F2-4518-8087-D22D784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701B8-5059-4B07-ABD3-FE49F61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1D6E6-00DE-4A72-943F-05F4E026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C6A-3BB4-420F-8470-09089456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FB723-FEAA-4C45-A03C-78BA31D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F2F02-4DEC-452A-A6A3-40752D9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127DC-6E5F-4B6B-85D9-2FA9C1D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01EF0-304C-4D35-8B58-C3D30628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E89FC-4798-429B-864E-6CA0B7AC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0EE-2FEE-4477-AEBA-C90FABF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2D8-F373-46F8-9B39-7DB67295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B7C-1F31-4DD2-BAE3-3176AD63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5FA-EFB8-4A3C-BCD5-F390245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6D2-7DD7-4D45-8E6A-300397A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50B-69D4-4D74-9595-DBD6FB7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B11-8C05-4BEE-A48E-A640FB6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BEF-8F2A-4B3B-9387-0862CCF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AED-5D7C-4EA9-841D-83BE05BE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FE2-8D4A-4395-BB34-54E04B9E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4BD-5366-4A0D-8160-6F5EBBBE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560-79CE-485B-A45E-9FAC1A2B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336A-724F-4105-B0F3-502E509C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4668-2397-492B-8A57-BDF10FFD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915-72A0-4F7F-984C-FADEF65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FF4-C308-4298-A580-8F04E22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DAA5-3EC5-46DE-8990-24FB334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3A90-F980-47DF-B130-C9FA129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7015-AA6B-4999-B883-49C75F1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C14E-9B7F-4D2F-8F50-4CB7888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F4FE-7192-44F4-A3E0-F34AAB7C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A8C0-B840-413E-8316-7362AC46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269A-EB5F-4607-9C59-3AC9724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7175-D153-42BE-9296-3EF4701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F1EE-51FD-45CF-B969-248100C8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6B5A-6BF3-42EC-AD94-B1BFD126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1649-A509-41A0-BC10-84469ED2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CA18-852C-4061-8C96-1EFFDD5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6F0B-EE54-465D-B89E-3008446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F5AE-1B6E-4DD0-9AD3-DFB0C758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832F-3538-4035-BDB8-5F589E64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B15D-D1F5-4BCA-9B03-16028810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02AD3-0629-4A4A-AE68-897CAA43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5DA9-4D17-4659-BA57-06109CE3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8D8E-FFF1-4F95-9E9B-9D2BDBB3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65820-F320-49AC-83CD-D0191EE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CC10-8A4C-43B0-8625-3DB9D63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8852-5F8C-4475-9ECF-C34C9D8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6F69-9A8A-4B39-8858-7F8647E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A84E8-9158-4051-BA82-8F2F91EA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3997D-4110-4434-B871-1A36802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F580-E2B5-4C5B-BF35-66EAD06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78DC-FF23-4354-AACA-D3102B8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6512-8379-4837-9E83-E2847796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A0F28-2D4D-4692-A381-261D81EC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08BE-FB35-4C7F-81BC-E285D535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280F-F2A2-4E8D-BB63-C11DB591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59C0-63EF-4EAF-BBD6-17FD9AB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278B-E0DC-4E17-B6FE-56F8206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33ED-A4E7-49FC-B3AC-7AD1C07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27F7C-92AF-462D-B359-20DAE740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1646-3519-4B02-912F-A21940F0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408A8-6695-4DFE-BC0C-A2BA084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765E-802B-46CF-94CE-E64FD4C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3A1E-FF8D-4F95-9E69-6F1CC0B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7FB8-B457-411F-917E-8D6D975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A9C9-075C-41F3-A51E-D9FE5A94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8B47-0020-467D-A0F0-EAF09115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532A-43D2-4F76-AE0F-23F6CDDD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78DB-8601-40BF-BF4B-67B8742D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E07FB-C58D-42D6-8AAA-E581DF0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1621-4E5D-495C-99D7-78DE37E6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62029-DC8D-4750-B9A9-39B39AB9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09AC-33F6-4229-939C-7BAD859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115F-069B-448D-A0A4-A36083A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9CF0-62F4-4524-BAE8-6BECDC6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55F4A-9801-4E43-AD97-8FADBE3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ADC0-99D7-42D2-A9A1-735E761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0D3DD-C681-439A-A826-B8364B42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1CA0D-B179-45D3-A021-EB0B0632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2524-71AF-4A37-83B5-064520DA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7EAD-69EE-4495-9664-8FB8236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E7FB-4829-4116-BC89-E6EDFDD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20EF-F2A5-4522-B629-C1C74B9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C0AA-A880-47FB-83F3-9D35A02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D742-B6DF-42A3-94B5-DD3E586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7076D-D70A-49CC-A50F-992199E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A8E4-A89B-4686-AF6A-DB6DAE8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3619-CEE0-45A9-B460-E57FF02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14DA-686F-49E9-9C7B-2F38F6FD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119E7-CEF5-465B-899C-3D7A3D6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03D9E-F678-4FE6-BEA4-36CAE093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BE17A-2D2B-4736-821E-1AFA5032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5C630-2811-4320-8B02-BBA2421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EDDA-E033-4538-8E2E-7341431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E749-0549-4087-9CAC-0CE433C141A2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77C-60A2-480C-A531-9D9A589F079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077-F181-45CC-BAAC-C5BD61A85046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96A-DC52-4D4B-BC0F-73E6A357163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D1A3-7DE7-4CA6-B31C-27E89C4D6876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4D58-E186-4292-8B8D-7CF5E537545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A3C-57A2-4CCC-8504-2FF47526DDE7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B1B-6370-4DF4-9ECD-FC5F6058F2D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F72-A38D-4A20-A557-BB9A918641A1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A82A-E2B8-464B-8B5E-043AFDC38D5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A57-E80C-4C6E-BCEC-AF6F8D745651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42FC-1A8E-4039-8B6E-49B7B646A2B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85D-008D-47ED-87E0-DD45A6E50E07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0C24-F42E-45EF-AE79-B10C408B4F6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4538-6614-44D4-A260-EA5ED4FEC875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72B7-1F02-4D63-BE75-81712C74D5F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327D-CC35-4FA2-9339-972BD171397B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DCF6-4105-480D-9358-FA50C60735F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1095-EB1D-4999-B6FA-B86D3C6808E0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F85A-F314-433B-B2FE-934E22466B6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12"/>
          <p:cNvSpPr/>
          <p:nvPr/>
        </p:nvSpPr>
        <p:spPr>
          <a:xfrm>
            <a:off x="208080" y="-144360"/>
            <a:ext cx="406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D:\Лидия\шаблоны\Ольга Бор\Care Bears\облака.png"/>
          <p:cNvPicPr/>
          <p:nvPr/>
        </p:nvPicPr>
        <p:blipFill>
          <a:blip r:embed="rId3"/>
          <a:stretch/>
        </p:blipFill>
        <p:spPr>
          <a:xfrm>
            <a:off x="2746440" y="1563840"/>
            <a:ext cx="6418080" cy="838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DE6-0CC0-4EDB-8A0D-C83A23B7157E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DC1-11E5-48FA-AC45-BBAC2B63526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5" descr=""/>
          <p:cNvPicPr/>
          <p:nvPr/>
        </p:nvPicPr>
        <p:blipFill>
          <a:blip r:embed="rId1"/>
          <a:stretch/>
        </p:blipFill>
        <p:spPr>
          <a:xfrm>
            <a:off x="914400" y="2130480"/>
            <a:ext cx="10363320" cy="169236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52560" y="-511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47640" y="174600"/>
            <a:ext cx="108378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Замещающее содержимое 3" descr="9060317_2c62329d765b26338a6c9046cf04e1c2_800"/>
          <p:cNvPicPr/>
          <p:nvPr/>
        </p:nvPicPr>
        <p:blipFill>
          <a:blip r:embed="rId1"/>
          <a:stretch/>
        </p:blipFill>
        <p:spPr>
          <a:xfrm>
            <a:off x="106200" y="-28440"/>
            <a:ext cx="1195884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Замещающее содержимое 6" descr="fotosmall"/>
          <p:cNvPicPr/>
          <p:nvPr/>
        </p:nvPicPr>
        <p:blipFill>
          <a:blip r:embed="rId1"/>
          <a:stretch/>
        </p:blipFill>
        <p:spPr>
          <a:xfrm>
            <a:off x="206280" y="-82440"/>
            <a:ext cx="11722320" cy="72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Замещающее содержимое 4" descr="img_2789"/>
          <p:cNvPicPr/>
          <p:nvPr/>
        </p:nvPicPr>
        <p:blipFill>
          <a:blip r:embed="rId1"/>
          <a:stretch/>
        </p:blipFill>
        <p:spPr>
          <a:xfrm>
            <a:off x="270000" y="-231840"/>
            <a:ext cx="1182204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Замещающее содержимое 4" descr="Semenovskaj_matreshka_enly5_enl"/>
          <p:cNvPicPr/>
          <p:nvPr/>
        </p:nvPicPr>
        <p:blipFill>
          <a:blip r:embed="rId1"/>
          <a:stretch/>
        </p:blipFill>
        <p:spPr>
          <a:xfrm>
            <a:off x="798480" y="-133200"/>
            <a:ext cx="10291680" cy="71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Замещающее содержимое 4" descr="матр"/>
          <p:cNvPicPr/>
          <p:nvPr/>
        </p:nvPicPr>
        <p:blipFill>
          <a:blip r:embed="rId1"/>
          <a:stretch/>
        </p:blipFill>
        <p:spPr>
          <a:xfrm>
            <a:off x="554040" y="-257040"/>
            <a:ext cx="11131560" cy="73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Замещающее содержимое 5" descr=""/>
          <p:cNvPicPr/>
          <p:nvPr/>
        </p:nvPicPr>
        <p:blipFill>
          <a:blip r:embed="rId1"/>
          <a:stretch/>
        </p:blipFill>
        <p:spPr>
          <a:xfrm>
            <a:off x="1612800" y="61920"/>
            <a:ext cx="8918640" cy="6689880"/>
          </a:xfrm>
          <a:prstGeom prst="rect">
            <a:avLst/>
          </a:prstGeom>
          <a:ln w="0">
            <a:noFill/>
          </a:ln>
        </p:spPr>
      </p:pic>
      <p:pic>
        <p:nvPicPr>
          <p:cNvPr id="509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87480" y="47520"/>
            <a:ext cx="12072600" cy="7026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200160" y="9360"/>
            <a:ext cx="1176804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97400" y="1600200"/>
            <a:ext cx="5384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12720" y="19080"/>
            <a:ext cx="110282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cer</dc:creator>
  <dc:description/>
  <dc:language>en-US</dc:language>
  <cp:lastModifiedBy>Acer</cp:lastModifiedBy>
  <dcterms:modified xsi:type="dcterms:W3CDTF">2017-03-12T08:29:3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74</vt:lpwstr>
  </property>
</Properties>
</file>