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271-45DE-4C5D-8EBE-AC5DD2D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8C-3979-4EC0-93CF-DDCD0618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2C3-1915-479F-8F7D-A67C352D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33D-078E-4E74-A16C-E2DE713E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4BF-D9DD-49DB-B2BA-FEBD4A26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1B8-9380-41BD-8A4C-8586D74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5B1-974B-4482-A09E-1CDD08C0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04DA-871A-4ADB-9419-045DBFF4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E32-9B49-4516-B0C8-9E5C7F58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778-BF4F-4D97-8B2B-490414DC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313E-E044-4E69-9D84-48D8F21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D7A-1870-40F5-A386-4A643ABD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2426-F381-4888-9DDF-9B1A313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0D0-4BE3-4F17-949C-DEE871D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EB5C-2479-49FD-9C84-0F38145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7B11-39FB-465C-B38A-B5DD46B0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DC73-802C-49AB-92AD-DD324551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67B-3D4D-4879-8012-22F29864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C0F-DED6-4B5F-9B39-AAE934C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70D-1BC3-4F09-AA4A-AC11F6B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AB5-0B0D-47F5-99F9-C58C5A8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B6A-C8DC-4D95-A409-129EA08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B7D-9E30-4AAC-BDED-E0159E3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8BB-2D55-46E6-AA04-180B9F8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140-8AD8-4DF7-B86F-8EED4044B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1A9-C804-4152-943A-616A692B1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Урок русского языка в 7 классе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анова Марин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cc6600"/>
                </a:solidFill>
                <a:latin typeface="Arial Black"/>
              </a:rPr>
              <a:t>Мягкий знак после шипящих на конце наречий</a:t>
            </a:r>
            <a:endParaRPr b="1" lang="en-US" sz="51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701800"/>
            <a:ext cx="80074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ботка навыка написания мягкого знака после шипящих на конце наречий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написание мягкого знака после шипящих в различных частях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ведём наши знания в поряд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1565280"/>
          <a:ext cx="8713800" cy="4592520"/>
        </p:xfrm>
        <a:graphic>
          <a:graphicData uri="http://schemas.openxmlformats.org/drawingml/2006/table">
            <a:tbl>
              <a:tblPr/>
              <a:tblGrid>
                <a:gridCol w="2903760"/>
                <a:gridCol w="3073320"/>
                <a:gridCol w="2736720"/>
              </a:tblGrid>
              <a:tr h="688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Буква </a:t>
                      </a:r>
                      <a:r>
                        <a:rPr b="0" lang="en-US" sz="2800" spc="-1" strike="noStrike">
                          <a:solidFill>
                            <a:srgbClr val="f05000"/>
                          </a:solidFill>
                          <a:latin typeface="Arial"/>
                        </a:rPr>
                        <a:t>ь </a:t>
                      </a: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ле шипящих на конц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реч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шет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пиш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.р., ед. ч .,3-е скл.: рожь, ночь, глуш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.р., ед. ч.: но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ж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вра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. Ч.: много да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ие имена прилаг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ж, паху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хоро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го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е лицо, ед.ч.: умывае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елит. накл.: спря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.ф.: испе</a:t>
                      </a: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иши правильно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 букв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ш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конце наречий пишется мягкий зна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: вска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, наотма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, про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 буквы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мягкий знак пишется только в слове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стеж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: уж, замуж, невтерпё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авило в стихах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от как надо поступ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бы правильно писа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крываешь настежь дв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рогоняешь скуку пр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скачь пускаешься и вериш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 напишешь точь-в-то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ак, как надо: вот шипящ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от за ним есть настоящ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Без подделки мягкий знак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Без него нельзя ника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Так в конце он засия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 кому-то «пять" постав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42000"/>
          </a:blip>
          <a:srcRect l="19337" t="22548" r="22735" b="8115"/>
          <a:stretch/>
        </p:blipFill>
        <p:spPr>
          <a:xfrm>
            <a:off x="1332000" y="2276640"/>
            <a:ext cx="237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5:30:11Z</dcterms:created>
  <dc:creator>User</dc:creator>
  <dc:description/>
  <dc:language>en-US</dc:language>
  <cp:lastModifiedBy>007</cp:lastModifiedBy>
  <dcterms:modified xsi:type="dcterms:W3CDTF">2008-02-04T03:23:17Z</dcterms:modified>
  <cp:revision>9</cp:revision>
  <dc:subject/>
  <dc:title>Урок русского языка в 7 классе</dc:title>
</cp:coreProperties>
</file>