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7.gif" ContentType="image/gif"/>
  <Override PartName="/ppt/media/image13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7.gif" ContentType="image/gif"/>
  <Override PartName="/ppt/media/image33.wmf" ContentType="image/x-wmf"/>
  <Override PartName="/ppt/media/image37.gif" ContentType="image/gi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26.png" ContentType="image/png"/>
  <Override PartName="/ppt/media/image39.wmf" ContentType="image/x-wmf"/>
  <Override PartName="/ppt/media/image41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38.wmf" ContentType="image/x-wmf"/>
  <Override PartName="/ppt/media/image52.wmf" ContentType="image/x-wmf"/>
  <Override PartName="/ppt/media/image50.gif" ContentType="image/gif"/>
  <Override PartName="/ppt/media/image53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18.wmf" ContentType="image/x-wmf"/>
  <Override PartName="/ppt/media/image20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42.wmf" ContentType="image/x-wmf"/>
  <Override PartName="/ppt/media/image34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11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A6253D-481C-458C-B2BB-A80F4B427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00092C-5EA9-4513-8D80-827E9DD402F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620992-A840-48A7-AFA4-77DA18452E4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07B535-3787-4977-82AC-F7052AEFA36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0F8-6F1C-4866-81AE-F5732C8E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86A-8916-4B06-9670-3FABCE6B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51D-79BA-444F-8F34-7452F3D2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B13-BB16-4610-805A-238665E1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0617-4939-4B9F-BDD7-4E749F96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E6B1-294F-49CC-B45D-E460E338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81EF-EE09-4EDC-B8D8-6757F14B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B66C-C1AD-45CE-A302-3DE93ACE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A697-D845-4CB8-9762-322C84C8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70E7-7AF6-49DA-88C8-A1E6C41D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1CE3-2ED0-47AA-9DFC-79D017D8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1BE-4C38-48FF-9BA6-297136FF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CB91-561D-481F-901A-B9C2C234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11E0-4BB3-4B4D-BA0B-DF7BB592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9097-49E5-475D-9F84-B1BD66A3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37FB-4026-48DB-B5AF-44FD7E55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1FD1-3F4F-44A6-B80A-68D0E82F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5E2-AA93-44BF-A3E9-F7CC744A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87D-4542-4CA6-906A-7AE7C401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A02-8A86-4B1E-BA61-A34EB168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AC0-9A36-416F-8F07-4B3383AE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4D4-8FFB-49AC-B3DF-9FEE3AB7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4E7-182F-4874-9751-7454FF9C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228-8FD7-4D77-89B1-CEB5C4AE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152584-5ADF-49C0-A5BB-AA46F4838ED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9E6812-E9AF-4307-A705-71C3D13E41D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6.wmf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5.wmf"/><Relationship Id="rId2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6.wmf"/><Relationship Id="rId2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49.wmf"/><Relationship Id="rId2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налогия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етодов решения геометрических задач на плоскости и в пространстве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Аничкина Валенти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8b8b8b"/>
                </a:solidFill>
                <a:latin typeface="Calibri"/>
              </a:rPr>
              <a:t>учитель Сытьковской общеобразователь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Куб 4"/>
          <p:cNvSpPr/>
          <p:nvPr/>
        </p:nvSpPr>
        <p:spPr>
          <a:xfrm>
            <a:off x="6929280" y="571320"/>
            <a:ext cx="1439640" cy="863640"/>
          </a:xfrm>
          <a:prstGeom prst="cube">
            <a:avLst>
              <a:gd name="adj" fmla="val 25000"/>
            </a:avLst>
          </a:prstGeom>
          <a:solidFill>
            <a:schemeClr val="accent6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Параллелограмм 5"/>
          <p:cNvSpPr/>
          <p:nvPr/>
        </p:nvSpPr>
        <p:spPr>
          <a:xfrm>
            <a:off x="571320" y="5500800"/>
            <a:ext cx="1367640" cy="791640"/>
          </a:xfrm>
          <a:prstGeom prst="parallelogram">
            <a:avLst>
              <a:gd name="adj" fmla="val 25000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Метод дополнительных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стро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ланиметр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Боковая сторона АВ трапеции АBCD равна l, а расстояние от середины CD до прямой AB равно m. Найти площадь трапеции АВСД  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роим трапецию АВСД, продолжив АК до пересечения с ВС. Рассмотрим подобные треугольники АМК и А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КН перпендикулярна АВ, значит КН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Треугольники 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и ДАК равны ( по второму признаку)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ет: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АВС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m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1"/>
          <p:cNvGraphicFramePr/>
          <p:nvPr/>
        </p:nvGraphicFramePr>
        <p:xfrm>
          <a:off x="4643280" y="5715000"/>
          <a:ext cx="676080" cy="39024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9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5715000"/>
                    <a:ext cx="67608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5"/>
          <p:cNvSpPr/>
          <p:nvPr/>
        </p:nvSpPr>
        <p:spPr>
          <a:xfrm>
            <a:off x="4437720" y="401400"/>
            <a:ext cx="2678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715160" y="500040"/>
          <a:ext cx="151920" cy="16164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15160" y="500040"/>
                    <a:ext cx="151920" cy="16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24"/>
          <p:cNvSpPr/>
          <p:nvPr/>
        </p:nvSpPr>
        <p:spPr>
          <a:xfrm>
            <a:off x="4457520" y="858600"/>
            <a:ext cx="2282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360" y="3249720"/>
            <a:ext cx="2282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437720" y="3325320"/>
            <a:ext cx="2678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3" descr=""/>
          <p:cNvPicPr/>
          <p:nvPr/>
        </p:nvPicPr>
        <p:blipFill>
          <a:blip r:embed="rId6"/>
          <a:stretch/>
        </p:blipFill>
        <p:spPr>
          <a:xfrm>
            <a:off x="4286160" y="3643200"/>
            <a:ext cx="4071600" cy="29286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03" name="Объект 34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04" name="Объект 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Объект 12"/>
          <p:cNvGraphicFramePr/>
          <p:nvPr/>
        </p:nvGraphicFramePr>
        <p:xfrm>
          <a:off x="3357720" y="3143160"/>
          <a:ext cx="469800" cy="539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06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7720" y="3143160"/>
                    <a:ext cx="4698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Метод дополнительных построений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ереометр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312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В треугольной пирамиде РАВС все плоские углы при вершине Р прямые. Найдите площадь сферы, описанной около этой пирамиды, если РА = 2, РВ = 3, РС = 4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4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строим данную пирамиду до прямоугольного параллелепипеда (рис. 9). Как известно, его диагонали равны и имеют общую середин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Точка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равноудалена от вершин параллелепипеда и, следовательно, является центром его описанной сферы, которая, разумеется, будет и описанной сферой пирамиды. Следовательно, радиус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феры равен половине диагонал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араллелепипеда, а ее площадь равна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4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5" descr="http://mat.1september.ru/2009/20/92.gif"/>
          <p:cNvPicPr/>
          <p:nvPr/>
        </p:nvPicPr>
        <p:blipFill>
          <a:blip r:embed="rId2"/>
          <a:stretch/>
        </p:blipFill>
        <p:spPr>
          <a:xfrm>
            <a:off x="3143160" y="2428920"/>
            <a:ext cx="2999880" cy="1785600"/>
          </a:xfrm>
          <a:prstGeom prst="rect">
            <a:avLst/>
          </a:prstGeom>
          <a:ln w="9525">
            <a:noFill/>
          </a:ln>
        </p:spPr>
      </p:pic>
      <p:pic>
        <p:nvPicPr>
          <p:cNvPr id="110" name="Рисунок 6" descr="http://mat.1september.ru/2009/20/91.gif"/>
          <p:cNvPicPr/>
          <p:nvPr/>
        </p:nvPicPr>
        <p:blipFill>
          <a:blip r:embed="rId3"/>
          <a:stretch/>
        </p:blipFill>
        <p:spPr>
          <a:xfrm>
            <a:off x="2857320" y="5643720"/>
            <a:ext cx="4142880" cy="642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етод площаде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метрия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472240" cy="52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В треугольнике АВС, площадь которого равна S, биссектриса СЕ и медиана BD пересекаются в точке F. Найдите площадь четырехугольника ADFE, если ВС= а,  АС= b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(отношение площадей треугольников, имеющих равные высоты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равно отношению сторон, к которым эти высоты проведены).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ана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делит треугольник на два равновеликих треугольник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менить свойство биссектрисы         =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=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 этом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тношении . Аналогично предыдущему пункту найти площадь треугольника АСЕ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лощадь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DFE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айти как разность площадей треугольников 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CFD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4" descr=""/>
          <p:cNvPicPr/>
          <p:nvPr/>
        </p:nvPicPr>
        <p:blipFill>
          <a:blip r:embed="rId2"/>
          <a:stretch/>
        </p:blipFill>
        <p:spPr>
          <a:xfrm>
            <a:off x="4357800" y="4143240"/>
            <a:ext cx="4571640" cy="27144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14" name="Объект 5"/>
          <p:cNvGraphicFramePr/>
          <p:nvPr/>
        </p:nvGraphicFramePr>
        <p:xfrm>
          <a:off x="3857760" y="2928960"/>
          <a:ext cx="345600" cy="575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15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2928960"/>
                    <a:ext cx="34560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Объект 11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17" name="Объект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Объект 12"/>
          <p:cNvGraphicFramePr/>
          <p:nvPr/>
        </p:nvGraphicFramePr>
        <p:xfrm>
          <a:off x="4429080" y="2928960"/>
          <a:ext cx="284040" cy="575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19" name="Объект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9080" y="2928960"/>
                    <a:ext cx="28404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Объект 16"/>
          <p:cNvGraphicFramePr/>
          <p:nvPr/>
        </p:nvGraphicFramePr>
        <p:xfrm>
          <a:off x="4929120" y="2928960"/>
          <a:ext cx="359640" cy="575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21" name="Объект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29120" y="2928960"/>
                    <a:ext cx="35964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Объект 18"/>
          <p:cNvGraphicFramePr/>
          <p:nvPr/>
        </p:nvGraphicFramePr>
        <p:xfrm>
          <a:off x="5500800" y="2928960"/>
          <a:ext cx="447480" cy="5756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123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00800" y="2928960"/>
                    <a:ext cx="44748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9"/>
          <p:cNvGraphicFramePr/>
          <p:nvPr/>
        </p:nvGraphicFramePr>
        <p:xfrm>
          <a:off x="6858000" y="2928960"/>
          <a:ext cx="703800" cy="5756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125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28960"/>
                    <a:ext cx="70380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0"/>
          <p:cNvGraphicFramePr/>
          <p:nvPr/>
        </p:nvGraphicFramePr>
        <p:xfrm>
          <a:off x="1571760" y="3786120"/>
          <a:ext cx="447480" cy="5756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127" name="Объект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71760" y="3786120"/>
                    <a:ext cx="44748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23"/>
          <p:cNvSpPr/>
          <p:nvPr/>
        </p:nvSpPr>
        <p:spPr>
          <a:xfrm>
            <a:off x="360" y="1440"/>
            <a:ext cx="22680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Объект 21"/>
          <p:cNvGraphicFramePr/>
          <p:nvPr/>
        </p:nvGraphicFramePr>
        <p:xfrm>
          <a:off x="1571760" y="4786200"/>
          <a:ext cx="1343520" cy="5756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130" name="Объект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71760" y="4786200"/>
                    <a:ext cx="134352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бъемов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реометрия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c00000"/>
                </a:solidFill>
                <a:latin typeface="Times New Roman"/>
              </a:rPr>
              <a:t>Дан конус с вершиной M, радиус основания которого равен 6. На окружности его основания выбраны точки A, B, C так, что углы BMA, AMC, CMB равны 90° каждый. Точка F выбрана на дуге BC окружности основания конуса, не содержащей точки A, так, что объем пирамиды MABFC наибольший. Найдите расстояние от точки F до плоскости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Times New Roman"/>
              </a:rPr>
              <a:t>МАВ.</a:t>
            </a:r>
            <a:r>
              <a:rPr b="0" i="1" lang="ru-RU" sz="16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рамида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MAB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авильная (рис. 11), а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середина дуги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. Искомое расстояни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это высота пирамиды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MAB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опущенная на грань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ABM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ту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ирамиды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MAB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опущенную на ту же грань, легко найти — она совпадает с ребром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равна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=          =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=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ходим отношени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а оно равно отношению объемов пирамид. Имеем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=                =            =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mat.1september.ru/2009/20/98.gif"/>
          <p:cNvPicPr/>
          <p:nvPr/>
        </p:nvPicPr>
        <p:blipFill>
          <a:blip r:embed="rId2"/>
          <a:stretch/>
        </p:blipFill>
        <p:spPr>
          <a:xfrm>
            <a:off x="5214960" y="4643280"/>
            <a:ext cx="3357360" cy="221436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34" name="Объект 5"/>
          <p:cNvGraphicFramePr/>
          <p:nvPr/>
        </p:nvGraphicFramePr>
        <p:xfrm>
          <a:off x="2928960" y="3929040"/>
          <a:ext cx="459720" cy="539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35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3929040"/>
                    <a:ext cx="459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Объект 6"/>
          <p:cNvGraphicFramePr/>
          <p:nvPr/>
        </p:nvGraphicFramePr>
        <p:xfrm>
          <a:off x="3500280" y="4000680"/>
          <a:ext cx="323640" cy="3236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37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0280" y="4000680"/>
                    <a:ext cx="32364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Объект 7"/>
          <p:cNvGraphicFramePr/>
          <p:nvPr/>
        </p:nvGraphicFramePr>
        <p:xfrm>
          <a:off x="4000320" y="3929040"/>
          <a:ext cx="359640" cy="539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39" name="Объект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0320" y="3929040"/>
                    <a:ext cx="3596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Объект 8"/>
          <p:cNvGraphicFramePr/>
          <p:nvPr/>
        </p:nvGraphicFramePr>
        <p:xfrm>
          <a:off x="4572000" y="3929040"/>
          <a:ext cx="323640" cy="377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41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3929040"/>
                    <a:ext cx="3236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Объект 9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143" name="Объект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Объект 10"/>
          <p:cNvGraphicFramePr/>
          <p:nvPr/>
        </p:nvGraphicFramePr>
        <p:xfrm>
          <a:off x="1714320" y="4786200"/>
          <a:ext cx="295920" cy="5396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145" name="Объект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14320" y="4786200"/>
                    <a:ext cx="2959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Объект 11"/>
          <p:cNvGraphicFramePr/>
          <p:nvPr/>
        </p:nvGraphicFramePr>
        <p:xfrm>
          <a:off x="2214720" y="4786200"/>
          <a:ext cx="556920" cy="5396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147" name="Объект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14720" y="4786200"/>
                    <a:ext cx="5569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Объект 12"/>
          <p:cNvGraphicFramePr/>
          <p:nvPr/>
        </p:nvGraphicFramePr>
        <p:xfrm>
          <a:off x="3000240" y="4786200"/>
          <a:ext cx="452520" cy="5396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149" name="Объект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00240" y="4786200"/>
                    <a:ext cx="4525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Объект 13"/>
          <p:cNvGraphicFramePr/>
          <p:nvPr/>
        </p:nvGraphicFramePr>
        <p:xfrm>
          <a:off x="3643200" y="4857840"/>
          <a:ext cx="356760" cy="39348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151" name="Объект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43200" y="4857840"/>
                    <a:ext cx="3567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лгебраический метод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ланиметр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Найдите площадь треугольника АВС, если АС=3, ВС=4, а медианы, проведенные из вершин А и В, перпендикулярн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О – точка пересечения медиан. Рассмотреть подобие треугольников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АОВ с коэффициентом подобия  . Обозначить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=х, В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=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       =        =   .  Применим теорему Пифагора для треугольников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А. Из полученной системы найти х и 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² =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² + ВО² , А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²= АО² + 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²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² =х² + ВО² , 1,5²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+ АО² 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²=     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²=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одставив  найденные выражения 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числим АВ . АВ=      .Находим площадь треугольника                                              по   формуле Герон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2"/>
          <a:stretch/>
        </p:blipFill>
        <p:spPr>
          <a:xfrm>
            <a:off x="5786280" y="3571920"/>
            <a:ext cx="3357360" cy="286668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55" name="Объект 4"/>
          <p:cNvGraphicFramePr/>
          <p:nvPr/>
        </p:nvGraphicFramePr>
        <p:xfrm>
          <a:off x="5000760" y="2214720"/>
          <a:ext cx="180720" cy="467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56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760" y="2214720"/>
                    <a:ext cx="18072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Объект 5"/>
          <p:cNvGraphicFramePr/>
          <p:nvPr/>
        </p:nvGraphicFramePr>
        <p:xfrm>
          <a:off x="571320" y="2571840"/>
          <a:ext cx="438480" cy="5036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58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320" y="2571840"/>
                    <a:ext cx="438480" cy="5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Объект 6"/>
          <p:cNvGraphicFramePr/>
          <p:nvPr/>
        </p:nvGraphicFramePr>
        <p:xfrm>
          <a:off x="1214280" y="2571840"/>
          <a:ext cx="361800" cy="467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60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4280" y="2571840"/>
                    <a:ext cx="36180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Объект 7"/>
          <p:cNvGraphicFramePr/>
          <p:nvPr/>
        </p:nvGraphicFramePr>
        <p:xfrm>
          <a:off x="1857240" y="2571840"/>
          <a:ext cx="361800" cy="467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62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2571840"/>
                    <a:ext cx="36180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Объект 8"/>
          <p:cNvGraphicFramePr/>
          <p:nvPr/>
        </p:nvGraphicFramePr>
        <p:xfrm>
          <a:off x="2428920" y="2571840"/>
          <a:ext cx="180720" cy="4676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164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2571840"/>
                    <a:ext cx="18072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Объект 9"/>
          <p:cNvGraphicFramePr/>
          <p:nvPr/>
        </p:nvGraphicFramePr>
        <p:xfrm>
          <a:off x="785880" y="3714840"/>
          <a:ext cx="204120" cy="5756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166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5880" y="3714840"/>
                    <a:ext cx="20412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Объект 10"/>
          <p:cNvGraphicFramePr/>
          <p:nvPr/>
        </p:nvGraphicFramePr>
        <p:xfrm>
          <a:off x="1500120" y="3714840"/>
          <a:ext cx="278280" cy="5396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168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00120" y="3714840"/>
                    <a:ext cx="2782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Объект 11"/>
          <p:cNvGraphicFramePr/>
          <p:nvPr/>
        </p:nvGraphicFramePr>
        <p:xfrm>
          <a:off x="2357280" y="4286160"/>
          <a:ext cx="237240" cy="3956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170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57280" y="4286160"/>
                    <a:ext cx="237240" cy="3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Объект 16"/>
          <p:cNvGraphicFramePr/>
          <p:nvPr/>
        </p:nvGraphicFramePr>
        <p:xfrm>
          <a:off x="2714760" y="4929120"/>
          <a:ext cx="2123640" cy="35964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172" name="Объект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14760" y="4929120"/>
                    <a:ext cx="2123640" cy="3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Объект 17"/>
          <p:cNvGraphicFramePr/>
          <p:nvPr/>
        </p:nvGraphicFramePr>
        <p:xfrm>
          <a:off x="714240" y="5286240"/>
          <a:ext cx="389160" cy="28764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174" name="Объект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14240" y="5286240"/>
                    <a:ext cx="38916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лгебраический мето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ереометрия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786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В кубе ABCDA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C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D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, ребро которого равно 6, найдите: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а) расстояние от вершины А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 до плоскости ВС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D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б) угол между диагональю ВА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 грани АА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В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В и плоскостью ВС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D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им тетраэдр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рис. 5). Все его ребра — диагонали граней куба (они равны ), то есть этот тетраэдр правильный. Расстояние от его вершины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 гран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есть его высота, и найти ее можно через объем. Тетраэдр получается в результате отрезания от куба плоскостями его граней четырех равных «прямоугольных» тетраэдров. Возьмем один из них, 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ABD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лощадь его основани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двое меньше площади грани куба, а высота равна высоте куба, поэтому его объем в 6 раз меньше объема куба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                 ,  ;                 = (1 -     )             =        =72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лощадь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равностороннего треугольника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BDC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равна       (6      )²=18                     Следовательно искомое расстояние равно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=4   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Рисунок 3" descr="http://mat.1september.ru/2009/20/79.gif"/>
          <p:cNvPicPr/>
          <p:nvPr/>
        </p:nvPicPr>
        <p:blipFill>
          <a:blip r:embed="rId2"/>
          <a:stretch/>
        </p:blipFill>
        <p:spPr>
          <a:xfrm>
            <a:off x="7143840" y="4500720"/>
            <a:ext cx="1999800" cy="200772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78" name="Объект 4"/>
          <p:cNvGraphicFramePr/>
          <p:nvPr/>
        </p:nvGraphicFramePr>
        <p:xfrm>
          <a:off x="714240" y="4500720"/>
          <a:ext cx="874080" cy="359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7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500720"/>
                    <a:ext cx="874080" cy="3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Объект 5"/>
          <p:cNvGraphicFramePr/>
          <p:nvPr/>
        </p:nvGraphicFramePr>
        <p:xfrm>
          <a:off x="1714680" y="4429080"/>
          <a:ext cx="179640" cy="5126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81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4680" y="4429080"/>
                    <a:ext cx="1796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Объект 6"/>
          <p:cNvGraphicFramePr/>
          <p:nvPr/>
        </p:nvGraphicFramePr>
        <p:xfrm>
          <a:off x="1928880" y="4500720"/>
          <a:ext cx="690840" cy="431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83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8880" y="4500720"/>
                    <a:ext cx="690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Объект 7"/>
          <p:cNvGraphicFramePr/>
          <p:nvPr/>
        </p:nvGraphicFramePr>
        <p:xfrm>
          <a:off x="2643120" y="4572000"/>
          <a:ext cx="809640" cy="323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85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4572000"/>
                    <a:ext cx="80964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Объект 8"/>
          <p:cNvGraphicFramePr/>
          <p:nvPr/>
        </p:nvGraphicFramePr>
        <p:xfrm>
          <a:off x="4143240" y="4500720"/>
          <a:ext cx="180720" cy="4676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187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3240" y="4500720"/>
                    <a:ext cx="18072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Объект 9"/>
          <p:cNvGraphicFramePr/>
          <p:nvPr/>
        </p:nvGraphicFramePr>
        <p:xfrm>
          <a:off x="4429080" y="4500720"/>
          <a:ext cx="647640" cy="4118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189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29080" y="4500720"/>
                    <a:ext cx="647640" cy="4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Объект 11"/>
          <p:cNvGraphicFramePr/>
          <p:nvPr/>
        </p:nvGraphicFramePr>
        <p:xfrm>
          <a:off x="5214960" y="4500720"/>
          <a:ext cx="334080" cy="4316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191" name="Объект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14960" y="4500720"/>
                    <a:ext cx="334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Объект 12"/>
          <p:cNvGraphicFramePr/>
          <p:nvPr/>
        </p:nvGraphicFramePr>
        <p:xfrm>
          <a:off x="5500800" y="4857840"/>
          <a:ext cx="275040" cy="4676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193" name="Объект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00800" y="4857840"/>
                    <a:ext cx="27504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Объект 14"/>
          <p:cNvGraphicFramePr/>
          <p:nvPr/>
        </p:nvGraphicFramePr>
        <p:xfrm>
          <a:off x="5929200" y="4857840"/>
          <a:ext cx="324000" cy="28548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195" name="Объект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29200" y="4857840"/>
                    <a:ext cx="32400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Объект 15"/>
          <p:cNvGraphicFramePr/>
          <p:nvPr/>
        </p:nvGraphicFramePr>
        <p:xfrm>
          <a:off x="6786720" y="4857840"/>
          <a:ext cx="251640" cy="31464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197" name="Объект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86720" y="4857840"/>
                    <a:ext cx="25164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Объект 16"/>
          <p:cNvGraphicFramePr/>
          <p:nvPr/>
        </p:nvGraphicFramePr>
        <p:xfrm>
          <a:off x="571320" y="5357880"/>
          <a:ext cx="389520" cy="46764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199" name="Объект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320" y="5357880"/>
                    <a:ext cx="38952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Объект 17"/>
          <p:cNvGraphicFramePr/>
          <p:nvPr/>
        </p:nvGraphicFramePr>
        <p:xfrm>
          <a:off x="1214280" y="5429160"/>
          <a:ext cx="401400" cy="32364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201" name="Объект 1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214280" y="5429160"/>
                    <a:ext cx="4014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Содержимое 3" descr="http://mat.1september.ru/2009/20/86.gif"/>
          <p:cNvPicPr/>
          <p:nvPr/>
        </p:nvPicPr>
        <p:blipFill>
          <a:blip r:embed="rId2"/>
          <a:stretch/>
        </p:blipFill>
        <p:spPr>
          <a:xfrm>
            <a:off x="3857760" y="3214800"/>
            <a:ext cx="4076280" cy="1576800"/>
          </a:xfrm>
          <a:prstGeom prst="rect">
            <a:avLst/>
          </a:prstGeom>
          <a:ln w="9525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428760" y="1571760"/>
            <a:ext cx="6428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 Если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ведены к некоторой плоскости наклонная длины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рис. 6), то угол a между наклонной и плоскостью можно найти по формуле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.    В нашей задаче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          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=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arcsin           =arcsin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Объект 5"/>
          <p:cNvGraphicFramePr/>
          <p:nvPr/>
        </p:nvGraphicFramePr>
        <p:xfrm>
          <a:off x="6215040" y="2071800"/>
          <a:ext cx="208800" cy="539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06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5040" y="2071800"/>
                    <a:ext cx="2088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Объект 7"/>
          <p:cNvGraphicFramePr/>
          <p:nvPr/>
        </p:nvGraphicFramePr>
        <p:xfrm>
          <a:off x="2928960" y="2357280"/>
          <a:ext cx="499680" cy="3567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08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8960" y="2357280"/>
                    <a:ext cx="49968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Объект 8"/>
          <p:cNvGraphicFramePr/>
          <p:nvPr/>
        </p:nvGraphicFramePr>
        <p:xfrm>
          <a:off x="3857760" y="2357280"/>
          <a:ext cx="395640" cy="395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10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7760" y="2357280"/>
                    <a:ext cx="395640" cy="3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Объект 9"/>
          <p:cNvGraphicFramePr/>
          <p:nvPr/>
        </p:nvGraphicFramePr>
        <p:xfrm>
          <a:off x="1428840" y="2643120"/>
          <a:ext cx="458640" cy="611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12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28840" y="2643120"/>
                    <a:ext cx="458640" cy="6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Объект 10"/>
          <p:cNvGraphicFramePr/>
          <p:nvPr/>
        </p:nvGraphicFramePr>
        <p:xfrm>
          <a:off x="2714760" y="2714760"/>
          <a:ext cx="302040" cy="5036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14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14760" y="2714760"/>
                    <a:ext cx="302040" cy="5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rgbClr val="c00000"/>
                </a:solidFill>
                <a:latin typeface="Calibri"/>
              </a:rPr>
              <a:t>Спасибо за внимание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  <Words>574</Words>
  <Paragraphs>7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5:14:03Z</dcterms:created>
  <dc:creator>User</dc:creator>
  <dc:description/>
  <dc:language>en-US</dc:language>
  <cp:lastModifiedBy>Ольга Михайловна</cp:lastModifiedBy>
  <dcterms:modified xsi:type="dcterms:W3CDTF">2012-10-23T15:12:43Z</dcterms:modified>
  <cp:revision>47</cp:revision>
  <dc:subject/>
  <dc:title>Аналогия решения геометрических задач на плоскости и в пространств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