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E774-9869-4E98-82AD-077408C63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5F05-9B4A-4057-8D1A-CE3F4697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EEE4-2118-46B6-BCAF-8FFD35A8D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98BE-A8CB-4EAC-ACBF-8BD10CB2E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5659-1B07-4F1B-8B44-46DFF415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4D22-A34F-48B4-97AB-AA456AB7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89B0-210B-4F12-8BD3-4B835B78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99E4-C6A2-42CF-96A9-0433CBE4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0CBF-6B64-433F-B106-7EC9361F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611F-7B04-42E2-81FC-2B2FF456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A0E0-29BE-4129-A043-6A4F7C54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4DE5-7BC9-46A8-A390-898BEC9E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B0C1-32E4-41BD-BD3B-55FBEA67BD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5240" y="6854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mbria"/>
              </a:rPr>
              <a:t>В Риме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ambria"/>
              </a:rPr>
              <a:t>при императоре Нерон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524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54 – 68 гг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04920" y="4572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04.05.201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4420800" y="5410080"/>
            <a:ext cx="434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 подготовил учитель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Излучинская ОСШУИОП №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нин Владимир Александр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918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рон считал себя выдающимся актером и заставлял римлян посещать спектак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19360" y="159984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приводило к различным курьезам и трагеди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рон играл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го самой любимой ролью вне театра была роль главаря бан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491px-Nero_pushkin"/>
          <p:cNvPicPr/>
          <p:nvPr/>
        </p:nvPicPr>
        <p:blipFill>
          <a:blip r:embed="rId1"/>
          <a:stretch/>
        </p:blipFill>
        <p:spPr>
          <a:xfrm>
            <a:off x="0" y="1379520"/>
            <a:ext cx="448956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276880" y="0"/>
            <a:ext cx="4060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месте с дружками он ночами носился по Риму на колесницах, нападал на прохожих, грабил  и избивал их до смерти. Очень часто нападениям подвергались сенаторы, которых Нерон хотел таким образом запуг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1"/>
          <p:cNvPicPr/>
          <p:nvPr/>
        </p:nvPicPr>
        <p:blipFill>
          <a:blip r:embed="rId1"/>
          <a:srcRect l="2042" t="1679" r="1735" b="1384"/>
          <a:stretch/>
        </p:blipFill>
        <p:spPr>
          <a:xfrm>
            <a:off x="0" y="0"/>
            <a:ext cx="5584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71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Массовые ка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101600"/>
            <a:ext cx="9144000" cy="57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едение Нерона изменилось в начале 60-х годов. Император фактически отстранился от управления государством, начался период деспотии и произвола. «Он казнил уже без меры и разбора кого угодно и за что угодно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жды раб убил хозяина. Император приказал казнить всех рабов этого римлянина - 400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ие просили пощадить невинных, но император был неумолим. В город были введены легионы и казнь состояла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6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46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. Пожар в Ри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277920" y="963720"/>
            <a:ext cx="942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64 г. н.э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име вспыхнул пожар. Огонь быстро распространялся по городу, перескакивая через узкие улочки от дома к дому. Многие римляне попытались тушить пожар, но ветер раздувал пламя. В огне оказался почти весь го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2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93720" y="3983040"/>
            <a:ext cx="777384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-277920" y="201600"/>
            <a:ext cx="94219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ди, в страхе покидавшие город, считали, что его поджег Нерон, чтобы построить новый. По Риму поползли слухи, что император стоит на крыше дворца и вдохновляясь видом бушу-ющего пламени, пишет поэму о Трое, которая должна принести ему бессмертную сла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3"/>
          <p:cNvPicPr/>
          <p:nvPr/>
        </p:nvPicPr>
        <p:blipFill>
          <a:blip r:embed="rId1"/>
          <a:srcRect l="0" t="3772" r="0" b="0"/>
          <a:stretch/>
        </p:blipFill>
        <p:spPr>
          <a:xfrm>
            <a:off x="225360" y="3201840"/>
            <a:ext cx="872352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7360"/>
            <a:ext cx="8686800" cy="638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рон опасаясь восстания, приказал отыскать «поджигателей», и вскоре объявил, о том, что это сделали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христиа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верившие в Бога Спасителя – 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Иисуса Хрис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приказал устроить публичную казнь. Христиан распинали на крестах, натравливали на них диких животных, но это только вызывало к ним жалость у простых римл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3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Светочи христианства (Факелы Нерона)», репродукция картины Генриха Семирадского, 1882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800px-Siemiradski_Fackeln"/>
          <p:cNvPicPr/>
          <p:nvPr/>
        </p:nvPicPr>
        <p:blipFill>
          <a:blip r:embed="rId1"/>
          <a:stretch/>
        </p:blipFill>
        <p:spPr>
          <a:xfrm>
            <a:off x="0" y="1874880"/>
            <a:ext cx="91440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. Смерть Нер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68 г. против Нерона  вспыхнуло восстание, охватившее несколько провинций. От императора бежали даже преторианцы. Он приказал своему рабу: «Убей меня!», и когда тот вонзил в грудь императора кинжал, Нерон воскликнул: «О, какой великий артист погибает во мне!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800px-Vasiliy_smirnov_001"/>
          <p:cNvPicPr/>
          <p:nvPr/>
        </p:nvPicPr>
        <p:blipFill>
          <a:blip r:embed="rId1"/>
          <a:stretch/>
        </p:blipFill>
        <p:spPr>
          <a:xfrm>
            <a:off x="0" y="1689120"/>
            <a:ext cx="9144000" cy="39895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1210320" y="5954760"/>
            <a:ext cx="735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ерть Нерона (Смирнов В.С., 1888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4"/>
          <p:cNvPicPr/>
          <p:nvPr/>
        </p:nvPicPr>
        <p:blipFill>
          <a:blip r:embed="rId1">
            <a:lum contrast="12000"/>
          </a:blip>
          <a:srcRect l="1649" t="2234" r="2325" b="2234"/>
          <a:stretch/>
        </p:blipFill>
        <p:spPr>
          <a:xfrm>
            <a:off x="733320" y="498600"/>
            <a:ext cx="7699320" cy="5654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0" y="6338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бийство Нерона. Рисунок 17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55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учить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Гай Светоний Транквилл «Жизнь двенадцати цезар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655308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Личность Нер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Массовые ка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Пожар в Ри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Смерть Нер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7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 Личность Нер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2880" y="1447920"/>
            <a:ext cx="44607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3200" spc="-1" strike="noStrike">
                <a:solidFill>
                  <a:srgbClr val="000000"/>
                </a:solidFill>
                <a:latin typeface="RodchenkoCTT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RodchenkoCTT"/>
              </a:rPr>
              <a:t> в. н.э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мская империя достигла вершины своего могу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произошло при самом зловещем император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Нероне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нерон"/>
          <p:cNvPicPr/>
          <p:nvPr/>
        </p:nvPicPr>
        <p:blipFill>
          <a:blip r:embed="rId1"/>
          <a:srcRect l="0" t="0" r="0" b="16608"/>
          <a:stretch/>
        </p:blipFill>
        <p:spPr>
          <a:xfrm>
            <a:off x="0" y="1136520"/>
            <a:ext cx="484020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480" y="0"/>
            <a:ext cx="9144000" cy="67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я при рождении –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Луций Домиций Агенобар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50 г. –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Нерон Клавдий Цезарь Друз Герман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ный титул к моменту смерти: Нерон Клавдий Цезарь Август Германик, Великий понтифик, наделён властью трибуна 14 раз, властью императора 13 раз, пятикратный консул, Отец отеч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ки будущего императора отличались крутым нра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звище Агенобарб означает «Рыжебороды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255600"/>
            <a:ext cx="9144000" cy="66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ует легенда о встрече Луция Домиция с двумя юношами, приказавших сообщить в Рим о некоей важной победе. В доказательство своей божественности, они коснулись волос Домиция, и волосы из чёрных немедленно сделались рыжими. Этот  признак навсегда остался у его потом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прапрапрадеде Нерона сохранились слова: «Нечего удивляться его медной бороде, если язык у него из железа, а сердце из свинц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257040"/>
            <a:ext cx="91440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Агрипп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была «красивой и уважаемой женщиной, однако безжалостной, амбициозной, деспотичной и властно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да родился Нерон, его отец, «в ответ на поздравления друзей воскликнул, что от него и Агриппины ничто не может родиться, кроме ужаса и горя для человечества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ем молодого Нерона был 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Сене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рон стал императором в 16 лет. Его мать пытается управлять им и Нерон решает убить Агрипп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-360" y="6480"/>
            <a:ext cx="8923320" cy="66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пытался отравить ее трижды, но оставил эти попытки, узнав, что она принимает противоядие, подсылал вольноотпущенника заколоть ее и даже пытался обрушить потолок и стены ее комнаты, пока она спала. Нерон предложил ей совершить поездку на корабле, который должен был разрушиться в пути. В гневе Нерон приказал открыто убить её. Солдаты закололи. Нерон сжег её тело. Потом Нерон не раз признавался, что образ матери преследует его ноч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Нерон мучается от угрызений совести после убийства матери», репродукция картины Джона Уильяма Уотерхауса, 1878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800px-RemorsodeNero"/>
          <p:cNvPicPr/>
          <p:nvPr/>
        </p:nvPicPr>
        <p:blipFill>
          <a:blip r:embed="rId1"/>
          <a:stretch/>
        </p:blipFill>
        <p:spPr>
          <a:xfrm>
            <a:off x="0" y="1890720"/>
            <a:ext cx="914400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-289440" y="173160"/>
            <a:ext cx="943308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55 по 60 год Нерон показал себя прекрасным администратором и расчетливым правителем. Все его действия в этот период были направлены на облегчение жизни простых граждан. Он пытался ограничить коррупцию. Сократил налоги. Построил народные гимнасии и несколько теат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Nero_charity"/>
          <p:cNvPicPr/>
          <p:nvPr/>
        </p:nvPicPr>
        <p:blipFill>
          <a:blip r:embed="rId1"/>
          <a:srcRect l="0" t="1243" r="0" b="5062"/>
          <a:stretch/>
        </p:blipFill>
        <p:spPr>
          <a:xfrm>
            <a:off x="166680" y="3608280"/>
            <a:ext cx="6642000" cy="32497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6773760" y="4024440"/>
            <a:ext cx="2370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рон раздает блага гражданам, монета 64 – 68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. А. Панин</cp:lastModifiedBy>
  <dcterms:modified xsi:type="dcterms:W3CDTF">2019-06-08T09:15:45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