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F4C-F0E5-4C4A-A399-DD73DCEC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BF5-996B-497F-BBD7-30804243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5C8-7882-4621-BFE8-45D0E4B1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294-9A43-4394-AA8B-1CA1D343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CEF-D532-4C57-B18F-7D58164B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08D-F4F6-4FCF-A357-A19B1B75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84C-B489-475E-8706-BC22E4E0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47B-C269-4F0C-9C16-F701E811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047-054D-426A-A952-158798FE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274-6BFD-4361-9658-E036583C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941-F0CD-42BC-A612-AD837219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0D9-898F-49B6-A903-80CB8C98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78A1-3DA4-4E64-BF09-9E726FF3F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5240" y="685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mbria"/>
              </a:rPr>
              <a:t>В Риме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mbria"/>
              </a:rPr>
              <a:t>при императоре Неро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54 – 68 гг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04920" y="457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04.05.20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420800" y="5410080"/>
            <a:ext cx="434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 подготовил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Излучинская ОСШУИОП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ин Владимир Александ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91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он считал себя выдающимся актером и заставлял римлян посещать спектак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риводило к различным курьезам и трагед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он играл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самой любимой ролью вне театра была роль главаря ба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491px-Nero_pushkin"/>
          <p:cNvPicPr/>
          <p:nvPr/>
        </p:nvPicPr>
        <p:blipFill>
          <a:blip r:embed="rId1"/>
          <a:stretch/>
        </p:blipFill>
        <p:spPr>
          <a:xfrm>
            <a:off x="0" y="1379520"/>
            <a:ext cx="44895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276880" y="0"/>
            <a:ext cx="4060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месте с дружками он ночами носился по Риму на колесницах, нападал на прохожих, грабил  и избивал их до смерти. Очень часто нападениям подвергались сенаторы, которых Нерон хотел таким образом запуг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1"/>
          <p:cNvPicPr/>
          <p:nvPr/>
        </p:nvPicPr>
        <p:blipFill>
          <a:blip r:embed="rId1"/>
          <a:srcRect l="2042" t="1679" r="1735" b="1384"/>
          <a:stretch/>
        </p:blipFill>
        <p:spPr>
          <a:xfrm>
            <a:off x="0" y="0"/>
            <a:ext cx="558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1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Массовые ка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01600"/>
            <a:ext cx="9144000" cy="57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дение Нерона изменилось в начале 60-х годов. Император фактически отстранился от управления государством, начался период деспотии и произвола. «Он казнил уже без меры и разбора кого угодно и за что угодн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жды раб убил хозяина. Император приказал казнить всех рабов этого римлянина - 400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ие просили пощадить невинных, но император был неумолим. В город были введены легионы и казнь состоя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46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Пожар в Ри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277920" y="963720"/>
            <a:ext cx="942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64 г. н.э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име вспыхнул пожар. Огонь быстро распространялся по городу, перескакивая через узкие улочки от дома к дому. Многие римляне попытались тушить пожар, но ветер раздувал пламя. В огне оказался почти весь г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93720" y="3983040"/>
            <a:ext cx="77738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277920" y="201600"/>
            <a:ext cx="9421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, в страхе покидавшие город, считали, что его поджег Нерон, чтобы построить новый. По Риму поползли слухи, что император стоит на крыше дворца и вдохновляясь видом бушу-ющего пламени, пишет поэму о Трое, которая должна принести ему бессмертную сла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3"/>
          <p:cNvPicPr/>
          <p:nvPr/>
        </p:nvPicPr>
        <p:blipFill>
          <a:blip r:embed="rId1"/>
          <a:srcRect l="0" t="3772" r="0" b="0"/>
          <a:stretch/>
        </p:blipFill>
        <p:spPr>
          <a:xfrm>
            <a:off x="225360" y="3201840"/>
            <a:ext cx="87235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7360"/>
            <a:ext cx="8686800" cy="63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он опасаясь восстания, приказал отыскать «поджигателей», и вскоре объявил, о том, что это сделали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ристиа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ерившие в Бога Спасителя –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Иисуса Хри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приказал устроить публичную казнь. Христиан распинали на крестах, натравливали на них диких животных, но это только вызывало к ним жалость у простых римл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веточи христианства (Факелы Нерона)», репродукция картины Генриха Семирадского, 188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800px-Siemiradski_Fackeln"/>
          <p:cNvPicPr/>
          <p:nvPr/>
        </p:nvPicPr>
        <p:blipFill>
          <a:blip r:embed="rId1"/>
          <a:stretch/>
        </p:blipFill>
        <p:spPr>
          <a:xfrm>
            <a:off x="0" y="1874880"/>
            <a:ext cx="91440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Смерть Не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68 г. против Нерона  вспыхнуло восстание, охватившее несколько провинций. От императора бежали даже преторианцы. Он приказал своему рабу: «Убей меня!», и когда тот вонзил в грудь императора кинжал, Нерон воскликнул: «О, какой великий артист погибает во мне!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800px-Vasiliy_smirnov_001"/>
          <p:cNvPicPr/>
          <p:nvPr/>
        </p:nvPicPr>
        <p:blipFill>
          <a:blip r:embed="rId1"/>
          <a:stretch/>
        </p:blipFill>
        <p:spPr>
          <a:xfrm>
            <a:off x="0" y="1689120"/>
            <a:ext cx="9144000" cy="39895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210320" y="5954760"/>
            <a:ext cx="73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рть Нерона (Смирнов В.С., 1888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4"/>
          <p:cNvPicPr/>
          <p:nvPr/>
        </p:nvPicPr>
        <p:blipFill>
          <a:blip r:embed="rId1">
            <a:lum contrast="12000"/>
          </a:blip>
          <a:srcRect l="1649" t="2234" r="2325" b="2234"/>
          <a:stretch/>
        </p:blipFill>
        <p:spPr>
          <a:xfrm>
            <a:off x="733320" y="498600"/>
            <a:ext cx="7699320" cy="5654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ийство Нерона. Рисунок 17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55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чи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ай Светоний Транквилл «Жизнь двенадцати цезар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55308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Личность Не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Массовые ка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Пожар в Ри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Смерть Не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7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Личность Не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2880" y="1447920"/>
            <a:ext cx="44607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RodchenkoCTT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RodchenkoCTT"/>
              </a:rPr>
              <a:t> в. н.э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мская империя достигла вершины своего могу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роизошло при самом зловещем император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ерон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нерон"/>
          <p:cNvPicPr/>
          <p:nvPr/>
        </p:nvPicPr>
        <p:blipFill>
          <a:blip r:embed="rId1"/>
          <a:srcRect l="0" t="0" r="0" b="16608"/>
          <a:stretch/>
        </p:blipFill>
        <p:spPr>
          <a:xfrm>
            <a:off x="0" y="1136520"/>
            <a:ext cx="48402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80" y="0"/>
            <a:ext cx="914400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 при рождении –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Луций Домиций Агенобар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50 г. –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рон Клавдий Цезарь Друз Герма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ый титул к моменту смерти: Нерон Клавдий Цезарь Август Германик, Великий понтифик, наделён властью трибуна 14 раз, властью императора 13 раз, пятикратный консул, Отец оте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ки будущего императора отличались крутым нра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вище Агенобарб означает «Рыжебороды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255600"/>
            <a:ext cx="9144000" cy="66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легенда о встрече Луция Домиция с двумя юношами, приказавших сообщить в Рим о некоей важной победе. В доказательство своей божественности, они коснулись волос Домиция, и волосы из чёрных немедленно сделались рыжими. Этот  признак навсегда остался у его потом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рапрапрадеде Нерона сохранились слова: «Нечего удивляться его медной бороде, если язык у него из железа, а сердце из свин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Агрипп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ыла «красивой и уважаемой женщиной, однако безжалостной, амбициозной, деспотичной и властно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родился Нерон, его отец, «в ответ на поздравления друзей воскликнул, что от него и Агриппины ничто не может родиться, кроме ужаса и горя для человечеств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ем молодого Нерона был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Сене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он стал императором в 16 лет. Его мать пытается управлять им и Нерон решает убить Агрипп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6480"/>
            <a:ext cx="8923320" cy="66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пытался отравить ее трижды, но оставил эти попытки, узнав, что она принимает противоядие, подсылал вольноотпущенника заколоть ее и даже пытался обрушить потолок и стены ее комнаты, пока она спала. Нерон предложил ей совершить поездку на корабле, который должен был разрушиться в пути. В гневе Нерон приказал открыто убить её. Солдаты закололи. Нерон сжег её тело. Потом Нерон не раз признавался, что образ матери преследует его ноч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ерон мучается от угрызений совести после убийства матери», репродукция картины Джона Уильяма Уотерхауса, 187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800px-RemorsodeNero"/>
          <p:cNvPicPr/>
          <p:nvPr/>
        </p:nvPicPr>
        <p:blipFill>
          <a:blip r:embed="rId1"/>
          <a:stretch/>
        </p:blipFill>
        <p:spPr>
          <a:xfrm>
            <a:off x="0" y="1890720"/>
            <a:ext cx="91440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289440" y="173160"/>
            <a:ext cx="9433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55 по 60 год Нерон показал себя прекрасным администратором и расчетливым правителем. Все его действия в этот период были направлены на облегчение жизни простых граждан. Он пытался ограничить коррупцию. Сократил налоги. Построил народные гимнасии и несколько теа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Nero_charity"/>
          <p:cNvPicPr/>
          <p:nvPr/>
        </p:nvPicPr>
        <p:blipFill>
          <a:blip r:embed="rId1"/>
          <a:srcRect l="0" t="1243" r="0" b="5062"/>
          <a:stretch/>
        </p:blipFill>
        <p:spPr>
          <a:xfrm>
            <a:off x="166680" y="3608280"/>
            <a:ext cx="6642000" cy="3249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6773760" y="4024440"/>
            <a:ext cx="2370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он раздает блага гражданам, монета 64 – 6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. А. Панин</cp:lastModifiedBy>
  <dcterms:modified xsi:type="dcterms:W3CDTF">2019-06-08T09:15:45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