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stname.ru/name_stanislav.html" TargetMode="External"/><Relationship Id="rId2" Type="http://schemas.openxmlformats.org/officeDocument/2006/relationships/hyperlink" Target="http://www.listname.ru/articles/sovetskie_imena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97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4a452a"/>
              </a:solidFill>
              <a:latin typeface="Cassandra"/>
              <a:ea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2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роект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чему меня так назвали?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Выполнил:  ученик 7 класса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                                                                     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Бодров Василий.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Руководитель:  учитель русского                  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языка и  литературы Исаева  Л. В. 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                                  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8" name="Заголовок 3"/>
          <p:cNvSpPr/>
          <p:nvPr/>
        </p:nvSpPr>
        <p:spPr>
          <a:xfrm>
            <a:off x="395280" y="0"/>
            <a:ext cx="84978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452a"/>
                </a:solidFill>
                <a:latin typeface="Times New Roman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4a452a"/>
                </a:solidFill>
                <a:latin typeface="Times New Roman"/>
                <a:ea typeface="Arial Unicode MS"/>
              </a:rPr>
              <a:t>«Ерышовская средняя общеобразовательная школа    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Times New Roman"/>
                <a:ea typeface="Arial Unicode MS"/>
              </a:rPr>
              <a:t>Ртищевского  района саратовской области» в с.Малин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34920" y="836640"/>
            <a:ext cx="7920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* Цель  работы: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выяснить,</a:t>
            </a:r>
            <a:r>
              <a:rPr b="1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как  родители  выбирали имя для своего ребёнка.                              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* Задачи исследовательской работы: 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1) узнать, как  выбирались  имена  на Руси;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2) определить, какие имена были самыми популярными  в годы рождения   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учащихся нашей школы.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*Гипотеза: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родители знали значение имени, когда называли  им сына или    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дочь.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*Основные методы исследования: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1. Наблюдение,  поиск и сбор информации.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2. Отбор наиболее значимых материалов.  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Объект исследования: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имена учащихся школы.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2200" y="297000"/>
            <a:ext cx="8262720" cy="80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55480" y="434880"/>
            <a:ext cx="828864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Выбор  имени на Руси.</a:t>
            </a:r>
            <a:endParaRPr b="0" lang="en-US" sz="1800" spc="-1" strike="noStrike">
              <a:solidFill>
                <a:srgbClr val="4a452a"/>
              </a:solidFill>
              <a:latin typeface="Calibri"/>
            </a:endParaRPr>
          </a:p>
          <a:p>
            <a:pPr marL="320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marL="320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Отношения человека с его именем с древнейших времен носило мистический  характер.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marL="320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Имя тщательно оберегали от чужих , часто бывало так, что люди всю жизнь носили только 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marL="320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розвища.                                                   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marL="320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Славяне выбирали для именования своих детей любые слова, отражающие в себе  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marL="320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1  )различные свойства и качества людей, особенности их характера;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marL="320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2) особенности поведения, речи;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marL="320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3) физические достоинства и недостатки: 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marL="320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4) время и "очередность" появления того или иного ребенка в семье;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marL="320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5) профессию;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marL="320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6) место жительства.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marL="320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В эпоху Христваианства появились так называемые крестильные имена, которые соответстволи именам святых.. 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marL="320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Широкое  распространение получили  древнерусские имена :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Станислав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, Бронислав,  Мирослав.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400"/>
              </a:spcBef>
              <a:buClr>
                <a:srgbClr val="4a452a"/>
              </a:buClr>
              <a:buSzPct val="80000"/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осле революции большую популярность приобретают 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 имена, отражающие события, происходящие в стране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: Идея, Искра,  Октябрина, Гений, Гигант,  Тимур, Спартак. Однако в это время появились имена, которые продолжают свою жизнь и сейчас: Лилия (оно подобно русскому имени </a:t>
            </a:r>
            <a:r>
              <a:rPr b="0" lang="ru-RU" sz="1600" spc="-1" strike="noStrike" u="sng">
                <a:solidFill>
                  <a:srgbClr val="4a452a"/>
                </a:solidFill>
                <a:uFillTx/>
                <a:latin typeface="Times New Roman"/>
                <a:ea typeface="Times New Roman"/>
              </a:rPr>
              <a:t>Лидия</a:t>
            </a: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 и очень благозвучно), Нинель (чтение в обратном порядке имени Ленин).</a:t>
            </a:r>
            <a:endParaRPr b="0" lang="en-US" sz="16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4360" y="1125360"/>
          <a:ext cx="7883280" cy="5411880"/>
        </p:xfrm>
        <a:graphic>
          <a:graphicData uri="http://schemas.openxmlformats.org/drawingml/2006/table">
            <a:tbl>
              <a:tblPr/>
              <a:tblGrid>
                <a:gridCol w="1008000"/>
                <a:gridCol w="3132000"/>
                <a:gridCol w="1471680"/>
                <a:gridCol w="2271600"/>
              </a:tblGrid>
              <a:tr h="245160">
                <a:tc>
                  <a:txBody>
                    <a:bodyPr lIns="47880" rIns="47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име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назв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так назвал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9160"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лавянск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« алая, огненная, солнечная, избранная»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еврейск. -  человек «искренний,  честный, впечатлительны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пеливый»                       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а род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равилось имя всем членам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атинск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"победа"; «победительница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честь дедушки, которого звали Виктор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атерина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ревнегреческ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епорочная, чист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равилось имя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рья (Сазанова)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ерсидск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ильная, смелая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ющая, обладающая, побеждающая»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а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ла в честь прабабу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рья (Русако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ерсидск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ильная, смелая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ющая, обладающая, побеждающая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равилось 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360"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ия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ревнееврейск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имя имеет двоякое значение: это и «печальная», и «отвергнутая». В славянской традиции это имя получило новое значение – «госпожа»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равилось имя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фья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реческ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«мудр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равилось имя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880" marR="47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Прямоугольник 2"/>
          <p:cNvSpPr/>
          <p:nvPr/>
        </p:nvSpPr>
        <p:spPr>
          <a:xfrm>
            <a:off x="1258920" y="4762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 и происхождение  имён обучающихся нашей школы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792000" y="620640"/>
          <a:ext cx="7740720" cy="6307200"/>
        </p:xfrm>
        <a:graphic>
          <a:graphicData uri="http://schemas.openxmlformats.org/drawingml/2006/table">
            <a:tbl>
              <a:tblPr/>
              <a:tblGrid>
                <a:gridCol w="1349640"/>
                <a:gridCol w="2519280"/>
                <a:gridCol w="1935000"/>
                <a:gridCol w="193680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и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назв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так назвал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р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ревнегречес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ужественный, храбр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а род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равилось имя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ревнегречес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« царь, правитель»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ластный, сильны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равилось 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тор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атинск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"победа"; «победитель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 захотел отец, которого тоже зовут Викто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илл1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реческ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«повелитель, хозяин»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ерсидск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«солнце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а род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равилось имя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илл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реческ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«повелитель, хозяин»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ерсидск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«солнце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а род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равилось имя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ег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кандинавск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«священнный, свято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а род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равилось имя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ая справка</a:t>
            </a:r>
            <a:endParaRPr b="0" lang="en-US" sz="2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34920" y="1593360"/>
            <a:ext cx="7920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503280" y="1152720"/>
            <a:ext cx="817236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 место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пуляр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ред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енских имён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ет  им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рья (2 девочки  носят это имя.)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альные имена  встречаются  по одному разу:  Алёна,  Екатерина, Мария, Софья, Викто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 популярны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мужских  имён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о  им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ирил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 мальчика  носят это имя.)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стальные имена: Олег,   Василий,  Виктор, Андрей-  оказались в списке одинок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мест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исхождению имён среди девочек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егреческие  (2 раза),  древнееврейск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 раза)  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ид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 раза)  имена; на втором мест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инско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мальчик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место занима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греческого  происхождения (4 раза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торое место подел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инск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ндинавско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, упомянутые по одному ра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539640" y="-302760"/>
            <a:ext cx="7920000" cy="53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его зависел выбор имени  при рожд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ли ли родители значение имени, когда называли  им сына или доч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может быть, малыша назвали в честь кого-нибуд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вопросы были заданы учащимся и родителям .   Всего в  данном исследовании приняли участие 31  человек.  Все опрошенные родители осознанно выбирали имя для своего ребенка, хорошо знали, что оно обозначает, какое имеет происхождение. А вот мотивация выбора была раз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мя понравилос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челов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честь родственников (бабушки, дедушки)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честь родителей(отца)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1332000" y="454680"/>
            <a:ext cx="752472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в детстве мы понимаем, что у каждого человека есть своё имя, которое выбрали для него родители. Мы выяснили, почему у нас разные имена, что они обозначают, каково  их происхожд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иногда сравниваем свою жизнь с жизнью владельцев таких же имён. Мы замечаем, что у нас есть много общего, как положительного, так и отрицательного. И мы начинаем верить, что правы были наши предки, когда говорили, что в именах заключается личность и душа человека, а знание тайны имени позволяет влиять на судьбу. Ведь им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код, формула счастья и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-язычники давали имена для своих детей не просто так. Люди, что верили в заклинания, в талисманы, всегда старались выбрать из тысячи названий и имен одно, наиболее подходящее для их ребенка, именно то, которое будет помогать  ему  стать счастливым, оберегало бы от злых дух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знали значение имени, когда называли  им сына или до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нутая нами гипотеза подтвердилас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900000" y="799920"/>
            <a:ext cx="790740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ловарь древнерусских личных собственных имен М. Н. Тупик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б., 19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еви В. Л., О редких именах: как имя влияет на жизнь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тровский Н. А., Словарь русских личных имен. - М., 200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лектронная версия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А.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7 Значение и тайна имени http://www.infoname.or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kladraz.ru›Советы для родителей›Что означают наши и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admin</cp:lastModifiedBy>
  <dcterms:modified xsi:type="dcterms:W3CDTF">2019-04-01T07:51:20Z</dcterms:modified>
  <cp:revision>32</cp:revision>
  <dc:subject/>
  <dc:title>Слайд 1</dc:title>
</cp:coreProperties>
</file>