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7DB-DA91-4D30-BE95-BC871EFE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A70-5FDA-4BEA-92F5-78103025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A94-85D4-4B1C-8040-1B9E4A66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FAC-2C26-49E7-A6BF-9B675AAA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0F98-4486-40FD-A503-7A3EA0B8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DEE6-BFA6-400B-A1B5-E9516D1E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594B-583B-4395-8880-54E4E10E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0C13-106B-4D7C-A997-D2162D92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0388-C364-4D19-8F61-07C7EB50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4840" y="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83AF-5C0E-4421-BE5C-5ADB060A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BF28-FA88-4A3C-B785-A8B6500C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A02-57BA-47AD-B1AD-B3A780B5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58F1-DA88-4074-9160-E6B9FEB9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DBCE-E2A6-4F73-B416-AA1B7FD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D7D1-0B77-44D6-9949-D2130E9D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3117-1FD5-476A-B212-DD44F5D7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102E-EE33-4D4A-BE3B-ECB5EF6F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1DE-70D0-4ECE-ABC3-34F0965A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CE0-C123-48AE-BF80-841D0E99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85A-15BE-4252-B1F3-538529C2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4840" y="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670-9D9E-4C0E-B891-4C453B43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9B5-B97E-427A-8133-8857F5D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0AAB-42E0-4458-A41B-27B005EA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06A-E42D-473D-B7E5-27298319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9d1"/>
            </a:gs>
            <a:gs pos="100000">
              <a:srgbClr val="feffe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66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d1f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9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9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C69B-2FE2-41C1-B62D-E2F2742FBE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d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ecf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9d1"/>
            </a:gs>
            <a:gs pos="100000">
              <a:srgbClr val="feffe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d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66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d1f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9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9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9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E569-E51D-4250-A6E1-BF7B7A9B9D35}" type="slidenum">
              <a:rPr b="0" lang="ru-RU" sz="1000" spc="-1" strike="noStrike">
                <a:solidFill>
                  <a:srgbClr val="9900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005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1d0a90"/>
                </a:solidFill>
                <a:latin typeface="Garamond"/>
              </a:rPr>
              <a:t>СИГНАЛЫ СВЕТОФОРА И РЕГУЛИРОВЩИКА</a:t>
            </a:r>
            <a:endParaRPr b="0" lang="en-US" sz="5200" spc="-1" strike="noStrike">
              <a:solidFill>
                <a:srgbClr val="00cc00"/>
              </a:solidFill>
              <a:latin typeface="Garamond"/>
            </a:endParaRPr>
          </a:p>
        </p:txBody>
      </p:sp>
      <p:pic>
        <p:nvPicPr>
          <p:cNvPr id="90" name="Picture 4" descr="BD07304_"/>
          <p:cNvPicPr/>
          <p:nvPr/>
        </p:nvPicPr>
        <p:blipFill>
          <a:blip r:embed="rId1"/>
          <a:stretch/>
        </p:blipFill>
        <p:spPr>
          <a:xfrm>
            <a:off x="3733920" y="228600"/>
            <a:ext cx="2290680" cy="2278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445680"/>
            <a:ext cx="43434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0a90"/>
                </a:solidFill>
                <a:latin typeface="Times New Roman"/>
              </a:rPr>
              <a:t>Для регулирования движения транспортных средств по полосам проезжей части, в частности по тем, направление движения по которым может изменяться на противоположное, применяются реверсивные светофоры с красным Х-образным сигналом и зеленым сигналом в виде стрелки, направленной вниз. Эти сигналы соответственно запрещают или разрешают движение по полосе, над которой они расположены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175" name="Picture 7" descr="разметка"/>
          <p:cNvPicPr/>
          <p:nvPr/>
        </p:nvPicPr>
        <p:blipFill>
          <a:blip r:embed="rId1"/>
          <a:stretch/>
        </p:blipFill>
        <p:spPr>
          <a:xfrm>
            <a:off x="4846680" y="228600"/>
            <a:ext cx="4224240" cy="6400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>
            <a:hlinkClick r:id="" action="ppaction://hlinkshowjump?jump=nextslide"/>
          </p:cNvPr>
          <p:cNvSpPr/>
          <p:nvPr/>
        </p:nvSpPr>
        <p:spPr>
          <a:xfrm>
            <a:off x="3483000" y="61977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c1e7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Основные сигналы реверсивного светофора могут быть дополнены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желтым сигналом</a:t>
            </a: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 в виде стрелы, наклоненной по диагонали вниз направо или налево, включение которой информирует о предстоящей смене сигнала и необходимости перестроиться на полосу, на которую указывает стрела.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При выключенных сигналах реверсивного светофора, который расположен над полосой, обозначенной с обеих сторон разметкой 1.9, въезд на эту полосу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запрещен.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grpSp>
        <p:nvGrpSpPr>
          <p:cNvPr id="178" name="Group 22"/>
          <p:cNvGrpSpPr/>
          <p:nvPr/>
        </p:nvGrpSpPr>
        <p:grpSpPr>
          <a:xfrm>
            <a:off x="2201760" y="316080"/>
            <a:ext cx="1511280" cy="1008000"/>
            <a:chOff x="2201760" y="316080"/>
            <a:chExt cx="1511280" cy="1008000"/>
          </a:xfrm>
        </p:grpSpPr>
        <p:sp>
          <p:nvSpPr>
            <p:cNvPr id="179" name="Rectangle 4"/>
            <p:cNvSpPr/>
            <p:nvPr/>
          </p:nvSpPr>
          <p:spPr>
            <a:xfrm>
              <a:off x="2201760" y="316080"/>
              <a:ext cx="1511280" cy="1008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grpSp>
          <p:nvGrpSpPr>
            <p:cNvPr id="180" name="Group 5"/>
            <p:cNvGrpSpPr/>
            <p:nvPr/>
          </p:nvGrpSpPr>
          <p:grpSpPr>
            <a:xfrm>
              <a:off x="2535840" y="437040"/>
              <a:ext cx="1026000" cy="717480"/>
              <a:chOff x="2535840" y="437040"/>
              <a:chExt cx="1026000" cy="717480"/>
            </a:xfrm>
          </p:grpSpPr>
          <p:sp>
            <p:nvSpPr>
              <p:cNvPr id="181" name="Line 6"/>
              <p:cNvSpPr/>
              <p:nvPr/>
            </p:nvSpPr>
            <p:spPr>
              <a:xfrm>
                <a:off x="2535840" y="495720"/>
                <a:ext cx="1026000" cy="60012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82" name="Line 7"/>
              <p:cNvSpPr/>
              <p:nvPr/>
            </p:nvSpPr>
            <p:spPr>
              <a:xfrm flipH="1">
                <a:off x="2651400" y="437040"/>
                <a:ext cx="793080" cy="71748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</p:grpSp>
      <p:grpSp>
        <p:nvGrpSpPr>
          <p:cNvPr id="183" name="Group 23"/>
          <p:cNvGrpSpPr/>
          <p:nvPr/>
        </p:nvGrpSpPr>
        <p:grpSpPr>
          <a:xfrm>
            <a:off x="5224320" y="306360"/>
            <a:ext cx="1236960" cy="969840"/>
            <a:chOff x="5224320" y="306360"/>
            <a:chExt cx="1236960" cy="969840"/>
          </a:xfrm>
        </p:grpSpPr>
        <p:sp>
          <p:nvSpPr>
            <p:cNvPr id="184" name="Rectangle 9"/>
            <p:cNvSpPr/>
            <p:nvPr/>
          </p:nvSpPr>
          <p:spPr>
            <a:xfrm flipH="1">
              <a:off x="5224320" y="316080"/>
              <a:ext cx="1236960" cy="960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grpSp>
          <p:nvGrpSpPr>
            <p:cNvPr id="185" name="Group 10"/>
            <p:cNvGrpSpPr/>
            <p:nvPr/>
          </p:nvGrpSpPr>
          <p:grpSpPr>
            <a:xfrm>
              <a:off x="5224320" y="306360"/>
              <a:ext cx="1236240" cy="861840"/>
              <a:chOff x="5224320" y="306360"/>
              <a:chExt cx="1236240" cy="861840"/>
            </a:xfrm>
          </p:grpSpPr>
          <p:sp>
            <p:nvSpPr>
              <p:cNvPr id="186" name="Line 11"/>
              <p:cNvSpPr/>
              <p:nvPr/>
            </p:nvSpPr>
            <p:spPr>
              <a:xfrm>
                <a:off x="5842800" y="306360"/>
                <a:ext cx="0" cy="86184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87" name="Line 12"/>
              <p:cNvSpPr/>
              <p:nvPr/>
            </p:nvSpPr>
            <p:spPr>
              <a:xfrm flipV="1">
                <a:off x="5842800" y="736920"/>
                <a:ext cx="617760" cy="43092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88" name="Line 13"/>
              <p:cNvSpPr/>
              <p:nvPr/>
            </p:nvSpPr>
            <p:spPr>
              <a:xfrm flipH="1" flipV="1">
                <a:off x="5224320" y="736920"/>
                <a:ext cx="618480" cy="43092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</p:grpSp>
      <p:grpSp>
        <p:nvGrpSpPr>
          <p:cNvPr id="189" name="Group 21"/>
          <p:cNvGrpSpPr/>
          <p:nvPr/>
        </p:nvGrpSpPr>
        <p:grpSpPr>
          <a:xfrm>
            <a:off x="3863520" y="316080"/>
            <a:ext cx="1236600" cy="960120"/>
            <a:chOff x="3863520" y="316080"/>
            <a:chExt cx="1236600" cy="960120"/>
          </a:xfrm>
        </p:grpSpPr>
        <p:sp>
          <p:nvSpPr>
            <p:cNvPr id="190" name="Rectangle 8"/>
            <p:cNvSpPr/>
            <p:nvPr/>
          </p:nvSpPr>
          <p:spPr>
            <a:xfrm flipH="1">
              <a:off x="3863160" y="316080"/>
              <a:ext cx="1236600" cy="960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>
              <a:off x="4099320" y="476640"/>
              <a:ext cx="675360" cy="73116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V="1">
              <a:off x="4775040" y="425520"/>
              <a:ext cx="159120" cy="7826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 flipV="1">
              <a:off x="3979080" y="1168560"/>
              <a:ext cx="799920" cy="162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sp>
        <p:nvSpPr>
          <p:cNvPr id="194" name="Text Box 20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6960" y="1803240"/>
            <a:ext cx="8229600" cy="4530960"/>
          </a:xfrm>
          <a:prstGeom prst="rect">
            <a:avLst/>
          </a:prstGeom>
          <a:solidFill>
            <a:srgbClr val="c1e7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imes New Roman"/>
              </a:rPr>
              <a:t>Для регулирования движения трамваев, а также других маршрутных транспортных средств, движущихся по выделенной для них полосе, могут применяться светофоры одноцветной сигнализации с четырьмя круглыми сигналами бело-лунного цвета, расположенными в виде буквы «Т». Движение разрешается только при включении одновременно нижнего сигнала и одного или нескольких верхних, из которых левый разрешает движение налево, средний – прямо, правый – направо. Если включены только три верхних сигнала, то движение 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запрещено</a:t>
            </a:r>
            <a:r>
              <a:rPr b="1" lang="ru-RU" sz="2600" spc="-1" strike="noStrike" u="sng">
                <a:solidFill>
                  <a:srgbClr val="990099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96" name="Text Box 17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grpSp>
        <p:nvGrpSpPr>
          <p:cNvPr id="197" name="Group 26"/>
          <p:cNvGrpSpPr/>
          <p:nvPr/>
        </p:nvGrpSpPr>
        <p:grpSpPr>
          <a:xfrm>
            <a:off x="2973240" y="0"/>
            <a:ext cx="2727360" cy="1641600"/>
            <a:chOff x="2973240" y="0"/>
            <a:chExt cx="2727360" cy="1641600"/>
          </a:xfrm>
        </p:grpSpPr>
        <p:sp>
          <p:nvSpPr>
            <p:cNvPr id="198" name="Oval 18"/>
            <p:cNvSpPr/>
            <p:nvPr/>
          </p:nvSpPr>
          <p:spPr>
            <a:xfrm>
              <a:off x="4916520" y="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99" name="Oval 21"/>
            <p:cNvSpPr/>
            <p:nvPr/>
          </p:nvSpPr>
          <p:spPr>
            <a:xfrm>
              <a:off x="2973240" y="0"/>
              <a:ext cx="78444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200" name="Oval 24"/>
            <p:cNvSpPr/>
            <p:nvPr/>
          </p:nvSpPr>
          <p:spPr>
            <a:xfrm>
              <a:off x="3984480" y="857160"/>
              <a:ext cx="784440" cy="784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201" name="Oval 25"/>
            <p:cNvSpPr/>
            <p:nvPr/>
          </p:nvSpPr>
          <p:spPr>
            <a:xfrm>
              <a:off x="3957480" y="0"/>
              <a:ext cx="78444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54120" y="2471400"/>
            <a:ext cx="8229600" cy="3529080"/>
          </a:xfrm>
          <a:prstGeom prst="rect">
            <a:avLst/>
          </a:prstGeom>
          <a:solidFill>
            <a:srgbClr val="005a92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fa32"/>
                </a:solidFill>
                <a:latin typeface="Times New Roman"/>
              </a:rPr>
              <a:t>Круглый </a:t>
            </a:r>
            <a:r>
              <a:rPr b="1" lang="ru-RU" sz="2800" spc="-1" strike="noStrike" u="sng">
                <a:solidFill>
                  <a:srgbClr val="feffef"/>
                </a:solidFill>
                <a:uFillTx/>
                <a:latin typeface="Times New Roman"/>
              </a:rPr>
              <a:t>бело – лунный</a:t>
            </a:r>
            <a:r>
              <a:rPr b="0" lang="ru-RU" sz="2800" spc="-1" strike="noStrike">
                <a:solidFill>
                  <a:srgbClr val="ecfa32"/>
                </a:solidFill>
                <a:latin typeface="Times New Roman"/>
              </a:rPr>
              <a:t> мигающий сигнал, расположенный на железнодорожном переезде, разрешает движение транспортных средств через переезд. При выключенных мигающих бело – лунном и красных сигналах движение </a:t>
            </a:r>
            <a:r>
              <a:rPr b="1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разрешается</a:t>
            </a: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cfa32"/>
                </a:solidFill>
                <a:latin typeface="Times New Roman"/>
              </a:rPr>
              <a:t>при отсутствии в пределах видимости приближающего поезда (локомотива, дрезины).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03" name="Text Box 3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grpSp>
        <p:nvGrpSpPr>
          <p:cNvPr id="204" name="Group 12"/>
          <p:cNvGrpSpPr/>
          <p:nvPr/>
        </p:nvGrpSpPr>
        <p:grpSpPr>
          <a:xfrm>
            <a:off x="3565440" y="0"/>
            <a:ext cx="1656000" cy="2109960"/>
            <a:chOff x="3565440" y="0"/>
            <a:chExt cx="1656000" cy="2109960"/>
          </a:xfrm>
        </p:grpSpPr>
        <p:sp>
          <p:nvSpPr>
            <p:cNvPr id="205" name="Oval 5"/>
            <p:cNvSpPr/>
            <p:nvPr/>
          </p:nvSpPr>
          <p:spPr>
            <a:xfrm>
              <a:off x="4437000" y="1311120"/>
              <a:ext cx="784440" cy="784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3565440" y="1325520"/>
              <a:ext cx="784440" cy="784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207" name="AutoShape 11"/>
            <p:cNvSpPr/>
            <p:nvPr/>
          </p:nvSpPr>
          <p:spPr>
            <a:xfrm>
              <a:off x="3716280" y="0"/>
              <a:ext cx="1393920" cy="1335240"/>
            </a:xfrm>
            <a:prstGeom prst="su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0a90"/>
                </a:solidFill>
                <a:latin typeface="Garamond"/>
              </a:rPr>
              <a:t>Сигналы регулировщика имеют следующие значения</a:t>
            </a:r>
            <a:r>
              <a:rPr b="1" lang="ru-RU" sz="3200" spc="-1" strike="noStrike">
                <a:solidFill>
                  <a:srgbClr val="1d0a9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74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Van Dijk"/>
              </a:rPr>
              <a:t>Руки вытянуты в стороны или опущены: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10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 </a:t>
            </a: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со стороны левого и правого бока </a:t>
            </a:r>
            <a:r>
              <a:rPr b="1" lang="ru-RU" sz="2400" spc="-1" strike="noStrike">
                <a:solidFill>
                  <a:srgbClr val="008000"/>
                </a:solidFill>
                <a:latin typeface="Van Dijk"/>
              </a:rPr>
              <a:t>разрешено</a:t>
            </a: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 движение трамваю прямо, безрельсовым транспортным средствам прямо и направо, пешеходам </a:t>
            </a:r>
            <a:r>
              <a:rPr b="1" lang="ru-RU" sz="2400" spc="-1" strike="noStrike">
                <a:solidFill>
                  <a:srgbClr val="008000"/>
                </a:solidFill>
                <a:latin typeface="Van Dijk"/>
              </a:rPr>
              <a:t>разрешено</a:t>
            </a: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 переходить проезжую часть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10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 </a:t>
            </a: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со стороны груди и спины движение всех транспортных средств и пешеходов </a:t>
            </a:r>
            <a:r>
              <a:rPr b="1" lang="ru-RU" sz="2400" spc="-1" strike="noStrike">
                <a:solidFill>
                  <a:srgbClr val="fd1f1f"/>
                </a:solidFill>
                <a:latin typeface="Van Dijk"/>
              </a:rPr>
              <a:t>запрещено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210" name="Picture 6" descr="q15"/>
          <p:cNvPicPr/>
          <p:nvPr/>
        </p:nvPicPr>
        <p:blipFill>
          <a:blip r:embed="rId1"/>
          <a:stretch/>
        </p:blipFill>
        <p:spPr>
          <a:xfrm>
            <a:off x="6381720" y="1449360"/>
            <a:ext cx="2268720" cy="1677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q10"/>
          <p:cNvPicPr/>
          <p:nvPr/>
        </p:nvPicPr>
        <p:blipFill>
          <a:blip r:embed="rId2"/>
          <a:stretch/>
        </p:blipFill>
        <p:spPr>
          <a:xfrm>
            <a:off x="6381720" y="4746600"/>
            <a:ext cx="2268720" cy="1677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q11"/>
          <p:cNvPicPr/>
          <p:nvPr/>
        </p:nvPicPr>
        <p:blipFill>
          <a:blip r:embed="rId3"/>
          <a:stretch/>
        </p:blipFill>
        <p:spPr>
          <a:xfrm>
            <a:off x="6402240" y="3106800"/>
            <a:ext cx="2227320" cy="1647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>
            <a:hlinkClick r:id="" action="ppaction://hlinkshowjump?jump=nextslide"/>
          </p:cNvPr>
          <p:cNvSpPr/>
          <p:nvPr/>
        </p:nvSpPr>
        <p:spPr>
          <a:xfrm>
            <a:off x="4702320" y="6219720"/>
            <a:ext cx="121896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0a90"/>
                </a:solidFill>
                <a:latin typeface="Garamond"/>
              </a:rPr>
              <a:t>Сигналы регулировщика имеют следующие значения</a:t>
            </a:r>
            <a:r>
              <a:rPr b="1" lang="ru-RU" sz="3200" spc="-1" strike="noStrike">
                <a:solidFill>
                  <a:srgbClr val="1d0a9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74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равая рука вытянута вперед: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8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со стороны левого бока </a:t>
            </a: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разрешено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движение трамваю налево, безрельсовым транспортным средствам во всех направлениях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8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со стороны груди всем транспортным средствам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разрешено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движение только направо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8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со стороны правого бока и спины движение всех транспортных средств 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запрещено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8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пешеходам </a:t>
            </a: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разрешено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переходить проезжую часть за спиной регулировщика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216" name="Picture 4" descr="q21"/>
          <p:cNvPicPr/>
          <p:nvPr/>
        </p:nvPicPr>
        <p:blipFill>
          <a:blip r:embed="rId1"/>
          <a:stretch/>
        </p:blipFill>
        <p:spPr>
          <a:xfrm>
            <a:off x="6532560" y="2192400"/>
            <a:ext cx="2075040" cy="1535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q25"/>
          <p:cNvPicPr/>
          <p:nvPr/>
        </p:nvPicPr>
        <p:blipFill>
          <a:blip r:embed="rId2"/>
          <a:stretch/>
        </p:blipFill>
        <p:spPr>
          <a:xfrm>
            <a:off x="6107040" y="5276880"/>
            <a:ext cx="1270080" cy="939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q29"/>
          <p:cNvPicPr/>
          <p:nvPr/>
        </p:nvPicPr>
        <p:blipFill>
          <a:blip r:embed="rId3"/>
          <a:stretch/>
        </p:blipFill>
        <p:spPr>
          <a:xfrm>
            <a:off x="7575480" y="5256360"/>
            <a:ext cx="1270080" cy="93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0a90"/>
                </a:solidFill>
                <a:latin typeface="Garamond"/>
              </a:rPr>
              <a:t>Сигналы регулировщика имеют следующие значения</a:t>
            </a:r>
            <a:r>
              <a:rPr b="1" lang="ru-RU" sz="3200" spc="-1" strike="noStrike">
                <a:solidFill>
                  <a:srgbClr val="1d0a9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87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Рука поднята вверх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движение всех транспортных средств и пешеходо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прещено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во всех направлениях, кроме случаев, предусмотренных пунктом 6.14 Правил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Пункт 6.14: Водителям, которые при включении желтого сигнала или поднятии регулировщиком руки вверх не могут остановиться, не прибегая к экстренному торможению перед стоп-линией, а при ее отсутствии – перед пересекаемой проезжей частью, светофором или регулировщиком, </a:t>
            </a:r>
            <a:r>
              <a:rPr b="0" i="1" lang="ru-RU" sz="2000" spc="-1" strike="noStrike">
                <a:solidFill>
                  <a:srgbClr val="00cc66"/>
                </a:solidFill>
                <a:latin typeface="Times New Roman"/>
              </a:rPr>
              <a:t>разрешается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дальнейшее движение.</a:t>
            </a:r>
            <a:endParaRPr b="0" lang="en-US" sz="20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222" name="Picture 4" descr="q30"/>
          <p:cNvPicPr/>
          <p:nvPr/>
        </p:nvPicPr>
        <p:blipFill>
          <a:blip r:embed="rId1"/>
          <a:stretch/>
        </p:blipFill>
        <p:spPr>
          <a:xfrm>
            <a:off x="6415200" y="1600200"/>
            <a:ext cx="2300040" cy="1701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q31"/>
          <p:cNvPicPr/>
          <p:nvPr/>
        </p:nvPicPr>
        <p:blipFill>
          <a:blip r:embed="rId2"/>
          <a:stretch/>
        </p:blipFill>
        <p:spPr>
          <a:xfrm>
            <a:off x="6427800" y="3533760"/>
            <a:ext cx="2333520" cy="17272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154160"/>
            <a:ext cx="688968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Регулировщик может подавать жестами рук и другие сигналы, понятные водителям и пешеходам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24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Для лучшей видимости сигналов регулировщик может применять жезл или диск с красным световозвращателем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24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Требование об остановке транспортного средства подается с помощью громкоговорящего устройства или жестом руки, направленной на транспортное средство. Водитель должен остановиться в указанном месте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24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Дополнительный сигнал свистком подается для привлечения внимания участников движения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226" name="Picture 4" descr="q2"/>
          <p:cNvPicPr/>
          <p:nvPr/>
        </p:nvPicPr>
        <p:blipFill>
          <a:blip r:embed="rId1"/>
          <a:stretch/>
        </p:blipFill>
        <p:spPr>
          <a:xfrm>
            <a:off x="7183440" y="2139840"/>
            <a:ext cx="1960560" cy="14511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69360" y="0"/>
            <a:ext cx="72932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При запрещающем сигнале светофора (кроме реверсивного) или регулировщика, водители должны остановиться перед стоп-линией, а при ее отсутствии: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на перекрестке – перед пересекаемой частью, не создавая помех пешеходам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перед железнодорожным переездом – в соответствии с пунктом 15.4 Правил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Пункт 15.4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Если движение через переезд запрещено, водитель должен остановиться у стоп-линии, знака 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STOP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 или светофора, если их нет – не ближе 5 м от шлагбаума, а при его отсутствии – не ближе 10 м до ближайшего рельса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 других местах – перед светофором или регулировщиком, не создавая помех транспортным средствам и пешеходам, движение которых разрешено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29" name="Text Box 5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662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Водители и пешеходы должны выполнять требования сигналов и распоряжений регулировщика, даже если они противоречат сигналам светофора, требованиям дорожных знаков или разметки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В случае если значения сигналов светофора противоречат требованиям дорожных знаков приоритета, водители должны руководствоваться сигналами светофора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а железнодорожных переездах одновременно с красным мигающим сигналом светофора может подаваться звуковой сигнал, дополнительно информирующий пешеходов о запрещении движения через переезд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0a90"/>
                </a:solidFill>
                <a:latin typeface="Garamond"/>
              </a:rPr>
              <a:t>Содержание</a:t>
            </a: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Verdana"/>
              </a:rPr>
              <a:t>Сигналы светофора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Verdana"/>
              </a:rPr>
              <a:t>Сигналы регулировщика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4" name="Text Box 4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204640"/>
            <a:ext cx="4608360" cy="29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В светофорах применяются световые сигналы цветов:</a:t>
            </a: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840200" y="2362320"/>
            <a:ext cx="29718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ЗЕЛЕНОГО  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840200" y="3200400"/>
            <a:ext cx="29718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КРАСНОГО          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764240" y="4114800"/>
            <a:ext cx="3047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ЖЕЛТОГО          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800600" y="4952880"/>
            <a:ext cx="312408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БЕЛО-ЛУННОГО           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00" name="Text Box 8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349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0a90"/>
                </a:solidFill>
                <a:latin typeface="Garamond"/>
              </a:rPr>
              <a:t>В зависимости от назначения </a:t>
            </a:r>
            <a:br>
              <a:rPr sz="4000"/>
            </a:br>
            <a:r>
              <a:rPr b="1" lang="ru-RU" sz="4000" spc="-1" strike="noStrike">
                <a:solidFill>
                  <a:srgbClr val="1d0a90"/>
                </a:solidFill>
                <a:latin typeface="Garamond"/>
              </a:rPr>
              <a:t>сигналы светофора могут быть:</a:t>
            </a:r>
            <a:endParaRPr b="0" lang="en-US" sz="4000" spc="-1" strike="noStrike">
              <a:solidFill>
                <a:srgbClr val="00cc00"/>
              </a:solidFill>
              <a:latin typeface="Garamond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914400" y="2759040"/>
            <a:ext cx="533160" cy="1752480"/>
            <a:chOff x="914400" y="2759040"/>
            <a:chExt cx="533160" cy="1752480"/>
          </a:xfrm>
        </p:grpSpPr>
        <p:sp>
          <p:nvSpPr>
            <p:cNvPr id="103" name="Oval 5"/>
            <p:cNvSpPr/>
            <p:nvPr/>
          </p:nvSpPr>
          <p:spPr>
            <a:xfrm>
              <a:off x="914400" y="2759040"/>
              <a:ext cx="53316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04" name="Oval 6"/>
            <p:cNvSpPr/>
            <p:nvPr/>
          </p:nvSpPr>
          <p:spPr>
            <a:xfrm>
              <a:off x="914400" y="3368520"/>
              <a:ext cx="53316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05" name="Oval 7"/>
            <p:cNvSpPr/>
            <p:nvPr/>
          </p:nvSpPr>
          <p:spPr>
            <a:xfrm>
              <a:off x="914400" y="3978000"/>
              <a:ext cx="533160" cy="53352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grpSp>
        <p:nvGrpSpPr>
          <p:cNvPr id="106" name="Group 25"/>
          <p:cNvGrpSpPr/>
          <p:nvPr/>
        </p:nvGrpSpPr>
        <p:grpSpPr>
          <a:xfrm>
            <a:off x="2438280" y="2743200"/>
            <a:ext cx="2057400" cy="1752120"/>
            <a:chOff x="2438280" y="2743200"/>
            <a:chExt cx="2057400" cy="1752120"/>
          </a:xfrm>
        </p:grpSpPr>
        <p:grpSp>
          <p:nvGrpSpPr>
            <p:cNvPr id="107" name="Group 8"/>
            <p:cNvGrpSpPr/>
            <p:nvPr/>
          </p:nvGrpSpPr>
          <p:grpSpPr>
            <a:xfrm>
              <a:off x="2438280" y="2743200"/>
              <a:ext cx="533520" cy="1752120"/>
              <a:chOff x="2438280" y="2743200"/>
              <a:chExt cx="533520" cy="1752120"/>
            </a:xfrm>
          </p:grpSpPr>
          <p:sp>
            <p:nvSpPr>
              <p:cNvPr id="108" name="Oval 9"/>
              <p:cNvSpPr/>
              <p:nvPr/>
            </p:nvSpPr>
            <p:spPr>
              <a:xfrm>
                <a:off x="2438280" y="3962160"/>
                <a:ext cx="533520" cy="533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09" name="Oval 10"/>
              <p:cNvSpPr/>
              <p:nvPr/>
            </p:nvSpPr>
            <p:spPr>
              <a:xfrm>
                <a:off x="2438280" y="3352680"/>
                <a:ext cx="533520" cy="532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10" name="Oval 11"/>
              <p:cNvSpPr/>
              <p:nvPr/>
            </p:nvSpPr>
            <p:spPr>
              <a:xfrm>
                <a:off x="2438280" y="2743200"/>
                <a:ext cx="533520" cy="533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  <p:sp>
          <p:nvSpPr>
            <p:cNvPr id="111" name="AutoShape 12"/>
            <p:cNvSpPr/>
            <p:nvPr/>
          </p:nvSpPr>
          <p:spPr>
            <a:xfrm>
              <a:off x="2590920" y="2819520"/>
              <a:ext cx="228600" cy="304560"/>
            </a:xfrm>
            <a:prstGeom prst="upArrow">
              <a:avLst>
                <a:gd name="adj1" fmla="val 50000"/>
                <a:gd name="adj2" fmla="val 33307"/>
              </a:avLst>
            </a:prstGeom>
            <a:solidFill>
              <a:srgbClr val="ff00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12" name="AutoShape 13"/>
            <p:cNvSpPr/>
            <p:nvPr/>
          </p:nvSpPr>
          <p:spPr>
            <a:xfrm>
              <a:off x="2590920" y="3429000"/>
              <a:ext cx="228600" cy="304920"/>
            </a:xfrm>
            <a:prstGeom prst="upArrow">
              <a:avLst>
                <a:gd name="adj1" fmla="val 50000"/>
                <a:gd name="adj2" fmla="val 33346"/>
              </a:avLst>
            </a:prstGeom>
            <a:solidFill>
              <a:srgbClr val="ffff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13" name="AutoShape 14"/>
            <p:cNvSpPr/>
            <p:nvPr/>
          </p:nvSpPr>
          <p:spPr>
            <a:xfrm>
              <a:off x="2590920" y="4038480"/>
              <a:ext cx="228600" cy="304920"/>
            </a:xfrm>
            <a:prstGeom prst="upArrow">
              <a:avLst>
                <a:gd name="adj1" fmla="val 50000"/>
                <a:gd name="adj2" fmla="val 33346"/>
              </a:avLst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 flipH="1">
              <a:off x="3199680" y="3749760"/>
              <a:ext cx="6094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 flipH="1">
              <a:off x="3885480" y="3749760"/>
              <a:ext cx="6094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grpSp>
          <p:nvGrpSpPr>
            <p:cNvPr id="116" name="Group 17"/>
            <p:cNvGrpSpPr/>
            <p:nvPr/>
          </p:nvGrpSpPr>
          <p:grpSpPr>
            <a:xfrm>
              <a:off x="3885840" y="3749760"/>
              <a:ext cx="609840" cy="609480"/>
              <a:chOff x="3885840" y="3749760"/>
              <a:chExt cx="609840" cy="609480"/>
            </a:xfrm>
          </p:grpSpPr>
          <p:sp>
            <p:nvSpPr>
              <p:cNvPr id="117" name="Line 18"/>
              <p:cNvSpPr/>
              <p:nvPr/>
            </p:nvSpPr>
            <p:spPr>
              <a:xfrm>
                <a:off x="4191120" y="3749760"/>
                <a:ext cx="0" cy="60948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18" name="Line 19"/>
              <p:cNvSpPr/>
              <p:nvPr/>
            </p:nvSpPr>
            <p:spPr>
              <a:xfrm flipV="1">
                <a:off x="4191120" y="4054320"/>
                <a:ext cx="304560" cy="30456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19" name="Line 20"/>
              <p:cNvSpPr/>
              <p:nvPr/>
            </p:nvSpPr>
            <p:spPr>
              <a:xfrm flipH="1" flipV="1">
                <a:off x="3885840" y="4054320"/>
                <a:ext cx="304920" cy="30456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  <p:grpSp>
          <p:nvGrpSpPr>
            <p:cNvPr id="120" name="Group 21"/>
            <p:cNvGrpSpPr/>
            <p:nvPr/>
          </p:nvGrpSpPr>
          <p:grpSpPr>
            <a:xfrm>
              <a:off x="3283560" y="3909240"/>
              <a:ext cx="442440" cy="442440"/>
              <a:chOff x="3283560" y="3909240"/>
              <a:chExt cx="442440" cy="442440"/>
            </a:xfrm>
          </p:grpSpPr>
          <p:sp>
            <p:nvSpPr>
              <p:cNvPr id="121" name="Line 22"/>
              <p:cNvSpPr/>
              <p:nvPr/>
            </p:nvSpPr>
            <p:spPr>
              <a:xfrm>
                <a:off x="3295440" y="3909240"/>
                <a:ext cx="419760" cy="44244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22" name="Line 23"/>
              <p:cNvSpPr/>
              <p:nvPr/>
            </p:nvSpPr>
            <p:spPr>
              <a:xfrm flipV="1">
                <a:off x="3714840" y="3920400"/>
                <a:ext cx="11160" cy="43092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 flipH="1" flipV="1">
                <a:off x="3283560" y="4340160"/>
                <a:ext cx="430920" cy="1152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</p:grpSp>
      <p:pic>
        <p:nvPicPr>
          <p:cNvPr id="124" name="Picture 26" descr="ПЕШЕХОД"/>
          <p:cNvPicPr/>
          <p:nvPr/>
        </p:nvPicPr>
        <p:blipFill>
          <a:blip r:embed="rId1"/>
          <a:stretch/>
        </p:blipFill>
        <p:spPr>
          <a:xfrm>
            <a:off x="5257800" y="2911320"/>
            <a:ext cx="80172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6"/>
          <p:cNvGrpSpPr/>
          <p:nvPr/>
        </p:nvGrpSpPr>
        <p:grpSpPr>
          <a:xfrm>
            <a:off x="6921360" y="2806560"/>
            <a:ext cx="2210040" cy="1844640"/>
            <a:chOff x="6921360" y="2806560"/>
            <a:chExt cx="2210040" cy="1844640"/>
          </a:xfrm>
        </p:grpSpPr>
        <p:grpSp>
          <p:nvGrpSpPr>
            <p:cNvPr id="126" name="Group 27"/>
            <p:cNvGrpSpPr/>
            <p:nvPr/>
          </p:nvGrpSpPr>
          <p:grpSpPr>
            <a:xfrm>
              <a:off x="6921360" y="4118040"/>
              <a:ext cx="1905120" cy="533160"/>
              <a:chOff x="6921360" y="4118040"/>
              <a:chExt cx="1905120" cy="533160"/>
            </a:xfrm>
          </p:grpSpPr>
          <p:sp>
            <p:nvSpPr>
              <p:cNvPr id="127" name="Oval 28"/>
              <p:cNvSpPr/>
              <p:nvPr/>
            </p:nvSpPr>
            <p:spPr>
              <a:xfrm>
                <a:off x="6921360" y="411804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28" name="Oval 29"/>
              <p:cNvSpPr/>
              <p:nvPr/>
            </p:nvSpPr>
            <p:spPr>
              <a:xfrm>
                <a:off x="7607160" y="4118040"/>
                <a:ext cx="533520" cy="533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29" name="Oval 30"/>
              <p:cNvSpPr/>
              <p:nvPr/>
            </p:nvSpPr>
            <p:spPr>
              <a:xfrm>
                <a:off x="8292960" y="4118040"/>
                <a:ext cx="533520" cy="53316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  <p:sp>
          <p:nvSpPr>
            <p:cNvPr id="130" name="Rectangle 31"/>
            <p:cNvSpPr/>
            <p:nvPr/>
          </p:nvSpPr>
          <p:spPr>
            <a:xfrm>
              <a:off x="7607160" y="2806560"/>
              <a:ext cx="838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grpSp>
          <p:nvGrpSpPr>
            <p:cNvPr id="131" name="Group 32"/>
            <p:cNvGrpSpPr/>
            <p:nvPr/>
          </p:nvGrpSpPr>
          <p:grpSpPr>
            <a:xfrm>
              <a:off x="7771320" y="2892960"/>
              <a:ext cx="510120" cy="513360"/>
              <a:chOff x="7771320" y="2892960"/>
              <a:chExt cx="510120" cy="513360"/>
            </a:xfrm>
          </p:grpSpPr>
          <p:sp>
            <p:nvSpPr>
              <p:cNvPr id="132" name="Line 33"/>
              <p:cNvSpPr/>
              <p:nvPr/>
            </p:nvSpPr>
            <p:spPr>
              <a:xfrm>
                <a:off x="7771320" y="2944080"/>
                <a:ext cx="510120" cy="41112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33" name="Line 34"/>
              <p:cNvSpPr/>
              <p:nvPr/>
            </p:nvSpPr>
            <p:spPr>
              <a:xfrm flipH="1">
                <a:off x="7822080" y="2892960"/>
                <a:ext cx="407160" cy="51336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  <p:sp>
          <p:nvSpPr>
            <p:cNvPr id="134" name="Text Box 35"/>
            <p:cNvSpPr/>
            <p:nvPr/>
          </p:nvSpPr>
          <p:spPr>
            <a:xfrm>
              <a:off x="7302600" y="35686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99"/>
                  </a:solidFill>
                  <a:latin typeface="Times New Roman"/>
                </a:rPr>
                <a:t>Х-образные</a:t>
              </a:r>
              <a:endParaRPr b="0" lang="en-US" sz="20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sp>
        <p:nvSpPr>
          <p:cNvPr id="135" name="Text Box 37"/>
          <p:cNvSpPr/>
          <p:nvPr/>
        </p:nvSpPr>
        <p:spPr>
          <a:xfrm>
            <a:off x="0" y="4724280"/>
            <a:ext cx="223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руглые  с вертикальным расположением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2340000" y="479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 виде стрелок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37" name="Text Box 39"/>
          <p:cNvSpPr/>
          <p:nvPr/>
        </p:nvSpPr>
        <p:spPr>
          <a:xfrm>
            <a:off x="507672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шеходные светофоры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38" name="Text Box 40"/>
          <p:cNvSpPr/>
          <p:nvPr/>
        </p:nvSpPr>
        <p:spPr>
          <a:xfrm>
            <a:off x="7056360" y="4797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руглые с горизонтальным расположением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39" name="Text Box 41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0a90"/>
                </a:solidFill>
                <a:latin typeface="Times New Roman"/>
              </a:rPr>
              <a:t>Светофоры с круглыми сигналами могут иметь одну или две дополнительные секции с сигналами в виде зеленой стрелки (стрелок), которые располагаются на уровне зеленого круглого сигнала.</a:t>
            </a:r>
            <a:r>
              <a:rPr b="0" lang="ru-RU" sz="4000" spc="-1" strike="noStrike">
                <a:solidFill>
                  <a:srgbClr val="ecfa32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cc00"/>
              </a:solidFill>
              <a:latin typeface="Garamond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533520" y="2841480"/>
            <a:ext cx="1774800" cy="2765520"/>
            <a:chOff x="533520" y="2841480"/>
            <a:chExt cx="1774800" cy="2765520"/>
          </a:xfrm>
        </p:grpSpPr>
        <p:sp>
          <p:nvSpPr>
            <p:cNvPr id="142" name="Oval 4"/>
            <p:cNvSpPr/>
            <p:nvPr/>
          </p:nvSpPr>
          <p:spPr>
            <a:xfrm>
              <a:off x="1523880" y="2841480"/>
              <a:ext cx="784440" cy="78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1523880" y="3886200"/>
              <a:ext cx="784440" cy="784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1523880" y="4822920"/>
              <a:ext cx="784440" cy="78408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533520" y="482292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46" name="AutoShape 8"/>
            <p:cNvSpPr/>
            <p:nvPr/>
          </p:nvSpPr>
          <p:spPr>
            <a:xfrm>
              <a:off x="685800" y="505152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sp>
        <p:nvSpPr>
          <p:cNvPr id="147" name="Oval 10"/>
          <p:cNvSpPr/>
          <p:nvPr/>
        </p:nvSpPr>
        <p:spPr>
          <a:xfrm>
            <a:off x="5410080" y="4822920"/>
            <a:ext cx="784440" cy="784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48" name="AutoShape 11"/>
          <p:cNvSpPr/>
          <p:nvPr/>
        </p:nvSpPr>
        <p:spPr>
          <a:xfrm flipH="1">
            <a:off x="5562720" y="5051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66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4267080" y="2841480"/>
            <a:ext cx="784440" cy="784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4267080" y="3886200"/>
            <a:ext cx="784440" cy="784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4267080" y="4822920"/>
            <a:ext cx="784440" cy="784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52" name="Oval 15"/>
          <p:cNvSpPr/>
          <p:nvPr/>
        </p:nvSpPr>
        <p:spPr>
          <a:xfrm>
            <a:off x="3276720" y="4822920"/>
            <a:ext cx="784080" cy="784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3429000" y="5051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66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grpSp>
        <p:nvGrpSpPr>
          <p:cNvPr id="154" name="Group 23"/>
          <p:cNvGrpSpPr/>
          <p:nvPr/>
        </p:nvGrpSpPr>
        <p:grpSpPr>
          <a:xfrm>
            <a:off x="6683400" y="2841480"/>
            <a:ext cx="1927080" cy="2765520"/>
            <a:chOff x="6683400" y="2841480"/>
            <a:chExt cx="1927080" cy="2765520"/>
          </a:xfrm>
        </p:grpSpPr>
        <p:sp>
          <p:nvSpPr>
            <p:cNvPr id="155" name="Oval 18"/>
            <p:cNvSpPr/>
            <p:nvPr/>
          </p:nvSpPr>
          <p:spPr>
            <a:xfrm>
              <a:off x="7826400" y="482292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56" name="AutoShape 19"/>
            <p:cNvSpPr/>
            <p:nvPr/>
          </p:nvSpPr>
          <p:spPr>
            <a:xfrm flipH="1">
              <a:off x="7978680" y="505152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57" name="Oval 20"/>
            <p:cNvSpPr/>
            <p:nvPr/>
          </p:nvSpPr>
          <p:spPr>
            <a:xfrm>
              <a:off x="6683400" y="2841480"/>
              <a:ext cx="784080" cy="78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6683400" y="3886200"/>
              <a:ext cx="784080" cy="784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6683400" y="4822920"/>
              <a:ext cx="784080" cy="78408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sp>
        <p:nvSpPr>
          <p:cNvPr id="160" name="Text Box 24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0a90"/>
                </a:solidFill>
                <a:latin typeface="Garamond"/>
              </a:rPr>
              <a:t>Круглые сигналы светофора имеют следующие значения:</a:t>
            </a:r>
            <a:endParaRPr b="0" lang="en-US" sz="36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c1e7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ЗЕЛЕНЫЙ СИГНАЛ</a:t>
            </a:r>
            <a:r>
              <a:rPr b="1" lang="ru-RU" sz="14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РАЗРЕШАЕТ ДВИЖЕНИЕ;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ЗЕЛЕНЫЙ МИГАЮЩИЙ СИГНАЛ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РАЗРЕШАЕТ ДВИЖЕНИЕ И ИНФОРМИРУЕТ, ЧТО ВРЕМЯ ЕГО ДЕЙСТВИЯ ИСТЕКАЕТ И ВСКОРЕ БУДЕТ ВКЛЮЧЕН ЗАПРЕЩАЮЩИЙ СИГНАЛ;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ЖЕЛТЫЙ СИГНАЛ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ЗАПРЕЩАЕТ ДВИЖЕНИЕ, КРОМЕ СЛУЧАЕВ, ПРЕДУСМОТРЕННЫХ ПУНКТОМ 6.14 ПРАВИЛ, И ПРЕДУПРЕЖДАЕТ О ПРЕДСТОЯЩЕЙ СМЕНЕ СИГНАЛОВ;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Verdana"/>
              </a:rPr>
              <a:t>Пункт 6.14: Водителям, которые при включении желтого сигнала или поднятии регулировщиком руки вверх не могут остановиться, не прибегая к экстренному торможению перед стоп-линией, а при ее отсутствии – перед пересекаемой проезжей частью, светофором или регулировщиком, разрешается дальнейшее движение.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ЖЕЛТЫЙ МИГАЮЩИЙ СИГНАЛ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РАЗРЕШАЕТ ДВИЖЕНИЕ И ИНФОРМИРУЕТ О НАЛИЧИИ НЕРЕГУЛИРУЕМОГО ПЕРЕКРЕСТКА ИЛИ ПЕШЕХОДНОГО ПЕРЕХОДА, ПРЕДУПРЕЖДАЕТ ОБ ОПАСНОСТИ;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РАСНЫЙ СИГНАЛ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, В ТОМ ЧИСЛЕ МИГАЮЩИЙ, ЗАПРЕЩАЕТ ДВИЖЕНИЕ.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СОЧЕТАНИЕ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КРАСНОГО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И </a:t>
            </a: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ЖЕЛТОГО 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СИГНАЛОВ ЗАПРЕЩАЕТ ДВИЖЕНИЕ И ИНФОРМИРУЕТ О ПРЕДСТОЯЩЕМ ВКЛЮЧЕНИИ </a:t>
            </a:r>
            <a:r>
              <a:rPr b="1" lang="ru-RU" sz="1400" spc="-1" strike="noStrike">
                <a:solidFill>
                  <a:srgbClr val="00cc66"/>
                </a:solidFill>
                <a:latin typeface="Verdana"/>
              </a:rPr>
              <a:t>ЗЕЛЕНОГО СИГНАЛА.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165" name="Picture 4" descr="1"/>
          <p:cNvPicPr/>
          <p:nvPr/>
        </p:nvPicPr>
        <p:blipFill>
          <a:blip r:embed="rId1"/>
          <a:stretch/>
        </p:blipFill>
        <p:spPr>
          <a:xfrm>
            <a:off x="195120" y="0"/>
            <a:ext cx="89046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>
            <a:hlinkClick r:id="" action="ppaction://hlinkshowjump?jump=nextslide"/>
          </p:cNvPr>
          <p:cNvSpPr/>
          <p:nvPr/>
        </p:nvSpPr>
        <p:spPr>
          <a:xfrm>
            <a:off x="7769160" y="61977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169" name="Picture 4" descr="2"/>
          <p:cNvPicPr/>
          <p:nvPr/>
        </p:nvPicPr>
        <p:blipFill>
          <a:blip r:embed="rId1"/>
          <a:stretch/>
        </p:blipFill>
        <p:spPr>
          <a:xfrm>
            <a:off x="222120" y="0"/>
            <a:ext cx="892188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>
            <a:hlinkClick r:id="" action="ppaction://hlinkshowjump?jump=nextslide"/>
          </p:cNvPr>
          <p:cNvSpPr/>
          <p:nvPr/>
        </p:nvSpPr>
        <p:spPr>
          <a:xfrm>
            <a:off x="7746840" y="61707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01480" y="1031400"/>
            <a:ext cx="69026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a90"/>
                </a:solidFill>
                <a:latin typeface="Times New Roman"/>
              </a:rPr>
              <a:t>Если сигнал светофора выполнен в виде силуэта пешехода (велосипедиста), то его действие распространяется только на пешеходов (велосипедистов). </a:t>
            </a:r>
            <a:endParaRPr b="0" lang="en-US" sz="3200" spc="-1" strike="noStrike">
              <a:solidFill>
                <a:srgbClr val="9900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a90"/>
                </a:solidFill>
                <a:latin typeface="Times New Roman"/>
              </a:rPr>
              <a:t>При этом зеленый сигнал разрешает, а красный запрещает движение пешеходов (велосипедистов).</a:t>
            </a:r>
            <a:endParaRPr b="0" lang="en-US" sz="32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172" name="Picture 4" descr="ПЕШЕХОД"/>
          <p:cNvPicPr/>
          <p:nvPr/>
        </p:nvPicPr>
        <p:blipFill>
          <a:blip r:embed="rId1"/>
          <a:stretch/>
        </p:blipFill>
        <p:spPr>
          <a:xfrm>
            <a:off x="7467480" y="1523880"/>
            <a:ext cx="1600200" cy="312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6:24:29Z</dcterms:created>
  <dc:creator>wae</dc:creator>
  <dc:description/>
  <dc:language>en-US</dc:language>
  <cp:lastModifiedBy>K17</cp:lastModifiedBy>
  <dcterms:modified xsi:type="dcterms:W3CDTF">2014-06-09T06:34:07Z</dcterms:modified>
  <cp:revision>39</cp:revision>
  <dc:subject/>
  <dc:title>СИГНАЛЫ СВЕТОФОРА И РЕГУЛИРОВЩИКА</dc:title>
</cp:coreProperties>
</file>