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CA26-72BD-4073-8B67-81280ED27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754A-BCCE-4BB2-871D-E0606254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28BE-9718-4C68-A725-8C57E77C8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E202-EF8F-4DF3-BC73-23C3F3CB1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07C5-C91B-46A7-BC22-5EED5B920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D4E7-5AC7-49B0-BD93-6B7F1C46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B429-01E2-4EC5-AF7B-E51169F8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147A-2BAE-4CFC-98C7-AC7682D5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89AD-FFF0-4A5B-98F8-62B4158D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ACD8-22A3-4DAC-A75B-F09A2CC3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90AE-EE19-46D4-A323-77EF161B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B80E-2863-45F8-AF62-3EA4EBB5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3E4A-FBC8-4DBC-BFE9-0C180AD8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74C7-49ED-4B7D-B082-BD47A492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9A82-8896-4A38-AC2C-47A761E4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87C3-CBD7-4C73-86BB-C8E76788B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E8C9-B392-4D4C-945D-DF4D68B6C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F3047-5EED-46AD-B307-E813BEDF9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80F15-A24F-4F1A-9880-EB586B79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3D455-BB13-49B9-82C2-8906CD68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311ED-8B29-4AE6-9EB7-8F4E49CB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0D28C-7E53-4E4B-9FC7-0AD9C01B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54D8-AB63-4393-9531-C0EBF631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C9CD9-AA8E-480E-B98E-7C6A486E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D46E6-6D39-4796-8892-CE1E7367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E9614-5304-4D41-A138-7F310D37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9A060-4A58-4CAB-BDA5-A980C3A7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C0333-CE4D-4C84-AAAC-41DC9C4E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BEDBB-BFA0-49F3-951D-B9710667B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5F37C-38B3-4001-9E7B-A3A98549C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9AAC9-3C1D-4A46-B193-74923E6EA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4DC38-CB70-4DCD-B609-3AD4265D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8A5D8-4900-478A-A0E3-9C90C108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4A38-10BF-4BDC-A4A8-12EFDD7C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B145E-36BE-4CE0-9C5F-B57BBB5B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CDBAB-48BA-4EB2-81E9-689A442E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549B3-8411-4EA6-950B-3888108D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9D8CF-4C56-4985-AC47-E99D6F71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E7ADE-7090-42A8-920C-4A15355B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E7F5C-2AB1-4B9D-A305-C68A729E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42535-74F6-40FE-9A76-3266DFF5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AD951-D80E-450C-866C-34D4121C2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22CC1-9781-46F3-8C71-F36CB8BB9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4EBA8-F8C1-4F9C-A5A1-A0AF5FEB6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2826-9F02-4908-A5FD-69DDFA62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199D2-9644-4EF8-94F5-49D105C8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58489-D982-430D-B808-DB1FD53C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65FB4-DE12-4B94-9EA6-576ACA51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2172C-9E52-4C94-A7C1-A5A151BA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230D8-1293-44ED-AA28-B730723D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B6FFF-AA93-4069-B139-E05C58E3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1B988-63CF-4A6E-B02B-CFCBBEE3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11CBA-27C6-4E39-82C1-49521B91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51930-858B-4C66-B76D-0A452F6F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D4204-3E76-4DD8-B3A5-1462C9946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7F9B-330B-40D3-86F7-2A5DCD87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11C49-B8D2-411B-9F27-33665DA9A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DC6B-BFED-4945-9BD4-663508D4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3F10-FC89-4EF7-A09D-F0913B84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B101-3194-4479-AFDB-CBE16053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D2B2-4E74-4D29-A342-895E50BC48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DBA3-122D-497F-960A-E9D3C3D13C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2771-296A-475A-9330-D8DE7B330C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59E4-EFD4-4C66-9A62-C97BCC19B5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543A-B6FF-4927-B09E-5BFC7DB08B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71520" y="1857240"/>
            <a:ext cx="552924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спространенные ошибки родителей в воспитании дет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</a:t>
            </a:r>
            <a:br>
              <a:rPr sz="44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.  Обещание больше не любить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Если ты не будешь таким, как я хочу, я больше не буду тебя любить»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214960" y="1714680"/>
            <a:ext cx="3571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овет родителям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еща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ьше не любить своег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бенка– одно из сильнейши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едств воспитания. Однако, эт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гроза, как правило, н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уществляется. А дети прекрасн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увствуют фальшь. Единожд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манув, вы можете на долго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ремя потерять доверие ребен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бенок будет воспринимат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ас как людей лживых. Лучш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казать: «Я буду тебя все равн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юбить, но твое поведение я не одобряю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71680" y="1714680"/>
            <a:ext cx="3643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Мнение родителей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чему де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к часто спорят по поводу люб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шей просьбы? Может быть, он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лают нам назло. Как быть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зывать к здравому смыслу? Д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и просто не слышат, чт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зрослые им говорят. Угрожать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больше не действуе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Мамочка больше не буде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юбить тебя». Как часто многие из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с произносят эту фразу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1"/>
          <p:cNvSpPr/>
          <p:nvPr/>
        </p:nvSpPr>
        <p:spPr>
          <a:xfrm>
            <a:off x="642960" y="42876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. Безразлич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Делай что хочешь, мне все равн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7"/>
          <p:cNvSpPr/>
          <p:nvPr/>
        </p:nvSpPr>
        <p:spPr>
          <a:xfrm>
            <a:off x="642960" y="142884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Мнение родителей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ачем напрягаться? Спорить, искать аргументы, доказывать что-то ребенку, нервничать? Ребенок сам должен научиться решать свои проблемы. И вообще ребенка надо готовить к взрослой жизни, пусть он скорее станет взросл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8"/>
          <p:cNvSpPr/>
          <p:nvPr/>
        </p:nvSpPr>
        <p:spPr>
          <a:xfrm>
            <a:off x="642960" y="2643120"/>
            <a:ext cx="7929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овет родителям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огда не надо показывать ребенку, что вам все равно, чем он занимается. Он, почувствовав ваше безразличие, немедленно начнет проверять, насколько оно «настоящее». Проверка будет заключаться в совершении поступков изначально плохих. Ребенок ждет, последует ли за проступок критика или нет. Поэтому лучше вместо показного безразличия постараться наладить с ребенком дружеские отношения, даже если его поведение вас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ршенно не устраивает. Можно сказать, например, так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Знаешь, в этом вопросе я с тобой совершенно не соглас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я хочу помочь тебе, потому что люблю тебя. В любой момен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тебе это понадобится, ты можешь спросить у меня совет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6840" y="500040"/>
            <a:ext cx="8258040" cy="13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 Слишком много строгости                                                «Ты должен делать то, что я тебе сказала, потому что я в доме главна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71680" y="1857240"/>
            <a:ext cx="335736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Мнение родителей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ти должны слушатьс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зрослых беспрекословно – эт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мый важный в воспитан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нцип. Неважно, скольк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бенку – 6 или 16 лет. Детя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льзя давать поблажек, инач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и окончательно сядут нам н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е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000320" y="1857240"/>
            <a:ext cx="46861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овет родителям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ти обязательно должн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нимать, почему и зачем они что-то делаю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ишком строгое воспитание, основанное н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нципах, которые не всегда понятн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бенку, напоминает дрессировк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бенок может беспрекословно исполнят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, когда вы рядом, и «плевать» на вс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реты, когда вас рядом н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беждение лучше строг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жно сказать: «Ты сейча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лаешь так, как я говорю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вечером мы спокойно все обсудим –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чему и зачем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"/>
          <p:cNvSpPr/>
          <p:nvPr/>
        </p:nvSpPr>
        <p:spPr>
          <a:xfrm>
            <a:off x="2124720" y="97920"/>
            <a:ext cx="4894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  <a:ea typeface="Times New Roman"/>
              </a:rPr>
              <a:t>Пожалуй, я сделаю это сама. Моему ребенку это пока не по силам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42960" y="45720"/>
            <a:ext cx="7972560" cy="661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. Детей надо баловать.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«Пожалуй, я сделаю это сама. Моему ребенку это пока не по силам»</a:t>
            </a:r>
            <a:br>
              <a:rPr sz="2800"/>
            </a:br>
            <a:br>
              <a:rPr sz="2800"/>
            </a:b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Мнение родителей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ы готовы все сделать для нашего малыша, ведь дети всегда должны получать самое лучшее. Детство – самая короткая пора, поэтому оно должно быть прекрасно. Так приятно угадывать и исполнять любое желание ребенк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овет родителям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збалованным детям очень тяжело            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приходится в жизни. Нельзя держать единственно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чадо под колпаком родительской любви, в дальнейшем это                 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может привести к множеству проблем. Когда родители                 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убирают буквально каждый камушек с дороги малыша, от                      этого ребенок не чувствует себя счастливее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Наоборот – он ощущает себя совершенно беспомощным и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одиноким.«Попробуй-ка сделать это сам, а если не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лучится, я тебе с удовольствием помогу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-11800080" y="97920"/>
            <a:ext cx="32744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  <a:ea typeface="Times New Roman"/>
              </a:rPr>
              <a:t>Совет родителям: Дети обязательно должны понимать, почему и зачем они что-то делают. Слишком строгое воспитание, основанное на принципах, которые не всегда понятны ребенку, напоминает дрессировку. Ребенок может беспрекословно исполнять все, когда вы рядом, и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  <a:ea typeface="Times New Roman"/>
              </a:rPr>
              <a:t>плевать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  <a:ea typeface="Times New Roman"/>
              </a:rPr>
              <a:t> на все запреты, когда вас рядом нет. Убеждение лучше строгости.Можно сказать: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  <a:ea typeface="Times New Roman"/>
              </a:rPr>
              <a:t>Ты сейчас делаешь так, как я говорю, а вечером мы спокойно все обсудим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  <a:ea typeface="Times New Roman"/>
              </a:rPr>
              <a:t> почему и зачем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42600" y="2071800"/>
            <a:ext cx="335772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Мнение родителей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бенок – главное 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шей жизни, он так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мышленый, с ним можн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оворить обо всем. Он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нимает нас, прямо ка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зрослый челове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85520" y="49968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. Навязанная рол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«Мой ребенок – мой лучший друг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071600" y="1999800"/>
            <a:ext cx="461484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овет родителям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ети готов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делать все, чтобы понравитьс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воим родителям, ведь родител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лавнейшие люди на свете. Де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аже готовы погрузиться в сложны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ир взрослых проблем, вместо тог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тобы обсуждать сво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нтересы со сверстника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о при этом их собственн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блемы так и остаютс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решенны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8115120" cy="564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6.Слишком мало времени дл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спитания ребенка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«К сожалению, у меня совсем нет времени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на тебя»</a:t>
            </a:r>
            <a:br>
              <a:rPr sz="2800"/>
            </a:b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Мнение родителей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ногие взрослые очень загружены на работе, но каждую свободную минутку стараются проводить с детьми: они отводят их в сад, готовят для них, стирают, покупают все, что им нужно. Дети должны сами понимать, что у родителей просто нет времени поиграть и почитать с ними.</a:t>
            </a:r>
            <a:br>
              <a:rPr sz="1800"/>
            </a:b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овет родителям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зрослые часто забывают простую истину – если уж родили ребенка, надо и время для него найти. Ребенок, который все время слышит, что у взрослых нет на него времени, будет искать среди              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чужих людей родственные души. Даже если ваш ден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расписан по минутам, найдите вечером полчаса (в этом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вопросе качество важнее количества) поговорите с ним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расскажите сказку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л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читайте книжку. Ребенку это необходимо.</a:t>
            </a: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8588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7.Наполеоновские планы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«Мой ребенок будет заниматься музыкой, я не позволю ему упустить свой шанс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42600" y="1857240"/>
            <a:ext cx="350028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Мнение родителей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ног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зрослые мечтали в детств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ниматься чем-то, но у ни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было возможности. 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перь главная цель мам 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ап – дать детям само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учшее образован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важно, если детям этого н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чень – то хочется, пройде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ремя, и они оценят стара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зрослы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214880" y="1499760"/>
            <a:ext cx="4572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овет родителям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 сожалению, дети н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гда оценивают усилия родителей. 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асто блестящее  будущее, нарисованно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зрослыми в своем воображени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бивается о полное нежелание ребен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ниматься, скажем, музыкой. По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бенок еще маленький и слушаетс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зрослых, но затем… Желая вырваться из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летки родительской  любви, начинает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ражать протест доступными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му способами. Поэтому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олняя день ребенка нужными 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езными занятиями, не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бывайте оставить ему немного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ремени и для личных де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53:09Z</dcterms:created>
  <dc:creator>Федотова Виктория Александровна</dc:creator>
  <dc:description/>
  <dc:language>en-US</dc:language>
  <cp:lastModifiedBy>mir</cp:lastModifiedBy>
  <dcterms:modified xsi:type="dcterms:W3CDTF">2018-02-04T15:34:34Z</dcterms:modified>
  <cp:revision>12</cp:revision>
  <dc:subject/>
  <dc:title>Слайд 1</dc:title>
</cp:coreProperties>
</file>