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99E-E778-48FB-8A59-5F5F7956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C84B-8CB9-4525-BCDB-EC4919C9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8757-260B-4FB3-B746-FDCE2612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78A-B5CA-49BD-A14F-43A86270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A249-D25B-4869-966A-328A4896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6694-3FE9-4B8B-895E-37D97EEC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AF3D-EC06-45EE-A5E8-CC7A414B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583D-92DE-469E-A009-D16C81C5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0A39-4701-4EF9-AB7C-DBA991A3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81F8-F0E7-4B27-979D-A28805C1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1833-30D5-4FE5-AE77-36FA67A9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AC8B-60CF-4E3E-92B2-399C3D69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A649-C65A-4330-9880-41994FEA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A6F8-E391-4A27-A295-92D5A75E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3957-1024-44CE-A24B-5A1F543D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BC1A-FF34-4C89-9FAB-22326EEF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49F8-C96F-4F74-850C-AD3E1F05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05282-E02A-4350-8EE3-78AACA51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08FA5-4DFA-447D-B726-E7436C2E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7A8B8-E6EE-4626-A7BA-6FDBE634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0CDD3-72B2-43C6-87C2-8EA66ED5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EDD88-D817-4DD7-837D-E6E9962C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A677-B4C9-47DC-BD80-F83290EE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16067-7933-4787-9B72-A50D6897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55AB8-785C-4DB7-AE71-D830B030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13C45-EE32-4BD0-A7A1-617D0484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6FE91-44F7-422E-AEC9-2C06AD77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2218D-F62A-416D-A4D8-9E975D1E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C3178-0F15-4244-9D38-A257578A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7699A-8932-4BA5-91A7-69BCF862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9B28A-0CAC-4980-A047-8EA144D8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D82F0-A42A-4ABC-9E85-D27A9D2A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C8B31-9C6A-4006-9453-CF22D950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E04-B091-4F51-A3D5-BD116779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00BCB-7FE4-4253-B86E-BD1D9A1E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BB97E-AD81-4869-9961-AD20B322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03547-3ED4-421D-9226-8FD6646D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A619A-90B1-430C-A8C3-EE904D42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1D1F8-2391-4C7B-B61A-1AF95AC6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9F015-2375-4BB1-9C23-1A3C82E6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A1D03-2CC8-4CBD-AD80-58BF78EF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0DDDB-B8F4-4804-B5EA-FDCF1EAC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D4431-A05B-4FDB-890D-4764E166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9B514-111B-43E9-9283-A0624077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02B1-0C9D-4E1C-A5CB-7B6BDF38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E5560-480F-40AA-AC71-B10027F6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B6BCD-3478-4FBB-8149-C7773C4B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36E79-A38C-40DD-9EA4-D734EDB6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889D3-0946-4F27-9764-5DA34931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FDAD2-E5AC-4D0B-95E1-FA715EF9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F89D3-FED4-4BDB-871D-FD22362C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D84B7-239D-4CC9-B031-518AA626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184E1-DD51-41D6-AAFD-9EB20448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74381-B37E-491B-BD5D-2D9B5B86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9557C-3B40-47B4-86FA-C23D78BC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72F-DA29-4AF7-BD16-8571A5AA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A8F3A-1E43-4592-AF2E-88F9D4F1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172C-A635-456E-9CA1-5712BE29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1B9F-D685-4159-A149-8BF7EF55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90B0-C5AF-46DB-9AA2-93B02805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4225-84D5-4923-8E34-52D7C7B80E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79FE-B9DB-4609-83F0-A75252CFF2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4AC7-5783-48F7-9FCB-7F25D41C14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E837-E90B-4F9C-BFDF-2ED2B4176C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4995-3005-460C-819C-B9AB2E1672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71520" y="1857240"/>
            <a:ext cx="552924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пространенные ошибки родителей в воспитании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44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 Обещание больше не любить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Если ты не будешь таким, как я хочу, я больше не буду тебя любить»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214960" y="1714680"/>
            <a:ext cx="3571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овет родителям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ща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е не любить свое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бенка– одно из сильнейши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ств воспитания. Однако, э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гроза, как правило, н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уществляется. А дети прекрасн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увствуют фальшь. Единожд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манув, вы можете на долго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мя потерять доверие ребен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бенок будет воспринима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с как людей лживых. Лучш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азать: «Я буду тебя все равн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юбить, но твое поведение я не одобряю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71680" y="1714680"/>
            <a:ext cx="3643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Мнение родителей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де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 часто спорят по поводу люб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шей просьбы? Может быть, он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лают нам назло. Как быть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зывать к здравому смыслу? Д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и просто не слышат, чт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зрослые им говорят. Угрожать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больше не действу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Мамочка больше не буде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юбить тебя». Как часто многие из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с произносят эту фразу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1"/>
          <p:cNvSpPr/>
          <p:nvPr/>
        </p:nvSpPr>
        <p:spPr>
          <a:xfrm>
            <a:off x="642960" y="42876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Безразлич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Делай что хочешь, мне все равн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7"/>
          <p:cNvSpPr/>
          <p:nvPr/>
        </p:nvSpPr>
        <p:spPr>
          <a:xfrm>
            <a:off x="642960" y="142884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нение родителей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чем напрягаться? Спорить, искать аргументы, доказывать что-то ребенку, нервничать? Ребенок сам должен научиться решать свои проблемы. И вообще ребенка надо готовить к взрослой жизни, пусть он скорее станет взрос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8"/>
          <p:cNvSpPr/>
          <p:nvPr/>
        </p:nvSpPr>
        <p:spPr>
          <a:xfrm>
            <a:off x="642960" y="2643120"/>
            <a:ext cx="7929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вет родителя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гда не надо показывать ребенку, что вам все равно, чем он занимается. Он, почувствовав ваше безразличие, немедленно начнет проверять, насколько оно «настоящее». Проверка будет заключаться в совершении поступков изначально плохих. Ребенок ждет, последует ли за проступок критика или нет. Поэтому лучше вместо показного безразличия постараться наладить с ребенком дружеские отношения, даже если его поведение ва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но не устраивает. Можно сказать, например, так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наешь, в этом вопросе я с тобой совершенно не соглас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я хочу помочь тебе, потому что люблю тебя. В любой момен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тебе это понадобится, ты можешь спросить у меня сове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500040"/>
            <a:ext cx="825804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Слишком много строгости                                                «Ты должен делать то, что я тебе сказала, потому что я в доме главна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71680" y="1857240"/>
            <a:ext cx="33573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Мнение родителей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и должны слушать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зрослых беспрекословно – эт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ый важный в воспита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нцип. Неважно, скольк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бенку – 6 или 16 лет. Детя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льзя давать поблажек, инач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и окончательно сядут нам 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е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000320" y="1857240"/>
            <a:ext cx="4686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овет родителям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и обязательно долж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нимать, почему и зачем они что-то делаю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ишком строгое воспитание, основанное 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нципах, которые не всегда понятн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бенку, напоминает дрессировк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бенок может беспрекословно исполня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, когда вы рядом, и «плевать» на вс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реты, когда вас рядом н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беждение лучше строг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жно сказать: «Ты сейча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лаешь так, как я говорю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ечером мы спокойно все обсудим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и зачем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2124720" y="97920"/>
            <a:ext cx="4894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Times New Roman"/>
              </a:rPr>
              <a:t>Пожалуй, я сделаю это сама. Моему ребенку это пока не по силам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2960" y="45720"/>
            <a:ext cx="7972560" cy="661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Детей надо баловать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«Пожалуй, я сделаю это сама. Моему ребенку это пока не по силам»</a:t>
            </a:r>
            <a:br>
              <a:rPr sz="2800"/>
            </a:br>
            <a:br>
              <a:rPr sz="2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нение родителей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ы готовы все сделать для нашего малыша, ведь дети всегда должны получать самое лучшее. Детство – самая короткая пора, поэтому оно должно быть прекрасно. Так приятно угадывать и исполнять любое желание ребен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овет родителя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балованным детям очень тяжело  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приходится в жизни. Нельзя держать единственно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чадо под колпаком родительской любви, в дальнейшем это       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может привести к множеству проблем. Когда родители       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убирают буквально каждый камушек с дороги малыша, от                      этого ребенок не чувствует себя счастливе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Наоборот – он ощущает себя совершенно беспомощным и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одиноким.«Попробуй-ка сделать это сам, а если не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лучится, я тебе с удовольствием помогу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-11800080" y="97920"/>
            <a:ext cx="32744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Times New Roman"/>
              </a:rPr>
              <a:t>Совет родителям: Дети обязательно должны понимать, почему и зачем они что-то делают. Слишком строгое воспитание, основанное на принципах, которые не всегда понятны ребенку, напоминает дрессировку. Ребенок может беспрекословно исполнять все, когда вы рядом, и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Times New Roman"/>
              </a:rPr>
              <a:t>плевать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Times New Roman"/>
              </a:rPr>
              <a:t> на все запреты, когда вас рядом нет. Убеждение лучше строгости.Можно сказать: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Times New Roman"/>
              </a:rPr>
              <a:t>Ты сейчас делаешь так, как я говорю, а вечером мы спокойно все обсудим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Times New Roman"/>
              </a:rPr>
              <a:t> почему и зачем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42600" y="2071800"/>
            <a:ext cx="335772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нение родителей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бенок – главное 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шей жизни, он так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мышленый, с ним можн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оворить обо всем. О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нимает нас, прямо ка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зрослый челов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85520" y="49968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. Навязанная рол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Мой ребенок – мой лучший друг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071600" y="1999800"/>
            <a:ext cx="46148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овет родителям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ти готов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делать все, чтобы понравить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воим родителям, ведь родите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лавнейшие люди на свете. Де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аже готовы погрузиться в сложны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р взрослых проблем, вместо то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обы обсуждать сво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ресы со сверстника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 при этом их собствен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блемы так и остают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решенны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8115120" cy="564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.Слишком мало времени дл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спитания ребенка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К сожалению, у меня совсем нет времени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а тебя»</a:t>
            </a:r>
            <a:br>
              <a:rPr sz="2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нение родителей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ногие взрослые очень загружены на работе, но каждую свободную минутку стараются проводить с детьми: они отводят их в сад, готовят для них, стирают, покупают все, что им нужно. Дети должны сами понимать, что у родителей просто нет времени поиграть и почитать с ними.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овет родителя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зрослые часто забывают простую истину – если уж родили ребенка, надо и время для него найти. Ребенок, который все время слышит, что у взрослых нет на него времени, будет искать среди    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чужих людей родственные души. Даже если ваш ден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расписан по минутам, найдите вечером полчаса (в это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вопросе качество важнее количества) поговорите с ним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расскажите сказк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читайте книжку. Ребенку это необходимо.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Наполеоновские планы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Мой ребенок будет заниматься музыкой, я не позволю ему упустить свой шанс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42600" y="1857240"/>
            <a:ext cx="35002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Мнение родителей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рослые мечтали в детств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ниматься чем-то, но у ни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было возможности.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перь главная цель мам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п – дать детям само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учшее образо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важно, если детям этого н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чень – то хочется, пройд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ремя, и они оценят стар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росл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214880" y="1499760"/>
            <a:ext cx="4572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овет родителям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сожалению, дети н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гда оценивают усилия родителей.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о блестящее  будущее, нарисованно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зрослыми в своем воображени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бивается о полное нежелание ребен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ниматься, скажем, музыкой. По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бенок еще маленький и слушает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зрослых, но затем… Желая вырваться из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етки родительской  любви, начинает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ражать протест доступными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му способами. Поэтому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олняя день ребенка нужными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езными занятиями, не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бывайте оставить ему немного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мени и для личных де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53:09Z</dcterms:created>
  <dc:creator>Федотова Виктория Александровна</dc:creator>
  <dc:description/>
  <dc:language>en-US</dc:language>
  <cp:lastModifiedBy>mir</cp:lastModifiedBy>
  <dcterms:modified xsi:type="dcterms:W3CDTF">2018-02-04T15:34:34Z</dcterms:modified>
  <cp:revision>12</cp:revision>
  <dc:subject/>
  <dc:title>Слайд 1</dc:title>
</cp:coreProperties>
</file>