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A19-A6E1-47D1-A9F1-E80A0A7B1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12C2-8FB1-46C2-835E-8B4901A6D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E0F-EF10-44C2-838B-F189165F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08C-F6C5-4CBD-A6C2-31167913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451-950F-4D61-B363-56118FCA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803-C57F-40C9-B010-35E794B4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16D-1823-4C67-8400-9373525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884-6A3F-4B53-9B73-537E51C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05E-0110-4729-9060-913ECB6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BD4-530E-49B0-8F52-81A85B9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CCD-1B74-4D94-9DD5-B196F54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5A6-AFDA-434F-AAD4-5DC619B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8AA-A069-4F4D-8E59-1599E9B1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4A2-840A-4F70-AF66-ABE4A0F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3CB-27DA-4E3F-84FE-2DDF328EB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-762120" y="-225360"/>
            <a:ext cx="8570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SMakhalov\Desktop\азбука архитектуры\images (6).jpg"/>
          <p:cNvPicPr/>
          <p:nvPr/>
        </p:nvPicPr>
        <p:blipFill>
          <a:blip r:embed="rId1"/>
          <a:srcRect l="0" t="0" r="50557" b="0"/>
          <a:stretch/>
        </p:blipFill>
        <p:spPr>
          <a:xfrm>
            <a:off x="642960" y="2071800"/>
            <a:ext cx="3429000" cy="456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SMakhalov\Desktop\азбука архитектуры\images (7).jpg"/>
          <p:cNvPicPr/>
          <p:nvPr/>
        </p:nvPicPr>
        <p:blipFill>
          <a:blip r:embed="rId2"/>
          <a:srcRect l="8734" t="0" r="28655" b="0"/>
          <a:stretch/>
        </p:blipFill>
        <p:spPr>
          <a:xfrm>
            <a:off x="5072040" y="2071800"/>
            <a:ext cx="3429000" cy="4500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285840" y="4287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Нюанс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один из элементов архитектуры сближает несхожие элементы формы, сглаживает различия между ними,  делает незаметными переходы от одних форм к други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00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юанс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один из элементов архитектуры сближает несхожие элементы формы, сглаживает различия между ними,  делает незаметными переходы от одних форм к другим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Users\SMakhalov\Desktop\азбука архитектуры\Без названия (5).jpg"/>
          <p:cNvPicPr/>
          <p:nvPr/>
        </p:nvPicPr>
        <p:blipFill>
          <a:blip r:embed="rId1"/>
          <a:stretch/>
        </p:blipFill>
        <p:spPr>
          <a:xfrm>
            <a:off x="285840" y="214200"/>
            <a:ext cx="5854680" cy="52149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6500880" y="107172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упол Панте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в      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 проходит      через специальное 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6696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16240" y="5929200"/>
            <a:ext cx="78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Б Растрелли. Большой (Танцевальный) зал Екатерининского двор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52-1756гг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арское 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SMakhalov\Desktop\азбука архитектуры\Без названия (6).jpg"/>
          <p:cNvPicPr/>
          <p:nvPr/>
        </p:nvPicPr>
        <p:blipFill>
          <a:blip r:embed="rId2"/>
          <a:stretch/>
        </p:blipFill>
        <p:spPr>
          <a:xfrm>
            <a:off x="0" y="2428920"/>
            <a:ext cx="4457880" cy="334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SMakhalov\Desktop\азбука архитектуры\images (8).jpg"/>
          <p:cNvPicPr/>
          <p:nvPr/>
        </p:nvPicPr>
        <p:blipFill>
          <a:blip r:embed="rId3"/>
          <a:stretch/>
        </p:blipFill>
        <p:spPr>
          <a:xfrm>
            <a:off x="4929120" y="2428920"/>
            <a:ext cx="4214880" cy="3314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142920" y="57168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ых высот искусство светотеневой моделировки достигло  в архитектуре  барокко. При сооружении дворцов и храмов всегда учитывалась их освещенность. Имеющая символический ,Божественный смысл.  Сложная игра солнечных бликов на фасадах и в интерьерах зданий оказывала огромное эмоциональное воздействие на зр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57120" y="285480"/>
            <a:ext cx="8429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меньшее значение имела и окраска архитектурных сооружений. Так, например, фасады греческих зданий, окрашенные в яркие цвета, четко выделялись на  фоне пышной зеленой расти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SMakhalov\Desktop\азбука архитектуры\Без названия.jpg"/>
          <p:cNvPicPr/>
          <p:nvPr/>
        </p:nvPicPr>
        <p:blipFill>
          <a:blip r:embed="rId1"/>
          <a:stretch/>
        </p:blipFill>
        <p:spPr>
          <a:xfrm>
            <a:off x="6377040" y="1643040"/>
            <a:ext cx="2471760" cy="264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SMakhalov\Desktop\азбука архитектуры\images (7).jpg"/>
          <p:cNvPicPr/>
          <p:nvPr/>
        </p:nvPicPr>
        <p:blipFill>
          <a:blip r:embed="rId2"/>
          <a:stretch/>
        </p:blipFill>
        <p:spPr>
          <a:xfrm>
            <a:off x="214200" y="1571760"/>
            <a:ext cx="6032520" cy="507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SMakhalov\Desktop\азбука архитектуры\otvet08.jpg"/>
          <p:cNvPicPr/>
          <p:nvPr/>
        </p:nvPicPr>
        <p:blipFill>
          <a:blip r:embed="rId3"/>
          <a:stretch/>
        </p:blipFill>
        <p:spPr>
          <a:xfrm>
            <a:off x="285840" y="4143240"/>
            <a:ext cx="29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72080" y="4857840"/>
            <a:ext cx="3571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дя в гипостильный зал храма Амона в Карнаке, он мог заблудиться среди 144 массивных колонн, поддерживающих каменные плиты потолка. А высота 12 центральных колонн(12 метров- высота современного семиэтажного дома), способна была поразить воображение даже самого невозмутимого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здании архитектурного образа большую роль играе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асштаб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оотнесенность с размерами человека и его восприятие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лучайно в Древнем мире и в эпоху Средневековья естественным масштабом архитектурного сооружения было человеческое тело. Нетрудно догадаться, какие чувства мог испытывать человек, стоя рядом с величественными пирамидами Древнего Егип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C:\Users\SMakhalov\Desktop\азбука архитектуры\i_475.jpg"/>
          <p:cNvPicPr/>
          <p:nvPr/>
        </p:nvPicPr>
        <p:blipFill>
          <a:blip r:embed="rId1"/>
          <a:stretch/>
        </p:blipFill>
        <p:spPr>
          <a:xfrm>
            <a:off x="5805360" y="0"/>
            <a:ext cx="3338640" cy="4832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SMakhalov\Desktop\азбука архитектуры\1.jpg"/>
          <p:cNvPicPr/>
          <p:nvPr/>
        </p:nvPicPr>
        <p:blipFill>
          <a:blip r:embed="rId2"/>
          <a:stretch/>
        </p:blipFill>
        <p:spPr>
          <a:xfrm>
            <a:off x="0" y="2928960"/>
            <a:ext cx="5572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возведении храмов в Древней Греции хорошо понимали, что их масштаб должен во много раз превышать пропорции человеческой фигуры. Так. Сооружая Парфенон, зодчий Иктин, повторил в нем основные пропорции человеческого тела, увеличив их в 10 раз!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Users\SMakhalov\Desktop\азбука архитектуры\images (5)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здании архитектурного образа большую роль играют такие средства художественной выразительности,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ак ритм, симметрия, пропорции, нюансы и контрасты, светотеневая и цветовая моделировка, масшта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восприятия любой архитектурной композиции всегда лежит скрытое движение, главным признаком которого явля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ит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SMakhalov\Desktop\азбука архитектуры\Без названия.jpg"/>
          <p:cNvPicPr/>
          <p:nvPr/>
        </p:nvPicPr>
        <p:blipFill>
          <a:blip r:embed="rId1"/>
          <a:stretch/>
        </p:blipFill>
        <p:spPr>
          <a:xfrm>
            <a:off x="0" y="2500200"/>
            <a:ext cx="4782960" cy="3571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14200" y="614376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ренцо Берн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самбль площади Святого Петра.1656-1667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тикан  Р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29120" y="2642760"/>
            <a:ext cx="4214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ейший ритм-это чередование одинаковых элементов с равными интервалами.     Ритм, основанный на регулярности интервалов, является признаком упорядоченности и гармонии; он позволяет избежать монотонности и однообразия в архитектурном облике з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5840" y="428760"/>
            <a:ext cx="43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ритмическая повторяемость колонн собора Святого Петра в Риме или Казанского собора в Санкт-Петербурге создает иллюзию непрерывного движения, придает особый динамизм каждому из этих ансамб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SMakhalov\Desktop\азбука архитектуры\Без названия (2).jpg"/>
          <p:cNvPicPr/>
          <p:nvPr/>
        </p:nvPicPr>
        <p:blipFill>
          <a:blip r:embed="rId1"/>
          <a:stretch/>
        </p:blipFill>
        <p:spPr>
          <a:xfrm>
            <a:off x="214200" y="357120"/>
            <a:ext cx="4714920" cy="4035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85840" y="478620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еред собором Святого Петра, подобно распростертым крыльям, обрамлена великолепной колоннад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иальность архитектурного решения Лоренцо Бернини состоит в том, что колоннада легко и изящно охватывает площадь, незаметно вовлекая зрителе в св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64328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вигаясь вдоль колонн,  постоянно меняя ракурсы и точки обзора, зритель получает возможность наблюдать «шаг колонн», подвижность и изменчивость их архитектурных фор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SMakhalov\Desktop\азбука архитектуры\images (7).jpg"/>
          <p:cNvPicPr/>
          <p:nvPr/>
        </p:nvPicPr>
        <p:blipFill>
          <a:blip r:embed="rId1"/>
          <a:stretch/>
        </p:blipFill>
        <p:spPr>
          <a:xfrm>
            <a:off x="1285920" y="214200"/>
            <a:ext cx="6400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37857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ание Казанского собора, возведенное Воронихиным , стало одним из главных украшений города благодаря колоннаде из 144 колонн, расположенных в четыре ряда. Их мерный и сдержанный ритм по обеим сторонам  здания замыкают широкие проезды в виде триумфальных а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тм архитектурному сооружению могут сообщать не только колонны, но и определенное  расположение дверей, оконных проемов на фасаде здания, количество куполов, венчающих храмовые сооружения, минареты, окружающие мусульманские  культовые постройки, анфилады комнат во дворцах и усадьбах, расстановка арок или опор мос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SMakhalov\Desktop\азбука архитектуры\10.jpg"/>
          <p:cNvPicPr/>
          <p:nvPr/>
        </p:nvPicPr>
        <p:blipFill>
          <a:blip r:embed="rId1"/>
          <a:srcRect l="0" t="27110" r="0" b="18678"/>
          <a:stretch/>
        </p:blipFill>
        <p:spPr>
          <a:xfrm>
            <a:off x="0" y="66348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0" y="214200"/>
            <a:ext cx="90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й Никифорович Вороних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ский собор. 1801-1811г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360" y="435780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важнейших элементов азбуки архитектуры является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имметр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одинаковое расположение равных частей по отношению к оси здания. Благодаря симметрии архитектурная композиция приобретает строгую упорядоченность, статичность, уравновешенность форм и объемов. Особая  роль симметрии как признака красоты и гармонии была понята человеком еще в древнейшие времена. С тех пор симметрия всегда присутствует в величайших творениях архите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SMakhalov\Desktop\азбука архитектуры\taj_mahal.jpg"/>
          <p:cNvPicPr/>
          <p:nvPr/>
        </p:nvPicPr>
        <p:blipFill>
          <a:blip r:embed="rId1"/>
          <a:srcRect l="0" t="0" r="0" b="37687"/>
          <a:stretch/>
        </p:blipFill>
        <p:spPr>
          <a:xfrm>
            <a:off x="214200" y="214200"/>
            <a:ext cx="8723520" cy="4073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5857920" y="3571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взолей Тадж-Мах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32-1648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а, И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4200" y="5000760"/>
            <a:ext cx="8686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дь природа сложила человеческое тело так, что лицо от подбородка до верхней линии лба и корней волос составляет десятую часть тела… голова вместе с шеей, начиная с ее основания от верха груди до корней волос, -шестую часть… ступня составляет шестую ча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SMakhalov\Desktop\азбука архитектуры\images (12).jpg"/>
          <p:cNvPicPr/>
          <p:nvPr/>
        </p:nvPicPr>
        <p:blipFill>
          <a:blip r:embed="rId1"/>
          <a:stretch/>
        </p:blipFill>
        <p:spPr>
          <a:xfrm>
            <a:off x="214200" y="142920"/>
            <a:ext cx="300060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3714840" y="357120"/>
            <a:ext cx="521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монию форм и линий в архитектуре способны создать 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порци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е закономерности соотношения отдельных частей сооружения, связывающие их в единое целое.  Еще Витрувий отмечал: композиции храмов основана на соразмерности, правила которой должны тщательно соблюдать архитект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порция есть соответствие между членами всего произведения и его целым по отношению к части, принятой за исходную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акой храм без соразмерности и пропорции не может иметь правильной композиции, если в нем не будет точно такого членения , как у хорошо слож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7480" y="213840"/>
            <a:ext cx="4071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пропорции человеческого тела еще в древности были перенесены на архитектуру. В древней Греции была создана дорическая колонна, соответствующая пропорциям и красоте мужского тела. Колонне ионической была придана утонченность женского тела. В этих аналогиях можно убедиться , обратившись к наименованиям частей тела. «Сома» (ствол колонны)по-гречески означает «тело», а  название ее верхней части- капитель переводится как «голова». Вертикальные желобки на теле колонны (каннелюры)уподоблялись ниспадающим складкам одежды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Makhalov\Desktop\азбука архитектуры\slide_3.jpg"/>
          <p:cNvPicPr/>
          <p:nvPr/>
        </p:nvPicPr>
        <p:blipFill>
          <a:blip r:embed="rId1"/>
          <a:srcRect l="3878" t="0" r="31465" b="15517"/>
          <a:stretch/>
        </p:blipFill>
        <p:spPr>
          <a:xfrm>
            <a:off x="214200" y="357120"/>
            <a:ext cx="4665600" cy="478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SMakhalov\Desktop\азбука архитектуры\slide_3.jpg"/>
          <p:cNvPicPr/>
          <p:nvPr/>
        </p:nvPicPr>
        <p:blipFill>
          <a:blip r:embed="rId2"/>
          <a:srcRect l="7760" t="86210" r="26035" b="11207"/>
          <a:stretch/>
        </p:blipFill>
        <p:spPr>
          <a:xfrm>
            <a:off x="0" y="5357880"/>
            <a:ext cx="4929120" cy="23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SMakhalov\Desktop\азбука архитектуры\slide_3.jpg"/>
          <p:cNvPicPr/>
          <p:nvPr/>
        </p:nvPicPr>
        <p:blipFill>
          <a:blip r:embed="rId3"/>
          <a:srcRect l="8421" t="88777" r="12630" b="5612"/>
          <a:stretch/>
        </p:blipFill>
        <p:spPr>
          <a:xfrm>
            <a:off x="0" y="5857920"/>
            <a:ext cx="4929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34002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симме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71960" y="3785760"/>
            <a:ext cx="48578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не только симметрия определяет красоту здания. Нередко особый колорит и неповторимый облик ему прида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симметр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симметрия афинского храма Эрехтейон или некоторых современных сооружений сообщает композиции динамичность, гибкость и подвижность фор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Makhalov\Desktop\азбука архитектуры\images (10).jpg"/>
          <p:cNvPicPr/>
          <p:nvPr/>
        </p:nvPicPr>
        <p:blipFill>
          <a:blip r:embed="rId1"/>
          <a:stretch/>
        </p:blipFill>
        <p:spPr>
          <a:xfrm>
            <a:off x="166680" y="619200"/>
            <a:ext cx="3834000" cy="28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Makhalov\Desktop\азбука архитектуры\images (9).jpg"/>
          <p:cNvPicPr/>
          <p:nvPr/>
        </p:nvPicPr>
        <p:blipFill>
          <a:blip r:embed="rId2"/>
          <a:stretch/>
        </p:blipFill>
        <p:spPr>
          <a:xfrm>
            <a:off x="4129200" y="142920"/>
            <a:ext cx="464004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SMakhalov\Desktop\азбука архитектуры\images (11).jpg"/>
          <p:cNvPicPr/>
          <p:nvPr/>
        </p:nvPicPr>
        <p:blipFill>
          <a:blip r:embed="rId3"/>
          <a:stretch/>
        </p:blipFill>
        <p:spPr>
          <a:xfrm>
            <a:off x="214200" y="3571920"/>
            <a:ext cx="397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6:19Z</dcterms:created>
  <dc:creator>Пользователь</dc:creator>
  <dc:description/>
  <dc:language>en-US</dc:language>
  <cp:lastModifiedBy>Виктория</cp:lastModifiedBy>
  <dcterms:modified xsi:type="dcterms:W3CDTF">2019-06-08T08:51:03Z</dcterms:modified>
  <cp:revision>82</cp:revision>
  <dc:subject/>
  <dc:title>Слайд 1</dc:title>
</cp:coreProperties>
</file>