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B75-F653-4C6A-A4E6-935C94BB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17E-6970-46B8-9A17-1978CFC1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D95-BD38-43DD-9584-0046053A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BBD-8140-47BC-A7A7-C47A0084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C13-8A73-4984-9B4F-5C30615B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A85-0D84-4CD0-8B07-7830CA87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0DC-D74D-41AE-94A9-6DBCAAD5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0BE5-220B-4E5A-82D6-2889B0E0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3CE7-C99C-46A1-AE7F-0428CE02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A1FB-CB53-4F6B-BD26-8D56C1BE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947-1076-4E21-8125-19055E8D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EEF-6158-4FDE-96D1-2D8F1FE1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19CF-C74A-4ED7-B524-A63C5EEE15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3280" y="2130480"/>
            <a:ext cx="450072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квиллин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286320" y="5071680"/>
            <a:ext cx="28573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5-А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ы № 4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армо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лина Оль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s://avatars.mds.yandex.net/get-pdb/38069/8d6ac03b-9b81-4b25-a1b8-01229bb1800c/s1200?webp=false"/>
          <p:cNvPicPr/>
          <p:nvPr/>
        </p:nvPicPr>
        <p:blipFill>
          <a:blip r:embed="rId1"/>
          <a:stretch/>
        </p:blipFill>
        <p:spPr>
          <a:xfrm>
            <a:off x="285840" y="671400"/>
            <a:ext cx="44830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s://pp.userapi.com/c847021/v847021295/20dc39/e-af3ikU0Wg.jpg"/>
          <p:cNvPicPr/>
          <p:nvPr/>
        </p:nvPicPr>
        <p:blipFill>
          <a:blip r:embed="rId1"/>
          <a:stretch/>
        </p:blipFill>
        <p:spPr>
          <a:xfrm>
            <a:off x="755640" y="260280"/>
            <a:ext cx="4824360" cy="643248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5867280" y="27208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https://avatars.mds.yandex.net/get-pdb/881477/fa6a47c3-4323-4d76-b62f-fdde6ceb1adb/s1200?webp=false"/>
          <p:cNvPicPr/>
          <p:nvPr/>
        </p:nvPicPr>
        <p:blipFill>
          <a:blip r:embed="rId2"/>
          <a:stretch/>
        </p:blipFill>
        <p:spPr>
          <a:xfrm rot="814800">
            <a:off x="5121000" y="4784400"/>
            <a:ext cx="15508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57120" y="528624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иллин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скусство бумагокручения, один из видов декоративно – приклад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s://i.pinimg.com/originals/6f/f7/7e/6ff77ec1b156e690e82e9ca0050a15ae.jpg"/>
          <p:cNvPicPr/>
          <p:nvPr/>
        </p:nvPicPr>
        <p:blipFill>
          <a:blip r:embed="rId1"/>
          <a:stretch/>
        </p:blipFill>
        <p:spPr>
          <a:xfrm>
            <a:off x="285840" y="503280"/>
            <a:ext cx="2809800" cy="414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s://avatars.mds.yandex.net/get-pdb/25978/98f8d940-9bfd-44ef-a535-d6417eb2176d/s1200?webp=false"/>
          <p:cNvPicPr/>
          <p:nvPr/>
        </p:nvPicPr>
        <p:blipFill>
          <a:blip r:embed="rId2"/>
          <a:stretch/>
        </p:blipFill>
        <p:spPr>
          <a:xfrm>
            <a:off x="3286080" y="500040"/>
            <a:ext cx="2689200" cy="4140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s://avatars.mds.yandex.net/get-pdb/49816/05401d3e-885c-49f3-bd69-aae3e9df58a5/s1200?webp=false"/>
          <p:cNvPicPr/>
          <p:nvPr/>
        </p:nvPicPr>
        <p:blipFill>
          <a:blip r:embed="rId3"/>
          <a:stretch/>
        </p:blipFill>
        <p:spPr>
          <a:xfrm>
            <a:off x="6215040" y="500040"/>
            <a:ext cx="27147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14200" y="3174840"/>
            <a:ext cx="8715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иллин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нован на умении скручивать длинные и узкие полоски бумаги в спиральки и составлять из полученных деталей объемные или плоскостные композиции. В переводе с английского квиллинг означает «птичье перо», так как раньше полоски бумаги накручивали на кончик птичьего пера.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s://i.pinimg.com/736x/f1/ca/cd/f1cacda3561b0c77cb7a5ab9e8018db3--quilling-art-quilling-ideas.jpg"/>
          <p:cNvPicPr/>
          <p:nvPr/>
        </p:nvPicPr>
        <p:blipFill>
          <a:blip r:embed="rId1"/>
          <a:stretch/>
        </p:blipFill>
        <p:spPr>
          <a:xfrm>
            <a:off x="571680" y="192240"/>
            <a:ext cx="2477880" cy="28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s://purepng.com/public/uploads/large/purepng.com-featherobjectsfeatherfeather-object-bird-631522936902hkdsa.png"/>
          <p:cNvPicPr/>
          <p:nvPr/>
        </p:nvPicPr>
        <p:blipFill>
          <a:blip r:embed="rId2"/>
          <a:stretch/>
        </p:blipFill>
        <p:spPr>
          <a:xfrm>
            <a:off x="4286160" y="214200"/>
            <a:ext cx="42530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42920" y="3571920"/>
            <a:ext cx="885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скусство возникло в Европе ещё в конце 14 века, в те времена  использовали  качественную бумагу с позолоченными краями, поэтому  заниматься этим искусством могли только богатые дамы. Они изготовляли различные украшения, картины, ва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s://ds04.infourok.ru/uploads/ex/0352/0009b3c9-090a3fc7/img7.jpg"/>
          <p:cNvPicPr/>
          <p:nvPr/>
        </p:nvPicPr>
        <p:blipFill>
          <a:blip r:embed="rId1"/>
          <a:stretch/>
        </p:blipFill>
        <p:spPr>
          <a:xfrm>
            <a:off x="285840" y="357120"/>
            <a:ext cx="4787640" cy="306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s://mtdata.ru/u23/photoF677/20727457879-0/original.jpg"/>
          <p:cNvPicPr/>
          <p:nvPr/>
        </p:nvPicPr>
        <p:blipFill>
          <a:blip r:embed="rId2"/>
          <a:stretch/>
        </p:blipFill>
        <p:spPr>
          <a:xfrm>
            <a:off x="5497560" y="357120"/>
            <a:ext cx="34322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57120" y="4653000"/>
            <a:ext cx="842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узские и итальянские монахи с помощью техники квиллинг мастерили маленькие поделки, а потом ими украшали и обрамляли ик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s://ds04.infourok.ru/uploads/ex/0352/0009b3c9-090a3fc7/img8.jpg"/>
          <p:cNvPicPr/>
          <p:nvPr/>
        </p:nvPicPr>
        <p:blipFill>
          <a:blip r:embed="rId1"/>
          <a:stretch/>
        </p:blipFill>
        <p:spPr>
          <a:xfrm>
            <a:off x="1714680" y="214200"/>
            <a:ext cx="57848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214200" y="3643200"/>
            <a:ext cx="8572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хнике квиллинг: проводились крупные выставки первая в 1927 году в Лондоне, другая — в 1988 году в Нью-Йорке, где были выставлены настоящие шедевры. Средневековая шкатулка с элементами квиллинга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s://i.pinimg.com/736x/e4/9a/8c/e49a8cdedac8aa43e1a8610e5156ad57--quilling-d-quilling-ideas.jpg"/>
          <p:cNvPicPr/>
          <p:nvPr/>
        </p:nvPicPr>
        <p:blipFill>
          <a:blip r:embed="rId1"/>
          <a:srcRect l="0" t="0" r="-3552" b="0"/>
          <a:stretch/>
        </p:blipFill>
        <p:spPr>
          <a:xfrm>
            <a:off x="504720" y="142920"/>
            <a:ext cx="3424320" cy="3492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itd0.mycdn.me/image?id=858455994121&amp;t=20&amp;plc=WEB&amp;tkn=*kXPkWfnUT-7MHpwSn1MuB4aTGEQ"/>
          <p:cNvPicPr/>
          <p:nvPr/>
        </p:nvPicPr>
        <p:blipFill>
          <a:blip r:embed="rId2"/>
          <a:stretch/>
        </p:blipFill>
        <p:spPr>
          <a:xfrm>
            <a:off x="4572000" y="142920"/>
            <a:ext cx="41767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285840" y="4438800"/>
            <a:ext cx="8429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2 году было организовано проведение первого Международного фестиваля квиллинга, на которых можно было увидеть старинные изде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www.tresorsdeferveur.fr/Diaporama%20Reliquaires%20domestiques/slides/83047.jpg"/>
          <p:cNvPicPr/>
          <p:nvPr/>
        </p:nvPicPr>
        <p:blipFill>
          <a:blip r:embed="rId1"/>
          <a:stretch/>
        </p:blipFill>
        <p:spPr>
          <a:xfrm>
            <a:off x="428760" y="142920"/>
            <a:ext cx="4464000" cy="36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2.bp.blogspot.com/-Wa-SnOzFIYI/VYar2LeQlUI/AAAAAAAAO9A/bhkQJV--t0Q/s1600/ik-shum-04.jpg"/>
          <p:cNvPicPr/>
          <p:nvPr/>
        </p:nvPicPr>
        <p:blipFill>
          <a:blip r:embed="rId2"/>
          <a:stretch/>
        </p:blipFill>
        <p:spPr>
          <a:xfrm>
            <a:off x="5621400" y="142920"/>
            <a:ext cx="3093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5572080" y="426960"/>
            <a:ext cx="3071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иллинг стал популярен в нашей стране. Из бумажных спиралей создают цветы, узоры, которые затем используют для украшения открыток, альбо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s://avatars.mds.yandex.net/get-pdb/70729/84449bb3-63c9-40a1-bad0-10d9352d5fad/s1200?webp=false"/>
          <p:cNvPicPr/>
          <p:nvPr/>
        </p:nvPicPr>
        <p:blipFill>
          <a:blip r:embed="rId1"/>
          <a:stretch/>
        </p:blipFill>
        <p:spPr>
          <a:xfrm>
            <a:off x="663480" y="214200"/>
            <a:ext cx="448020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https://kitchenremont.ru/images/02482077.jpg"/>
          <p:cNvPicPr/>
          <p:nvPr/>
        </p:nvPicPr>
        <p:blipFill>
          <a:blip r:embed="rId1"/>
          <a:stretch/>
        </p:blipFill>
        <p:spPr>
          <a:xfrm>
            <a:off x="1486080" y="836640"/>
            <a:ext cx="5894280" cy="3240000"/>
          </a:xfrm>
          <a:prstGeom prst="rect">
            <a:avLst/>
          </a:prstGeom>
          <a:ln w="0">
            <a:noFill/>
          </a:ln>
        </p:spPr>
      </p:pic>
      <p:sp>
        <p:nvSpPr>
          <p:cNvPr id="67" name="Равнобедренный треугольник 4"/>
          <p:cNvSpPr/>
          <p:nvPr/>
        </p:nvSpPr>
        <p:spPr>
          <a:xfrm>
            <a:off x="108000" y="400536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Равнобедренный треугольник 5"/>
          <p:cNvSpPr/>
          <p:nvPr/>
        </p:nvSpPr>
        <p:spPr>
          <a:xfrm>
            <a:off x="108000" y="551664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https://avatars.mds.yandex.net/get-pdb/881477/fa6a47c3-4323-4d76-b62f-fdde6ceb1adb/s1200?webp=false"/>
          <p:cNvPicPr/>
          <p:nvPr/>
        </p:nvPicPr>
        <p:blipFill>
          <a:blip r:embed="rId2"/>
          <a:stretch/>
        </p:blipFill>
        <p:spPr>
          <a:xfrm rot="814800">
            <a:off x="6705360" y="2531880"/>
            <a:ext cx="1550880" cy="1800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2050920" y="44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465120" y="3933720"/>
            <a:ext cx="849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работы в технике квиллинг в пода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кручивание, отклеивание и нехватка дета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52:52Z</dcterms:created>
  <dc:creator>yana</dc:creator>
  <dc:description/>
  <dc:language>en-US</dc:language>
  <cp:lastModifiedBy>yana</cp:lastModifiedBy>
  <dcterms:modified xsi:type="dcterms:W3CDTF">2019-06-09T10:57:17Z</dcterms:modified>
  <cp:revision>20</cp:revision>
  <dc:subject/>
  <dc:title>История квиллинга</dc:title>
</cp:coreProperties>
</file>