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90B-48B4-46F5-8A1F-B27C8B43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8D8-F7BD-4E84-B627-48B1A7B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8A9-C25A-4249-B37F-DBA836C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350-EC0E-4B56-9381-5B0C5D97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00F-2A28-495A-804A-A30CA4D9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69E-14E0-4E17-8DBD-14C04C7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A7D-F976-420C-B431-B2AB9E0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A7C-D1B1-4B5C-B239-DFA6017E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140-297E-4EFB-BA94-050C62CD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32A-4F3A-4300-8083-77B563B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C43-AA48-4464-926E-D36A114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248-B981-4E13-8C74-F2DEB79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7C8-72FA-4C3A-849B-5F6F3D603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citywalls.ru/search-street2035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citywalls.ru/search-street2035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240" y="164304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осп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785960" y="2428920"/>
            <a:ext cx="500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яжённость  3,24 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00040" y="307188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ние названия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проспек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ая у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28840" y="42876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vashka.ucoz.ru/_si/0/65109408.jpg"/>
          <p:cNvPicPr/>
          <p:nvPr/>
        </p:nvPicPr>
        <p:blipFill>
          <a:blip r:embed="rId1"/>
          <a:stretch/>
        </p:blipFill>
        <p:spPr>
          <a:xfrm>
            <a:off x="428760" y="285840"/>
            <a:ext cx="5286240" cy="3971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28760" y="4500720"/>
            <a:ext cx="72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.,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Иванов Г.И.. Москаленко Я.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 1956-19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Сталинский нео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143760" y="17287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отеатр «Аврор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71680" y="642960"/>
            <a:ext cx="792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революции на месте дома был “Детский приют Санкт-Петербургского общества вспомоществования бедным им. императрицы Марии Федоровны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приюта не сохранилось, и после войны в 1956-1957 гг. было построено современное 3-этажное каменное красно-белое здание, в котором сейчас располагается кинотеатр "Аврора" (занимает часть здания, остальное - жилой д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dpcity.ru/wp-content/uploads/2017/07/%D0%A2%D0%B5%D0%B0%D1%82%D1%80%D0%B0%D0%BB%D1%8C%D0%BD%D0%B0%D1%8F-%D0%BF%D0%BB%D0%BE%D1%89%D0%B0%D0%B4%D1%8C-%D0%B2-%D0%9F%D0%B5%D1%82%D0%B5%D1%80%D0%B3%D0%BE%D1%84%D0%B5.jpg"/>
          <p:cNvPicPr/>
          <p:nvPr/>
        </p:nvPicPr>
        <p:blipFill>
          <a:blip r:embed="rId1"/>
          <a:stretch/>
        </p:blipFill>
        <p:spPr>
          <a:xfrm>
            <a:off x="642960" y="357120"/>
            <a:ext cx="5013360" cy="3600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42960" y="42861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Шварц А.Ф., директор дворцов-музеев Петергофа Архипов Н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857920" y="181296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Жертвам Револю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42960" y="55008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910 г. на месте памятника стоял императорский театр, переделанный арх. И. Шарлеманем из деревянного манежа Лейб-гвардии Драгунского по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929200" y="285768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1- арх. Миня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p1.citywalls.ru/photo_119-122317.jpg?mt=1334090456"/>
          <p:cNvPicPr/>
          <p:nvPr/>
        </p:nvPicPr>
        <p:blipFill>
          <a:blip r:embed="rId1"/>
          <a:stretch/>
        </p:blipFill>
        <p:spPr>
          <a:xfrm>
            <a:off x="428760" y="285840"/>
            <a:ext cx="5905440" cy="3762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57120" y="4071960"/>
            <a:ext cx="8572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ж лейб-гвардии Конно-Гренадерский по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-е - сне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ний императорский теат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, пл. Жертв Революции, 1 (Театральная) - Санкт-Петербургский пр., 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7 - арх. Шарлемань И. И. - перестройка, переоборуд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ини Франц - надзор за строительств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7 - обно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0 - сгор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0.citywalls.ru/photo_121-124880.jpg?mt=1336847774"/>
          <p:cNvPicPr/>
          <p:nvPr/>
        </p:nvPicPr>
        <p:blipFill>
          <a:blip r:embed="rId1"/>
          <a:stretch/>
        </p:blipFill>
        <p:spPr>
          <a:xfrm>
            <a:off x="237960" y="285840"/>
            <a:ext cx="6000840" cy="360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357960" y="1214280"/>
            <a:ext cx="257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фер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4 - ар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 Э. 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14200" y="403704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4 г. по проекту арх. Э. Л. Гана у шоссе было построено здание новой Фермы с небольшим внутренним двориком. Ферму перевели сюда из здания, находящегося в глубине парка Александрия, которое впоследствии было перестроено о проекту арх. А. И. Штакеншнейдера в Фермский дворец. Ферма полностью обеспечивала царскую семью молочными продуктами и яйц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1.citywalls.ru/photo_283-290041.jpg?mt=1499354497"/>
          <p:cNvPicPr/>
          <p:nvPr/>
        </p:nvPicPr>
        <p:blipFill>
          <a:blip r:embed="rId1"/>
          <a:stretch/>
        </p:blipFill>
        <p:spPr>
          <a:xfrm>
            <a:off x="428760" y="428760"/>
            <a:ext cx="5397480" cy="3600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072120" y="17146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Дом десяти пастухов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57120" y="40719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7-18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5 - арх. Миняев Александр Константинович - надстрой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7120" y="50007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жили работники фермы, одинокие мужчины - пастухи, конюхи, сыровары, маслоделы. Здание было построено в конце XIX в. В 1915 г. архитектор А. Миняев надстроил второй этаж, и в таком виде этот дом дошёл до на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p1.citywalls.ru/photo_267-274129.jpg?mt=1486145882"/>
          <p:cNvPicPr/>
          <p:nvPr/>
        </p:nvPicPr>
        <p:blipFill>
          <a:blip r:embed="rId1"/>
          <a:stretch/>
        </p:blipFill>
        <p:spPr>
          <a:xfrm>
            <a:off x="785880" y="142920"/>
            <a:ext cx="765972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4857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.,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19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Сталинский нео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photo.foto-planeta.com/view/9/1/6/4/petergof-916475.jpg"/>
          <p:cNvPicPr/>
          <p:nvPr/>
        </p:nvPicPr>
        <p:blipFill>
          <a:blip r:embed="rId1"/>
          <a:stretch/>
        </p:blipFill>
        <p:spPr>
          <a:xfrm>
            <a:off x="357120" y="285840"/>
            <a:ext cx="447372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286240" y="185436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ча Стру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5840" y="4000680"/>
            <a:ext cx="69292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_Петербургский пр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Федосеев В.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 1827-18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1892160"/>
            <a:ext cx="8429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XIX века большой лесистый участок на углу Мариинской (ул. Аврова) и Санкт—Петербургской (Красный пр.) был отведен для дачи потомственному дворянину поручику В.Струкову и его молодой жене Екатерине Александровне Фок. Проект дачи был разработан в 1828 году архитекторов В.Федосеевым. Это было одно из первых каменных частных зданий на территории Петергофа. Небольшое одноэтажное здание венчает бельведер. В треугольном фронтоне — герб Струковых. Последним из владельцев был генерал кавалерии Александр Петрович, который жил здесь постоянно, уйдя в отставку. Страстный грибник, он велел вырастить грибницу прямо в саду. Особняк в то время был окружен высоким забо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pp.userapi.com/c628827/v628827228/ed91/5ZdwN1wPEdM.jpg"/>
          <p:cNvPicPr/>
          <p:nvPr/>
        </p:nvPicPr>
        <p:blipFill>
          <a:blip r:embed="rId1"/>
          <a:stretch/>
        </p:blipFill>
        <p:spPr>
          <a:xfrm>
            <a:off x="366840" y="71280"/>
            <a:ext cx="320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vashka.ucoz.ru/_si/0/64721531.jpg"/>
          <p:cNvPicPr/>
          <p:nvPr/>
        </p:nvPicPr>
        <p:blipFill>
          <a:blip r:embed="rId1"/>
          <a:stretch/>
        </p:blipFill>
        <p:spPr>
          <a:xfrm>
            <a:off x="357120" y="285840"/>
            <a:ext cx="5286600" cy="3971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57120" y="43578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3/Аврова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не установл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 1840-18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Классиц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7120" y="92880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 он был в 40-х гг. XIX века и представляет собой двухэтажное, прямоугольное в плане здание с небольшим мезонином. Первоначально этот дом принадлежал работнику дворцового правления Виммер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Николай I выкупил его для проживания офицеров Уланского пол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время на втором этаже его жил командир Уланского полка Белосельский-Белозерский, поэтому дом часто именовался “командирским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p1.citywalls.ru/photo_119-121929.jpg?mt=1333744318"/>
          <p:cNvPicPr/>
          <p:nvPr/>
        </p:nvPicPr>
        <p:blipFill>
          <a:blip r:embed="rId1"/>
          <a:stretch/>
        </p:blipFill>
        <p:spPr>
          <a:xfrm>
            <a:off x="357120" y="357120"/>
            <a:ext cx="590544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385776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ский пр.,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оры: Кавос А.К., Бенуа Н.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остройки:1850-18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: Псевдого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14:51:16Z</dcterms:created>
  <dc:creator>yana</dc:creator>
  <dc:description/>
  <dc:language>en-US</dc:language>
  <cp:lastModifiedBy>yana</cp:lastModifiedBy>
  <dcterms:modified xsi:type="dcterms:W3CDTF">2017-12-03T16:51:03Z</dcterms:modified>
  <cp:revision>19</cp:revision>
  <dc:subject/>
  <dc:title>Слайд 1</dc:title>
</cp:coreProperties>
</file>