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28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33.gif" ContentType="image/gif"/>
  <Override PartName="/ppt/media/image34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A80-DCB9-47A0-95B4-F40AA431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92D-9092-4CCF-B56F-88F07BC6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530-219F-4536-9C46-4605E0D5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986-A85F-4CE0-B2E4-AABF46B2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978E-FDB5-412B-A314-C451E3E5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106-BFCB-4182-B1C5-4B284FD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5D77-5A72-4887-B7E3-C04C2D16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2DF-FFB0-41F9-A4BB-B9020C1B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3578-AD59-40EB-A85C-3183302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266-AB7B-46BA-B260-D015CA5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47CE-22F8-4180-A1DD-04EE7C0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42A-1A37-4E39-820B-1C6A9537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5CA-1A59-4B99-A322-AB6FB78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96FA-A3D9-4F8D-BD1A-D430929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982E-4646-417F-AABB-09D63BED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86F1-5A9E-4FA8-B3FE-96808F9D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1E36-CCA0-42CA-B399-34272244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189-4CB7-46DB-9653-2E3D395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4CB-0082-4151-85B6-ADC4AF22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1D6-C017-4E13-910C-015C38D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0F7-CF7B-4E37-AF0B-D164C74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8B8-B5F6-457D-B605-0AE8B43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30E-FFF3-46F8-B52F-B7E8A25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355-2105-4773-9169-C2D8E34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18A0-C7BA-48B7-8E98-F39431A33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7E2D-AF5C-4D2F-9BC8-F5DE39E2A0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Правила поведения </a:t>
            </a:r>
            <a:br>
              <a:rPr sz="6600"/>
            </a:b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в лесу </a:t>
            </a:r>
            <a:br>
              <a:rPr sz="6600"/>
            </a:b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и на лугу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жигайте костёр в лесу без взросл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оставляйте и не закапывайте мусор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бейте стекло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вырезайте надпись на деревья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Не портите несъедобные гриб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Не вырывайте грибы и ягодные кустарники с корн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D:\Новая папкадиск с\Новая папка\Все разработки\анимашки и картинки\солнце.png"/>
          <p:cNvPicPr/>
          <p:nvPr/>
        </p:nvPicPr>
        <p:blipFill>
          <a:blip r:embed="rId1"/>
          <a:stretch/>
        </p:blipFill>
        <p:spPr>
          <a:xfrm>
            <a:off x="1908000" y="1268280"/>
            <a:ext cx="51865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32720" y="1052640"/>
            <a:ext cx="942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332000" y="590544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101080" y="5950080"/>
            <a:ext cx="847800" cy="695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258920" y="4005360"/>
            <a:ext cx="857160" cy="142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340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956720" y="306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11280" y="278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6084720" y="5734080"/>
            <a:ext cx="857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вите полевые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вите редкие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ловите бабочек и стреко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0080" y="244440"/>
            <a:ext cx="397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оряйте птичьи гнёз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оряйте муравейн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Не забирайте из леса домой живот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обижайте лесных насеком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шумите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Елена</dc:creator>
  <dc:description/>
  <dc:language>en-US</dc:language>
  <cp:lastModifiedBy>Admin</cp:lastModifiedBy>
  <dcterms:modified xsi:type="dcterms:W3CDTF">2011-05-20T00:02:16Z</dcterms:modified>
  <cp:revision>24</cp:revision>
  <dc:subject/>
  <dc:title>Правила поведения  на лугу</dc:title>
</cp:coreProperties>
</file>