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F79-6A2D-46BF-A05A-67EE3C12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214-CD6E-44F6-9C7B-DB1167C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59E-2D3E-4A02-B74F-1A627C46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C24-9C85-464E-A5FA-088C6251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23E-F2BA-43F3-9F3C-185A3FA1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CDA-9268-4B9D-BE3E-F0D7F7E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2D5-31A8-4834-8233-7AAEE8C8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1AD-BF4B-4F28-977E-97615D41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6C1-725E-41AD-A59E-E41869A5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16D-B8BF-4A6A-B687-8B8DC6F6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D86-0957-4B83-930E-B0D5DE1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353-3E5F-472F-B4B7-063A5584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A5E2-5315-4EE9-A0AB-641F7A978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5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варь театральной лекс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5462640"/>
            <a:ext cx="45007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БОУ школа № 411 «Гармон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.В.Паниче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Группа 14"/>
          <p:cNvGrpSpPr/>
          <p:nvPr/>
        </p:nvGrpSpPr>
        <p:grpSpPr>
          <a:xfrm>
            <a:off x="6865920" y="142920"/>
            <a:ext cx="2206800" cy="1716120"/>
            <a:chOff x="6865920" y="142920"/>
            <a:chExt cx="2206800" cy="1716120"/>
          </a:xfrm>
        </p:grpSpPr>
        <p:pic>
          <p:nvPicPr>
            <p:cNvPr id="44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865920" y="357840"/>
              <a:ext cx="192132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10"/>
            <p:cNvSpPr/>
            <p:nvPr/>
          </p:nvSpPr>
          <p:spPr>
            <a:xfrm>
              <a:off x="7000560" y="142920"/>
              <a:ext cx="192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11"/>
            <p:cNvSpPr/>
            <p:nvPr/>
          </p:nvSpPr>
          <p:spPr>
            <a:xfrm>
              <a:off x="6929280" y="1490760"/>
              <a:ext cx="21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www.bugaga.ru/uploads/posts/2012-10/1350991600_best-makeup-actors-over-last-35-years-2.jpg"/>
          <p:cNvPicPr/>
          <p:nvPr/>
        </p:nvPicPr>
        <p:blipFill>
          <a:blip r:embed="rId1"/>
          <a:stretch/>
        </p:blipFill>
        <p:spPr>
          <a:xfrm>
            <a:off x="5000760" y="2214720"/>
            <a:ext cx="3571920" cy="242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TextBox 2"/>
          <p:cNvSpPr/>
          <p:nvPr/>
        </p:nvSpPr>
        <p:spPr>
          <a:xfrm>
            <a:off x="214200" y="514368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рим – 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скусство изменения внешности актера (его лица) с помощью красок, наклеек, парика в соответствии с требованиями исполняемой р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3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110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5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4" descr="http://media.monitorulsv.ro/poze/2012/12/04/272351maxim.jpg"/>
          <p:cNvPicPr/>
          <p:nvPr/>
        </p:nvPicPr>
        <p:blipFill>
          <a:blip r:embed="rId3"/>
          <a:stretch/>
        </p:blipFill>
        <p:spPr>
          <a:xfrm>
            <a:off x="571680" y="357120"/>
            <a:ext cx="2786040" cy="437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85840" y="521496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екорация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устанавливаемое на сцене живописное или архитектурное изображение места и обстановки театрального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3"/>
          <p:cNvGrpSpPr/>
          <p:nvPr/>
        </p:nvGrpSpPr>
        <p:grpSpPr>
          <a:xfrm>
            <a:off x="6937200" y="71280"/>
            <a:ext cx="2206800" cy="1716480"/>
            <a:chOff x="6937200" y="71280"/>
            <a:chExt cx="2206800" cy="1716480"/>
          </a:xfrm>
        </p:grpSpPr>
        <p:pic>
          <p:nvPicPr>
            <p:cNvPr id="116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937200" y="286200"/>
              <a:ext cx="19213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4"/>
            <p:cNvSpPr/>
            <p:nvPr/>
          </p:nvSpPr>
          <p:spPr>
            <a:xfrm>
              <a:off x="7071840" y="71280"/>
              <a:ext cx="192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7000560" y="1419480"/>
              <a:ext cx="21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https://i.pinimg.com/736x/13/8e/39/138e39c144cb5ded8ac767a71e9e05be--set-design-theatre.jpg"/>
          <p:cNvPicPr/>
          <p:nvPr/>
        </p:nvPicPr>
        <p:blipFill>
          <a:blip r:embed="rId2"/>
          <a:stretch/>
        </p:blipFill>
        <p:spPr>
          <a:xfrm>
            <a:off x="285840" y="623880"/>
            <a:ext cx="6629400" cy="41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letovmoskve.ru/sites/default/files/63251374_af3ac18d17d1.jpg"/>
          <p:cNvPicPr/>
          <p:nvPr/>
        </p:nvPicPr>
        <p:blipFill>
          <a:blip r:embed="rId1"/>
          <a:stretch/>
        </p:blipFill>
        <p:spPr>
          <a:xfrm>
            <a:off x="642960" y="1000080"/>
            <a:ext cx="460548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TextBox 5"/>
          <p:cNvSpPr/>
          <p:nvPr/>
        </p:nvSpPr>
        <p:spPr>
          <a:xfrm>
            <a:off x="285840" y="507348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ктер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исполнитель ролей в драматических, оперных, балетных, эстрадных, цирковых спектаклях и представлениях, а также в киноискус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Группа 6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50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8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9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85840" y="521496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нтракт - 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краткий перерыв между действиями спектакля или отделениями концерта, циркового представления, какого-либо зрелища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efcmov.spbgau.ru/gallery2/d/5718-1/7.jpg"/>
          <p:cNvPicPr/>
          <p:nvPr/>
        </p:nvPicPr>
        <p:blipFill>
          <a:blip r:embed="rId1"/>
          <a:stretch/>
        </p:blipFill>
        <p:spPr>
          <a:xfrm>
            <a:off x="1484280" y="720720"/>
            <a:ext cx="5230800" cy="392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5" name="Группа 3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56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5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6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3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60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3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5"/>
          <p:cNvSpPr/>
          <p:nvPr/>
        </p:nvSpPr>
        <p:spPr>
          <a:xfrm>
            <a:off x="428760" y="528624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плодисмен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добрительные хлопки зрителей, форма выражения приветствия  или благодарности артистам и создателям спектак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s://www.aceshowbiz.com/images/still/to-rome-with-love-image07.jpg"/>
          <p:cNvPicPr/>
          <p:nvPr/>
        </p:nvPicPr>
        <p:blipFill>
          <a:blip r:embed="rId2"/>
          <a:stretch/>
        </p:blipFill>
        <p:spPr>
          <a:xfrm>
            <a:off x="571680" y="642960"/>
            <a:ext cx="504000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2" descr="https://azqev28564.i.lithium.com/t5/image/serverpage/image-id/34813i5D53D6950894A9F2/image-size/large?v=1.0&amp;px=999"/>
          <p:cNvPicPr/>
          <p:nvPr/>
        </p:nvPicPr>
        <p:blipFill>
          <a:blip r:embed="rId3"/>
          <a:stretch/>
        </p:blipFill>
        <p:spPr>
          <a:xfrm>
            <a:off x="4562640" y="3071880"/>
            <a:ext cx="3438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00040" y="583236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фиша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- объявление о спектакле, концерте, кинофильме, лекции.</a:t>
            </a:r>
            <a:r>
              <a:rPr b="0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69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4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5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http://www.sarcons.ru/new/tl_files/afisha%202013/03_2013/27%20marta%20Den%20teatra.png"/>
          <p:cNvPicPr/>
          <p:nvPr/>
        </p:nvPicPr>
        <p:blipFill>
          <a:blip r:embed="rId2"/>
          <a:stretch/>
        </p:blipFill>
        <p:spPr>
          <a:xfrm>
            <a:off x="171360" y="214200"/>
            <a:ext cx="2543400" cy="359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4" descr="http://www.so-tvoreniemime.com/images/theatre_afisha9_new_curves.jpg"/>
          <p:cNvPicPr/>
          <p:nvPr/>
        </p:nvPicPr>
        <p:blipFill>
          <a:blip r:embed="rId3"/>
          <a:stretch/>
        </p:blipFill>
        <p:spPr>
          <a:xfrm>
            <a:off x="6421320" y="2643120"/>
            <a:ext cx="257976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6" descr="http://culture.volganet.ru/export/sites/culture/news/news/2012/12/images/Kazachii_NG.jpg"/>
          <p:cNvPicPr/>
          <p:nvPr/>
        </p:nvPicPr>
        <p:blipFill>
          <a:blip r:embed="rId4"/>
          <a:stretch/>
        </p:blipFill>
        <p:spPr>
          <a:xfrm>
            <a:off x="2928960" y="1857240"/>
            <a:ext cx="331452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85840" y="561672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алет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спектакль, в котором содержание передается без слов: музыкой, танцем, пантом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77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Box 4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4" descr="http://img1.liveinternet.ru/images/attach/c/4/78/942/78942897_large_vish.jpg"/>
          <p:cNvPicPr/>
          <p:nvPr/>
        </p:nvPicPr>
        <p:blipFill>
          <a:blip r:embed="rId2"/>
          <a:stretch/>
        </p:blipFill>
        <p:spPr>
          <a:xfrm>
            <a:off x="6062760" y="1928880"/>
            <a:ext cx="2367000" cy="354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6" descr="http://www.toimg.net/managed/images/10159265/image.jpg"/>
          <p:cNvPicPr/>
          <p:nvPr/>
        </p:nvPicPr>
        <p:blipFill>
          <a:blip r:embed="rId3"/>
          <a:stretch/>
        </p:blipFill>
        <p:spPr>
          <a:xfrm>
            <a:off x="500040" y="428760"/>
            <a:ext cx="462924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82" name="Группа 2"/>
          <p:cNvGrpSpPr/>
          <p:nvPr/>
        </p:nvGrpSpPr>
        <p:grpSpPr>
          <a:xfrm>
            <a:off x="6786720" y="0"/>
            <a:ext cx="2206440" cy="1716120"/>
            <a:chOff x="6786720" y="0"/>
            <a:chExt cx="2206440" cy="1716120"/>
          </a:xfrm>
        </p:grpSpPr>
        <p:pic>
          <p:nvPicPr>
            <p:cNvPr id="83" name="Picture 8" descr="http://i41.mindmix.ru/47/56/375647/6/6783606/0_58657_9b60f2f7_XL.jpeg"/>
            <p:cNvPicPr/>
            <p:nvPr/>
          </p:nvPicPr>
          <p:blipFill>
            <a:blip r:embed="rId4"/>
            <a:stretch/>
          </p:blipFill>
          <p:spPr>
            <a:xfrm>
              <a:off x="6786720" y="21492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10"/>
            <p:cNvSpPr/>
            <p:nvPr/>
          </p:nvSpPr>
          <p:spPr>
            <a:xfrm>
              <a:off x="6921360" y="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1"/>
            <p:cNvSpPr/>
            <p:nvPr/>
          </p:nvSpPr>
          <p:spPr>
            <a:xfrm>
              <a:off x="6850080" y="134784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28760" y="485784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ельэтаж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 – первый этаж зрительного зала над партером, амфитеатром и бену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енуар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ложи по обеим сторонам партера на уровне с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s://xn--80abbeodnd1a5ap4a.xn--p1ai/uploads/places/mikhaylovskiy-teatr-g-sankt-peterburg/mikhaylovskiy-teatr/fdb78dcf91163d440738fae4201a42d4.jpg"/>
          <p:cNvPicPr/>
          <p:nvPr/>
        </p:nvPicPr>
        <p:blipFill>
          <a:blip r:embed="rId1"/>
          <a:stretch/>
        </p:blipFill>
        <p:spPr>
          <a:xfrm>
            <a:off x="155520" y="285840"/>
            <a:ext cx="6800760" cy="43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88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89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8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logos-vector.com/images/logo/xxl/9/2/7/9270/Benefis_a66ec_450x450.png"/>
          <p:cNvPicPr/>
          <p:nvPr/>
        </p:nvPicPr>
        <p:blipFill>
          <a:blip r:embed="rId1"/>
          <a:stretch/>
        </p:blipFill>
        <p:spPr>
          <a:xfrm>
            <a:off x="6929280" y="2835360"/>
            <a:ext cx="205452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93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94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4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5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6"/>
          <p:cNvSpPr/>
          <p:nvPr/>
        </p:nvSpPr>
        <p:spPr>
          <a:xfrm>
            <a:off x="357120" y="5715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енефис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спектакль в честь одного из его уча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thr.ru/public/article/prephoto/15780.jpg"/>
          <p:cNvPicPr/>
          <p:nvPr/>
        </p:nvPicPr>
        <p:blipFill>
          <a:blip r:embed="rId3"/>
          <a:stretch/>
        </p:blipFill>
        <p:spPr>
          <a:xfrm>
            <a:off x="285840" y="928800"/>
            <a:ext cx="6480000" cy="43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webdekart.ru/files/imagecache/fullsize/eda_0.jpg"/>
          <p:cNvPicPr/>
          <p:nvPr/>
        </p:nvPicPr>
        <p:blipFill>
          <a:blip r:embed="rId1"/>
          <a:stretch/>
        </p:blipFill>
        <p:spPr>
          <a:xfrm>
            <a:off x="1000080" y="487440"/>
            <a:ext cx="3000600" cy="229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00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101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4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4" descr="http://art16.ru/gallery2/d/133963-4/DSC04272.jpg"/>
          <p:cNvPicPr/>
          <p:nvPr/>
        </p:nvPicPr>
        <p:blipFill>
          <a:blip r:embed="rId3"/>
          <a:stretch/>
        </p:blipFill>
        <p:spPr>
          <a:xfrm>
            <a:off x="4924440" y="2690640"/>
            <a:ext cx="314784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TextBox 7"/>
          <p:cNvSpPr/>
          <p:nvPr/>
        </p:nvSpPr>
        <p:spPr>
          <a:xfrm>
            <a:off x="285840" y="512460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утафория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предметы, которые употребляются в театральных постановках вместо настоящих: части костюма, оружие, мебель, украшения и многое друг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http://www.niam.pl/rimages/crop/600/450/files/images/ARTICLE/BACKUP/ARTICLE_533_43585585411965667524098482351635.jpg"/>
          <p:cNvPicPr/>
          <p:nvPr/>
        </p:nvPicPr>
        <p:blipFill>
          <a:blip r:embed="rId4"/>
          <a:stretch/>
        </p:blipFill>
        <p:spPr>
          <a:xfrm>
            <a:off x="1420920" y="2928960"/>
            <a:ext cx="215100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7:06:24Z</dcterms:created>
  <dc:creator>yana</dc:creator>
  <dc:description/>
  <dc:language>en-US</dc:language>
  <cp:lastModifiedBy>yana</cp:lastModifiedBy>
  <dcterms:modified xsi:type="dcterms:W3CDTF">2019-06-09T13:53:01Z</dcterms:modified>
  <cp:revision>40</cp:revision>
  <dc:subject/>
  <dc:title>Словарь театральной лексики</dc:title>
</cp:coreProperties>
</file>