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56C-5539-45D4-97BC-E44BBEC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0D3-5678-40DE-9BD3-FCFE79E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862-F881-4F76-AA3D-3F5D5644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29A-C7DF-43A4-B2E5-58C471BD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8FA-211F-4089-983F-0EC5670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D6F-043A-4483-BFE3-69435A3B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16A-B6B7-432A-8C3E-11806FEA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B96-B6CF-47A5-95BC-4F14DF03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90C-5B98-4FDE-90D5-6CA8FEE6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C79-8071-43F0-B683-256A58F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DDC-406A-4F37-9709-8057A55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C7A-D583-4BDF-9535-650329D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8E2-B766-4B5A-92FE-8E5C822F5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5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варь театральной лекс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5462640"/>
            <a:ext cx="450072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БОУ школа № 411 «Гармон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.В.Паниче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14"/>
          <p:cNvGrpSpPr/>
          <p:nvPr/>
        </p:nvGrpSpPr>
        <p:grpSpPr>
          <a:xfrm>
            <a:off x="6865920" y="142920"/>
            <a:ext cx="2206800" cy="1716120"/>
            <a:chOff x="6865920" y="142920"/>
            <a:chExt cx="2206800" cy="1716120"/>
          </a:xfrm>
        </p:grpSpPr>
        <p:pic>
          <p:nvPicPr>
            <p:cNvPr id="44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865920" y="357840"/>
              <a:ext cx="192132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10"/>
            <p:cNvSpPr/>
            <p:nvPr/>
          </p:nvSpPr>
          <p:spPr>
            <a:xfrm>
              <a:off x="7000560" y="142920"/>
              <a:ext cx="19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6929280" y="149076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www.bugaga.ru/uploads/posts/2012-10/1350991600_best-makeup-actors-over-last-35-years-2.jpg"/>
          <p:cNvPicPr/>
          <p:nvPr/>
        </p:nvPicPr>
        <p:blipFill>
          <a:blip r:embed="rId1"/>
          <a:stretch/>
        </p:blipFill>
        <p:spPr>
          <a:xfrm>
            <a:off x="5000760" y="2214720"/>
            <a:ext cx="3571920" cy="242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TextBox 2"/>
          <p:cNvSpPr/>
          <p:nvPr/>
        </p:nvSpPr>
        <p:spPr>
          <a:xfrm>
            <a:off x="214200" y="514368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рим –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скусство изменения внешности актера (его лица) с помощью красок, наклеек, парика в соответствии с требованиями исполняемой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110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5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http://media.monitorulsv.ro/poze/2012/12/04/272351maxim.jpg"/>
          <p:cNvPicPr/>
          <p:nvPr/>
        </p:nvPicPr>
        <p:blipFill>
          <a:blip r:embed="rId3"/>
          <a:stretch/>
        </p:blipFill>
        <p:spPr>
          <a:xfrm>
            <a:off x="571680" y="357120"/>
            <a:ext cx="2786040" cy="437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85840" y="5214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екорация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устанавливаемое на сцене живописное или архитектурное изображение места и обстановки театрального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"/>
          <p:cNvGrpSpPr/>
          <p:nvPr/>
        </p:nvGrpSpPr>
        <p:grpSpPr>
          <a:xfrm>
            <a:off x="6937200" y="71280"/>
            <a:ext cx="2206800" cy="1716480"/>
            <a:chOff x="6937200" y="71280"/>
            <a:chExt cx="2206800" cy="1716480"/>
          </a:xfrm>
        </p:grpSpPr>
        <p:pic>
          <p:nvPicPr>
            <p:cNvPr id="116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937200" y="286200"/>
              <a:ext cx="19213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7071840" y="71280"/>
              <a:ext cx="19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7000560" y="141948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https://i.pinimg.com/736x/13/8e/39/138e39c144cb5ded8ac767a71e9e05be--set-design-theatre.jpg"/>
          <p:cNvPicPr/>
          <p:nvPr/>
        </p:nvPicPr>
        <p:blipFill>
          <a:blip r:embed="rId2"/>
          <a:stretch/>
        </p:blipFill>
        <p:spPr>
          <a:xfrm>
            <a:off x="285840" y="623880"/>
            <a:ext cx="6629400" cy="41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letovmoskve.ru/sites/default/files/63251374_af3ac18d17d1.jpg"/>
          <p:cNvPicPr/>
          <p:nvPr/>
        </p:nvPicPr>
        <p:blipFill>
          <a:blip r:embed="rId1"/>
          <a:stretch/>
        </p:blipFill>
        <p:spPr>
          <a:xfrm>
            <a:off x="642960" y="1000080"/>
            <a:ext cx="46054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TextBox 5"/>
          <p:cNvSpPr/>
          <p:nvPr/>
        </p:nvSpPr>
        <p:spPr>
          <a:xfrm>
            <a:off x="285840" y="5073480"/>
            <a:ext cx="8143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ктер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исполнитель ролей в драматических, оперных, балетных, эстрадных, цирковых спектаклях и представлениях, а также в киноискус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6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50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8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9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85840" y="521496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нтракт -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краткий перерыв между действиями спектакля или отделениями концерта, циркового представления, какого-либо зрелища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efcmov.spbgau.ru/gallery2/d/5718-1/7.jpg"/>
          <p:cNvPicPr/>
          <p:nvPr/>
        </p:nvPicPr>
        <p:blipFill>
          <a:blip r:embed="rId1"/>
          <a:stretch/>
        </p:blipFill>
        <p:spPr>
          <a:xfrm>
            <a:off x="1484280" y="720720"/>
            <a:ext cx="5230800" cy="392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5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56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5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3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60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3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4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428760" y="52862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плодисме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добрительные хлопки зрителей, форма выражения приветствия  или благодарности артистам и создателям спектак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s://www.aceshowbiz.com/images/still/to-rome-with-love-image07.jpg"/>
          <p:cNvPicPr/>
          <p:nvPr/>
        </p:nvPicPr>
        <p:blipFill>
          <a:blip r:embed="rId2"/>
          <a:stretch/>
        </p:blipFill>
        <p:spPr>
          <a:xfrm>
            <a:off x="571680" y="642960"/>
            <a:ext cx="504000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2" descr="https://azqev28564.i.lithium.com/t5/image/serverpage/image-id/34813i5D53D6950894A9F2/image-size/large?v=1.0&amp;px=999"/>
          <p:cNvPicPr/>
          <p:nvPr/>
        </p:nvPicPr>
        <p:blipFill>
          <a:blip r:embed="rId3"/>
          <a:stretch/>
        </p:blipFill>
        <p:spPr>
          <a:xfrm>
            <a:off x="4562640" y="3071880"/>
            <a:ext cx="3438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00040" y="583236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фиша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- объявление о спектакле, концерте, кинофильме, лекции.</a:t>
            </a:r>
            <a:r>
              <a:rPr b="0" lang="ru-RU" sz="2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69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http://www.sarcons.ru/new/tl_files/afisha%202013/03_2013/27%20marta%20Den%20teatra.png"/>
          <p:cNvPicPr/>
          <p:nvPr/>
        </p:nvPicPr>
        <p:blipFill>
          <a:blip r:embed="rId2"/>
          <a:stretch/>
        </p:blipFill>
        <p:spPr>
          <a:xfrm>
            <a:off x="171360" y="214200"/>
            <a:ext cx="2543400" cy="359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4" descr="http://www.so-tvoreniemime.com/images/theatre_afisha9_new_curves.jpg"/>
          <p:cNvPicPr/>
          <p:nvPr/>
        </p:nvPicPr>
        <p:blipFill>
          <a:blip r:embed="rId3"/>
          <a:stretch/>
        </p:blipFill>
        <p:spPr>
          <a:xfrm>
            <a:off x="6421320" y="2643120"/>
            <a:ext cx="257976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6" descr="http://culture.volganet.ru/export/sites/culture/news/news/2012/12/images/Kazachii_NG.jpg"/>
          <p:cNvPicPr/>
          <p:nvPr/>
        </p:nvPicPr>
        <p:blipFill>
          <a:blip r:embed="rId4"/>
          <a:stretch/>
        </p:blipFill>
        <p:spPr>
          <a:xfrm>
            <a:off x="2928960" y="1857240"/>
            <a:ext cx="331452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5840" y="561672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алет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спектакль, в котором содержание передается без слов: музыкой, танцем, пантом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77" name="Picture 8" descr="http://i41.mindmix.ru/47/56/375647/6/6783606/0_58657_9b60f2f7_XL.jpeg"/>
            <p:cNvPicPr/>
            <p:nvPr/>
          </p:nvPicPr>
          <p:blipFill>
            <a:blip r:embed="rId1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http://img1.liveinternet.ru/images/attach/c/4/78/942/78942897_large_vish.jpg"/>
          <p:cNvPicPr/>
          <p:nvPr/>
        </p:nvPicPr>
        <p:blipFill>
          <a:blip r:embed="rId2"/>
          <a:stretch/>
        </p:blipFill>
        <p:spPr>
          <a:xfrm>
            <a:off x="6062760" y="1928880"/>
            <a:ext cx="2367000" cy="354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6" descr="http://www.toimg.net/managed/images/10159265/image.jpg"/>
          <p:cNvPicPr/>
          <p:nvPr/>
        </p:nvPicPr>
        <p:blipFill>
          <a:blip r:embed="rId3"/>
          <a:stretch/>
        </p:blipFill>
        <p:spPr>
          <a:xfrm>
            <a:off x="500040" y="428760"/>
            <a:ext cx="462924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2" name="Группа 2"/>
          <p:cNvGrpSpPr/>
          <p:nvPr/>
        </p:nvGrpSpPr>
        <p:grpSpPr>
          <a:xfrm>
            <a:off x="6786720" y="0"/>
            <a:ext cx="2206440" cy="1716120"/>
            <a:chOff x="6786720" y="0"/>
            <a:chExt cx="2206440" cy="1716120"/>
          </a:xfrm>
        </p:grpSpPr>
        <p:pic>
          <p:nvPicPr>
            <p:cNvPr id="83" name="Picture 8" descr="http://i41.mindmix.ru/47/56/375647/6/6783606/0_58657_9b60f2f7_XL.jpeg"/>
            <p:cNvPicPr/>
            <p:nvPr/>
          </p:nvPicPr>
          <p:blipFill>
            <a:blip r:embed="rId4"/>
            <a:stretch/>
          </p:blipFill>
          <p:spPr>
            <a:xfrm>
              <a:off x="6786720" y="21492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10"/>
            <p:cNvSpPr/>
            <p:nvPr/>
          </p:nvSpPr>
          <p:spPr>
            <a:xfrm>
              <a:off x="6921360" y="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1"/>
            <p:cNvSpPr/>
            <p:nvPr/>
          </p:nvSpPr>
          <p:spPr>
            <a:xfrm>
              <a:off x="6850080" y="134784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28760" y="485784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льэтаж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 – первый этаж зрительного зала над партером, амфитеатром и бену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нуар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ложи по обеим сторонам партера на уровне с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s://xn--80abbeodnd1a5ap4a.xn--p1ai/uploads/places/mikhaylovskiy-teatr-g-sankt-peterburg/mikhaylovskiy-teatr/fdb78dcf91163d440738fae4201a42d4.jpg"/>
          <p:cNvPicPr/>
          <p:nvPr/>
        </p:nvPicPr>
        <p:blipFill>
          <a:blip r:embed="rId1"/>
          <a:stretch/>
        </p:blipFill>
        <p:spPr>
          <a:xfrm>
            <a:off x="155520" y="285840"/>
            <a:ext cx="6800760" cy="43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88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89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8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logos-vector.com/images/logo/xxl/9/2/7/9270/Benefis_a66ec_450x450.png"/>
          <p:cNvPicPr/>
          <p:nvPr/>
        </p:nvPicPr>
        <p:blipFill>
          <a:blip r:embed="rId1"/>
          <a:stretch/>
        </p:blipFill>
        <p:spPr>
          <a:xfrm>
            <a:off x="6929280" y="2835360"/>
            <a:ext cx="20545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93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94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357120" y="5715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енефис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спектакль в честь одного из его уча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hr.ru/public/article/prephoto/15780.jpg"/>
          <p:cNvPicPr/>
          <p:nvPr/>
        </p:nvPicPr>
        <p:blipFill>
          <a:blip r:embed="rId3"/>
          <a:stretch/>
        </p:blipFill>
        <p:spPr>
          <a:xfrm>
            <a:off x="285840" y="928800"/>
            <a:ext cx="6480000" cy="43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webdekart.ru/files/imagecache/fullsize/eda_0.jpg"/>
          <p:cNvPicPr/>
          <p:nvPr/>
        </p:nvPicPr>
        <p:blipFill>
          <a:blip r:embed="rId1"/>
          <a:stretch/>
        </p:blipFill>
        <p:spPr>
          <a:xfrm>
            <a:off x="1000080" y="487440"/>
            <a:ext cx="3000600" cy="229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0" name="Группа 2"/>
          <p:cNvGrpSpPr/>
          <p:nvPr/>
        </p:nvGrpSpPr>
        <p:grpSpPr>
          <a:xfrm>
            <a:off x="6786720" y="139680"/>
            <a:ext cx="2206440" cy="1716120"/>
            <a:chOff x="6786720" y="139680"/>
            <a:chExt cx="2206440" cy="1716120"/>
          </a:xfrm>
        </p:grpSpPr>
        <p:pic>
          <p:nvPicPr>
            <p:cNvPr id="101" name="Picture 8" descr="http://i41.mindmix.ru/47/56/375647/6/6783606/0_58657_9b60f2f7_XL.jpeg"/>
            <p:cNvPicPr/>
            <p:nvPr/>
          </p:nvPicPr>
          <p:blipFill>
            <a:blip r:embed="rId2"/>
            <a:stretch/>
          </p:blipFill>
          <p:spPr>
            <a:xfrm>
              <a:off x="6786720" y="354600"/>
              <a:ext cx="19209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4"/>
            <p:cNvSpPr/>
            <p:nvPr/>
          </p:nvSpPr>
          <p:spPr>
            <a:xfrm>
              <a:off x="6921360" y="13968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Слова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850080" y="148752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53735"/>
                  </a:solidFill>
                  <a:latin typeface="Calibri"/>
                </a:rPr>
                <a:t>т</a:t>
              </a:r>
              <a:r>
                <a:rPr b="0" lang="ru-RU" sz="12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еатр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4" descr="http://art16.ru/gallery2/d/133963-4/DSC04272.jpg"/>
          <p:cNvPicPr/>
          <p:nvPr/>
        </p:nvPicPr>
        <p:blipFill>
          <a:blip r:embed="rId3"/>
          <a:stretch/>
        </p:blipFill>
        <p:spPr>
          <a:xfrm>
            <a:off x="4924440" y="2690640"/>
            <a:ext cx="314784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TextBox 7"/>
          <p:cNvSpPr/>
          <p:nvPr/>
        </p:nvSpPr>
        <p:spPr>
          <a:xfrm>
            <a:off x="285840" y="51246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утафория</a:t>
            </a:r>
            <a:r>
              <a:rPr b="0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 – предметы, которые употребляются в театральных постановках вместо настоящих: части костюма, оружие, мебель, украшения и многое друг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://www.niam.pl/rimages/crop/600/450/files/images/ARTICLE/BACKUP/ARTICLE_533_43585585411965667524098482351635.jpg"/>
          <p:cNvPicPr/>
          <p:nvPr/>
        </p:nvPicPr>
        <p:blipFill>
          <a:blip r:embed="rId4"/>
          <a:stretch/>
        </p:blipFill>
        <p:spPr>
          <a:xfrm>
            <a:off x="1420920" y="2928960"/>
            <a:ext cx="215100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7:06:24Z</dcterms:created>
  <dc:creator>yana</dc:creator>
  <dc:description/>
  <dc:language>en-US</dc:language>
  <cp:lastModifiedBy>yana</cp:lastModifiedBy>
  <dcterms:modified xsi:type="dcterms:W3CDTF">2019-06-09T13:53:01Z</dcterms:modified>
  <cp:revision>40</cp:revision>
  <dc:subject/>
  <dc:title>Словарь театральной лексики</dc:title>
</cp:coreProperties>
</file>