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AFA-EDD3-4258-AA5E-F3CD8323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1D0-5DF0-4365-894C-9C3058D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6D1-9721-4A02-83B0-0FD64FC6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E6-DCE2-4DB8-8AA2-1A5E8F5B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F5E-6849-4783-80EC-65A8857C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9632-3A6B-4C5E-9E30-F78A53CC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985-5F63-4D41-86DC-4A70C4A9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143-30D7-4885-90C6-80718B57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75A8-7CDA-49AE-B296-A20F791E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62DC-9578-4B78-8FCA-9609AE0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391-8A74-489D-B2C9-6FBD85A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1D7-25E6-49E8-8E24-B21FFF3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22C-6144-4629-B13A-1AF6DC4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1BC-077A-4713-A01F-8C56C474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DF4-6CFA-44DD-8737-F5589457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9567-4D73-4D3D-9209-15870D27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44F-A45E-45C5-A9F4-EC8786E6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40D9-2E31-4E64-83FB-30EDB826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9179-F5A2-47BD-AB57-A651D26F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38C6-D823-499B-9AAB-88662AC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D619-AAA9-4284-A7F6-7BBC5C49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F0BF-30AA-4296-B880-C4C65D71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764-5E16-4496-8B63-450B59A1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EF01-7CB0-46F2-AF82-656F27BE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CC99-EF56-45CE-A6CD-9589E05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EEA0-94E8-4A8C-9F16-CB40B2A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9D13-495D-4B2C-A698-E70D9B6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2AFC-5891-48CA-B73E-B72FFDA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4577-8F5A-4F94-AF79-8256A8BD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B6CD-E764-4018-9FB3-31136FA9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CEC3-8A00-4066-B2A5-6A531D37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3D48-5A62-4888-AE2F-BD99AD4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730C-9DC4-4DFF-9F23-ED31CB5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90F-3348-4429-9E3D-9ABDF339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0FA2-EC6C-4D98-8CE9-B8B36B6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C7A5-0400-4795-960B-2D640CE7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EEE0C-33F8-4EA2-A400-9108B3F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7628F-6371-4348-BF27-AD0CC23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A20F-FCD4-44C0-882B-4B454DE6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E5A9-940E-467C-AE90-DE165DD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0AAC-7444-4500-9D9C-462327B7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A589-E719-4089-A668-A23688EA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EEF0-3A7E-4431-ACCF-9122EDDF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910-7A81-4CCF-A6B3-E07E007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21D-D0D4-4A0D-B296-778F1E30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828-FF8D-4291-B62C-5FA99B5B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4BC-357B-4F06-9113-FB41384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661-B865-4480-9CC4-A6818A3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BD42-9193-4B43-ABC2-B106D661EC8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2978-FBCA-4926-B7E3-13F395233FC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2B1-C88F-4D59-9315-CE9A43DA17F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B492-1589-4C67-8EE7-6D81A16B98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390600" y="1620720"/>
            <a:ext cx="82407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одержится нуклеотидов А, Т, Г,  во фрагменте молекулы ДНК, если в нем обнаружено 1500 нуклеотидов Ц, что составляет 30%  от общего количества нуклеотидов в этом фрагменте ДНК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- 30%  =15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клеотидов А, Т, 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Ц комплементарен Г  и их количество равно, то Г =30%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оставляет 15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Г и Т+Ц по 50 % следовательно 50-30=20% (А, Т). Составим  пропорцию      30% - 15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-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х1500 : 30 =1000 нуклеотидов (А, Т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фрагменте молекулы ДНК  содержит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1500 нуклеотидов, А=1000 нуклеотидов, Т=10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Участок молекулы ДНК ( одна цепочка) содержит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нуклеотидов – А, 50 нуклеотидов – Т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нуклеотидов – Ц, 100 нуклеотидов - Г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:  количество нуклеотидов во второй цепи с А, Т, Г, Ц и общее количество нуклеотидов с А, Т, Ц, Г в двух цепях ДН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отидов в 1-й цепи ДНК: А-150, Т-50, Ц-300, Г-100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, Т, Ц, Г в двух цепях ДНК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,  так как они комплементарны, поэтому во второй цепи     Т-150, А-50, Г-300, Ц-10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уклеотидов: А(150+50)+Т(50+150)+Г(300+100)+Ц(100+300)=120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нуклеотидов во второй цепи  Т-150, А-50, Г-300, Ц-100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 нуклеотидов в двух цепя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иРНК входят нуклеотиды: аденина 28%, гуанина 16%, урацила 24%. Определите процентный состав нуклеотидов в двуцепочечной молекулы ДНК, информация с которой «переписана» на и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отидов в иРНК: А-28%,  У-24%, Г-16%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%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, Т, Ц, Г в ДН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процентное содержание цитозина в иРНК, учитывая, что сумма всех нуклеотидов иРНК составляет 100%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- ( 24+28+16) = 32% (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принцип комплементарности ( А=Т, У=А, Г=Ц, Ц=Г), вычисляем процентный состав нуклеотидов цепи ДНК, с которой была списана информация на и РНК. Сумма   всех нуклеотидов в  двух цепях ДНК  составляет 100%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=28:2=14%,   Г= 32:2=16%,  А=24:2=12%,  Ц=16:2=8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цепочка ДНК является комплементарной первой, следовательно, в ней процентный состав нуклеотидов следующий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14%,  Ц=16%, Т=12%, Г=8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уцепочечной ДНК процентное содержание нуклеотидов будет таким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= 12+14=26%, Т= 14+12=26%, Г=16+8=24%, Ц= 8+16=2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ух цепях ДНК % состав нуклеотидов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-26%, А-26%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24%, Ц-24%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*</a:t>
            </a: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Третий тип задач на  вычисление  количества водородных связей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епи ДНК удерживаются водородными связями. Определите число водородных связей в этой цепи ДНК, если известно, что нуклеотидов с  аденином 12, с гуанином 20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-12, Г-2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ородных связей в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, Г=Ц,  так как они комплементарн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А и Т двойная водородная связь, поэтому 12х2=24 связ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Г и Ц тройная водородная связь, поэтому 20х3=60 связ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+60=84 водородных связей всег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84 водородных связе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*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Четвертый тип задач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пределение длины,  ДНК, иРНК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молекулы ДНК  состоит из 60 пар нуклеотидов. Определите длину этого участка (расстояние между нуклеотидами в ДНК составляет 0, 34 нм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пар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х0,34= 20,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участка молекулы ДНК составляет 510нм. Определите число пар нуклеотидов в этом участ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участка ДНК 510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число пар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0:0,34= 150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уклеотидов в цепи ДНК равно 100. Определите длину этого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 , ДНК состоит из 2-х цепей значит 50 пар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х0,34=17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уклеотидов в цепи и-РНК равно 100. Определите длину этого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нуклеотид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учас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нуклеотида 0, 34 нм , и-РНК состоит из одной цеп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х0,34=34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н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 Биосинтез белка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енетический код»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астке ДНК строится иРНК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переходит в цитоплаз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соединяется с рибосомой ( 2 триплет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несет аминокислоту в рибос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он иРНК комплементарен антикодону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ибосоме из аминокислот образуется бел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- РНК- бел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аминокислот - 64 трипл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НК - иРНК - 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3 нуклеотида =1 триплет =1 аминокислота = 1тР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Пятый тип задач - определение последовательности аминокислот по таблице генетического кода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 цепи ДНК имеет последовательность нуклеотидов: ТГГАГТГАГТТА. Определите последовательность нуклеотидов на иРНК, антикодоны тРНК и аминокислотную последовательность фрагмента молекулы бел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К  Т-Г-Г-А-Г-Т-Г-А-Г-Т-Т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РНК, тРНК и аминокислотную последовательность бел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участке ДНК по принципу комплементарности (А-У, Г-Ц) построим иРНК, затем по цепи иРНК построим тРНК по принципу комплементарности  ( А-У, Г-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Т- Г- Г- А- Г- Т- Г-  А- Г- Т-  Т- 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 А-Ц-Ц-У- Ц- А- Ц- У- Ц- А- А- 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У- Г- Г- А -Г- У- Г -А- Г- У-  У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разделим на триплеты и по таблице генетического кода определим аминокислотную последовательность белк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-Ц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-Ц-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У-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й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А-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РНК  А-Ц- Ц-У- Ц- А-Ц-У-Ц-А- А-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У- Г -Г- А- Г-У- Г-А-Г- У- У-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ную последовательность белка :тре, сер, лей, ас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часток молекулы ДНК имеет следующее строени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ГА -АЦЦ-АТА-ГТЦ-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оследовательность нуклеотидов соответствующего участка иРНК. Определите последовательность аминокислот в полипептиде, синтезируемом по иРНК. Как изме­нится последовательность аминокислот в полипептиде, если в результате мутации пятый нуклеотид в ДНК будет заменён на аденин? Ответ объяснит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К  ГГА -АЦЦ-АТА-ГТЦ-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ную последовательность исходного белка, мутированно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м иРНК по принципу комплементар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ГГА -АЦЦ-АТА-ГТЦ- ЦА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ЦЦУ- УГГ-УАУ-ЦАГ-ГУ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блице генетического кода определим аминокислотную последовательность белка: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, </a:t>
            </a:r>
            <a:r>
              <a:rPr b="1" lang="ru-RU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ри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р, глн, ва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мутации ДНК изменится , т.к. пятый нуклеотид в ДНК будет заменён на аден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 ГГА - 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-АТА-ГТЦ- ЦА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НК  ЦЦУ- У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-УАУ-ЦАГ-ГУ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блице генетического кода определим аминокислотную последовательность измененного  бел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й</a:t>
            </a:r>
            <a:r>
              <a:rPr b="0" lang="ru-RU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р, глн, вал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, три, тир, глн, вал;   пр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ир, глн, вал, так как изменился нуклеотид в ДНК, то изменился нуклеотид  иРНК, изменилась аминокислота и структура бел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вестно, что все виды РНК синтезируются на ДНК- матрице. Фрагмент молекулы ДНК, на котором синтезируется участок центральной петли тРНК, имеет следующую последовательность нуклеотидов АТАГЦТГААЦГГАЦТ. Установите нуклеотидную последовательность участка тРНК, который синтезируется на данном фрагменте, и аминокислоту, которую будет переносить эта тРНК в процессе биосинтеза белка, если третий триплет соответствует антикодону тРНК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АТАГЦТГААЦГГАЦ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ую последовательность участка т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у, которую будет переносить  тР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тРНК синтезируются на ДНК, то построим тРНК по принципу комплементарности (А-У, Г-Ц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   А Т А Г Ц Т Г  А А Ц Г Г  А Ц 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   У А У Ц Г А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 У 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Ц Ц У  Г 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триплет ( антикодон тРНК)  ЦУУ , соответствует кодону на иРНК  ГАА (по принципу комплементарности), по таблице генетического кода этому кодону соответствует аминокислота  ГЛУ, которую переносить данная тРН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НК УАУЦГАЦУУГЦЦУГ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лота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12600" y="542880"/>
            <a:ext cx="889956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Шестой тип задач - определение массы  белка, количества аминокислот, нуклеотидов.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рагмент молекулы ДНК содержит 1230 нуклеотидных остатков. Сколько аминокислот будет входить в состав бел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30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аминокисло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аминокислоте соответствует 3 нуклеотда, поэтому 1230:3= 410 аминокисло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10 аминокисло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колько нуклеотидов содержит ген, кодирующий белок из 210 аминокислот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0 аминокисло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нуклеотид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аминокислоте соответствует 3 нуклеотда, поэтому 210х3=630 нуклеотид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0 нуклеотид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пределите число аминокислот , входящих в состав белка, число триплетов и число нуклеотидов в гене, который кодирует этот белок, если в процессе трансляции участвовало 30 молекул тРН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аминокислот, триплетов, нуклеотидов в ге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тРНК=1 аминокислоте, поэтому аминокислот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минокислоте = 1 триплету, поэтому триплетов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триплет = 3 нуклеотида, поэтому 30х3=90 нуклеоти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нокислот 30, триплетов 30, 90 нуклеоти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Молекулярная масса полипептида составляет 40000. Определите длину кодирующего его гена, если молекулярная масса одной аминокислоты в среднем равна 100, а  расстояние между соседними нуклеотидами в цепи ДНК составляет 0, 34 н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асса белка - 400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аминокислоты -  1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нуклеотидами 0,34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у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 как белок ( полипептид) состоит из аминокислот, найдем количество аминокислот 40000:100=4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минокислота=3 нуклеотида, 400х3=1200 нуклеотид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 состоит из нуклеотидов. Длина гена 1200х0,34=408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а гена 408н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Комбинированные задач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Белок состоит из 100 аминокислот. Установите, во сколько раз молекулярная масса участка гена, кодирующего данный белок, превышает молекулярную массу белка, если средняя молекулярная масса аминокислоты -110, а нуклеотида - 3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аминокисло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аминокислоты -110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нуклеотида - 30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сколько раз масса гена превышает массу бел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ген - это участок ДНК, состоящий из нуклеотидов, то   определим их количество: одну аминокислоту кодируют 3 нуклеотида 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100х3=300 нуклеотид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белка 100х110=11000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гена 300х300=90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 масса участка гена, кодирующего данный белок, превышает молекулярную массу белка: 90000: 11000 =8 ра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8 ра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длину имеет участок молекулы ДНК, в котором закодирована первичная структура инсулина, если молекула инсулина содержит 51 аминокислоту, а один нуклеотид занимает 0,34 нм в цепи ДНК? Какое число молекул тРНК необходимо для переноса этого количества аминокислот к месту синтеза? (Следует учитывать, что одна тРНК доставляет к рибосоме одну аминокислоту.) Ответ поясни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 аминокислота, 1 нуклеотид 0,34 н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у ДНК, число тРН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для     кодирования    одной    аминокислоты    необходимо    3 нуклеотида, 51 х 3 =  153 нуклеоти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ок ДНК имеет длину 0,34 х 153 = 52 н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дна тРНК переносит одну аминокислоту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тРНК 51 молекул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НК 52 нм , число тРНК -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нергетический обме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дготовительный (в пищеварительном канале, лизосома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хмал                глюкоза ( Е    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Бескислородный «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иколиз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в цитоплазм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юкоза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ВК +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.  Кислородный «дыхание» ( в митохондрия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ВК         С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Н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 +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6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глюкоза =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Т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2" name="Прямая со стрелкой 5"/>
          <p:cNvCxnSpPr/>
          <p:nvPr/>
        </p:nvCxnSpPr>
        <p:spPr>
          <a:xfrm>
            <a:off x="2214360" y="2642760"/>
            <a:ext cx="9291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Прямая со стрелкой 7"/>
          <p:cNvCxnSpPr/>
          <p:nvPr/>
        </p:nvCxnSpPr>
        <p:spPr>
          <a:xfrm flipV="1">
            <a:off x="5143320" y="2428560"/>
            <a:ext cx="214920" cy="72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Прямая со стрелкой 9"/>
          <p:cNvCxnSpPr/>
          <p:nvPr/>
        </p:nvCxnSpPr>
        <p:spPr>
          <a:xfrm>
            <a:off x="5143320" y="2571840"/>
            <a:ext cx="2862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5" name="Прямая со стрелкой 11"/>
          <p:cNvCxnSpPr/>
          <p:nvPr/>
        </p:nvCxnSpPr>
        <p:spPr>
          <a:xfrm>
            <a:off x="5143320" y="2642760"/>
            <a:ext cx="214920" cy="73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6" name="Прямая со стрелкой 18"/>
          <p:cNvCxnSpPr/>
          <p:nvPr/>
        </p:nvCxnSpPr>
        <p:spPr>
          <a:xfrm>
            <a:off x="2142720" y="3571920"/>
            <a:ext cx="5007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Прямая со стрелкой 20"/>
          <p:cNvCxnSpPr/>
          <p:nvPr/>
        </p:nvCxnSpPr>
        <p:spPr>
          <a:xfrm>
            <a:off x="1643040" y="4500720"/>
            <a:ext cx="5724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процессе   гликолиза  образовалось   42   молекулы   пировиноградной кислоты. Какое количество молекул глюкозы подверглось расщеплению и сколько молекул АТФ образуется при полном окислении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42 ПВ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л-во глюкозы, кол-во АТФ при полном окислени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при   гликолизе   одна   молекула   глюкозы   расщепляется   с образованием 2-х молекул пировиноградной кислоты (ПВК), следовательно, гликолизу подверглось: 42 : 2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молекула глюкоз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при      полном      окислении      одной      молекулы      глюкозы (бескислородный 2АТФ и кислородный этапы 36 АТФ) образуется 38 молекул АТФ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при окислении 21 молекулы образуется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х 38 = 798 молекул АТФ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 молекула глюкозы, 798 молекул АТФ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еление клет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ито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3280" y="1052280"/>
            <a:ext cx="4042080" cy="65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мейо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773360"/>
          <a:ext cx="4039920" cy="48243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7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фаз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c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0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45080" y="1773360"/>
          <a:ext cx="4041720" cy="4848120"/>
        </p:xfrm>
        <a:graphic>
          <a:graphicData uri="http://schemas.openxmlformats.org/drawingml/2006/table">
            <a:tbl>
              <a:tblPr/>
              <a:tblGrid>
                <a:gridCol w="1347840"/>
                <a:gridCol w="1346040"/>
                <a:gridCol w="1347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ф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2c 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4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фаза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афаза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афаза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офаза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масса всех молекул ДНК в 46 хромосомах одной соматической клетки человека составляет около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. Определите, чему равна масса всех молекул ДНК в ядре при овогенезе перед началом деления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ите полученные результат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6 хромосом  = масса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 массу ДНК: перед началом деления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еред началом деления в процессе репликации  число ДНК удваивается и масса ДНК  равна 2 • 6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  деление    мейоза    редукционное,    число    хромосом становится в 2 раза меньше, но каждая хромосома состоит из двух молекул ДНК (сестринских хроматид), поэтому в телофазе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ДНК  равна 1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=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сле    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ждое     ядро     в     клетке     содержит однохроматидные хромосомы гаплоидного набора, поэтому в телофазе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ДНК  равна 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= 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са ДНК перед началом деления 1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г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6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, в конце телофазы мейоз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писок использованной литератур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ипы зада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ановление  последовательности нуклеотидов в ДНК, иРНК,  антикодонов тРНК,  используя принцип комплементар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Вычисление количества  нуклеотидов, их процентное соотношение  в цепи ДНК, иРН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числение  количества водородных связей в цепи ДНК, иРН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пределение дины, массы  ДНК,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е последовательности аминокислот по таблице генетического к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Определение массы  ДНК, гена, белка, количества аминокислот, нуклеотид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бинированные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бования к решению зада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д решения должен соответствовать последовательности процессов, протекающих в клет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ать задачи осознано, обосновывать каждое действие теоретичес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ись решения оформлять аккуратно, цепи ДНК, иРНК , тРНК прямые, символы нуклеотидов четкие, расположены на одной линии по горизонта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пи  ДНК, иРНК , тРНК размещать на одной строке без перено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веты на все вопросы выписывать в конце реш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4370400"/>
                <a:gridCol w="360360"/>
                <a:gridCol w="4413240"/>
              </a:tblGrid>
              <a:tr h="739800">
                <a:tc grid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ДН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 дезоксирибонуклеиновая кисло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ве цепи в спир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Р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(рибонуклеиновая кисло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на цеп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49068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оят из нуклеот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роение нуклеот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c6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оксириб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риб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статок фосфор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остаток фосфор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азотистое осн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азотистое основа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 ад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 ад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732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– гуа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 – гуа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624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 – цито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 – цито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245880"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 - ти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- урац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</a:tr>
              <a:tr h="490680"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-Т,    Г-Ц          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цип комплементарности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-У,   Г-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grid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ду азотистыми основаниями водород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А = Т  двойная ,                Г ≡ Ц трой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Чаргаф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Т,    Г=Ц    А+Г = Т+Ц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 100% в 2-х цепя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100 %  в 1-й цеп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3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*азотистые основания :  1. Пуриновые – А, Г       2. Пиримидиновые – Ц, Т,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71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: хранение наследстве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Спираль ДНК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ина 2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спирали 10 пар нуклеотидов 3,4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нуклеотида 0, 34 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ДНК 6·10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gridSpan="2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НК и их фун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РНК или мРНК – 5%, считывает информацию с ДНК и переносит её к рибосо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тРНК – 10%, переносит аминокисл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РНК – 85%, входит в состав рибос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640" marR="44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e3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Первый тип задач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- задачи на установление последовательности нуклеотидов в ДНК, иРНК, </a:t>
            </a:r>
            <a:br>
              <a:rPr sz="2400"/>
            </a:br>
            <a:r>
              <a:rPr b="1" lang="ru-RU" sz="2400" spc="-1" strike="noStrike" u="sng">
                <a:solidFill>
                  <a:srgbClr val="04617b"/>
                </a:solidFill>
                <a:uFillTx/>
                <a:latin typeface="Calibri"/>
              </a:rPr>
              <a:t>антикодонов тРНК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сток правой цепи молекулы ДНК имеет последовательность нуклеотидо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-Г-Т-Ц-Т-А-А-Ц-Т-Г-А-Г-Ц-А-Т. Запишите последовательность нуклеотидов левой цепи Д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А-Г-Т-Ц-Т-А-А-Ц-Т-Г-А-Г-Ц-А-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( нуклеотиды левой цепи ДНК подбираем по принципу комплементарности  А-Т, Г-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А Г  Т  Ц  Т  А  А  Ц  Т  Г   А  Г  Ц  А  Т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Т Ц  А  Г  А  Т  Т   Г  А  Ц  Т  Ц  Г  Т  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левая цепь ДНК имеет  последовательность нуклеотидов    Т-Ц-А-Г-А-Т-Т-Г-А-Ц-Т-Ц-Г-Т-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4617b"/>
                </a:solidFill>
                <a:uFillTx/>
                <a:latin typeface="Calibri"/>
              </a:rPr>
              <a:t>Первый тип задач</a:t>
            </a: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200" spc="-1" strike="noStrike" u="sng">
                <a:solidFill>
                  <a:srgbClr val="04617b"/>
                </a:solidFill>
                <a:uFillTx/>
                <a:latin typeface="Calibri"/>
              </a:rPr>
              <a:t>-  задачи на установление последовательности нуклеотидов в ДНК, иРНК, антикодонов тРНК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сток цепи молекулы ДНК имеет последовательность нуклеотидов:           Ц-Т-А-А-Ц-Ц-А-Т-А-Г-Т-Т-Г-А-Г. Запишите последовательность нуклеотидов  и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 Ц-Т-А-А- Ц-Ц-А-Т-А-Г-Т-Т- Г- А-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( нуклеотиды  иРНК подбираем по принципу комплементарности  к ДНК : А-У, Г-Ц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  Ц  Т  А  А  Ц Ц  А  Т А  Г Т Т  Г   А 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РНК       Г  А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  У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  Г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 А А Ц 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РНК имеет  последовательность нуклеотидов                            Г-А-У-У-Г- Г-У-А-У-Ц-А-А-Ц-У-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  Определите последовательность нуклеотидов иРНК, антикодоны молекул   тРНК , если фрагмент  ДНК имеет последовательность нуклеотидов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-Ц-Ц-Т-А-Ц-Т-А-А-Г-Т-Ц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ДНК       Г-Ц-Ц-Т-А-Ц-Т-А-А-Г-Т-Ц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(нуклеотиды  подбираем по принципу комплементарности  А-У, Г-Ц под ДНК  сначала строим  иРНК, затем тРНК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НК         Г  Ц Ц Т А  Ц Т А А  Г  Т Ц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РНК       Ц Г  Г  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Г  А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 У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 А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НК        Г  Ц Ц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А  Ц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А А  Г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вет :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РНК имеет  последовательность нуклеотидов                        Ц Г Г А У Г А У У Ц А 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тикодоны тРНК    Г Ц Ц У А Ц У А А Г У 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000"/>
            </a:b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Второй тип задач -</a:t>
            </a: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4617b"/>
                </a:solidFill>
                <a:uFillTx/>
                <a:latin typeface="Calibri"/>
              </a:rPr>
              <a:t>на вычисление количества нуклеотидов, их процентное соотношение  в цепи ДНК, иРНК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й молекуле ДНК нуклеотидов с тимином  Т -22% . Определите  процентное содержание нуклеотидов с А, Г, Ц по отдельности  в этой молекуле ДН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 -22%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 А, Г, Ц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1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тимин  комплементарен  аденину, то А=22%.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+22=44% ( А+Т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 44 =56% (Г+Ц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гуанин  комплементарен цитозину, то их количество тоже равно, поэтому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: 2 =28% (Г, Ц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2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авилу Чаргаффа  А+Г = Т+Ц, все нуклеотиды в ДНК составляют 100% или А+Г и Т+Ц по 50 %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тимин  комплементарен  аденину, то А=22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 50 - 22=28% (Г, Ц, т.к. они комплементарны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=22%, Г=28%, Ц=28%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6:43:41Z</dcterms:created>
  <dc:creator>User</dc:creator>
  <dc:description/>
  <dc:language>en-US</dc:language>
  <cp:lastModifiedBy>Admin</cp:lastModifiedBy>
  <dcterms:modified xsi:type="dcterms:W3CDTF">2011-04-28T19:05:29Z</dcterms:modified>
  <cp:revision>55</cp:revision>
  <dc:subject/>
  <dc:title>Решение  задач  по  молекулярной биологии. </dc:title>
</cp:coreProperties>
</file>