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6FF-113D-4DFB-B1C8-A08EE796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6F0-BE4B-43FD-AF20-8FAA2F98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6B5-241E-4A73-ABFD-AB09D222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0FF-F7DE-4D51-9717-6F14B071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832-081A-4344-9260-5C1B602B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D9C-520E-45BA-B17A-1A2BD7E5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52C-A876-427B-B7EF-0813A6AC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D10-98E4-469E-A7E9-3835C34A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8F2-E164-4717-8248-7A22D20E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353-BF80-4034-A998-8B89FCD0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3D3-94A1-4B6F-963A-5BB58E24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9CD-E0B4-4C75-AD61-2EA6CF55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2618-22E4-4A77-AFBF-1E02ADABF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000000"/>
                </a:solidFill>
                <a:latin typeface="Monotype Corsiva"/>
              </a:rPr>
              <a:t>Деньги и банки. 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ньгами не шутят, а без них тем бол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 деньгами – это зло, а без денег он ещё зл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чие живут с деньгами, невезучие – без, а негодяи – д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форм дене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ые деньги – слиток (до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до н.э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ушки, жемчужины, сушёная рыба, меха, какао-бобы, слоновая кость, соль, табак, шёлк, зерно, домашний ско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о, бронза, медь, серебро, золот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етные деньги – монеты 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до н.э. –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622422bc1bfdba96f287dbf160580125.jpg"/>
          <p:cNvPicPr/>
          <p:nvPr/>
        </p:nvPicPr>
        <p:blipFill>
          <a:blip r:embed="rId1"/>
          <a:stretch/>
        </p:blipFill>
        <p:spPr>
          <a:xfrm>
            <a:off x="4356000" y="4076640"/>
            <a:ext cx="4103640" cy="2160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47" name="Рисунок 5" descr="af583205610c3f8f267b5c9e3904040e.jpg"/>
          <p:cNvPicPr/>
          <p:nvPr/>
        </p:nvPicPr>
        <p:blipFill>
          <a:blip r:embed="rId2"/>
          <a:stretch/>
        </p:blipFill>
        <p:spPr>
          <a:xfrm>
            <a:off x="108000" y="4076640"/>
            <a:ext cx="4147920" cy="2160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Бумажные деньги 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 – XXI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Электронные деньги (середина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– XXI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i.jpg"/>
          <p:cNvPicPr/>
          <p:nvPr/>
        </p:nvPicPr>
        <p:blipFill>
          <a:blip r:embed="rId1"/>
          <a:stretch/>
        </p:blipFill>
        <p:spPr>
          <a:xfrm>
            <a:off x="4621320" y="907920"/>
            <a:ext cx="3655800" cy="158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716360" y="2565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бумажные день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chipovye_karty.JPG"/>
          <p:cNvPicPr/>
          <p:nvPr/>
        </p:nvPicPr>
        <p:blipFill>
          <a:blip r:embed="rId2"/>
          <a:stretch/>
        </p:blipFill>
        <p:spPr>
          <a:xfrm>
            <a:off x="2627280" y="400536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1264185798r_lg.jpg"/>
          <p:cNvPicPr/>
          <p:nvPr/>
        </p:nvPicPr>
        <p:blipFill>
          <a:blip r:embed="rId3"/>
          <a:stretch/>
        </p:blipFill>
        <p:spPr>
          <a:xfrm>
            <a:off x="324000" y="765000"/>
            <a:ext cx="4248000" cy="2271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611280" y="306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игнация Екатерины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88640"/>
            <a:ext cx="7931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собый товар, который выполняет роль всеобщего эквивалента, т.е.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ителя стоимости всех товаров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денег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а стоим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обращ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накопл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латеж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ые деньг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ность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пособность к быстрому превращению в средство платежа и сохранению своей номинальной стоимост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те правильный от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765000"/>
            <a:ext cx="83516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Вот исландский «прейскурант»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: за подкову – 1 сушёная рыба, за пару женских башмаков – 3 рыбины,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бочонок вина – 100 рыбин. Как экономисты называют сушёную рыбу в данном случае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й труда                           3) товарными деньгам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дитными деньгами          4) натуральными деньгам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Деньги – эт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ереже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изнанное платёжное и покупательное средств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цен товаров и услу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Выпуск в обращение новых денег называетс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ляцией                       3) накопление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ежом                         4) эмисси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7640" y="259920"/>
            <a:ext cx="8280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то не является функцией денег в рыночной экономике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латежа                  3)  счётная единиц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а стоимости                     4)  средство накопле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тоимость бумажных дене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ком определяется суммой рублей, указанных на купюр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ет с течением времен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, если деньги положены в бан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уменьшаться или увеличиваться по разным причина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обладает более высокой степенью ликвидности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я номиналом в 1000 руб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юра в 50 руб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терейный биле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 в банк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Функции денег состоят в том, чтобы служ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ей расчётов, средством обращения, средством накоп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щим фактором капиталовложений, потребления и об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ой учёта, средством перераспределения доходов и распределения ресур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ителем всех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Цена торта – 380 рублей. Какая функция денег проявляется в данном фак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а стоимости          3)  средство об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латежа       4)  мировые день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17:08Z</dcterms:created>
  <dc:creator>Катенок</dc:creator>
  <dc:description/>
  <dc:language>en-US</dc:language>
  <cp:lastModifiedBy>User</cp:lastModifiedBy>
  <dcterms:modified xsi:type="dcterms:W3CDTF">2019-06-09T16:42:31Z</dcterms:modified>
  <cp:revision>29</cp:revision>
  <dc:subject/>
  <dc:title>Презентация PowerPoint</dc:title>
</cp:coreProperties>
</file>