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5670-C68E-4253-8A60-43A99BF1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7587-0D9E-46E6-87A2-C1F8A1BD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5B77-E6F6-46FD-A578-5CC2E08FD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7F9E-35FD-4486-8E72-2A2FB54D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704C-ACAF-47CC-9E24-E95FEB38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1648-1F10-41AA-8A35-F5821B68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7586-C3E1-4AE2-B72B-3A2EF842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D82F-D016-4AF1-A1AA-828D542E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FC96-DB5D-4D68-9F16-17390FA9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FA72-2E14-4DC9-A13F-51CCF23C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CB0D-F24D-406B-9DBB-DD673753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253B-F310-43B0-A0DA-52D1005A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9E4E-C6BB-4F68-826C-9422ED16CB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000000"/>
                </a:solidFill>
                <a:latin typeface="Monotype Corsiva"/>
              </a:rPr>
              <a:t>Деньги и банки. </a:t>
            </a: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1125000"/>
            <a:ext cx="7859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еньгами не шутят, а без них тем боле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с деньгами – это зло, а без денег он ещё зле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учие живут с деньгами, невезучие – без, а негодяи – д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олюция форм дене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9280" y="1197000"/>
            <a:ext cx="8507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ные деньги – слиток (до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до н.э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ушки, жемчужины, сушёная рыба, меха, какао-бобы, слоновая кость, соль, табак, шёлк, зерно, домашний ско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о, бронза, медь, серебро, золот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етные деньги – монеты 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до н.э. –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I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4" descr="622422bc1bfdba96f287dbf160580125.jpg"/>
          <p:cNvPicPr/>
          <p:nvPr/>
        </p:nvPicPr>
        <p:blipFill>
          <a:blip r:embed="rId1"/>
          <a:stretch/>
        </p:blipFill>
        <p:spPr>
          <a:xfrm>
            <a:off x="4356000" y="4076640"/>
            <a:ext cx="4103640" cy="21607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47" name="Рисунок 5" descr="af583205610c3f8f267b5c9e3904040e.jpg"/>
          <p:cNvPicPr/>
          <p:nvPr/>
        </p:nvPicPr>
        <p:blipFill>
          <a:blip r:embed="rId2"/>
          <a:stretch/>
        </p:blipFill>
        <p:spPr>
          <a:xfrm>
            <a:off x="108000" y="4076640"/>
            <a:ext cx="4147920" cy="21607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24000" y="18900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Бумажные деньги 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II – XXI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Электронные деньги (середина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 – XXI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i.jpg"/>
          <p:cNvPicPr/>
          <p:nvPr/>
        </p:nvPicPr>
        <p:blipFill>
          <a:blip r:embed="rId1"/>
          <a:stretch/>
        </p:blipFill>
        <p:spPr>
          <a:xfrm>
            <a:off x="4621320" y="907920"/>
            <a:ext cx="3655800" cy="158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716360" y="25653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бумажные деньг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5" descr="chipovye_karty.JPG"/>
          <p:cNvPicPr/>
          <p:nvPr/>
        </p:nvPicPr>
        <p:blipFill>
          <a:blip r:embed="rId2"/>
          <a:stretch/>
        </p:blipFill>
        <p:spPr>
          <a:xfrm>
            <a:off x="2627280" y="4005360"/>
            <a:ext cx="3816360" cy="25002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7" descr="1264185798r_lg.jpg"/>
          <p:cNvPicPr/>
          <p:nvPr/>
        </p:nvPicPr>
        <p:blipFill>
          <a:blip r:embed="rId3"/>
          <a:stretch/>
        </p:blipFill>
        <p:spPr>
          <a:xfrm>
            <a:off x="324000" y="765000"/>
            <a:ext cx="4248000" cy="227196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>
            <a:off x="611280" y="306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сигнация Екатерины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88640"/>
            <a:ext cx="7931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г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особый товар, который выполняет роль всеобщего эквивалента, т.е.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ителя стоимости всех товаров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и денег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а стоимост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обраще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накопле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платеж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овые деньг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квидность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пособность к быстрому превращению в средство платежа и сохранению своей номинальной стоимост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те правильный отв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7640" y="765000"/>
            <a:ext cx="83516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Вот исландский «прейскурант»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а: за подкову – 1 сушёная рыба, за пару женских башмаков – 3 рыбины, 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бочонок вина – 100 рыбин. Как экономисты называют сушёную рыбу в данном случае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ой труда                           3) товарными деньгам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дитными деньгами          4) натуральными деньгам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Деньги – это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ережени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изнанное платёжное и покупательное средство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цен товаров и услу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Выпуск в обращение новых денег называетс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ляцией                       3) накоплением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ежом                         4) эмиссие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07640" y="259920"/>
            <a:ext cx="82803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Что не является функцией денег в рыночной экономике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платежа                  3)  счётная единиц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а стоимости                     4)  средство накоплени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тоимость бумажных дене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ком определяется суммой рублей, указанных на купюр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ает с течением времен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ёт, если деньги положены в банк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уменьшаться или увеличиваться по разным причинам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Что обладает более высокой степенью ликвидности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я номиналом в 1000 рубле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юра в 50 рубле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терейный биле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ад в банк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79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Функции денег состоят в том, чтобы служи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ей расчётов, средством обращения, средством накоп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ющим фактором капиталовложений, потребления и обм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ой учёта, средством перераспределения доходов и распределения ресур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ителем всех това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Цена торта – 380 рублей. Какая функция денег проявляется в данном факт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а стоимости          3)  средство обм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платежа       4)  мировые день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10:17:08Z</dcterms:created>
  <dc:creator>Катенок</dc:creator>
  <dc:description/>
  <dc:language>en-US</dc:language>
  <cp:lastModifiedBy>User</cp:lastModifiedBy>
  <dcterms:modified xsi:type="dcterms:W3CDTF">2019-06-09T16:42:31Z</dcterms:modified>
  <cp:revision>29</cp:revision>
  <dc:subject/>
  <dc:title>Презентация PowerPoint</dc:title>
</cp:coreProperties>
</file>