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924-8746-4868-8E0A-6E4B47C3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DA8-1DEC-4814-9A46-88046257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F0A-181A-447E-B85F-15F7B661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749-5E6E-4E26-AE1D-EE60D937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07FC-99E9-4AE1-BCF6-0B12A5E7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6D81-260B-401C-8B99-46A8C104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4C00-77C3-4604-B0DE-7CFDBFA3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1853-F4EF-4E51-AE98-124A62C5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B835-9C6E-421D-811D-EA399C9D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17EE-7561-4B79-92E0-51C2F660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54DF-9318-48CB-A2FB-72213A5A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A89-2551-4E9B-9769-156C058F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D666-EB52-46D3-A073-31183EB9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54B4-D3D4-4175-8567-E097248F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3692-949E-4AFE-B0C3-4D0CCB9B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EC30-BA8E-4581-9462-E1E2F7C1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A5D2-E9EE-478D-8E47-2B8B5909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8001-B0D7-4922-9672-72C2BFD3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EA5F3-6A98-4B45-AB0A-E3728AD9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CE69-8A63-4E24-BF5D-8CB62573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27963-1C4B-4A41-BB65-626F16A9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A920-016F-42CA-8B17-BEA03575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883-5562-422D-BC29-C6B5FFAE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F46A-1418-49E4-8A12-129C7EE0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B91B-168B-45C4-962F-B91A95DB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A5B8-2BFF-4468-9228-D1753B84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089DA-2858-4DBB-8A3F-19BF5411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DACEB-48D6-40C3-B9A5-935E3030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53BC-5A8F-46A7-98AC-CEF63E8F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F9334-2DDE-4870-A5EB-108886B3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A5B3A-EAAA-4E62-82E6-E98FCF18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51DFB-CE14-49FD-BE37-628E63D0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A81BB-EDA2-4E76-9DA3-AF64AF7F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117-A338-4E35-BBEF-31FBED85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A003E-69B1-45DD-B3C4-C7C687D7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FB6F2-7071-4CA2-8F71-1C06F35C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E984-46DE-4317-8D9A-BC11B9C8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F39D-3FC2-4885-A445-230C43C1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6C782-31A1-4F15-9269-13B507DE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718A1-EEC4-4F99-8839-C9EA35AA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7FB64-6AF4-4A6B-A0D6-A058FE98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7D644-12DD-4BA5-98C3-B7987B57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5EF09-ABF5-40C1-8C61-48D3F000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D34-C430-4D01-A2B6-696C9865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D5B-F7F7-459D-B71B-9DED844A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9E0-1979-4E7C-A5E0-7B3BB50F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65F-EF72-4419-9EC4-92EEA56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35B-4CA0-4AE2-A785-20B30E65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0C8C-7F30-460E-AF6B-1A20C0E13C1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FD62-2196-477A-8537-58D7B39CCB44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6B7E-66CA-4245-8E9B-80DE0EB9F440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4BA9-6949-4A48-AAA5-4752F1DF2CBA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2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167bf3"/>
                </a:solidFill>
                <a:latin typeface="Century Gothic"/>
              </a:rPr>
              <a:t>        </a:t>
            </a:r>
            <a:r>
              <a:rPr b="1" lang="ru-RU" sz="4400" spc="-1" strike="noStrike">
                <a:solidFill>
                  <a:srgbClr val="031830"/>
                </a:solidFill>
                <a:latin typeface="Century Gothic"/>
              </a:rPr>
              <a:t>«КОДИРОВАНИЕ  </a:t>
            </a:r>
            <a:br>
              <a:rPr sz="4400"/>
            </a:br>
            <a:r>
              <a:rPr b="1" lang="ru-RU" sz="4400" spc="-1" strike="noStrike">
                <a:solidFill>
                  <a:srgbClr val="031830"/>
                </a:solidFill>
                <a:latin typeface="Century Gothic"/>
              </a:rPr>
              <a:t>          ИНФОРМАЦИИ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76000" y="201600"/>
            <a:ext cx="65754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167bf3"/>
                </a:solidFill>
                <a:latin typeface="Century Gothic"/>
              </a:rPr>
              <a:t>ТОГБОУ «Центр психолого-педагогического сопровождения и коррекции «Гармония»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5" name="Подзаголовок 3"/>
          <p:cNvSpPr/>
          <p:nvPr/>
        </p:nvSpPr>
        <p:spPr>
          <a:xfrm>
            <a:off x="1911240" y="4786200"/>
            <a:ext cx="65754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Автор: ученица 6 класса  Попова Анаста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Руководитель: Семенова Е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entury Gothic"/>
              </a:rPr>
              <a:t>ЦЕЛЬ ПРОЕКТА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728640"/>
            <a:ext cx="655488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32400"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32400"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a304a"/>
                </a:solidFill>
                <a:latin typeface="Century Gothic"/>
                <a:ea typeface="Aharoni"/>
              </a:rPr>
              <a:t>ЦЕЛЬ ПРОЕКТА: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32400" algn="ctr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  <a:p>
            <a:pPr marL="32400" algn="just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a304a"/>
                </a:solidFill>
                <a:latin typeface="Century Gothic"/>
                <a:ea typeface="Aharoni"/>
              </a:rPr>
              <a:t>  </a:t>
            </a:r>
            <a:r>
              <a:rPr b="1" lang="ru-RU" sz="3300" spc="-1" strike="noStrike">
                <a:solidFill>
                  <a:srgbClr val="0a304a"/>
                </a:solidFill>
                <a:latin typeface="Century Gothic"/>
                <a:ea typeface="Aharoni"/>
              </a:rPr>
              <a:t>Познакомиться с методами кодирования информации в разные периоды истории человечества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Объект 3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432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Объект 3" descr=""/>
          <p:cNvPicPr/>
          <p:nvPr/>
        </p:nvPicPr>
        <p:blipFill>
          <a:blip r:embed="rId2"/>
          <a:stretch/>
        </p:blipFill>
        <p:spPr>
          <a:xfrm>
            <a:off x="517680" y="333360"/>
            <a:ext cx="8161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7" name="Объект 3" descr=""/>
          <p:cNvPicPr/>
          <p:nvPr/>
        </p:nvPicPr>
        <p:blipFill>
          <a:blip r:embed="rId2"/>
          <a:stretch/>
        </p:blipFill>
        <p:spPr>
          <a:xfrm>
            <a:off x="569880" y="404640"/>
            <a:ext cx="798984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Объект 3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867708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Объект 3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56440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88360" cy="6291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1T19:30:43Z</dcterms:created>
  <dc:creator>EU</dc:creator>
  <dc:description/>
  <dc:language>en-US</dc:language>
  <cp:lastModifiedBy>Коля</cp:lastModifiedBy>
  <dcterms:modified xsi:type="dcterms:W3CDTF">2019-06-10T18:06:55Z</dcterms:modified>
  <cp:revision>388</cp:revision>
  <dc:subject/>
  <dc:title>Защита информации  от древних времен к современному миру</dc:title>
</cp:coreProperties>
</file>