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3B2-6768-49BF-9993-4704EF21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161-E507-4947-8D02-A687C905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3C1-1BF1-402F-8B59-FA5B237E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0C7-79B5-4F64-BFB0-D0BD65F9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2B47-C210-421D-9E69-EECEE87D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3DC6-9265-44FE-AF9F-4F22824D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7838-8004-450D-87DC-EFB10889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B499-E893-4F29-BD7D-07F6C6A1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69A1-63BE-4D3C-B79B-94EBFC2F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8FE0-0FAB-4355-9FE9-826C1987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FD09-C712-4307-8D68-98B9E3DC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C78-D40C-48E6-AC08-F30B88B7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A334-CDBF-4C25-85F8-2D345CC7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9F55-CE3A-4751-B96B-C7C8EF2D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9D0C-0D0A-4107-9F11-8551707F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E28B-CFBA-4A0D-B597-E3B4B0F1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2185-6456-4141-BE3D-57049510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E253-4DE2-4BE6-BEFB-4C978195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8FAA-439B-4C40-8B78-75EE3E08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B7F47-25FD-4D35-81E5-5A3F824A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819A3-5496-42A6-BF98-6ECC02BF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1ECE7-45C3-44F4-ADD5-E8941665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F15-3F6D-4DA6-9B63-F558F9C5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F09A3-7DE1-4E79-902B-76A3C0C8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7BC30-EF02-4250-B06F-4A5D8A1A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A70FE-DA81-4A26-BE15-0A32C2B4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FFF9-22B0-4C9C-AFA6-40314D07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1759-D1D4-46F4-82B8-9D2C18BE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0DCF-CA6A-4666-A63B-E930BBD3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F306F-9359-4FFF-8EC3-076FE150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A8E04-34B0-47F9-9648-EE5044B8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9040D-5344-42BE-8FD5-BF01CC11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8BBFB-4167-4196-8C2D-A8E0F687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0E9-1D4A-4EDA-8B91-96108C4C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79E0A-1909-4808-8AE4-9CA46244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7A781-D558-4A0D-8029-68278CC8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950F-9701-49F6-9AE8-30CFDACD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B7C0-C456-4516-BAF7-185FD4D6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ED41F-CBB4-4C5F-B419-C2A231CA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91B37-B91A-4E82-8465-AA02CDEB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10E9E-4F74-4144-8908-27C90758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0E1AC-0E62-4C12-A5BF-5C4A8D56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3A1A5-EA2B-481E-9A00-70ED6D1E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AE9F-3155-4CA5-B9B6-445AE9B5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70D-DE34-41E2-8379-C5E909F9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4D6-2C10-4BCC-9450-87BB9F7F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64F-FE98-48A2-85DD-CE92E113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EBF-3C69-4FC9-BBBD-1492A4F9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F556-AAD8-4398-A210-744E27D36C08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0B61-DB19-4A39-A933-960F52E7A049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47B1-BD57-428E-B3F1-9C7E0BF4DEC6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E8C9-C64B-4719-B7A8-7BB8A0CCD5B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2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67bf3"/>
                </a:solidFill>
                <a:latin typeface="Century Gothic"/>
              </a:rPr>
              <a:t>        </a:t>
            </a:r>
            <a:r>
              <a:rPr b="1" lang="ru-RU" sz="4400" spc="-1" strike="noStrike">
                <a:solidFill>
                  <a:srgbClr val="031830"/>
                </a:solidFill>
                <a:latin typeface="Century Gothic"/>
              </a:rPr>
              <a:t>«КОДИРОВАНИЕ  </a:t>
            </a:r>
            <a:br>
              <a:rPr sz="4400"/>
            </a:br>
            <a:r>
              <a:rPr b="1" lang="ru-RU" sz="4400" spc="-1" strike="noStrike">
                <a:solidFill>
                  <a:srgbClr val="031830"/>
                </a:solidFill>
                <a:latin typeface="Century Gothic"/>
              </a:rPr>
              <a:t>          ИНФОРМАЦИИ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76000" y="201600"/>
            <a:ext cx="65754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67bf3"/>
                </a:solidFill>
                <a:latin typeface="Century Gothic"/>
              </a:rPr>
              <a:t>ТОГБОУ «Центр психолого-педагогического сопровождения и коррекции «Гармония»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5" name="Подзаголовок 3"/>
          <p:cNvSpPr/>
          <p:nvPr/>
        </p:nvSpPr>
        <p:spPr>
          <a:xfrm>
            <a:off x="1911240" y="4786200"/>
            <a:ext cx="65754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Автор: ученица 6 класса  Попова Анаста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Руководитель: Семенова Е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entury Gothic"/>
              </a:rPr>
              <a:t>ЦЕЛЬ ПРОЕКТА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74600" y="728640"/>
            <a:ext cx="655488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2400"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  <a:p>
            <a:pPr marL="32400"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0a304a"/>
                </a:solidFill>
                <a:latin typeface="Century Gothic"/>
                <a:ea typeface="Aharoni"/>
              </a:rPr>
              <a:t>ЦЕЛЬ ПРОЕКТА:</a:t>
            </a: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  <a:p>
            <a:pPr marL="32400"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  <a:p>
            <a:pPr marL="32400" algn="just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0a304a"/>
                </a:solidFill>
                <a:latin typeface="Century Gothic"/>
                <a:ea typeface="Aharoni"/>
              </a:rPr>
              <a:t>  </a:t>
            </a:r>
            <a:r>
              <a:rPr b="1" lang="ru-RU" sz="3300" spc="-1" strike="noStrike">
                <a:solidFill>
                  <a:srgbClr val="0a304a"/>
                </a:solidFill>
                <a:latin typeface="Century Gothic"/>
                <a:ea typeface="Aharoni"/>
              </a:rPr>
              <a:t>Познакомиться с методами кодирования информации в разные периоды истории человечества</a:t>
            </a: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Объект 3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432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Объект 3" descr=""/>
          <p:cNvPicPr/>
          <p:nvPr/>
        </p:nvPicPr>
        <p:blipFill>
          <a:blip r:embed="rId2"/>
          <a:stretch/>
        </p:blipFill>
        <p:spPr>
          <a:xfrm>
            <a:off x="517680" y="333360"/>
            <a:ext cx="8161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7" name="Объект 3" descr=""/>
          <p:cNvPicPr/>
          <p:nvPr/>
        </p:nvPicPr>
        <p:blipFill>
          <a:blip r:embed="rId2"/>
          <a:stretch/>
        </p:blipFill>
        <p:spPr>
          <a:xfrm>
            <a:off x="569880" y="404640"/>
            <a:ext cx="798984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0" name="Объект 3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867708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Объект 3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56440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388360" cy="6291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1T19:30:43Z</dcterms:created>
  <dc:creator>EU</dc:creator>
  <dc:description/>
  <dc:language>en-US</dc:language>
  <cp:lastModifiedBy>Коля</cp:lastModifiedBy>
  <dcterms:modified xsi:type="dcterms:W3CDTF">2019-06-10T18:06:55Z</dcterms:modified>
  <cp:revision>388</cp:revision>
  <dc:subject/>
  <dc:title>Защита информации  от древних времен к современному миру</dc:title>
</cp:coreProperties>
</file>