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6BB-1A1E-4798-B63E-2FBEF799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15E-5A22-443A-8A9F-E0437EC3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EE8-3B94-4FC1-9569-9CF9EB29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E03-9833-4304-80E2-66AF6D76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7B9-58D6-46FE-AE31-3EEDA3C8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18A-FB07-47BF-8D12-F7191E07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4C7-2CF9-4090-BA99-D9A2FCA6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86C-CA4D-49D3-91A5-819E5F0C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DF4-BD7B-471D-B047-F40DBFB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6DB-D929-421B-B0BD-FF231990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A0C-8245-4E8B-B432-CC5FEA7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2B9-3C4F-40FA-8AA2-1000914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E26E-C9A8-4C27-BA15-D512D9B52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Презентация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«Средства развития мелкой моторики рук у детей с нарушением реч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72080" y="4571640"/>
            <a:ext cx="35719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Подготовле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учителем  - логопедом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Ерофеевой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Пользователь\Pictures\2019 распечатать\Новая папка\image (53).jpg"/>
          <p:cNvPicPr/>
          <p:nvPr/>
        </p:nvPicPr>
        <p:blipFill>
          <a:blip r:embed="rId1"/>
          <a:stretch/>
        </p:blipFill>
        <p:spPr>
          <a:xfrm>
            <a:off x="426960" y="3498840"/>
            <a:ext cx="49672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се знают, как малыши любят рисовать. А если перед рисованием предложить ребёнку поиграть с карандашами, помaccировать ладони и пальцы? нМассажные движения выполняются с помощью хорошо знакомого детям предмета — карандаша. 1 - Катаем карандаш по столу ладошкой (ладошками). 2 - Добываем огонь. 3 - Горка. По тыльной стороне одной руки катим карандаш ладошкой второй руки. 4 - Вертушка. Крутим пальцами на поверхности стола карандаш. 5 - Вертолёт. Крутим в воздухе. 6 - Подъёмный кран. Двумя пальцами поднимаем (меняем пары — с большим пальчиком, без большого). 7 - Экскаватор. Одним пальцем поднимаем. 8 - Качели. Зажимаем карандашик между двумя пальцами и кача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Пользователь\Desktop\графические диктанты\image (6).jpg"/>
          <p:cNvPicPr/>
          <p:nvPr/>
        </p:nvPicPr>
        <p:blipFill>
          <a:blip r:embed="rId1"/>
          <a:stretch/>
        </p:blipFill>
        <p:spPr>
          <a:xfrm>
            <a:off x="396720" y="549360"/>
            <a:ext cx="3638880" cy="500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Пользователь\Desktop\графические диктанты\image (9).jpg"/>
          <p:cNvPicPr/>
          <p:nvPr/>
        </p:nvPicPr>
        <p:blipFill>
          <a:blip r:embed="rId2"/>
          <a:stretch/>
        </p:blipFill>
        <p:spPr>
          <a:xfrm>
            <a:off x="4645080" y="1054080"/>
            <a:ext cx="4060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ПОДЕЛКИ ИЗ ПУГОВ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Девять идей для совместного творчества с ребёнком. Работа с пуговицами развивает мелкую моторику. Этап 1 Нарисуйте карандашом картинку, которую вы хотите выложить из пуговиц. Можно нарисовать её на цветной бумаге, вырезать и приклеить на картонную основу поделки. Этап 2 Заполните подготовленный эскиз пуговицами разного цвета и размера. Пофантазируйте вместе с малышом. Этап 3 Приклейте пуговицы. Остающиеся пустые места можно заполнить бусинками или бисером: тоже приклеить их. Этап 4 Можно вставить поделку в готовую рамку или оформить рамку пуговицами: приклеить их по контуру поделки. С детьми постарше поделки с пуговицами можно реализовать с помощью иголки с ниткой: не приклеивать пуговицы, а пришивать их. Пяльцы здорово облегчат такую работу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13840"/>
            <a:ext cx="8501040" cy="6286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СТОЛЬНАЯ ИГРА «ГОРОШИНКИ» Рисуем или распечатываем игровое поле. Делаем фишки-мышки с корзинками. Правила игры: В середину игрового поля складываем горошинки. Мышата должны собрать урожай. Бросаем кубик по очереди и идём по квадратикам по часовой стрелке. Если останавливаемся на квадратике того же цвета, что и ведёрко у мышонка, то кладем мышонку горошинку из кучи, расположенной в центре поля. Ходим кругами, пока все горошины из кучи не закончатся. Потом считаем. У какого мышонка больше гороха — тот и выи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1T19:09:36Z</dcterms:created>
  <dc:creator>Пользователь</dc:creator>
  <dc:description/>
  <dc:language>en-US</dc:language>
  <cp:lastModifiedBy>Пользователь Windows</cp:lastModifiedBy>
  <dcterms:modified xsi:type="dcterms:W3CDTF">2019-06-10T18:07:23Z</dcterms:modified>
  <cp:revision>35</cp:revision>
  <dc:subject/>
  <dc:title>Слайд 1</dc:title>
</cp:coreProperties>
</file>