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6A0-2849-4C44-8031-1A64C5BA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187-1C4C-412E-8F52-2B1257E7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876-7293-4B8E-9443-EABC05D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9D7-4361-42D6-8139-BEF77633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B30-023D-4586-AB7A-A609C320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022-AF8E-429B-8D0F-B256628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5992-EEC4-407A-BDE7-08BCB04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633B-8612-49FE-805D-049F93A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776-0A3A-4F84-961E-C66C729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E42-333B-4D47-A950-EF5CA5B1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471-E2C3-4928-B969-1B094E5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78B-9567-454F-8102-0474FBD5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050C-8208-4413-8BE8-A6A7AB4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6F51-B81C-4217-912E-5292A5C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3840-4AA9-4375-AB68-B22192AC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E9C0-BB2E-4C61-95F3-B8B13E8A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F31D-9097-42BD-95D9-442E728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A4503-759F-4F48-9EED-52D8EC1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9D87A-FDFB-42DF-A55A-8D4D3931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5E489-1472-4057-894E-D51C51F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45221-661C-4263-8D68-17A7752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863A-9094-4CD8-9D41-3D53759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CB4-8870-489D-84D8-8C922A4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31A06-7EE1-4892-BEE4-32325B71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D395F-D0E6-4356-A581-1363C35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17514-4757-48C5-8854-9077B2D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4FAAE-AABD-4A65-8B75-C5CA99A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472ED-9E6E-4DD7-93AF-6F5EC21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9D978-3C92-4B9B-B0C3-C02C5B5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71905-27A0-48A2-AD2F-936D970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112E-D99B-46B1-A10F-0268398A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3F60-EB7D-4750-BA7A-7BE186E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5F153-AE23-4742-A6F7-21994DFF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403-C9E7-48CA-8EE0-0706DBF5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114F-8CC5-497B-A810-7A44080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C077-A4AC-4BE5-8B41-14022BCA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B2DA-3EDB-4978-BC0F-0AEAA808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36E1-B0C4-4BDF-BCC9-E0BAEB9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4658-E277-435F-BED7-DC0916D9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ADBB-76E8-44A7-A8A4-FE59FA2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8476-66AF-4554-90BC-1A09976D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4DC9-AD93-4BCF-9F27-4CC22F0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BC13-E8CE-40C0-9439-A637A191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497-00CA-47FD-8C66-E6350B2A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1BE-CC39-452F-B38E-5BE920C6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ADE-1796-4A9D-B34F-E159887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E09-DCDB-4F30-A6EF-35E8735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ADF-47C8-432B-A218-ECB7ED7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D2B6-2581-47C5-88CA-9B39E14A2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6598-62C4-46DF-87D3-059AEF894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5405-011B-4D6C-A98F-D2254176C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415-160F-4837-A92F-6E2341D2C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440" y="240192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Логопедический КВН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409720" y="4571640"/>
            <a:ext cx="3505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Подготовлен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учителем – логопедом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МДОУ «ДС №28»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Ерофеевой Татьяной Дмитриевной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Что такое КВН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– клуб, В – влюбленных в педагогическую деятельность, и Н – надеющихся, что со временем, и не без нашего участия, мир станет лучше и добрее, и взрослые и дети в совершенстве освоят язык взаимопонимания. А чтобы это сбылось, надо сейчас, не откладывая на потом, учиться общению, проверять свои мысли, догад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ВН стал почётной особ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о не снижен к нему интерес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воляет, покончив с рабо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абыть про учеб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ы хотим, чтоб сейчас в этом зал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ши лица, как солнце, сия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б улыбки широкими ста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новейшей постройки проспек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И как гласит устав КВН, этим оружием будут знания, юмор, находчивость и воспитаннос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Приветствие коман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коман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виз: Ясно, чётко говорим, потому что не спеш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коман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виз: Говорим всегда красиво, смело и нетороплив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Размин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слушать стихотворение, придумать движения, чтобы получилась пальчиковая игра, провести игру с командой сопернико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Я мячом круги катаю,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Взад – вперёд его гоняю.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м поглажу я ладошк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Будто я сметаю крошку.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 сожму его немножко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Как сжимает лапу кошка.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Каждым пальцем мяч прижму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 другой рукой начн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А теперь последний трюк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Мяч летает между ру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Конкурс капитано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94920"/>
            <a:ext cx="388620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 Лучший в мире крокодил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Сколько козлят у многодетной козы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 Гордость Варвары - красы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 Самая известная курочк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 Кто тянул репку перед Жучкой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6. Мальчик – луковка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7. Крокодиловая река в Африке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8. Сказочная скатерть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9. Назовите братьев – Чук и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143000"/>
            <a:ext cx="4038480" cy="56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Снежная баба в детстве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Дедушка любитель зайцев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Главный атрибут Дуремара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Девочка с голубыми волосами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Итальянский прообраз папы Карло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Воздыхатель Мальвины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7. Кто разморозил сердце Кая?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8. Девочка, которая растаяла зимо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9. Былинный богатырь из города Мурома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Финальная пес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609480" y="2082240"/>
            <a:ext cx="5943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заключении предлагаю Вам на этой душевной ноте спеть финальную песн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олько утром зорька занимае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аботу весело зов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постели бодро поднимаем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вот каждый день из года в год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пе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тертью, скатерть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ьний путь стеле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саду отдано и души, и лет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ому, каждом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 он словно родной,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учшего садика в целом мире н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Да, друзья, работа воспитател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чная дорога без кон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ли ее мы все сознательн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ям отдаем сво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пе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8:05:54Z</dcterms:created>
  <dc:creator>Toshiba</dc:creator>
  <dc:description/>
  <dc:language>en-US</dc:language>
  <cp:lastModifiedBy>Toshiba</cp:lastModifiedBy>
  <dcterms:modified xsi:type="dcterms:W3CDTF">2019-06-10T17:27:00Z</dcterms:modified>
  <cp:revision>3</cp:revision>
  <dc:subject/>
  <dc:title>Логопедический КВН</dc:title>
</cp:coreProperties>
</file>