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5CB-C00B-4774-95D8-D2FBE351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0B8-191F-4CE9-8420-5DD823BC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532-F1F6-4533-8278-F27BFE8D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42D-3785-446D-8B02-412ED7A1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F693-797B-4B5F-B582-B4DD33C7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37DD-B45F-4980-8A65-E02600C3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366C-2145-457E-8ADE-5449CC46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DB04-B010-4B0E-87EB-2DC55E83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CC3B-B281-40A2-8D06-F3639127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A7F8-74F8-498A-82CE-9AE6820E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DDEC-69E5-42E6-8DEF-7D1844C4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13E-00A1-4492-B3E2-78C2477A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D494-301A-405B-A950-E8DF652A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D4B8-DA12-4306-BE0C-C8D23D35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960F-887A-4546-9D78-C18C114A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F4AE-A158-40BB-84E9-1E3780A8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4E26-9ACF-4318-8B67-AC7DBE42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DFCA7-00DA-4623-A5F8-644667D3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1D7B7-E500-4800-A160-EFC37837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D3250-C919-434E-A961-7B62F6C3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F7655-9052-4FA8-BBE9-571ECAF2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549F1-CFBF-4889-94FC-05084B13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239-6FA0-4368-A113-A3B5FDBD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DCD3B-B488-48F4-BA77-A93B5CAD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EE0E8-6957-4553-B752-67349A2A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53F3C-B820-4E75-A185-3482AFF9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BDE96-4024-4A93-A381-DBB3698D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EB009-C149-45BB-8DDA-3BA232D9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7546F-76D2-456B-A835-2EDA69C9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9C505-E449-4B00-BE0F-2016F2D7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A15D1-A23C-4482-B875-FAE87B17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3B351-0AA8-4F38-B3B4-2BEA2326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A40DC-BE4F-4F28-AF0B-308F2DEE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1E4-AEBF-4FFD-AD7D-58568F27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C638D-7FD6-4F8B-9987-DBC8490A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2DD13-7667-4CBF-BB94-7869A477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5F50C-B76E-46B8-8A82-1E5C9A04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75E5-50FB-4ACD-9549-30016012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B91B-2C07-4B13-BF00-AD2C03D8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81674-036A-4283-9D5F-D539515B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0A53C-DC7D-49DE-8BEE-39750E25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8517C-B33A-41B9-8784-98FC5E63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73E7A-06F6-4485-A624-2732DA84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919-2E9D-4396-9FA1-6B72286C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139-8E34-44CC-9683-84FA2983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3D0C-39C4-4813-8C7B-9DEAC1BE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597-C99B-4FBD-9F5B-A53C5FD6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DFE-2298-434A-AD6F-2BD10CFC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30FB-3947-479D-996E-BC82E2B2D9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B4F3-F3D8-4A80-B6F5-B7CBEC9C1D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9865-80DA-4B99-93BF-2EA41FB49E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0C77-A50C-4FC5-A91B-BBBD052ED0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28440" y="2401920"/>
            <a:ext cx="7086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Логопедический КВН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409720" y="4571640"/>
            <a:ext cx="35053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24456"/>
                </a:solidFill>
                <a:latin typeface="Georgia"/>
              </a:rPr>
              <a:t>Подготовлен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24456"/>
                </a:solidFill>
                <a:latin typeface="Georgia"/>
              </a:rPr>
              <a:t>учителем – логопедом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1" lang="ru-RU" sz="1300" spc="-1" strike="noStrike">
                <a:solidFill>
                  <a:srgbClr val="424456"/>
                </a:solidFill>
                <a:latin typeface="Georgia"/>
              </a:rPr>
              <a:t>МДОУ «ДС №28»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24456"/>
                </a:solidFill>
                <a:latin typeface="Georgia"/>
              </a:rPr>
              <a:t>Ерофеевой Татьяной Дмитриевной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rebuchet MS"/>
              </a:rPr>
              <a:t>Что такое КВН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 – клуб, В – влюбленных в педагогическую деятельность, и Н – надеющихся, что со временем, и не без нашего участия, мир станет лучше и добрее, и взрослые и дети в совершенстве освоят язык взаимопонимания. А чтобы это сбылось, надо сейчас, не откладывая на потом, учиться общению, проверять свои мысли, догад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ВН стал почётной особо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о не снижен к нему интерес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зволяет, покончив с работ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забыть про учеб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ы хотим, чтоб сейчас в этом зал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аши лица, как солнце, сиял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Чтоб улыбки широкими стал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 новейшей постройки проспек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И как гласит устав КВН, этим оружием будут знания, юмор, находчивость и воспитанност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rebuchet MS"/>
              </a:rPr>
              <a:t>Приветствие команд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 коман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евиз: Ясно, чётко говорим, потому что не спеши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 коман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евиз: Говорим всегда красиво, смело и нетороплив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rebuchet MS"/>
              </a:rPr>
              <a:t>Размин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294920"/>
            <a:ext cx="822960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ослушать стихотворение, придумать движения, чтобы получилась пальчиковая игра, провести игру с командой соперников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Я мячом круги катаю,              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Взад – вперёд его гоняю.           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Им поглажу я ладошку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Будто я сметаю крошку.          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И сожму его немножко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Как сжимает лапу кошка.       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Каждым пальцем мяч прижму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И другой рукой начну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А теперь последний трюк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Georgia"/>
              </a:rPr>
              <a:t>Мяч летает между рук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Конкурс капитано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294920"/>
            <a:ext cx="3886200" cy="54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1. Лучший в мире крокодил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2. Сколько козлят у многодетной козы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3. Гордость Варвары - красы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4. Самая известная курочк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5. Кто тянул репку перед Жучкой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6. Мальчик – луковка 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7. Крокодиловая река в Африке 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8. Сказочная скатерть 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9. Назовите братьев – Чук и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143000"/>
            <a:ext cx="4038480" cy="56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Снежная баба в детстве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Дедушка любитель зайцев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Главный атрибут Дуремара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Девочка с голубыми волосами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Итальянский прообраз папы Карло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6. Воздыхатель Мальвины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7. Кто разморозил сердце Кая?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8. Девочка, которая растаяла зимо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9. Былинный богатырь из города Мурома 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4a5e"/>
                </a:solidFill>
                <a:latin typeface="Trebuchet MS"/>
              </a:rPr>
              <a:t>Финальная песн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609480" y="2082240"/>
            <a:ext cx="5943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в заключении предлагаю Вам на этой душевной ноте спеть финальную песню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Только утром зорька занимается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аботу весело зове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постели бодро поднимаемся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вот каждый день из года в год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пев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катертью, скатертью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льний путь стелется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саду отдано и души, и лет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ому, каждом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л он словно родной, 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учшего садика в целом мире н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Да, друзья, работа воспитател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чная дорога без конц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рали ее мы все сознательно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ям отдаем свои сердц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пе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5T18:05:54Z</dcterms:created>
  <dc:creator>Toshiba</dc:creator>
  <dc:description/>
  <dc:language>en-US</dc:language>
  <cp:lastModifiedBy>Toshiba</cp:lastModifiedBy>
  <dcterms:modified xsi:type="dcterms:W3CDTF">2019-06-10T17:27:00Z</dcterms:modified>
  <cp:revision>3</cp:revision>
  <dc:subject/>
  <dc:title>Логопедический КВН</dc:title>
</cp:coreProperties>
</file>