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6FE-B26F-4009-805A-CA76738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3A5-4024-45D5-A5BE-CABC838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344-C560-4DCA-9B79-ACC473C4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9F3-6242-4482-9386-02D7CB08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F827-DF6A-4D34-AF00-9E36549C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972-14FA-41ED-87D3-39F4F65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716-755C-470C-832F-034A648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A8CD-DB8F-4177-90C7-2AFAC96C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446-C810-4C6D-AFCA-7C83C76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283A-2C19-43DB-B612-BB86DAB6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917-AB65-4308-ADCA-BD4283F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871-97B5-43C6-A231-F366B0CF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FCBD-AA4E-4BB5-9A8E-AC8F54C1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FDF4-6980-4F0F-809E-1C87469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3D2D-D7C3-41B2-8587-B088081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FB3-E0C6-4A3D-A27A-7D47A434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EFDC-473F-4AC8-B398-A4B16223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F0E4-636D-4A1A-BD74-554E8D3A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AE9D-A89D-42A3-AABA-841E75BB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A5AF-5D4D-4207-AEDB-0C9D804A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EA4E-6A88-448B-B920-0478087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5AB1-DACE-469B-AB0E-814493B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CD8-FFEB-45CF-B54A-AFD3646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56B2-2952-40B3-A42E-AB1576E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4040-1EED-42A4-A51C-DCE6578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EBF3-F3BB-4F5C-8D29-4F5F5F9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38FD-68EA-45CE-BDCC-5F1CF1C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8832-3F17-4014-9371-4002E31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2E7E-5E28-4797-B71E-DEF48495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85A6-30F9-47E9-916F-5B2F8773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6785-0D59-44A0-A36A-21FF128A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14DA-C97D-40DB-BFC2-90DF726C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4317-88D7-4A6C-BB56-1E3CCC0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CFF-C758-4BAE-A1A2-B7F43B6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D64A-E203-4EF6-A04A-2BCD104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4BB7-80B0-4CA9-9E22-2483007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6764-2E66-439D-89F4-502275C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BC91-1D9A-4DD0-A5ED-EA34122F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E174-7C66-419C-8D08-4A2C6CE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2FA6-9C38-4D07-96B1-248FF3E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5816-D533-40C2-8BE2-457352A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2844-79FA-4FF9-BACE-AD82E589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F7857-24B1-44C8-BDF4-E4AA5F03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41C0-7A69-4943-9D0F-3478113D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C3F-7B4A-48F8-98D5-47B99360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DEF4-D374-486C-8B7B-6960B4E4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6D2D-58E6-4EC8-9E82-7169C6F4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52EE8-1063-47FD-93E5-7FE1290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7FA1-EFD9-469A-81EC-528E637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D2CD-F87D-4295-BA03-84479AF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FD850-18D5-490E-9FA9-D20BDF9D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C65A-235A-4A03-B8C2-227F6CE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9289F-B5A2-4CFD-BE97-976D13D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93BB-B03E-4B47-A0B0-8F7A5A79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22F0-8C7D-412C-81FF-168669FE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566-2C4C-4CDE-8235-626C988B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F336-FCFA-43DD-B372-04AF2F6C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E1-32AC-41C4-BB06-D462753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EA0-BDD5-4425-8691-02BB929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5B0-A0E0-421F-B5D0-A0EC708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2DFE-08FD-4477-954C-FAFF14BCDB1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2AA1-BD82-411A-9DEB-E86B8EF9AA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485-1D9E-4329-86CA-6C48FB57F06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8C6-1B27-49F3-80C0-90CFE4C3E8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D6E-65AF-4374-990B-5209925E6F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9640" y="3284640"/>
            <a:ext cx="8072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лодежь как социальная групп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ые социальные роли молодеж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оль молодежи в обществ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лодежная субкультур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ые направления молодежной политики Р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4247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erpetua"/>
              </a:rPr>
              <a:t>  </a:t>
            </a:r>
            <a:br>
              <a:rPr sz="5900"/>
            </a:br>
            <a:r>
              <a:rPr b="1" lang="ru-RU" sz="5900" spc="-1" strike="noStrike">
                <a:solidFill>
                  <a:srgbClr val="ff0000"/>
                </a:solidFill>
                <a:latin typeface="Cambria"/>
              </a:rPr>
              <a:t>Молодежь в </a:t>
            </a:r>
            <a:r>
              <a:rPr b="1" lang="ru-RU" sz="5900" spc="-1" strike="noStrike">
                <a:solidFill>
                  <a:srgbClr val="ffffff"/>
                </a:solidFill>
                <a:latin typeface="Cambria"/>
              </a:rPr>
              <a:t>современном обществе </a:t>
            </a:r>
            <a:endParaRPr b="0" lang="en-US" sz="59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ль молодежи в обществ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воение новых профессий, новых отраслей производ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воение новых территориально-производственных комплекс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льтурно-интеллектуальная 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формационная мобильнос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Работник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Студент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Семьянин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Гражданин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3357720" y="2000160"/>
            <a:ext cx="5452920" cy="40816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214200" y="3571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ые социальные роли молод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удности социализа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падение высокого уровня притязаний и низкого социального статуса молодых, который задан их возрастом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падение старого стиля родительства, ориентированного на то, что для матери сын или дочь всегда остаётся ребёнком, и новых потенциальных возможностей молодых, связанных с психофизиологическим повзросление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иворечи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усилившейся ориентацией на самостоятельность и усилившейся зависимостью от мнения и поведения сверст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гда заканчивается молодость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4200" y="1600200"/>
          <a:ext cx="8715600" cy="4054320"/>
        </p:xfrm>
        <a:graphic>
          <a:graphicData uri="http://schemas.openxmlformats.org/drawingml/2006/table">
            <a:tbl>
              <a:tblPr/>
              <a:tblGrid>
                <a:gridCol w="3159360"/>
                <a:gridCol w="2793960"/>
                <a:gridCol w="2762280"/>
              </a:tblGrid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итерии взросл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ци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о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сих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зависимое проживание от ро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амостоятельное обеспечение средствами суще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амостоятельное определение обра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Достижение полной дееспособ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здание семьи, голосование на выборах, вся полнота правовой ответствен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товность работать и отвечать за свои по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сихологическая зрел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Box 4"/>
          <p:cNvSpPr/>
          <p:nvPr/>
        </p:nvSpPr>
        <p:spPr>
          <a:xfrm>
            <a:off x="357120" y="571500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антилизм – сохранение у взрослого человека физических и психических черт дет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ёжная субкультур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475920"/>
            <a:ext cx="7921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под молодежной субкультурой понимается культура определенного молодого поколения, обладающего 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общностью стиля жизни, поведения, групповых норм, ценностей и стереотипов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4" name="Picture 5" descr="https://avatars.mds.yandex.net/get-zen_doc/100325/pub_5a3b74594bf1616645690c1d_5a3b7620799d9d104d0aaa5c/scale_1200"/>
          <p:cNvPicPr/>
          <p:nvPr/>
        </p:nvPicPr>
        <p:blipFill>
          <a:blip r:embed="rId1"/>
          <a:stretch/>
        </p:blipFill>
        <p:spPr>
          <a:xfrm>
            <a:off x="1547640" y="2260440"/>
            <a:ext cx="5832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рты молодежной субкультур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онконформизм, сознательное противопоставление культуре взрослы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сперименты с собственной жизн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дикализм, культ си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воеобразные вкусы в одежде, музыке. Слен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льтура досуга, а не работ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здание множества неформальных молодежных объединений, групп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ипология молодежных субкультур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920" y="1143000"/>
            <a:ext cx="8858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группы – группы, с которыми молодой человек себя отождествля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тгруппы – группы, от которых молодой человек себя отделяет, ощущает свое отлич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специфике поведения членов группы выделяют: просоциальные; асоциальные; антисоциальны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Просоциальные – группы, которые не несут угрозу обществу, несут позитив и помогаю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Асоциальные – несут критику каким-либо устоям общества, но это противостояние не носит крайнего характер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 Антисоциальные – не только подвергают критике общественные порядки и устои, но и стремятся их сокруш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Толстых А.В. предложил следующую типологию молодежных субкультур: 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2560" y="135684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тизирован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активно участвуют в политической жизни и имеют четкую идеологическую принадлежность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о-этически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занимаются построением философских концепций и ведут борьбу за окружающую среду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радиционные религиоз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 основном это увлечение восточными религиями (буддизм, индуизм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кальные молодеж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тличаются организованностью, наличием лидеров старшего возраста, повышенной агрессивностью (криминальные молодежные группировки, скинхеды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ы образа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группы молодых людей, формирующих свой образ жизнедеятельности (хиппи, панки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ы по интереса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олодые люди, объединенные общностью интересов – музыкальных, спортивных и др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а "золотой молодежи"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характерна для столичных городов – ориентирована на проведение досуга (одна из наиболее закрытых субкультур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42960" y="121428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С.А.Сергеев предлагает следующую типологию молодежных субкульту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омантико-эскапистские субкультуры (хиппи, индианисты, толкинисты, с известными оговорками - байке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донистическо-развлекательные (мажоры, рэйверы, рэпперы и т.п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иминальные ("гопники", "люберы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архо-нигилистические (панки, экстремистские субкультуры "левого" и "правого" толка), которые можно также назвать радикально-деструктив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Мотивы участия молодых в неформальных объединениях и группировках.</a:t>
            </a:r>
            <a:br>
              <a:rPr sz="36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циальная потребность в общении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амоутверждении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стиж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тремление улучшить свою жиз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ыбор конкретной неформальной группы чаще является несвободным, ибо подросток обычно вынужден присоединяться к той группе, что доминирует на территории его проживания (социализации)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сказывания разных людей о молодёжи. 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4160" y="692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ша молодёжь любит роскошь, она дурно воспитана, она насмехается над начальством и нисколько не уважает стариков. Наши нынешние дети стали тиранами, они не встают, когда в комнату входит пожилой человек, перечат своим родителям. Попросту говоря, они очень плох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5" descr="https://mtdata.ru/u14/photo7689/20221341549-0/original.jpeg"/>
          <p:cNvPicPr/>
          <p:nvPr/>
        </p:nvPicPr>
        <p:blipFill>
          <a:blip r:embed="rId1"/>
          <a:stretch/>
        </p:blipFill>
        <p:spPr>
          <a:xfrm>
            <a:off x="3708360" y="3716280"/>
            <a:ext cx="5259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ины вступления в группы:</a:t>
            </a:r>
            <a:br>
              <a:rPr sz="54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7120" y="1599840"/>
            <a:ext cx="8786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одиночество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непонимание родителей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стремление к защищенност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свобод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эмоциональная насыщ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общен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Объединение в группы - средство выхода внутренней активности, реализации потребностей самоидентификации, самоутвержд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50560" y="26028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енность отечественных молодежных субкультур  в том, что большинство из них ориентированы либо на проведение досуга, либо на передачу и распространение информаци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 Западе альтернативное движение, выросшее из молодежных субкультур 60-70 гг., активно участвует в социальных программах, помощи больным, инвалидам, престарелы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Picture 4" descr="https://dl.dropboxusercontent.com/s/iv5nn0zquvf4qv6/_MG_2033.jpg?dl=0"/>
          <p:cNvPicPr/>
          <p:nvPr/>
        </p:nvPicPr>
        <p:blipFill>
          <a:blip r:embed="rId1"/>
          <a:stretch/>
        </p:blipFill>
        <p:spPr>
          <a:xfrm>
            <a:off x="2754360" y="2852640"/>
            <a:ext cx="56134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280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сказывания о молодёж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9280" y="62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Я утратил всякие надежды относительно будущего нашей страны, если сегодняшняя молодёжь завтра возьмёт в руки бразды правления, ибо эта молодёжь невыносима, невыдержанна, просто ужасн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5" descr="http://mitracon.ru/uploads/posts/2014-11/1416227133_035.jpg"/>
          <p:cNvPicPr/>
          <p:nvPr/>
        </p:nvPicPr>
        <p:blipFill>
          <a:blip r:embed="rId1"/>
          <a:stretch/>
        </p:blipFill>
        <p:spPr>
          <a:xfrm>
            <a:off x="3348000" y="2781360"/>
            <a:ext cx="55879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сказывания о молодёж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7640" y="475920"/>
            <a:ext cx="67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Наш мир достиг критической стадии. Дети больше не слушают своих родителей. Видимо, конец мира уже не очень далёк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Эта молодёжь растленна до глубины души. Молодые люди злокозненны и нерадивы. Они никогда не будут походить на молодёжь былых времён. Молодое поколение сегодняшнего дня не сумеет сохранить нашу культур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Picture 11" descr="http://itd2.mycdn.me/image?id=837112632495&amp;t=20&amp;plc=WEB&amp;tkn=*XD9mJqNzrq4kVoaepRGc3UfzxlU"/>
          <p:cNvPicPr/>
          <p:nvPr/>
        </p:nvPicPr>
        <p:blipFill>
          <a:blip r:embed="rId1"/>
          <a:stretch/>
        </p:blipFill>
        <p:spPr>
          <a:xfrm>
            <a:off x="4067280" y="3573360"/>
            <a:ext cx="4570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вторы этих высказываний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се эти изречения о молодёжи, о безнадёжном будущем были встречены в парламенте аплодисментам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огда оратор раскрыл карты. Оказывается, первое изречение принадлежит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Сократ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второе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Гесиоду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третье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египетскому жрец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а четвёртое найдено в глиняном горшке в развалинах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Вавилона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а возраст горшка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3000 ле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ёжь как социальная групп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1600200"/>
            <a:ext cx="5651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Молодёжь –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социально-демографическая группа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деляемая на основе совокупности возрастных характеристик, особенностей социального положения и обусловленных тем и другим социально-психологических свойств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торые определяютс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щественным строем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ультурой, закономерностям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циализации, воспитания 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анном обществе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6" descr="https://okean.org/uploads/images/gallery/900/3ce5e03ddf8598689d70add2f609ee98.jpg"/>
          <p:cNvPicPr/>
          <p:nvPr/>
        </p:nvPicPr>
        <p:blipFill>
          <a:blip r:embed="rId1"/>
          <a:stretch/>
        </p:blipFill>
        <p:spPr>
          <a:xfrm>
            <a:off x="4716360" y="3780000"/>
            <a:ext cx="421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Молодежь – понятие, возникшее в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XX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 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ичины возникновения молодеж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кселерация (ускоренное физиологическое развитие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длинение периода учебы, отдаление сроков вступления в профессиональную жиз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зрастные границы молод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6-25 (30) л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тство           молодость            взросл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ежуточный (переходный) возрас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Стрелка вправо 5"/>
          <p:cNvSpPr/>
          <p:nvPr/>
        </p:nvSpPr>
        <p:spPr>
          <a:xfrm flipV="1">
            <a:off x="1857240" y="535716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7"/>
          <p:cNvSpPr/>
          <p:nvPr/>
        </p:nvSpPr>
        <p:spPr>
          <a:xfrm flipV="1">
            <a:off x="4929120" y="535716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725400" y="92160"/>
            <a:ext cx="8247240" cy="1334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50560" y="1413000"/>
            <a:ext cx="57718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еходность  полож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сокий уровень мобильн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воение новых социальных ролей, связанных с изменением статуса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ивный поиск своего места в жизн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лагоприятные перспективы в профессиональном и карьерном план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Picture 5" descr="http://www.kurkino-vmo.ru/wp-content/uploads/2017/06/4-1.jpg"/>
          <p:cNvPicPr/>
          <p:nvPr/>
        </p:nvPicPr>
        <p:blipFill>
          <a:blip r:embed="rId2"/>
          <a:stretch/>
        </p:blipFill>
        <p:spPr>
          <a:xfrm>
            <a:off x="5346720" y="364500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725400" y="92160"/>
            <a:ext cx="7967880" cy="133488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2" descr=""/>
          <p:cNvPicPr/>
          <p:nvPr/>
        </p:nvPicPr>
        <p:blipFill>
          <a:blip r:embed="rId2"/>
          <a:stretch/>
        </p:blipFill>
        <p:spPr>
          <a:xfrm>
            <a:off x="835200" y="1395360"/>
            <a:ext cx="7858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9:01Z</dcterms:created>
  <dc:creator>Галина Владимировна</dc:creator>
  <dc:description/>
  <dc:language>en-US</dc:language>
  <cp:lastModifiedBy>User</cp:lastModifiedBy>
  <dcterms:modified xsi:type="dcterms:W3CDTF">2019-06-09T16:32:35Z</dcterms:modified>
  <cp:revision>56</cp:revision>
  <dc:subject/>
  <dc:title>Социальное развитие и молодёжь</dc:title>
</cp:coreProperties>
</file>