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9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3CF-3080-4D77-9AB9-510029FA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0EB-8906-4871-A41F-8EA10A4F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075-B2A1-48C5-80F1-4587C3B9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C0B-6E04-4A53-904E-82D7F669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14D2-CCF0-4CC3-81EC-F9792C44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7B17-6DE9-41B7-9BBE-CC3E312F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78CC-32B2-42AC-8292-4E4465F5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4110-EE1D-4EC3-999B-46324D9A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92CD-5C1C-47F5-9D5C-8AA6806B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C5A2-69BF-4673-9718-7A741B1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DE9C-B8A9-4443-95DF-D7459DE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4BF-062D-483B-8D39-C54BC9B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F88-D7E6-47D9-ADBD-D8955C8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A01F-B9C7-461F-87BA-1EE96625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828-2388-49F7-B93E-7DC0A4E7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C816-D63C-47A3-8526-04C3B20D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9FCE-28CE-410C-A3DB-8BA5146E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1DA1-4392-425A-A6FF-6C91153C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C992-CB98-4D75-BED7-CFFECF5A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946A-2D73-430C-8D16-3574439B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9BBA8-C1F1-43C7-B769-7948931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DDCF-6395-4733-92F8-B52600BC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9AD-5CA5-4D47-874F-02E5F23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0D54-9354-41A9-9A9E-6CA84F7F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0BB5-D1B2-4473-AF75-213DDA3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F4D0-C8B9-4B07-978C-C597E61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079B-54E6-4BDB-B4FA-5EF9A9F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086F-1545-4263-A473-98CB6C8A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D6BD-0BF9-4F84-BBB2-AA1304DF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4A4D-B6C6-4D9A-87E1-04004C81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0894-2497-4E30-BF5C-91977915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DD55-55B6-4777-981B-159A044A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3EC0-5721-4865-939D-CC86B38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E3C-714C-468C-8F65-3359A1BA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BA1E-76F0-4C83-AA13-4DAC8AB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7202-6693-4CA9-85FE-ABDC36C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EE5B-79F6-4766-8D59-481CCA17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186E0-AB8E-45CB-97F3-7A8A881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4227-21E4-491C-8479-5F06B0F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6DE6-40C0-429F-993C-F8F7C11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E55F-E4F7-4912-A5D8-649E3EBF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B35BE-C5A5-4675-907B-1EC333DC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5564-0700-406E-BB74-4BE4A6B7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BBD3-C86B-4965-809D-4BAE7CD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EAF-1E0F-40C4-A0ED-8789C0FB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F0A13-0446-48F0-8152-BF6BB4B1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0AEF9-AAD5-42D4-985F-A7DBD5A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2881E-0143-44F1-8C44-7AE254EC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83321-F547-4484-98B3-01C73314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9AC0F-EF25-4190-8FF5-AB2D0821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62DD-E56E-4B45-871A-1023D06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957D-2501-46A0-870A-0C9E533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B09B-64F5-4008-A494-72CB3DD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5888-E009-44D7-83A6-A8079B4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81CD-A160-449D-B3EB-6AB21324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D11-123F-4CC9-9C6E-729D58AE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70F60-7DA8-48B6-B3C9-007D5F75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291-76E0-41CE-A22D-DB6EFEE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0B1-C094-46C8-906F-E9D8B05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044-A590-43F6-853B-DCB9613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C06-08B5-43EF-B9D6-4160680A5C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255-5BA3-4DC6-9B29-42ABC58EF7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8EF-1CBB-428F-A685-D2905EED7E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D5BF-4E31-4E36-9F6D-0B018EE796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37C-9811-4B63-8837-36B8050EB9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9640" y="3284640"/>
            <a:ext cx="8072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лодежь как социальная групп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ные социальные роли молодеж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оль молодежи в обществ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лодежная субкультур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ные направления молодежной политики Р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42472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Perpetua"/>
              </a:rPr>
              <a:t>  </a:t>
            </a:r>
            <a:br>
              <a:rPr sz="5900"/>
            </a:br>
            <a:r>
              <a:rPr b="1" lang="ru-RU" sz="5900" spc="-1" strike="noStrike">
                <a:solidFill>
                  <a:srgbClr val="ff0000"/>
                </a:solidFill>
                <a:latin typeface="Cambria"/>
              </a:rPr>
              <a:t>Молодежь в </a:t>
            </a:r>
            <a:r>
              <a:rPr b="1" lang="ru-RU" sz="5900" spc="-1" strike="noStrike">
                <a:solidFill>
                  <a:srgbClr val="ffffff"/>
                </a:solidFill>
                <a:latin typeface="Cambria"/>
              </a:rPr>
              <a:t>современном обществе </a:t>
            </a:r>
            <a:endParaRPr b="0" lang="en-US" sz="59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оль молодежи в обществ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воение новых профессий, новых отраслей производ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своение новых территориально-производственных комплексо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льтурно-интеллектуальная и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нформационная мобильность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Работник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Студент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Семьянин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Cambria"/>
              </a:rPr>
              <a:t>Гражданин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3357720" y="2000160"/>
            <a:ext cx="5452920" cy="40816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214200" y="3571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ые социальные роли молод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Трудности социализац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14200" y="128556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падение высокого уровня притязаний и низкого социального статуса молодых, который задан их возрастом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падение старого стиля родительства, ориентированного на то, что для матери сын или дочь всегда остаётся ребёнком, и новых потенциальных возможностей молодых, связанных с психофизиологическим повзрослением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иворечи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усилившейся ориентацией на самостоятельность и усилившейся зависимостью от мнения и поведения сверстников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гда заканчивается молодость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4200" y="1600200"/>
          <a:ext cx="8715600" cy="4054320"/>
        </p:xfrm>
        <a:graphic>
          <a:graphicData uri="http://schemas.openxmlformats.org/drawingml/2006/table">
            <a:tbl>
              <a:tblPr/>
              <a:tblGrid>
                <a:gridCol w="3159360"/>
                <a:gridCol w="2793960"/>
                <a:gridCol w="2762280"/>
              </a:tblGrid>
              <a:tr h="45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ритерии взросл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ци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аво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сих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езависимое проживание от род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амостоятельное обеспечение средствами суще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амостоятельное определение обра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Достижение полной дееспособ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оздание семьи, голосование на выборах, вся полнота правовой ответствен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отовность работать и отвечать за свои пост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сихологическая зрел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Box 4"/>
          <p:cNvSpPr/>
          <p:nvPr/>
        </p:nvSpPr>
        <p:spPr>
          <a:xfrm>
            <a:off x="357120" y="571500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антилизм – сохранение у взрослого человека физических и психических черт детск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ёжная субкультур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475920"/>
            <a:ext cx="7921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под молодежной субкультурой понимается культура определенного молодого поколения, обладающего 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общностью стиля жизни, поведения, групповых норм, ценностей и стереотипов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4" name="Picture 5" descr="https://avatars.mds.yandex.net/get-zen_doc/100325/pub_5a3b74594bf1616645690c1d_5a3b7620799d9d104d0aaa5c/scale_1200"/>
          <p:cNvPicPr/>
          <p:nvPr/>
        </p:nvPicPr>
        <p:blipFill>
          <a:blip r:embed="rId1"/>
          <a:stretch/>
        </p:blipFill>
        <p:spPr>
          <a:xfrm>
            <a:off x="1547640" y="2260440"/>
            <a:ext cx="5832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ерты молодежной субкультур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онконформизм, сознательное противопоставление культуре взрослых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ксперименты с собственной жизн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дикализм, культ си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воеобразные вкусы в одежде, музыке. Сленг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ультура досуга, а не работ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здание множества неформальных молодежных объединений, групп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ипология молодежных субкультур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2920" y="1143000"/>
            <a:ext cx="8858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группы – группы, с которыми молодой человек себя отождествля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тгруппы – группы, от которых молодой человек себя отделяет, ощущает свое отлич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специфике поведения членов группы выделяют: просоциальные; асоциальные; антисоциальны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Просоциальные – группы, которые не несут угрозу обществу, несут позитив и помогаю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Асоциальные – несут критику каким-либо устоям общества, но это противостояние не носит крайнего характер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 Антисоциальные – не только подвергают критике общественные порядки и устои, но и стремятся их сокруш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Толстых А.В. предложил следующую типологию молодежных субкультур: 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2560" y="135684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тизированны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активно участвуют в политической жизни и имеют четкую идеологическую принадлежность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о-этически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занимаются построением философских концепций и ведут борьбу за окружающую среду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радиционные религиозны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 основном это увлечение восточными религиями (буддизм, индуизм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икальные молодежные суб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тличаются организованностью, наличием лидеров старшего возраста, повышенной агрессивностью (криминальные молодежные группировки, скинхеды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бкультуры образа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группы молодых людей, формирующих свой образ жизнедеятельности (хиппи, панки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бкультуры по интереса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молодые люди, объединенные общностью интересов – музыкальных, спортивных и др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бкультура "золотой молодежи"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характерна для столичных городов – ориентирована на проведение досуга (одна из наиболее закрытых субкультур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642960" y="121428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С.А.Сергеев предлагает следующую типологию молодежных субкульту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омантико-эскапистские субкультуры (хиппи, индианисты, толкинисты, с известными оговорками - байке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гедонистическо-развлекательные (мажоры, рэйверы, рэпперы и т.п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иминальные ("гопники", "люберы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нархо-нигилистические (панки, экстремистские субкультуры "левого" и "правого" толка), которые можно также назвать радикально-деструктив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Мотивы участия молодых в неформальных объединениях и группировках.</a:t>
            </a:r>
            <a:br>
              <a:rPr sz="36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циальная потребность в общении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амоутверждении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стиж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тремление улучшить свою жиз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ыбор конкретной неформальной группы чаще является несвободным, ибо подросток обычно вынужден присоединяться к той группе, что доминирует на территории его проживания (социализации)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сказывания разных людей о молодёжи. 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4160" y="692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ша молодёжь любит роскошь, она дурно воспитана, она насмехается над начальством и нисколько не уважает стариков. Наши нынешние дети стали тиранами, они не встают, когда в комнату входит пожилой человек, перечат своим родителям. Попросту говоря, они очень плох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5" descr="https://mtdata.ru/u14/photo7689/20221341549-0/original.jpeg"/>
          <p:cNvPicPr/>
          <p:nvPr/>
        </p:nvPicPr>
        <p:blipFill>
          <a:blip r:embed="rId1"/>
          <a:stretch/>
        </p:blipFill>
        <p:spPr>
          <a:xfrm>
            <a:off x="3708360" y="3716280"/>
            <a:ext cx="5259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ичины вступления в группы:</a:t>
            </a:r>
            <a:br>
              <a:rPr sz="54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7120" y="1599840"/>
            <a:ext cx="8786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одиночество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непонимание родителей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стремление к защищенности;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свобод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эмоциональная насыщ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Cambria"/>
              </a:rPr>
              <a:t>общения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Объединение в группы - средство выхода внутренней активности, реализации потребностей самоидентификации, самоутвержд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50560" y="26028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енность отечественных молодежных субкультур  в том, что большинство из них ориентированы либо на проведение досуга, либо на передачу и распространение информаци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 Западе альтернативное движение, выросшее из молодежных субкультур 60-70 гг., активно участвует в социальных программах, помощи больным, инвалидам, престарелы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7" name="Picture 4" descr="https://dl.dropboxusercontent.com/s/iv5nn0zquvf4qv6/_MG_2033.jpg?dl=0"/>
          <p:cNvPicPr/>
          <p:nvPr/>
        </p:nvPicPr>
        <p:blipFill>
          <a:blip r:embed="rId1"/>
          <a:stretch/>
        </p:blipFill>
        <p:spPr>
          <a:xfrm>
            <a:off x="2754360" y="2852640"/>
            <a:ext cx="56134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280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сказывания о молодёж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9280" y="620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. Я утратил всякие надежды относительно будущего нашей страны, если сегодняшняя молодёжь завтра возьмёт в руки бразды правления, ибо эта молодёжь невыносима, невыдержанна, просто ужасн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Picture 5" descr="http://mitracon.ru/uploads/posts/2014-11/1416227133_035.jpg"/>
          <p:cNvPicPr/>
          <p:nvPr/>
        </p:nvPicPr>
        <p:blipFill>
          <a:blip r:embed="rId1"/>
          <a:stretch/>
        </p:blipFill>
        <p:spPr>
          <a:xfrm>
            <a:off x="3348000" y="2781360"/>
            <a:ext cx="55879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сказывания о молодёж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7640" y="475920"/>
            <a:ext cx="67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Наш мир достиг критической стадии. Дети больше не слушают своих родителей. Видимо, конец мира уже не очень далёк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Эта молодёжь растленна до глубины души. Молодые люди злокозненны и нерадивы. Они никогда не будут походить на молодёжь былых времён. Молодое поколение сегодняшнего дня не сумеет сохранить нашу культур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Picture 11" descr="http://itd2.mycdn.me/image?id=837112632495&amp;t=20&amp;plc=WEB&amp;tkn=*XD9mJqNzrq4kVoaepRGc3UfzxlU"/>
          <p:cNvPicPr/>
          <p:nvPr/>
        </p:nvPicPr>
        <p:blipFill>
          <a:blip r:embed="rId1"/>
          <a:stretch/>
        </p:blipFill>
        <p:spPr>
          <a:xfrm>
            <a:off x="4067280" y="3573360"/>
            <a:ext cx="4570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вторы этих высказываний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1599840"/>
            <a:ext cx="8472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се эти изречения о молодёжи, о безнадёжном будущем были встречены в парламенте аплодисментам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огда оратор раскрыл карты. Оказывается, первое изречение принадлежит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Сократу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второе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Гесиоду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третье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египетскому жрецу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а четвёртое найдено в глиняном горшке в развалинах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Вавилона,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а возраст горшка 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3000 лет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одёжь как социальная групп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1600200"/>
            <a:ext cx="5651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Молодёжь –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mbria"/>
              </a:rPr>
              <a:t>социально-демографическая группа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деляемая на основе совокупности возрастных характеристик, особенностей социального положения и обусловленных тем и другим социально-психологических свойств,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торые определяютс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щественным строем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ультурой, закономерностями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циализации, воспитания 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анном обществе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Picture 6" descr="https://okean.org/uploads/images/gallery/900/3ce5e03ddf8598689d70add2f609ee98.jpg"/>
          <p:cNvPicPr/>
          <p:nvPr/>
        </p:nvPicPr>
        <p:blipFill>
          <a:blip r:embed="rId1"/>
          <a:stretch/>
        </p:blipFill>
        <p:spPr>
          <a:xfrm>
            <a:off x="4716360" y="3780000"/>
            <a:ext cx="4213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Молодежь – понятие, возникшее в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XX</a:t>
            </a:r>
            <a:r>
              <a:rPr b="0" lang="ru-RU" sz="2600" spc="-1" strike="noStrike">
                <a:solidFill>
                  <a:srgbClr val="ff0000"/>
                </a:solidFill>
                <a:latin typeface="Cambria"/>
              </a:rPr>
              <a:t> 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ичины возникновения молодеж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кселерация (ускоренное физиологическое развитие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длинение периода учебы, отдаление сроков вступления в профессиональную жиз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зрастные границы молодост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6-25 (30) л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тство           молодость            взросл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межуточный (переходный) возрас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Стрелка вправо 5"/>
          <p:cNvSpPr/>
          <p:nvPr/>
        </p:nvSpPr>
        <p:spPr>
          <a:xfrm flipV="1">
            <a:off x="1857240" y="5357160"/>
            <a:ext cx="71460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7"/>
          <p:cNvSpPr/>
          <p:nvPr/>
        </p:nvSpPr>
        <p:spPr>
          <a:xfrm flipV="1">
            <a:off x="4929120" y="5357160"/>
            <a:ext cx="71460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725400" y="92160"/>
            <a:ext cx="8247240" cy="1334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50560" y="1413000"/>
            <a:ext cx="57718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еходность  положения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ысокий уровень мобильно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воение новых социальных ролей, связанных с изменением статуса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ктивный поиск своего места в жизн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лагоприятные перспективы в профессиональном и карьерном план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Picture 5" descr="http://www.kurkino-vmo.ru/wp-content/uploads/2017/06/4-1.jpg"/>
          <p:cNvPicPr/>
          <p:nvPr/>
        </p:nvPicPr>
        <p:blipFill>
          <a:blip r:embed="rId2"/>
          <a:stretch/>
        </p:blipFill>
        <p:spPr>
          <a:xfrm>
            <a:off x="5346720" y="364500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725400" y="92160"/>
            <a:ext cx="7967880" cy="1334880"/>
          </a:xfrm>
          <a:prstGeom prst="rect">
            <a:avLst/>
          </a:prstGeom>
          <a:ln w="0">
            <a:noFill/>
          </a:ln>
        </p:spPr>
      </p:pic>
      <p:pic>
        <p:nvPicPr>
          <p:cNvPr id="251" name="Содержимое 2" descr=""/>
          <p:cNvPicPr/>
          <p:nvPr/>
        </p:nvPicPr>
        <p:blipFill>
          <a:blip r:embed="rId2"/>
          <a:stretch/>
        </p:blipFill>
        <p:spPr>
          <a:xfrm>
            <a:off x="835200" y="1395360"/>
            <a:ext cx="7858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49:01Z</dcterms:created>
  <dc:creator>Галина Владимировна</dc:creator>
  <dc:description/>
  <dc:language>en-US</dc:language>
  <cp:lastModifiedBy>User</cp:lastModifiedBy>
  <dcterms:modified xsi:type="dcterms:W3CDTF">2019-06-09T16:32:35Z</dcterms:modified>
  <cp:revision>56</cp:revision>
  <dc:subject/>
  <dc:title>Социальное развитие и молодёжь</dc:title>
</cp:coreProperties>
</file>