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6E28-589F-4446-A9D5-91001BA08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0327-93C1-4DA0-A6C7-BC9422FD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DAA38-3108-4D16-942B-ED76A8B1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FD5819-0759-407E-A915-8B518283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B97C6-44D8-4586-A6A7-137F4BAD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A3F0A-6215-4A14-8AD0-F254FD92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FE091-4E40-4498-8B58-259CFE82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BB973-294C-43F4-9F2B-C86B5416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CA740C-A648-4316-A32E-4646D22D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3F634-811E-4B99-8A1C-6C20E3901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368BA9-FC48-4C52-91F2-D6FFEEAA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B7A88-56F9-4837-ADF2-E034FE983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DC0D-9272-42E0-84A6-1B183CE3A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1C9A2B-BD6D-471F-A770-BCAB3CA3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E4F97F-22B5-457C-A0EE-E71FA7B2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70AB2A-F548-4425-B41C-2319907A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FAD632-EBFD-4312-A064-ADC60235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49F29B-13AE-4AF5-931C-E41C2649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269AA-B1A8-44F3-A65E-0C128C5D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592F3-6E9C-4BE4-8B6C-87B48B1C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3E52F9-BC0C-4376-8BA7-0C9C9377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FBB3CA-DACE-408B-92E4-62985C3D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5056D-5167-4412-BC4B-7557983EA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98AB-F80E-46CD-B6B8-03326EEED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D8109-C266-40F6-B44C-38AA20426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2E88E-B465-4978-8FC1-567F79B3C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D61C54-6532-4578-91AC-4B42F486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AE1D8-6969-4323-AFF5-5EE55926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0257D-95E2-4A8E-94CF-32A25112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1BCBC-7D12-4F46-A1C7-17C026C6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B14923-3823-41F2-A32D-017614CC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73906-9818-4922-A921-BEC3AF8B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0DE58-93DC-4CF0-AA86-FE235A05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B56DC-DA1A-46C1-BF37-2AE53457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9EAA-26AD-47C5-A692-EC7B5BD6B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9FF74-C349-48EB-9307-2D2FC620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E6EE8-9C07-4240-9F4E-3ED2F7E95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F0139-6E47-44E2-B4DA-70BB723AE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6A02D5-621C-482A-AD70-8608975E7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8D185C-8542-4E9A-B40F-1AEA65AE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96678E-E285-4EE5-ACEE-E5B18123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A65688-24EB-4FBE-85AE-E9E3B8FE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E228E9-A449-4665-A60F-AF7F0C9F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05EAC5-E8C3-4BD8-A26D-3C12BE29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BCEB0C-4E68-48A1-AEA1-30855847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1D9F-9248-42C3-8798-69A19F5B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9D9901-9D40-4AF6-9D59-7B3F4EB4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5BBF6E-E63F-4631-A578-AEDA2961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3DBC88-BF7A-4486-812C-2715DBD2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41FD0B-5A21-4C02-ABA2-9A5AF341B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FDD1D5-6B6D-4FC5-BC0B-6515C3CEE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21537F-5449-4D2C-9B67-6BD459E4C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C1BB34-A8B2-45F6-B3DE-C417D686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62D5BD-C6CB-42B6-B929-49498D56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09994E-341D-49BA-B75B-0C4A99C5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36A873-465D-4A5D-B2D3-90435D8A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A098-35DA-40AA-B9AA-FD348107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4D6D11-034F-4A7B-92B1-F381E310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31AFF2-00D2-49F5-A581-7E1320DA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3BF142-0F4D-4175-A11A-97552B5F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F3A049-8A9E-4127-81DF-0D4EF9F4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F92574-98A3-4D49-B091-5DC24158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4FAE34-FDD4-4019-8858-887380322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FBF421-7EFC-4266-9E40-7CB1F4B20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26F097-2789-4D46-98CD-875BFF21B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DFEA98-89E7-4FBA-B4CE-16162506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C0DFDA-30A0-487D-9036-B9F01289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5A59-1D82-42AF-9AA1-1AF50360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1BFDB5-14E2-4432-8598-324F4E07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5B299C-37AF-4981-BD13-344CE5CA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2C0242-BF7F-4794-B25D-8192F0F6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0B9100-6259-4D7A-9C4A-7AA3195F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F72099-8282-4919-92DF-724D6ADB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672D0C-C373-4D99-8F00-0FAE3757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96E294-9CE7-4D7A-9985-766C3805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64FB58-2FA5-445D-9ACD-EF23F30B1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D03070-37E8-4CE3-A4E4-F284C2751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F42970-66E7-4866-BFEA-F92F4AA04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ED50-63A0-4639-9BCF-65B55196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D210B5-4A18-4F11-A40C-850A6FC4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AF2EA8-B4A7-45FC-94D0-11245710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9EAECC-4001-41D1-811A-D2B61D89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B61BF2-E3BF-45DC-9F2E-4715BAC7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E58B65-48D9-4C0C-A159-F3157C6A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BB99CF-BD2D-43D5-88E8-7C80A28F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29F0EE-AAF6-476E-8187-377BDD1F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C750B8-8ABA-4788-BF0B-25594392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600468-9B0E-4378-BBA5-BCF7CFF6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BDE8F2-73DE-42C1-A27F-4A34DF9F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A51E-40EE-44C1-BDBE-E196F00B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81F38E-3E40-4ED6-BE38-2197ADEA2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C7FB4A-4847-48F4-A0AE-3786CF85B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042498-B3AB-4EEE-B6AE-9CD7F67B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12C6DE-0860-4B74-969F-88BC96B7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46789F-F290-42C5-8655-89E28AC0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F7DE8B-DE70-47C0-814B-62C7EA66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E8B8BD-7101-4329-9974-1A5BF398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9D7449-EEB4-49C6-A7CD-7B01AE8A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50BD80-E995-4ABE-9562-8B8DA740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BD9C84-7861-440C-BD33-7B691B96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D0DA-B01F-41AA-93D9-C7AE3953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3BE578-A77B-44EE-B6E1-0B438802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F122F1-B92E-492B-A7A5-0A897123D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5FE789-7872-4389-8A20-001194382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D43D58-1A21-4C73-B04B-ECB4FF977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D42A9C-31A4-41A2-800E-0E7C846B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EF4D00-78CE-4A49-8E57-D06FE8AB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D246A5-B74C-4B45-9036-52555254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DA5FB2-9BF1-415B-BC7F-DECF8198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DA6BBB-F0B5-4274-A39B-267CED49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04B930-39F5-437B-880C-48820077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DE09-A0AF-44F5-A3D9-D0B7B035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B82B-4095-4A84-BF57-900C03D0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6440DE-CA3B-4963-AEE7-3A1CFE77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99AB55-815E-49BF-9895-9CEBCEFE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5B7631-B331-43B4-9FCF-C2BA0DE6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6CA91E-65B5-4393-90C0-65FC30772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CBA87A-2057-416A-9EF2-CC69E3380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5ADB-C914-4A30-8951-FB04D672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F8EA-3B22-4A73-B276-1F471E87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9C35-4B5E-416B-A22B-53FA0A6BA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8CE6-65DC-4585-AAFC-129975D44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0202B-A3AC-4D7F-9798-A638564FD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7A5D7-92B8-48D3-88BF-3A3BE0F6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262D4-73E5-412F-8313-0147F6DE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C3779-E8B3-426D-8DA4-2DDE1679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7527F-E148-47C4-B477-1D5431DE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0429-0B9B-4450-B8A4-882C8CD4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92C85-1710-430F-9AA0-4E32F5CB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A6463-8059-4E45-8766-9C965D35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3209D-2414-4C86-B5EC-4C844A6A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827C0-3FEA-4B52-8092-F02F94A2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5491A-3973-46C8-99CF-E9AF0D0D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D68FB-86EA-4F5A-A612-C9B780AE5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1613C-AEF9-4B4B-A633-7EAE9790A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81AD0-81D6-4854-AE63-527934C76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8B0D5-0A07-4662-92DA-FF0F29BA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E493D-22FD-4610-B129-80CFFF88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D08F-45A8-47A1-9441-00238283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88D91-2ABB-431C-9F33-A308857C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BEF7D-E656-4C6D-99D9-7C888ACB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ABDE3-767D-46C0-B0FA-5A4136E4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E59AF-5114-40B6-81B6-7D6EAEED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1817C-322A-4F90-A23F-55DEEC67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7E0FC-6521-4339-91B2-C39E81DB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2B491-E5DD-423B-8B67-1355239E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DAABA-39FB-46A9-AF3E-0E89EB8F6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8EE83-DE22-4DDA-8578-86E31D2B8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2E9D4-0146-4A95-8462-45685DCF8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78A8-3C52-4BC6-9ECD-35AA28AF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5E949-49BD-432B-81B0-674E447E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A4E01-B8AE-4862-8D97-1287906C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CCC1B-318E-4C0B-9087-2695A9CC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FCE52-D8D2-4385-A086-2AB00FA5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CC5BC-7B59-4C6F-9AA6-CD0AA4B9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F873C-DEBB-4D60-A380-50488412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0630D-2A48-49F3-A776-9E0BCD6D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A32FC-005E-4473-9F19-C5FCC59E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C880D-D23C-43DB-B0EF-7E503630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D807F-2BCC-40D6-9A1B-F1DC7995C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E2FC-51D7-40FF-B54F-C662F39F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02A0A-2714-41FF-96C4-C882D64B1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ED3B3-14A4-4ED8-87E4-B5409A0A8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C2016-AE5D-4934-9EFE-7A625793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A207B-5F08-4E78-B800-AE6704B8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22251-EDB8-49CE-8D95-F1AF4FA6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507F5-3F28-45B9-9082-904639F6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F88E6-EA06-42BE-A308-44A657C7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9EDD4-A960-4EBF-8D82-90FCBAE4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71D7E-EE10-49A2-9058-04E4475E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10009-0985-439A-9D8C-5BD22240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9736-9D59-4E00-9106-A8C302B0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19EC7-0165-4720-B2F3-D9C60A16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1A3FF-DCD5-4A82-89E4-E779C1C88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FCAEF-2193-4541-B9D1-9BB4F1907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AF9EE-858F-419F-BD4B-2B4AB632B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BEE81-6975-4396-AFD7-2F352AE1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5C978-1338-4ED6-9E23-43D053E7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35080-EF31-4567-A950-D3704E7A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A5794-97A1-4F3A-91A1-50EB036D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231F8-9473-4399-B7C8-580BA5C7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A2A83-5A5E-4DFA-81EE-3D6F62EA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1C74-1DB6-4288-A1F5-8E72F11A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EB010-D46C-4D4E-95D8-4EBF7D8F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D5151-7A02-437B-90E5-54B17634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D69F8-A1A8-480D-913A-3D2D3CEF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9233A-F060-424E-8870-290194201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60869-4712-4343-9C85-9B935F9A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B4C32-D702-47C7-AE9A-7E9C5166E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DF87F-8289-4306-B8D2-BD268688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C2CD8-6480-4423-A27A-BB6844CB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6052B-6534-42A9-9264-C97DA3EF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D0556-9977-491E-A02D-AFE4995C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B4F0-056F-4740-BD2F-C0734729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C8D3F-2657-4AF3-819A-B2BB49B5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ADA0D-B6E0-4B69-89B1-FA52804E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177C6-6467-4023-8CE7-3880971F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1E840-F0AD-4DE9-B89D-21B96651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823AE-63E5-4947-B5F1-C3D18F20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77A69-949C-452F-987A-C07C9A95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82E92-C12D-4EC0-BEE0-602ADAD76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BA718-8731-4FE9-915F-409F8FC67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9D53A0-F371-41EB-BEF7-31B421F8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C4AEC-B810-4869-A7CF-48FA324F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EC2E-B0B4-4E02-BB8A-A88E350B857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D86F-37A5-43EF-B0EC-90D7CDB2B8F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>
              <a:gd name="textAreaLeft" fmla="*/ 0 w 1359000"/>
              <a:gd name="textAreaRight" fmla="*/ 1359360 w 1359000"/>
              <a:gd name="textAreaTop" fmla="*/ 360 h 508320"/>
              <a:gd name="textAreaBottom" fmla="*/ 509040 h 50832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240F-941B-41B0-8237-867A445ECCD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>
              <a:gd name="textAreaLeft" fmla="*/ 0 w 1359000"/>
              <a:gd name="textAreaRight" fmla="*/ 1359360 w 1359000"/>
              <a:gd name="textAreaTop" fmla="*/ 360 h 508320"/>
              <a:gd name="textAreaBottom" fmla="*/ 509040 h 50832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C398-46D1-42AA-A309-E76FC9307A7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3B30-614E-49A6-8ABB-48867614DA9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C061-9B37-4ACA-B1AE-0F3550319DC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FD00-F6D4-4D5B-AFE2-994D1B76839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9CA2-B4BD-4E45-BA25-B5718A91546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5094-6D4B-4B10-8A97-B0209732917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>
              <a:gd name="textAreaLeft" fmla="*/ 0 w 1395360"/>
              <a:gd name="textAreaRight" fmla="*/ 1395720 w 139536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A03A-AA35-4FC4-AC96-AD4364B8A62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C505-AB61-4349-BC0D-4DD067017BC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>
              <a:gd name="textAreaLeft" fmla="*/ 0 w 1359000"/>
              <a:gd name="textAreaRight" fmla="*/ 1359360 w 1359000"/>
              <a:gd name="textAreaTop" fmla="*/ 360 h 508320"/>
              <a:gd name="textAreaBottom" fmla="*/ 509040 h 50832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0F09-1CFD-43B2-BEFD-138E1CDCE1C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56BD-EE29-43F0-8B12-0E6C2240AEA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A4AD-2583-46AE-B56B-B86E19B1893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5142-2B74-4582-94F2-AC88DE54AFA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13EE-D960-42E9-AFB6-95AE74ED039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2CDD-B528-40CE-B140-FD825107BB5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340760" cy="34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920000"/>
                </a:solidFill>
                <a:latin typeface="Century Gothic"/>
              </a:rPr>
              <a:t>Перестройка в СССР</a:t>
            </a:r>
            <a:endParaRPr b="0" lang="en-US" sz="5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837720" y="2410920"/>
            <a:ext cx="7162920" cy="38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64"/>
                </a:solidFill>
                <a:latin typeface="Century Gothic"/>
              </a:rPr>
              <a:t>1985-1991гг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20000"/>
                </a:solidFill>
                <a:latin typeface="Century Gothic"/>
              </a:rPr>
              <a:t>Итоги: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304560" y="1828800"/>
            <a:ext cx="8762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Легализация «теневой экономики»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Начало товарного голода и всеобщего талонирования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оявление инфляции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Рост денег на сберкнижках, не обеспечен-ных товарами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оциальная напряженность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20000"/>
                </a:solidFill>
                <a:latin typeface="Century Gothic"/>
              </a:rPr>
              <a:t>III </a:t>
            </a:r>
            <a:r>
              <a:rPr b="1" lang="ru-RU" sz="3600" spc="-1" strike="noStrike">
                <a:solidFill>
                  <a:srgbClr val="920000"/>
                </a:solidFill>
                <a:latin typeface="Century Gothic"/>
              </a:rPr>
              <a:t>этап 1989-1991гг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456840" y="20570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entury Gothic"/>
              </a:rPr>
              <a:t>Цель: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Курс на переход к регулируемому рынку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20000"/>
                </a:solidFill>
                <a:latin typeface="Century Gothic"/>
              </a:rPr>
              <a:t>Мероприятия: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64"/>
                </a:solidFill>
                <a:latin typeface="Century Gothic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рограмма «500 дней» Шаталина-Явлинского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64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ровести в сжатый срок поэтапную кардинальную приватизацию с ориентацией на прямой переход к свободным рыночным ценам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64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ущественно ограничить экономическую власть центра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500"/>
            </a:br>
            <a:r>
              <a:rPr b="1" lang="ru-RU" sz="2500" spc="-1" strike="noStrike">
                <a:solidFill>
                  <a:srgbClr val="920000"/>
                </a:solidFill>
                <a:latin typeface="Century Gothic"/>
              </a:rPr>
              <a:t>2. «Основные направления по стабилизации народного хозяйства и перехода к рыночной экономике»</a:t>
            </a:r>
            <a:br>
              <a:rPr sz="2500"/>
            </a:b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457200" y="297180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остепенная демонополизация, децентрализация и приватизация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тказ от программы «500 дней»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бмен 50-100 рублевых купюр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20000"/>
                </a:solidFill>
                <a:latin typeface="Century Gothic"/>
              </a:rPr>
              <a:t>Итоги: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Начало абсолютного спада промышленного производства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 1990 году национальный доход сократился на 4 %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Инфляция к концу 1991 г. достигла 25% в неделю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Бюджетный дефицит составлял 200 млрд. рублей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Нормированное распределение товаров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920000"/>
                </a:solidFill>
                <a:latin typeface="Century Gothic"/>
              </a:rPr>
              <a:t>Причины неудач экономических реформ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Непоследовательность и промедление в осуществлении реформы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Многие правильные законы, принятые «наверху», выхолащивались бюрократами на местах.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Механизм и сроки реализации мероприятий были намечены приблизительно и неконкретно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Не проработали вопросы реформирования кредитной и ценовой политики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Психологическая неподготовленность большинства руководителей к переходу к рынку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8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920000"/>
                </a:solidFill>
                <a:latin typeface="Century Gothic"/>
              </a:rPr>
              <a:t>Этапы политической реформы в СССР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920000"/>
                </a:solidFill>
                <a:latin typeface="Century Gothic"/>
              </a:rPr>
              <a:t>(1988—1991)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920000"/>
                </a:solidFill>
                <a:latin typeface="Century Gothic"/>
              </a:rPr>
              <a:t>I </a:t>
            </a:r>
            <a:r>
              <a:rPr b="1" lang="ru-RU" sz="3200" spc="-1" strike="noStrike">
                <a:solidFill>
                  <a:srgbClr val="920000"/>
                </a:solidFill>
                <a:latin typeface="Century Gothic"/>
              </a:rPr>
              <a:t>этап - «кадровая революция»</a:t>
            </a:r>
            <a:r>
              <a:rPr b="0" lang="ru-RU" sz="3200" spc="-1" strike="noStrike">
                <a:solidFill>
                  <a:srgbClr val="262626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entury Gothic"/>
              </a:rPr>
              <a:t>Цели: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овершенствование общества и выправление «отдельных деформаций» социализма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920000"/>
                </a:solidFill>
                <a:latin typeface="Century Gothic"/>
              </a:rPr>
              <a:t>Мероприятия: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152280" y="14479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Gothic"/>
              </a:rPr>
              <a:t>Январь 1987 г.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одбор кадров на основании главного критерия - поддержка целей и идей перестройки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64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моложение кадров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64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усиление местных руководителей, критика консерваторов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64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водились альтернативные выборы партийных секретарей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64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ткрытое голосование заменялось тайным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920000"/>
                </a:solidFill>
                <a:latin typeface="Century Gothic"/>
              </a:rPr>
              <a:t>II </a:t>
            </a:r>
            <a:r>
              <a:rPr b="1" lang="ru-RU" sz="4000" spc="-1" strike="noStrike">
                <a:solidFill>
                  <a:srgbClr val="920000"/>
                </a:solidFill>
                <a:latin typeface="Century Gothic"/>
              </a:rPr>
              <a:t>этап 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Начало осуществления реформы политической системы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ровозглашение целью реформы соединения социалистических ценностей с элементами либерализма.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85440" y="774720"/>
            <a:ext cx="7340760" cy="163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700" spc="-1" strike="noStrike">
                <a:solidFill>
                  <a:srgbClr val="920000"/>
                </a:solidFill>
                <a:latin typeface="Century Gothic"/>
              </a:rPr>
              <a:t>Реформы в экономике</a:t>
            </a:r>
            <a:endParaRPr b="0" lang="en-US" sz="4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64"/>
                </a:solidFill>
                <a:latin typeface="Century Gothic"/>
              </a:rPr>
              <a:t>1985-1991гг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20000"/>
                </a:solidFill>
                <a:latin typeface="Century Gothic"/>
              </a:rPr>
              <a:t>Мероприятия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151920" y="1447560"/>
            <a:ext cx="89917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Лето 1988 г. -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XIX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сесоюзная партийная конференция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Итоги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Курс на построение «социалистического правового государства»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Утверждение принципа разделения властей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Формирование «советского парламентаризма»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Учреждение Съезда народных депутатов СССР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ревращение Верховного Совета СССР в постоянно действующий парламент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20000"/>
                </a:solidFill>
                <a:latin typeface="Century Gothic"/>
              </a:rPr>
              <a:t>Политические события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1989г. Выборы и первые Съезды народных депутатов СССР. Политизация и радикализация общественного сознания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1990г.«Парад суверенитетов». Учреждение поста Президента СССР. Нарастание противоречий между законодательной и исполнительной властью. Начало ликвидации монополии КПСС на власть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1991г. Попытки подписания нового Союзного договора. Ослабление позиций консерваторов. ГКЧП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920000"/>
                </a:solidFill>
                <a:latin typeface="Century Gothic"/>
              </a:rPr>
              <a:t>ПРЕДПОСЫЛКИ РАСПАДА СССР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0" name=""/>
          <p:cNvSpPr txBox="1"/>
          <p:nvPr/>
        </p:nvSpPr>
        <p:spPr>
          <a:xfrm>
            <a:off x="380520" y="1523880"/>
            <a:ext cx="85345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Зарождение национального и регионального экономического изоляционизма вследствие неэффективности советской экономической системы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Ликвидация тоталитарной системы и монополии КПСС на власть, которые составляли каркас СССР и как обручем стягивали союзные республики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Борьба за власть между центральными и национально-региональными элитами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тсутствие разумного баланса в полномочиях центра и национальных республик. Диктат центральной власти в отношении национально-государственных образований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848720" cy="94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20000"/>
                </a:solidFill>
                <a:latin typeface="Century Gothic"/>
              </a:rPr>
              <a:t>ОБОСТРЕНИЕ МЕЖНАЦИОНАЛЬНЫХ ОТНОШЕНИЙ В ПЕРИОД ПЕРЕСТРОЙКИ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Rectangle 4"/>
          <p:cNvSpPr/>
          <p:nvPr/>
        </p:nvSpPr>
        <p:spPr>
          <a:xfrm>
            <a:off x="531720" y="1677960"/>
            <a:ext cx="3048120" cy="1065240"/>
          </a:xfrm>
          <a:prstGeom prst="rect">
            <a:avLst/>
          </a:prstGeom>
          <a:solidFill>
            <a:srgbClr val="a53010"/>
          </a:solidFill>
          <a:ln w="25560">
            <a:solidFill>
              <a:srgbClr val="0000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4"/>
                </a:solidFill>
                <a:latin typeface="Arial"/>
              </a:rPr>
              <a:t>Экономический кризис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4"/>
                </a:solidFill>
                <a:latin typeface="Arial"/>
              </a:rPr>
              <a:t>охвативший все отрасл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4"/>
                </a:solidFill>
                <a:latin typeface="Arial"/>
              </a:rPr>
              <a:t>народного хозяйст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Rectangle 5"/>
          <p:cNvSpPr/>
          <p:nvPr/>
        </p:nvSpPr>
        <p:spPr>
          <a:xfrm>
            <a:off x="5257800" y="1676520"/>
            <a:ext cx="3429000" cy="1066680"/>
          </a:xfrm>
          <a:prstGeom prst="rect">
            <a:avLst/>
          </a:prstGeom>
          <a:solidFill>
            <a:srgbClr val="a53010"/>
          </a:solidFill>
          <a:ln w="25560">
            <a:solidFill>
              <a:srgbClr val="0000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4"/>
                </a:solidFill>
                <a:latin typeface="Arial"/>
              </a:rPr>
              <a:t>Непоследователь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4"/>
                </a:solidFill>
                <a:latin typeface="Arial"/>
              </a:rPr>
              <a:t>и противоречив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4"/>
                </a:solidFill>
                <a:latin typeface="Arial"/>
              </a:rPr>
              <a:t>национальной полити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Rectangle 6"/>
          <p:cNvSpPr/>
          <p:nvPr/>
        </p:nvSpPr>
        <p:spPr>
          <a:xfrm>
            <a:off x="3048120" y="3581280"/>
            <a:ext cx="2666880" cy="1143000"/>
          </a:xfrm>
          <a:prstGeom prst="rect">
            <a:avLst/>
          </a:prstGeom>
          <a:solidFill>
            <a:srgbClr val="a53010"/>
          </a:solidFill>
          <a:ln w="25560">
            <a:solidFill>
              <a:srgbClr val="0000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4"/>
                </a:solidFill>
                <a:latin typeface="Arial"/>
              </a:rPr>
              <a:t>Углубл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4"/>
                </a:solidFill>
                <a:latin typeface="Arial"/>
              </a:rPr>
              <a:t>межнациональ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4"/>
                </a:solidFill>
                <a:latin typeface="Arial"/>
              </a:rPr>
              <a:t>противореч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5" name="Rectangle 7"/>
          <p:cNvSpPr/>
          <p:nvPr/>
        </p:nvSpPr>
        <p:spPr>
          <a:xfrm>
            <a:off x="1447920" y="5410080"/>
            <a:ext cx="6019560" cy="1143000"/>
          </a:xfrm>
          <a:prstGeom prst="rect">
            <a:avLst/>
          </a:prstGeom>
          <a:solidFill>
            <a:srgbClr val="a53010"/>
          </a:solidFill>
          <a:ln w="25560">
            <a:solidFill>
              <a:srgbClr val="0000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4"/>
                </a:solidFill>
                <a:latin typeface="Arial"/>
              </a:rPr>
              <a:t>В условиях развития гласности и демократ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4"/>
                </a:solidFill>
                <a:latin typeface="Arial"/>
              </a:rPr>
              <a:t>они приводят к открытым национальны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4"/>
                </a:solidFill>
                <a:latin typeface="Arial"/>
              </a:rPr>
              <a:t>конфликта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6" name="Line 8"/>
          <p:cNvSpPr/>
          <p:nvPr/>
        </p:nvSpPr>
        <p:spPr>
          <a:xfrm>
            <a:off x="1828800" y="2743200"/>
            <a:ext cx="2286000" cy="762120"/>
          </a:xfrm>
          <a:prstGeom prst="line">
            <a:avLst/>
          </a:prstGeom>
          <a:ln w="25560">
            <a:solidFill>
              <a:srgbClr val="0000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7" name="Line 9"/>
          <p:cNvSpPr/>
          <p:nvPr/>
        </p:nvSpPr>
        <p:spPr>
          <a:xfrm flipH="1">
            <a:off x="4647960" y="2743200"/>
            <a:ext cx="2514600" cy="762120"/>
          </a:xfrm>
          <a:prstGeom prst="line">
            <a:avLst/>
          </a:prstGeom>
          <a:ln w="25560">
            <a:solidFill>
              <a:srgbClr val="0000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8" name="Line 10"/>
          <p:cNvSpPr/>
          <p:nvPr/>
        </p:nvSpPr>
        <p:spPr>
          <a:xfrm>
            <a:off x="4419720" y="4800600"/>
            <a:ext cx="0" cy="533520"/>
          </a:xfrm>
          <a:prstGeom prst="line">
            <a:avLst/>
          </a:prstGeom>
          <a:ln w="25560">
            <a:solidFill>
              <a:srgbClr val="0000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920000"/>
                </a:solidFill>
                <a:latin typeface="Century Gothic"/>
              </a:rPr>
              <a:t>Национальные конфликты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151920" y="1447920"/>
            <a:ext cx="89917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Митинги и демонстрации в Алма-Ате (Казахстан) против русификации (1986 г.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Карабахская проблема, конфликт между Арменией и Азербайджаном с 1988 г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олнения в Узбекистане между турками-месхетинцами и узбеками (1989 г.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оздание Народных фронтов в союзных республиках, превратившихся в центры сепаратистских движений (с 1988 г.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Межэтнические столкновения в Киргизии (1989 г.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ооруженные столкновения в Абхазии (с 1989 г.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20000"/>
                </a:solidFill>
                <a:latin typeface="Century Gothic"/>
              </a:rPr>
              <a:t>«Новое мышление» </a:t>
            </a:r>
            <a:br>
              <a:rPr sz="3600"/>
            </a:br>
            <a:r>
              <a:rPr b="1" lang="ru-RU" sz="3600" spc="-1" strike="noStrike">
                <a:solidFill>
                  <a:srgbClr val="920000"/>
                </a:solidFill>
                <a:latin typeface="Century Gothic"/>
              </a:rPr>
              <a:t>во внешней политике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900" spc="-1" strike="noStrike">
                <a:solidFill>
                  <a:srgbClr val="920000"/>
                </a:solidFill>
                <a:latin typeface="Century Gothic"/>
              </a:rPr>
              <a:t>Проблема</a:t>
            </a:r>
            <a:r>
              <a:rPr b="1" lang="ru-RU" sz="2900" spc="-1" strike="noStrike">
                <a:solidFill>
                  <a:srgbClr val="920000"/>
                </a:solidFill>
                <a:latin typeface="Century Gothic"/>
              </a:rPr>
              <a:t> 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64"/>
                </a:solidFill>
                <a:latin typeface="Century Gothic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нешняя политика М.С, Горбачева оценивалась и оценивается крайне неоднозначно.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дна из точек зрения «новое политическое мышление» привело к фактической капитуляции перед Западом, к поражению в холодной войне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ротивоположная позиция - Горбачев начал процесс, позволивший в конечном счете всему миру избавиться от угрозы ядерной катастрофы, а России - занять достойное место в системе цивилизованных международных отношений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Какие аргументы можно привести в пользу той и другой позиции?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Какие еще оценки можно высказать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371600" y="560160"/>
            <a:ext cx="7772400" cy="8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500" spc="-1" strike="noStrike">
                <a:solidFill>
                  <a:srgbClr val="920000"/>
                </a:solidFill>
                <a:latin typeface="Century Gothic"/>
              </a:rPr>
              <a:t>Внешнеполитическая ситуация начала 80-х гг.</a:t>
            </a:r>
            <a:br>
              <a:rPr sz="2500"/>
            </a:b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228240" y="167652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64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«Два мира - две системы» (СССР - США, ОВД - НАТО), борьба за сферы влияния в глобальном масштабе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Гонка стратегических и обычных вооружений, изматывающая СССР, американская программа СОЙ с участием НАТО и Японии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Война в Афганистане, присутствие СССР в «горячих точках» планеты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Неблагоприятная для СССР внешнеполитическая ситуация (падение цен на нефть, технологическая блокада, рост внешнего долга и продовольственная зависимость)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Рост напряженности в странах «социалистического содружества» при реализации доктрины «ограниченного суверенитета»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оявление новых центров силы (Западная Европа, Япония, страны Юго-Восточной Азии, новая роль Китая)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920000"/>
                </a:solidFill>
                <a:latin typeface="Century Gothic"/>
              </a:rPr>
              <a:t>Основные принципы нового политического мышления</a:t>
            </a:r>
            <a:r>
              <a:rPr b="0" lang="ru-RU" sz="4000" spc="-1" strike="noStrike">
                <a:solidFill>
                  <a:srgbClr val="262626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7" name=""/>
          <p:cNvSpPr txBox="1"/>
          <p:nvPr/>
        </p:nvSpPr>
        <p:spPr>
          <a:xfrm>
            <a:off x="456840" y="1569600"/>
            <a:ext cx="853452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ризнание оружия массового поражения непригодным инструментом в решении внешнеполитических задач, создающим опасность для существования всего человечества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ровозглашение приоритета общечеловеческих интересов над классовыми или национальными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бщая задачей всех государств — решение глобальных проблем (в частности проблем экологии, экономического положения стран «третьего мира» и т.п.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ротивостояние СССР и США должны уйти в прошлое; все разногласия могут быть разрешены на основе взаимных уступок и компромиссов, опирающихся на нормы Международного права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920000"/>
                </a:solidFill>
                <a:latin typeface="Century Gothic"/>
              </a:rPr>
              <a:t>Основные события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151920" y="159984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1987 - соглашение о ликвидации ракет средней и малой дальности в Европе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1988 - 1991 — кризис и распад ОВД, СЭВ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1989 - вывод советских войск из Афганистана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1990 - объединение ФРГ и ГДР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1991 - заключение договора о сокращении стратегических наступательных вооружений (СНВ-1)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1991 – «Буря в пустыне» - военная операция США в Ираке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5"/>
          <p:cNvSpPr/>
          <p:nvPr/>
        </p:nvSpPr>
        <p:spPr>
          <a:xfrm>
            <a:off x="380880" y="1447920"/>
            <a:ext cx="84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стройка началась в обстановке всеобщей эйфории, ожидания быстрых перемен во всех сферах жизн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вершилась же она гибелью огромного евразийского государств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никает вопрос: а надо ли было затевать столь рискованный социальный эксперимент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ыл ли он объективно необходимым, предопределен предшествующим развитие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1" name="Rectangle 6"/>
          <p:cNvSpPr/>
          <p:nvPr/>
        </p:nvSpPr>
        <p:spPr>
          <a:xfrm>
            <a:off x="685800" y="609480"/>
            <a:ext cx="734076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920000"/>
                </a:solidFill>
                <a:latin typeface="Garamond"/>
              </a:rPr>
              <a:t>Проблема</a:t>
            </a:r>
            <a:endParaRPr b="0" lang="en-US" sz="5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219320" y="807840"/>
            <a:ext cx="73152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300" spc="-1" strike="noStrike">
                <a:solidFill>
                  <a:srgbClr val="920000"/>
                </a:solidFill>
                <a:latin typeface="Century Gothic"/>
              </a:rPr>
              <a:t>ПРОТИВОРЕЧИВЫЙ ХАРАКТЕР ИТОГОВ ПЕРЕСТРОЙКИ</a:t>
            </a:r>
            <a:endParaRPr b="0" lang="en-US" sz="23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457200" y="15235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92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entury Gothic"/>
              </a:rPr>
              <a:t>Позитивные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Разрушение тоталитарной системы и ее атрибутов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Утверждение политических свобод и свободы совести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оздание постоянно действующего парламента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Начало демилитаризации страны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Ликвидация гонки вооружений и военного противостояния держав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294920" y="8380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300" spc="-1" strike="noStrike">
                <a:solidFill>
                  <a:srgbClr val="920000"/>
                </a:solidFill>
                <a:latin typeface="Century Gothic"/>
              </a:rPr>
              <a:t>ПРОТИВОРЕЧИВЫЙ ХАРАКТЕР ИТОГОВ ПЕРЕСТРОЙКИ</a:t>
            </a:r>
            <a:endParaRPr b="0" lang="en-US" sz="23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45684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entury Gothic"/>
              </a:rPr>
              <a:t>Негативные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64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бострение межнациональных противоречий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64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Ухудшение социально-экономического положения населения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64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слабление власти в центре и на местах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64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Нарушение экономических связей между бывшими республиками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64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слабление обороноспособности всех республик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64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Распад СССР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09480" y="536400"/>
            <a:ext cx="792504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920000"/>
                </a:solidFill>
                <a:latin typeface="Century Gothic"/>
              </a:rPr>
              <a:t>Проблемы начала 80-х </a:t>
            </a:r>
            <a:r>
              <a:rPr b="0" i="1" lang="ru-RU" sz="3600" spc="-1" strike="noStrike">
                <a:solidFill>
                  <a:srgbClr val="920000"/>
                </a:solidFill>
                <a:latin typeface="Century Gothic"/>
              </a:rPr>
              <a:t>гг.: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533520" y="1600200"/>
            <a:ext cx="8610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адение темпов роста промышленного производства и производительности труда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Научно-технический разрыв с Западом. СССР превращается в сырьевой придаток СЭВ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окращение доходов от экспорта, рост внешнего долга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Непосильная гонка вооружений, рост внешнеэкономической изоляции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родовольственные проблемы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адение дисциплины, паралич общественного сознания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тсутствие отечественных товаров массового спроса, затоваривание некачественными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920000"/>
                </a:solidFill>
                <a:latin typeface="Century Gothic"/>
              </a:rPr>
              <a:t>Этапы экономических реформ </a:t>
            </a:r>
            <a:br>
              <a:rPr sz="3200"/>
            </a:br>
            <a:r>
              <a:rPr b="1" lang="ru-RU" sz="3200" spc="-1" strike="noStrike">
                <a:solidFill>
                  <a:srgbClr val="920000"/>
                </a:solidFill>
                <a:latin typeface="Century Gothic"/>
              </a:rPr>
              <a:t>1985-1991 гг.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5" name="Rectangle 4"/>
          <p:cNvSpPr/>
          <p:nvPr/>
        </p:nvSpPr>
        <p:spPr>
          <a:xfrm>
            <a:off x="609480" y="16765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0000"/>
                </a:solidFill>
                <a:latin typeface="Verdana"/>
              </a:rPr>
              <a:t>I </a:t>
            </a:r>
            <a:r>
              <a:rPr b="1" lang="ru-RU" sz="2000" spc="-1" strike="noStrike">
                <a:solidFill>
                  <a:srgbClr val="920000"/>
                </a:solidFill>
                <a:latin typeface="Verdana"/>
              </a:rPr>
              <a:t>этап</a:t>
            </a:r>
            <a:r>
              <a:rPr b="1" lang="en-US" sz="2000" spc="-1" strike="noStrike">
                <a:solidFill>
                  <a:srgbClr val="920000"/>
                </a:solidFill>
                <a:latin typeface="Verdana"/>
              </a:rPr>
              <a:t>           </a:t>
            </a:r>
            <a:r>
              <a:rPr b="1" lang="ru-RU" sz="2000" spc="-1" strike="noStrike">
                <a:solidFill>
                  <a:srgbClr val="920000"/>
                </a:solidFill>
                <a:latin typeface="Verdana"/>
              </a:rPr>
              <a:t>1985— 1986 гг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6" name="Text Box 5"/>
          <p:cNvSpPr/>
          <p:nvPr/>
        </p:nvSpPr>
        <p:spPr>
          <a:xfrm>
            <a:off x="609480" y="2819520"/>
            <a:ext cx="82296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пытки реализации концепции ускорения социально-экономического развития стран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7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en-US" sz="2900" spc="-1" strike="noStrike">
                <a:solidFill>
                  <a:srgbClr val="920000"/>
                </a:solidFill>
                <a:latin typeface="Century Gothic"/>
              </a:rPr>
              <a:t>I </a:t>
            </a:r>
            <a:r>
              <a:rPr b="1" lang="ru-RU" sz="2900" spc="-1" strike="noStrike">
                <a:solidFill>
                  <a:srgbClr val="920000"/>
                </a:solidFill>
                <a:latin typeface="Century Gothic"/>
              </a:rPr>
              <a:t>этап</a:t>
            </a:r>
            <a:r>
              <a:rPr b="1" lang="en-US" sz="2900" spc="-1" strike="noStrike">
                <a:solidFill>
                  <a:srgbClr val="920000"/>
                </a:solidFill>
                <a:latin typeface="Century Gothic"/>
              </a:rPr>
              <a:t>   </a:t>
            </a:r>
            <a:r>
              <a:rPr b="1" lang="ru-RU" sz="2900" spc="-1" strike="noStrike">
                <a:solidFill>
                  <a:srgbClr val="920000"/>
                </a:solidFill>
                <a:latin typeface="Century Gothic"/>
              </a:rPr>
              <a:t>1985— 1986 гг.   </a:t>
            </a:r>
            <a:r>
              <a:rPr b="1" lang="ru-RU" sz="3200" spc="-1" strike="noStrike">
                <a:solidFill>
                  <a:srgbClr val="920000"/>
                </a:solidFill>
                <a:latin typeface="Century Gothic"/>
              </a:rPr>
              <a:t>Мероприятия: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609120" y="16761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1) Шире использовать «скрытые резервы»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максимальная загрузка производственных мощностей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многосменная работа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укрепление трудовой дисциплины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редложения рационализаторов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развитие соцсоревнования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2) Антиалкогольная кампания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3) Борьба с «нетрудовыми доходами»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4) Госприемка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20000"/>
                </a:solidFill>
                <a:latin typeface="Century Gothic"/>
              </a:rPr>
              <a:t>Итоги: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914040" y="2133360"/>
            <a:ext cx="762012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64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бюджет потерял 10 млрд. рублей за счет сокращения продажи спиртного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64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200 тыс. инженеров работали на госприемку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000064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авария в Чернобыле 1986г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920000"/>
                </a:solidFill>
                <a:latin typeface="Century Gothic"/>
              </a:rPr>
              <a:t>II </a:t>
            </a:r>
            <a:r>
              <a:rPr b="1" lang="ru-RU" sz="3200" spc="-1" strike="noStrike">
                <a:solidFill>
                  <a:srgbClr val="920000"/>
                </a:solidFill>
                <a:latin typeface="Century Gothic"/>
              </a:rPr>
              <a:t>этап  1987-1989 гг.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533160" y="14479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64"/>
                </a:solidFill>
                <a:latin typeface="Century Gothic"/>
              </a:rPr>
              <a:t>  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entury Gothic"/>
              </a:rPr>
              <a:t>Цель: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Ориентация на переход от административных методов к экономическим при сохранении централизованного управления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920000"/>
                </a:solidFill>
                <a:latin typeface="Century Gothic"/>
              </a:rPr>
              <a:t>Мероприятия: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380880" y="1523880"/>
            <a:ext cx="86868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Расширение самостоятельности предприятий на принципах хозрасчета и самофинансирования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остепенное возрождение частного сектора через кооперацию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тказ от монополии внешней торговли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Более глубокая интеграция в мировой рынок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окращение числа отраслевых министерств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Аренда земли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ризнание равноправия новых форм хозяйств на селе (агрокомбинатов, арендных кооперативов и фермерских хозяйств) с колхозами и совхозами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Конверсия - перевод военно-промышленных предприятий на выпуск мирной продукции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User</cp:lastModifiedBy>
  <dcterms:modified xsi:type="dcterms:W3CDTF">2019-06-09T12:59:23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