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  <p:sldId id="266" r:id="rId29"/>
    <p:sldId id="267" r:id="rId30"/>
    <p:sldId id="268" r:id="rId31"/>
    <p:sldId id="269" r:id="rId32"/>
    <p:sldId id="270" r:id="rId33"/>
    <p:sldId id="271" r:id="rId34"/>
    <p:sldId id="272" r:id="rId35"/>
    <p:sldId id="273" r:id="rId36"/>
    <p:sldId id="274" r:id="rId37"/>
    <p:sldId id="275" r:id="rId38"/>
    <p:sldId id="276" r:id="rId39"/>
    <p:sldId id="277" r:id="rId40"/>
    <p:sldId id="278" r:id="rId41"/>
    <p:sldId id="279" r:id="rId42"/>
    <p:sldId id="280" r:id="rId43"/>
    <p:sldId id="281" r:id="rId44"/>
    <p:sldId id="282" r:id="rId45"/>
    <p:sldId id="283" r:id="rId46"/>
    <p:sldId id="284" r:id="rId47"/>
    <p:sldId id="285" r:id="rId48"/>
    <p:sldId id="286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slide" Target="slides/slide11.xml"/><Relationship Id="rId30" Type="http://schemas.openxmlformats.org/officeDocument/2006/relationships/slide" Target="slides/slide12.xml"/><Relationship Id="rId31" Type="http://schemas.openxmlformats.org/officeDocument/2006/relationships/slide" Target="slides/slide13.xml"/><Relationship Id="rId32" Type="http://schemas.openxmlformats.org/officeDocument/2006/relationships/slide" Target="slides/slide14.xml"/><Relationship Id="rId33" Type="http://schemas.openxmlformats.org/officeDocument/2006/relationships/slide" Target="slides/slide15.xml"/><Relationship Id="rId34" Type="http://schemas.openxmlformats.org/officeDocument/2006/relationships/slide" Target="slides/slide16.xml"/><Relationship Id="rId35" Type="http://schemas.openxmlformats.org/officeDocument/2006/relationships/slide" Target="slides/slide17.xml"/><Relationship Id="rId36" Type="http://schemas.openxmlformats.org/officeDocument/2006/relationships/slide" Target="slides/slide18.xml"/><Relationship Id="rId37" Type="http://schemas.openxmlformats.org/officeDocument/2006/relationships/slide" Target="slides/slide19.xml"/><Relationship Id="rId38" Type="http://schemas.openxmlformats.org/officeDocument/2006/relationships/slide" Target="slides/slide20.xml"/><Relationship Id="rId39" Type="http://schemas.openxmlformats.org/officeDocument/2006/relationships/slide" Target="slides/slide21.xml"/><Relationship Id="rId40" Type="http://schemas.openxmlformats.org/officeDocument/2006/relationships/slide" Target="slides/slide22.xml"/><Relationship Id="rId41" Type="http://schemas.openxmlformats.org/officeDocument/2006/relationships/slide" Target="slides/slide23.xml"/><Relationship Id="rId42" Type="http://schemas.openxmlformats.org/officeDocument/2006/relationships/slide" Target="slides/slide24.xml"/><Relationship Id="rId43" Type="http://schemas.openxmlformats.org/officeDocument/2006/relationships/slide" Target="slides/slide25.xml"/><Relationship Id="rId44" Type="http://schemas.openxmlformats.org/officeDocument/2006/relationships/slide" Target="slides/slide26.xml"/><Relationship Id="rId45" Type="http://schemas.openxmlformats.org/officeDocument/2006/relationships/slide" Target="slides/slide27.xml"/><Relationship Id="rId46" Type="http://schemas.openxmlformats.org/officeDocument/2006/relationships/slide" Target="slides/slide28.xml"/><Relationship Id="rId47" Type="http://schemas.openxmlformats.org/officeDocument/2006/relationships/slide" Target="slides/slide29.xml"/><Relationship Id="rId48" Type="http://schemas.openxmlformats.org/officeDocument/2006/relationships/slide" Target="slides/slide30.xml"/><Relationship Id="rId49" Type="http://schemas.openxmlformats.org/officeDocument/2006/relationships/slide" Target="slides/slide31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2AAB5-D0ED-47C3-A808-909E4FC42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FDE7F-8BFC-457C-A652-C67226953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626424-F1F7-4B97-A1F2-73349A429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0CC871-B3FF-4926-9405-2A181A4C7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EE9222-31CC-4397-9C8E-FC34E47F7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95A16F-37A9-4109-8039-E689F2F7B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CBB0F1-57DF-44DE-AAB2-D70EA7BD0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88506C-149B-48A7-8C2F-15F20AF90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2ACE2F-BC83-4536-BD5C-B2B2E9128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71D87A-D268-42EC-9E9C-568A1A062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8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9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961DE6-1419-4342-8C6E-F64B06A94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7DCD77-BACD-405A-B18B-2787443C8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757EC-2D52-4A14-BF1D-21A153BB6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FF8F6B-31A3-4CD4-BCF0-3B09BCF13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4FAC9E-F05D-435C-94D7-9068A6A97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45F854-3B5F-4DD7-A8D8-E775F5534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FED8AE-DC61-4812-85D1-3DD7B6DE4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BE033D-F7E3-4850-9E4C-4F81A34E2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68FC4D-EE24-4732-970F-E90B5A2F2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F32658-909A-4119-97B6-92C251EEC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BDF57D-1E85-4A2F-BF0A-853BB473D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A839ED-25D6-47D6-9864-E38E0AB1C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50244F-CF5D-4A16-A8A8-D6B6D470B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96EEB-C36D-4D37-80CC-67B1B039B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963677-955B-49E4-8C6F-FEAF5D098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8BA0B8-E025-4633-AE3E-842E3438F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715A25-32CE-4FBE-B9FF-85EEB5E9D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EFFC94-59D4-4415-92C0-7F96119A7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72B9C2-B4D1-4E4B-BB4F-7E23B33AE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196641-C6FF-410A-AB22-336FB53A6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096D03-E853-472C-AC43-D64EDCC32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F80898-A1DD-4F18-B012-FECCFF486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B0C7B7-155B-47FE-B7E3-CE7FE378B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F01E0D-1805-4C51-BCAA-379755056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B8DF0-ED43-4936-8E9D-803840BF8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70E845-CEE5-443E-80B1-786FCDEB7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3788A5-141C-426F-AED3-CA7D1903D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E59AEC-6A0C-4685-B8A4-74F875707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538211-1EB8-45E9-844D-C4F0B9EF2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CEBF51-98E1-459C-B9D9-83D2FABF3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EAF3EB-4837-4FE0-98BA-EB7CE38C0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E7FC5B-1225-416D-8137-193BE4FAB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F17CB6-F8C5-48EA-AD26-2CC00326A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3246B3-3377-4677-B1A4-2411512D0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1D5B37-CD87-4B0A-AD8F-EE8593A2D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22167-8758-4EE5-881A-03FE72501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526D5A-5382-40AA-8E6F-0569A615D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A361C7-764B-4EA9-A249-E02C9E20C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7302DF-439D-4828-9E15-2F685DA49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34067A-6775-460B-A517-8B9583680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03D98E-CB77-4DAC-8FD5-28A04B2C7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106B046-C23C-4FA4-B4EB-FC2582EE6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E3C4565-F31D-4A63-B166-00179C30C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A7FE4F4-BFF5-4362-B708-2CEF077EE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9CC7D5E-6396-4C97-B796-C5A1CE94F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2801D12-44AD-4E0B-9605-36D4B42F2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22A57-9A0C-4DE9-B90D-8967283EC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2B1191D-4734-449B-A1A0-D0EB2335B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BB9FC99-C128-4C26-81B0-172247915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549C2C2-6A58-4691-856B-48D8E32DB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B3503FF-F365-42E1-811B-8C5B021E3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8EC0B75-B7AB-4A2A-93C3-4F427BAE8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4458275-4538-4CF5-BAC6-D37983109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288CB7B-76CD-4C98-A52C-F37DBBC3E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5F7060D-85E1-472B-B8AC-791AE9DD0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A468BFC-DAEB-403B-A628-46E063660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9467CE1-3B7E-43EF-B245-476146C46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B8F5B-918C-4BDA-B9B1-34F7CC01B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C279C33-D34A-4C6F-A4A7-30B3B10FF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9938883-5E27-45F3-954E-04D92BD3F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CABE48E-4D63-49F7-9E18-76D85596F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2318244-03A8-44A7-B3DE-243CC0047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4826D3C-A0D8-4B2C-B3E0-80F63910D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2388CB2-29B9-4108-BC36-727C6CC92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1589376-4C77-41C0-8385-E39BF82A5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7865A2F-44AD-4BD1-82C3-17E13DCD8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653B8F7-99E5-4244-A8CB-6A2E93C7F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8097405-6B90-46A8-BB62-60FE0C4D8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FF768-B6F7-42CD-9709-EA36B0392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9757AC6-89D7-4202-BE54-3D04E940F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46792F8-E2AA-400B-9415-B753B7AE8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1FAEC3C-5411-4CC4-9591-8146871A3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8A1DA03-7FAC-4655-A254-91A28796D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F93C950-0263-4F68-AEB6-5F91D2BBA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27F8DD1-BE46-48B8-AD78-5009213FC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D8B8C44-7193-4259-B4F9-0A7E909FD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A6E3B86-75C2-41F2-B08B-FE3730680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96BC058-25CD-442E-B3A7-45987B376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46978E3-CF98-4DAA-A205-3CA3964D2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FF3A2-8F6A-4B41-9429-C242CAA97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32E0F88-118F-487A-B700-C633D1802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A83E462-2C9B-467F-AFAC-5C7F69A8A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6406068-E1CC-4AF1-84DD-F9EADE8AF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D9547F2-BC0C-4FB5-8E47-B09936A11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FB7C3CD-E164-43D6-A650-6867228FD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5AB30EB-37BA-4603-BCB1-48EB4D94A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5A254A0-0EED-4FA8-A600-68ADE6DC5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7145B63-1063-4C0A-9DC4-F3CA11A5E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4AC28AB-C26B-4E34-BD5A-94E127452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413CD1D-A97D-43AA-B2E5-F4413A358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0979E-C934-44D4-BA0A-4768C1052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A203005-ADB1-44F8-874C-97322DDF3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5755D17-1C2E-4334-87AD-B8D8A8DAE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72E7FA6-1D8D-401E-9D1B-3D07BE011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40C8C15-69D4-4FA0-85EA-A78449EB6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772DC24-3EEA-4879-AE56-EF53C2058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F42E521-2E3E-4622-9E10-4D72C8FA3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2DA3509-1FF0-4DC8-AEBB-E4210E15A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9E846F7-E434-41D1-8E3A-AE5D1B9BD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B8415B6-3BFB-4164-8360-E7F8BA83E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FC259EF-C1D6-4C7D-9AAC-DAA4BFFD3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31DC9-6F56-4A5B-8021-858AB9916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85F61-55DF-45F6-93AC-AE4F05D8A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FA59CB4-DB01-4040-BC55-0E4D5F03B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317A443-108B-486A-98AE-B524A246A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27B0DF6-DEB0-4814-AF89-2A0168BD7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8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6B6E219-EDCF-4ED0-B820-487712ACF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3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4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5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919FEDA-7E84-4C5E-BB44-41623B099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F887C-F125-4153-938C-01ED0FF4F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FF637-83F0-4AC9-9EF8-50A059DC3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2001F-1958-45BC-BA3B-1F0E273A7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C078F-CD7F-49DD-8542-281D55E46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D01164-F613-49E6-A01F-7E97C8BFA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87C5D5-E027-4470-9DD9-6FE5C82AA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1A3F74-CAD6-48C4-9893-FA3825FBD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A539BF-44B7-47CA-B82F-3315B8F14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4794BC-148C-4537-AA85-617D21FED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A8D55-6191-4CF1-8734-975BCC2C8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8F84DB-5FC9-490B-AFC3-7BA96D905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5CB1F9-3D34-4E0E-BFE4-9EB7E46D1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EAA17A-81D6-46F5-8AF0-26A75BD93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0B36F6-7D6B-427D-BA59-ED6BDF9A4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6EA7CD-D332-44F2-938F-B127507CD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273654-D401-4C49-844B-C9EB2A883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96FF04-43E7-4026-82AF-79DCC422D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61BD8D-91DC-45FE-9B47-A6951E8D6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A4652B-47E6-464B-AD4C-C1A3458A2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2AF66A-F973-49FE-B94C-F429BD9AB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479EC-C89F-4F34-9A98-50C3CC300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5F0B66-A46F-45D7-AC1B-2B1A54777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F08C30-4298-4F91-8D2A-72DD60C9B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FA6530-5CD8-46EC-B8C8-B9FD578F3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71ACB5-65B8-43E3-B391-C5755F276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7BDE66-FFB7-43E3-931F-3FF15F911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C75FC8-63EB-4307-9D81-E397DAE3B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133EA1-19F9-4AA6-BCE0-E94A1A251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489ACC-00E0-461B-843F-E59BDB499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272BD2-2A79-4CB6-A85A-665D3A192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0F1CE5-8630-44F4-A694-DCAE42FA4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7CD94-9AFD-4D43-8DA3-4EECA5239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302292-6C40-4F26-8930-E0AFD62D5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ABA03F-11BC-45B6-AE34-F74DB89A7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15ED19-7FED-46B5-916A-BB2528626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9E4A30-AD56-4059-965A-E6E6F1429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B12575-2AD2-4DF9-8023-60ECB5758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B3C1CE-608E-44C1-A2B2-4427ECFDE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B508E8-4330-4CA2-B7D6-6D6BEB7E2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6472D5-CD4D-4C39-A024-AAB11D299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2D299B-67D9-474F-9A48-6EC4C6DAC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4576F0-2A09-4D7A-AFC8-E9F990999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EC2D7-5871-4AC6-988F-BB925D355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E4010E-C4D4-41C6-879D-5A4DB7124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110E38-1569-47A3-B7A0-D91125808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24B655-DDDB-4AA4-B082-5F0FE0D4A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5C7680-234E-48BA-BCB7-0A2B16D08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8406E7-9EF6-4B27-A2B9-93B50C694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14C012-01BE-42E2-9119-B8EBA2888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6AD660-51D2-4C46-AD8E-E08FFCC5F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AFA8FD-E45E-43E1-B2E4-5B5F931FE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47313F-BE8B-4D8C-B009-51F04BF9E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1B2BB9-5B27-4461-99B9-2F8F019F1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07BD8-05DB-4C91-BDA8-F63BFD02B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416A19-CFF0-4976-85BD-8EBCA6939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3EDCAE-E398-41D0-A944-A0A0F16FE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4C82D4-60EA-4F4B-B691-BEA349350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3B0C42-A9CB-44AC-B262-68794B767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DF04C0-A5EC-46B6-95F4-CC36B5DE8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8877B0-A364-4EB7-9D45-37E4335BC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E37977-75F6-4538-9EF6-E1A8E469E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D5B6BD-0A8F-4697-A44F-DC8FDA8D7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B1F6BA-CA48-4870-BFE7-E795EE669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540ED3-0BD8-4EED-9ECD-B83FD2A39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41672-B080-4881-9E11-E02566AE3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432BEE-F2B2-4C88-B872-2D66E40DD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F0C0BB-45F1-4A5D-9F36-99BD15B74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38658D-8477-4069-9C32-2467AD00F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A56463-2536-46BD-9438-7A9799210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52F4D0-24F0-4D7C-9D84-B31BA5F17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118411-B657-41EA-9A17-69FCE5614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1B6FFA-29E0-4CDA-B4C0-72CE53F60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B6BC76-4D72-4DD8-B4F2-CB470E6DE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CB4DE5-DA8C-40AE-BEB5-4C9DA500A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408D92-A4D9-4731-935D-E11E85229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C088D-B8CC-4226-A5CC-FFDD707DD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91D3F0-66C2-4E53-AAA6-0BA023B6F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02015C-32A3-4A96-AC6F-E2025B8C1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42379A-196E-4875-A438-64CEACC8C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D547A2-0462-463D-A26C-1C5282EBD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BDF7F0-8B14-4B08-9746-D36A1DADE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38393C-F762-4E32-ADA7-6B0CB6028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9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0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006848-C86F-49F3-8909-1D0061B04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C506D6-3ADD-45F1-8B39-45BF06542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D1A188-FCD6-4E54-AD3F-B6D4AB9B4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2243E0-DCE9-41F5-B57B-5FF6BF25D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626040"/>
                <a:gd name="textAreaBottom" fmla="*/ 626400 h 62604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>
                <a:gd name="textAreaLeft" fmla="*/ 0 w 449280"/>
                <a:gd name="textAreaRight" fmla="*/ 449640 w 44928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>
                <a:gd name="textAreaLeft" fmla="*/ 0 w 423360"/>
                <a:gd name="textAreaRight" fmla="*/ 423720 w 423360"/>
                <a:gd name="textAreaTop" fmla="*/ 0 h 1420200"/>
                <a:gd name="textAreaBottom" fmla="*/ 1420200 h 142020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>
                <a:gd name="textAreaLeft" fmla="*/ 0 w 570960"/>
                <a:gd name="textAreaRight" fmla="*/ 571320 w 570960"/>
                <a:gd name="textAreaTop" fmla="*/ 0 h 3328560"/>
                <a:gd name="textAreaBottom" fmla="*/ 3328920 h 332856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2927880"/>
                <a:gd name="textAreaBottom" fmla="*/ 2928240 h 292788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>
                <a:gd name="textAreaLeft" fmla="*/ 0 w 131760"/>
                <a:gd name="textAreaRight" fmla="*/ 132120 w 131760"/>
                <a:gd name="textAreaTop" fmla="*/ 0 h 1024920"/>
                <a:gd name="textAreaBottom" fmla="*/ 1025280 h 102492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>
                <a:gd name="textAreaLeft" fmla="*/ 0 w 1442520"/>
                <a:gd name="textAreaRight" fmla="*/ 1442880 w 144252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337320"/>
                <a:gd name="textAreaBottom" fmla="*/ 337680 h 33732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21760"/>
                <a:gd name="textAreaBottom" fmla="*/ 222120 h 22176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>
                <a:gd name="textAreaLeft" fmla="*/ 0 w 165600"/>
                <a:gd name="textAreaRight" fmla="*/ 165960 w 165600"/>
                <a:gd name="textAreaTop" fmla="*/ 0 h 622440"/>
                <a:gd name="textAreaBottom" fmla="*/ 622800 h 62244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3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4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>
                <a:gd name="textAreaLeft" fmla="*/ 0 w 409320"/>
                <a:gd name="textAreaRight" fmla="*/ 409680 w 409320"/>
                <a:gd name="textAreaTop" fmla="*/ 0 h 4401360"/>
                <a:gd name="textAreaBottom" fmla="*/ 4401720 h 440136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>
                <a:gd name="textAreaLeft" fmla="*/ 0 w 350640"/>
                <a:gd name="textAreaRight" fmla="*/ 351000 w 350640"/>
                <a:gd name="textAreaTop" fmla="*/ 0 h 1580760"/>
                <a:gd name="textAreaBottom" fmla="*/ 1581120 h 158076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>
                <a:gd name="textAreaLeft" fmla="*/ 0 w 357120"/>
                <a:gd name="textAreaRight" fmla="*/ 357480 w 35712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2235960"/>
                <a:gd name="textAreaBottom" fmla="*/ 2236320 h 223596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281520"/>
                <a:gd name="textAreaBottom" fmla="*/ 281880 h 28152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511560"/>
                <a:gd name="textAreaBottom" fmla="*/ 511920 h 51156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2716920"/>
                <a:gd name="textAreaBottom" fmla="*/ 2717280 h 271692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252720"/>
                <a:gd name="textAreaBottom" fmla="*/ 253080 h 25272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674280"/>
                <a:gd name="textAreaBottom" fmla="*/ 674640 h 67428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227880"/>
                <a:gd name="textAreaBottom" fmla="*/ 228240 h 22788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530640"/>
                <a:gd name="textAreaBottom" fmla="*/ 531000 h 53064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6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04409-3B38-48B5-8F7D-C779977CF492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0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21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626040"/>
                <a:gd name="textAreaBottom" fmla="*/ 626400 h 62604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22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>
                <a:gd name="textAreaLeft" fmla="*/ 0 w 449280"/>
                <a:gd name="textAreaRight" fmla="*/ 449640 w 44928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23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>
                <a:gd name="textAreaLeft" fmla="*/ 0 w 423360"/>
                <a:gd name="textAreaRight" fmla="*/ 423720 w 423360"/>
                <a:gd name="textAreaTop" fmla="*/ 0 h 1420200"/>
                <a:gd name="textAreaBottom" fmla="*/ 1420200 h 142020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24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25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>
                <a:gd name="textAreaLeft" fmla="*/ 0 w 570960"/>
                <a:gd name="textAreaRight" fmla="*/ 571320 w 570960"/>
                <a:gd name="textAreaTop" fmla="*/ 0 h 3328560"/>
                <a:gd name="textAreaBottom" fmla="*/ 3328920 h 332856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26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2927880"/>
                <a:gd name="textAreaBottom" fmla="*/ 2928240 h 292788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27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28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>
                <a:gd name="textAreaLeft" fmla="*/ 0 w 131760"/>
                <a:gd name="textAreaRight" fmla="*/ 132120 w 131760"/>
                <a:gd name="textAreaTop" fmla="*/ 0 h 1024920"/>
                <a:gd name="textAreaBottom" fmla="*/ 1025280 h 102492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29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>
                <a:gd name="textAreaLeft" fmla="*/ 0 w 1442520"/>
                <a:gd name="textAreaRight" fmla="*/ 1442880 w 144252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30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337320"/>
                <a:gd name="textAreaBottom" fmla="*/ 337680 h 33732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31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21760"/>
                <a:gd name="textAreaBottom" fmla="*/ 222120 h 22176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32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>
                <a:gd name="textAreaLeft" fmla="*/ 0 w 165600"/>
                <a:gd name="textAreaRight" fmla="*/ 165960 w 165600"/>
                <a:gd name="textAreaTop" fmla="*/ 0 h 622440"/>
                <a:gd name="textAreaBottom" fmla="*/ 622800 h 62244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633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634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>
                <a:gd name="textAreaLeft" fmla="*/ 0 w 409320"/>
                <a:gd name="textAreaRight" fmla="*/ 409680 w 409320"/>
                <a:gd name="textAreaTop" fmla="*/ 0 h 4401360"/>
                <a:gd name="textAreaBottom" fmla="*/ 4401720 h 440136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35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>
                <a:gd name="textAreaLeft" fmla="*/ 0 w 350640"/>
                <a:gd name="textAreaRight" fmla="*/ 351000 w 350640"/>
                <a:gd name="textAreaTop" fmla="*/ 0 h 1580760"/>
                <a:gd name="textAreaBottom" fmla="*/ 1581120 h 158076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36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>
                <a:gd name="textAreaLeft" fmla="*/ 0 w 357120"/>
                <a:gd name="textAreaRight" fmla="*/ 357480 w 35712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37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2235960"/>
                <a:gd name="textAreaBottom" fmla="*/ 2236320 h 223596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38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39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281520"/>
                <a:gd name="textAreaBottom" fmla="*/ 281880 h 28152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0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511560"/>
                <a:gd name="textAreaBottom" fmla="*/ 511920 h 51156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1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2716920"/>
                <a:gd name="textAreaBottom" fmla="*/ 2717280 h 271692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2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252720"/>
                <a:gd name="textAreaBottom" fmla="*/ 253080 h 25272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3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674280"/>
                <a:gd name="textAreaBottom" fmla="*/ 674640 h 67428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4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227880"/>
                <a:gd name="textAreaBottom" fmla="*/ 228240 h 22788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5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530640"/>
                <a:gd name="textAreaBottom" fmla="*/ 531000 h 53064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646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7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>
              <a:gd name="textAreaLeft" fmla="*/ 0 w 1359000"/>
              <a:gd name="textAreaRight" fmla="*/ 1359360 w 1359000"/>
              <a:gd name="textAreaTop" fmla="*/ -360 h 507960"/>
              <a:gd name="textAreaBottom" fmla="*/ 507960 h 507960"/>
            </a:gdLst>
            <a:ahLst/>
            <a:rect l="textAreaLeft" t="textAreaTop" r="textAreaRight" b="textAreaBottom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28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29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30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90CF4-0597-4C33-AEF4-366352CB1ED3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9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626040"/>
                <a:gd name="textAreaBottom" fmla="*/ 626400 h 62604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9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>
                <a:gd name="textAreaLeft" fmla="*/ 0 w 449280"/>
                <a:gd name="textAreaRight" fmla="*/ 449640 w 44928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9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>
                <a:gd name="textAreaLeft" fmla="*/ 0 w 423360"/>
                <a:gd name="textAreaRight" fmla="*/ 423720 w 423360"/>
                <a:gd name="textAreaTop" fmla="*/ 0 h 1420200"/>
                <a:gd name="textAreaBottom" fmla="*/ 1420200 h 142020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9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9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>
                <a:gd name="textAreaLeft" fmla="*/ 0 w 570960"/>
                <a:gd name="textAreaRight" fmla="*/ 571320 w 570960"/>
                <a:gd name="textAreaTop" fmla="*/ 0 h 3328560"/>
                <a:gd name="textAreaBottom" fmla="*/ 3328920 h 332856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9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2927880"/>
                <a:gd name="textAreaBottom" fmla="*/ 2928240 h 292788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9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9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>
                <a:gd name="textAreaLeft" fmla="*/ 0 w 131760"/>
                <a:gd name="textAreaRight" fmla="*/ 132120 w 131760"/>
                <a:gd name="textAreaTop" fmla="*/ 0 h 1024920"/>
                <a:gd name="textAreaBottom" fmla="*/ 1025280 h 102492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9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>
                <a:gd name="textAreaLeft" fmla="*/ 0 w 1442520"/>
                <a:gd name="textAreaRight" fmla="*/ 1442880 w 144252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9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337320"/>
                <a:gd name="textAreaBottom" fmla="*/ 337680 h 33732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0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21760"/>
                <a:gd name="textAreaBottom" fmla="*/ 222120 h 22176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0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>
                <a:gd name="textAreaLeft" fmla="*/ 0 w 165600"/>
                <a:gd name="textAreaRight" fmla="*/ 165960 w 165600"/>
                <a:gd name="textAreaTop" fmla="*/ 0 h 622440"/>
                <a:gd name="textAreaBottom" fmla="*/ 622800 h 62244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70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70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>
                <a:gd name="textAreaLeft" fmla="*/ 0 w 409320"/>
                <a:gd name="textAreaRight" fmla="*/ 409680 w 409320"/>
                <a:gd name="textAreaTop" fmla="*/ 0 h 4401360"/>
                <a:gd name="textAreaBottom" fmla="*/ 4401720 h 440136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0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>
                <a:gd name="textAreaLeft" fmla="*/ 0 w 350640"/>
                <a:gd name="textAreaRight" fmla="*/ 351000 w 350640"/>
                <a:gd name="textAreaTop" fmla="*/ 0 h 1580760"/>
                <a:gd name="textAreaBottom" fmla="*/ 1581120 h 158076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0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>
                <a:gd name="textAreaLeft" fmla="*/ 0 w 357120"/>
                <a:gd name="textAreaRight" fmla="*/ 357480 w 35712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0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2235960"/>
                <a:gd name="textAreaBottom" fmla="*/ 2236320 h 223596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0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0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281520"/>
                <a:gd name="textAreaBottom" fmla="*/ 281880 h 28152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0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511560"/>
                <a:gd name="textAreaBottom" fmla="*/ 511920 h 51156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1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2716920"/>
                <a:gd name="textAreaBottom" fmla="*/ 2717280 h 271692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1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252720"/>
                <a:gd name="textAreaBottom" fmla="*/ 253080 h 25272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1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674280"/>
                <a:gd name="textAreaBottom" fmla="*/ 674640 h 67428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1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227880"/>
                <a:gd name="textAreaBottom" fmla="*/ 228240 h 22788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1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530640"/>
                <a:gd name="textAreaBottom" fmla="*/ 531000 h 53064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71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6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>
              <a:gd name="textAreaLeft" fmla="*/ 0 w 1359000"/>
              <a:gd name="textAreaRight" fmla="*/ 1359360 w 1359000"/>
              <a:gd name="textAreaTop" fmla="*/ 360 h 508320"/>
              <a:gd name="textAreaBottom" fmla="*/ 509040 h 508320"/>
            </a:gdLst>
            <a:ahLst/>
            <a:rect l="textAreaLeft" t="textAreaTop" r="textAreaRight" b="textAreaBottom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 type="dt" idx="31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 type="ftr" idx="32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 type="sldNum" idx="33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EB834-2273-42E3-807B-9A597B799EED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75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626040"/>
                <a:gd name="textAreaBottom" fmla="*/ 626400 h 62604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>
                <a:gd name="textAreaLeft" fmla="*/ 0 w 449280"/>
                <a:gd name="textAreaRight" fmla="*/ 449640 w 44928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>
                <a:gd name="textAreaLeft" fmla="*/ 0 w 423360"/>
                <a:gd name="textAreaRight" fmla="*/ 423720 w 423360"/>
                <a:gd name="textAreaTop" fmla="*/ 0 h 1420200"/>
                <a:gd name="textAreaBottom" fmla="*/ 1420200 h 142020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>
                <a:gd name="textAreaLeft" fmla="*/ 0 w 570960"/>
                <a:gd name="textAreaRight" fmla="*/ 571320 w 570960"/>
                <a:gd name="textAreaTop" fmla="*/ 0 h 3328560"/>
                <a:gd name="textAreaBottom" fmla="*/ 3328920 h 332856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2927880"/>
                <a:gd name="textAreaBottom" fmla="*/ 2928240 h 292788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>
                <a:gd name="textAreaLeft" fmla="*/ 0 w 131760"/>
                <a:gd name="textAreaRight" fmla="*/ 132120 w 131760"/>
                <a:gd name="textAreaTop" fmla="*/ 0 h 1024920"/>
                <a:gd name="textAreaBottom" fmla="*/ 1025280 h 102492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>
                <a:gd name="textAreaLeft" fmla="*/ 0 w 1442520"/>
                <a:gd name="textAreaRight" fmla="*/ 1442880 w 144252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337320"/>
                <a:gd name="textAreaBottom" fmla="*/ 337680 h 33732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21760"/>
                <a:gd name="textAreaBottom" fmla="*/ 222120 h 22176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7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>
                <a:gd name="textAreaLeft" fmla="*/ 0 w 165600"/>
                <a:gd name="textAreaRight" fmla="*/ 165960 w 165600"/>
                <a:gd name="textAreaTop" fmla="*/ 0 h 622440"/>
                <a:gd name="textAreaBottom" fmla="*/ 622800 h 62244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77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77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>
                <a:gd name="textAreaLeft" fmla="*/ 0 w 409320"/>
                <a:gd name="textAreaRight" fmla="*/ 409680 w 409320"/>
                <a:gd name="textAreaTop" fmla="*/ 0 h 4401360"/>
                <a:gd name="textAreaBottom" fmla="*/ 4401720 h 440136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7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>
                <a:gd name="textAreaLeft" fmla="*/ 0 w 350640"/>
                <a:gd name="textAreaRight" fmla="*/ 351000 w 350640"/>
                <a:gd name="textAreaTop" fmla="*/ 0 h 1580760"/>
                <a:gd name="textAreaBottom" fmla="*/ 1581120 h 158076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7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>
                <a:gd name="textAreaLeft" fmla="*/ 0 w 357120"/>
                <a:gd name="textAreaRight" fmla="*/ 357480 w 35712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7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2235960"/>
                <a:gd name="textAreaBottom" fmla="*/ 2236320 h 223596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7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7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281520"/>
                <a:gd name="textAreaBottom" fmla="*/ 281880 h 28152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7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511560"/>
                <a:gd name="textAreaBottom" fmla="*/ 511920 h 51156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7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2716920"/>
                <a:gd name="textAreaBottom" fmla="*/ 2717280 h 271692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8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252720"/>
                <a:gd name="textAreaBottom" fmla="*/ 253080 h 25272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8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674280"/>
                <a:gd name="textAreaBottom" fmla="*/ 674640 h 67428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8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227880"/>
                <a:gd name="textAreaBottom" fmla="*/ 228240 h 22788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8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530640"/>
                <a:gd name="textAreaBottom" fmla="*/ 531000 h 53064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78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5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>
              <a:gd name="textAreaLeft" fmla="*/ 0 w 1359000"/>
              <a:gd name="textAreaRight" fmla="*/ 1359360 w 1359000"/>
              <a:gd name="textAreaTop" fmla="*/ 360 h 508320"/>
              <a:gd name="textAreaBottom" fmla="*/ 509040 h 508320"/>
            </a:gdLst>
            <a:ahLst/>
            <a:rect l="textAreaLeft" t="textAreaTop" r="textAreaRight" b="textAreaBottom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6" name="TextBox 34"/>
          <p:cNvSpPr/>
          <p:nvPr/>
        </p:nvSpPr>
        <p:spPr>
          <a:xfrm>
            <a:off x="1808280" y="6476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7" name="TextBox 62"/>
          <p:cNvSpPr/>
          <p:nvPr/>
        </p:nvSpPr>
        <p:spPr>
          <a:xfrm>
            <a:off x="8169120" y="2905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 type="dt" idx="34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 type="ftr" idx="35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2" name="PlaceHolder 5"/>
          <p:cNvSpPr>
            <a:spLocks noGrp="1"/>
          </p:cNvSpPr>
          <p:nvPr>
            <p:ph type="sldNum" idx="36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3AB58-5199-4A14-96E3-B960FA50250B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83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626040"/>
                <a:gd name="textAreaBottom" fmla="*/ 626400 h 62604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3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>
                <a:gd name="textAreaLeft" fmla="*/ 0 w 449280"/>
                <a:gd name="textAreaRight" fmla="*/ 449640 w 44928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3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>
                <a:gd name="textAreaLeft" fmla="*/ 0 w 423360"/>
                <a:gd name="textAreaRight" fmla="*/ 423720 w 423360"/>
                <a:gd name="textAreaTop" fmla="*/ 0 h 1420200"/>
                <a:gd name="textAreaBottom" fmla="*/ 1420200 h 142020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3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3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>
                <a:gd name="textAreaLeft" fmla="*/ 0 w 570960"/>
                <a:gd name="textAreaRight" fmla="*/ 571320 w 570960"/>
                <a:gd name="textAreaTop" fmla="*/ 0 h 3328560"/>
                <a:gd name="textAreaBottom" fmla="*/ 3328920 h 332856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3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2927880"/>
                <a:gd name="textAreaBottom" fmla="*/ 2928240 h 292788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3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3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>
                <a:gd name="textAreaLeft" fmla="*/ 0 w 131760"/>
                <a:gd name="textAreaRight" fmla="*/ 132120 w 131760"/>
                <a:gd name="textAreaTop" fmla="*/ 0 h 1024920"/>
                <a:gd name="textAreaBottom" fmla="*/ 1025280 h 102492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3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>
                <a:gd name="textAreaLeft" fmla="*/ 0 w 1442520"/>
                <a:gd name="textAreaRight" fmla="*/ 1442880 w 144252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3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337320"/>
                <a:gd name="textAreaBottom" fmla="*/ 337680 h 33732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4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21760"/>
                <a:gd name="textAreaBottom" fmla="*/ 222120 h 22176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4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>
                <a:gd name="textAreaLeft" fmla="*/ 0 w 165600"/>
                <a:gd name="textAreaRight" fmla="*/ 165960 w 165600"/>
                <a:gd name="textAreaTop" fmla="*/ 0 h 622440"/>
                <a:gd name="textAreaBottom" fmla="*/ 622800 h 62244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84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84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>
                <a:gd name="textAreaLeft" fmla="*/ 0 w 409320"/>
                <a:gd name="textAreaRight" fmla="*/ 409680 w 409320"/>
                <a:gd name="textAreaTop" fmla="*/ 0 h 4401360"/>
                <a:gd name="textAreaBottom" fmla="*/ 4401720 h 440136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4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>
                <a:gd name="textAreaLeft" fmla="*/ 0 w 350640"/>
                <a:gd name="textAreaRight" fmla="*/ 351000 w 350640"/>
                <a:gd name="textAreaTop" fmla="*/ 0 h 1580760"/>
                <a:gd name="textAreaBottom" fmla="*/ 1581120 h 158076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4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>
                <a:gd name="textAreaLeft" fmla="*/ 0 w 357120"/>
                <a:gd name="textAreaRight" fmla="*/ 357480 w 35712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4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2235960"/>
                <a:gd name="textAreaBottom" fmla="*/ 2236320 h 223596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4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4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281520"/>
                <a:gd name="textAreaBottom" fmla="*/ 281880 h 28152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4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511560"/>
                <a:gd name="textAreaBottom" fmla="*/ 511920 h 51156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5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2716920"/>
                <a:gd name="textAreaBottom" fmla="*/ 2717280 h 271692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5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252720"/>
                <a:gd name="textAreaBottom" fmla="*/ 253080 h 25272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5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674280"/>
                <a:gd name="textAreaBottom" fmla="*/ 674640 h 67428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5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227880"/>
                <a:gd name="textAreaBottom" fmla="*/ 228240 h 22788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5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530640"/>
                <a:gd name="textAreaBottom" fmla="*/ 531000 h 53064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85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6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>
              <a:gd name="textAreaLeft" fmla="*/ 0 w 1359000"/>
              <a:gd name="textAreaRight" fmla="*/ 1359360 w 1359000"/>
              <a:gd name="textAreaTop" fmla="*/ -360 h 507960"/>
              <a:gd name="textAreaBottom" fmla="*/ 507960 h 507960"/>
            </a:gdLst>
            <a:ahLst/>
            <a:rect l="textAreaLeft" t="textAreaTop" r="textAreaRight" b="textAreaBottom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 type="dt" idx="37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 type="ftr" idx="38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1" name="PlaceHolder 5"/>
          <p:cNvSpPr>
            <a:spLocks noGrp="1"/>
          </p:cNvSpPr>
          <p:nvPr>
            <p:ph type="sldNum" idx="39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03D5E-6455-478C-B4C2-F6C1F6FF4992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89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626040"/>
                <a:gd name="textAreaBottom" fmla="*/ 626400 h 62604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0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>
                <a:gd name="textAreaLeft" fmla="*/ 0 w 449280"/>
                <a:gd name="textAreaRight" fmla="*/ 449640 w 44928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0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>
                <a:gd name="textAreaLeft" fmla="*/ 0 w 423360"/>
                <a:gd name="textAreaRight" fmla="*/ 423720 w 423360"/>
                <a:gd name="textAreaTop" fmla="*/ 0 h 1420200"/>
                <a:gd name="textAreaBottom" fmla="*/ 1420200 h 142020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0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0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>
                <a:gd name="textAreaLeft" fmla="*/ 0 w 570960"/>
                <a:gd name="textAreaRight" fmla="*/ 571320 w 570960"/>
                <a:gd name="textAreaTop" fmla="*/ 0 h 3328560"/>
                <a:gd name="textAreaBottom" fmla="*/ 3328920 h 332856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0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2927880"/>
                <a:gd name="textAreaBottom" fmla="*/ 2928240 h 292788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0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0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>
                <a:gd name="textAreaLeft" fmla="*/ 0 w 131760"/>
                <a:gd name="textAreaRight" fmla="*/ 132120 w 131760"/>
                <a:gd name="textAreaTop" fmla="*/ 0 h 1024920"/>
                <a:gd name="textAreaBottom" fmla="*/ 1025280 h 102492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0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>
                <a:gd name="textAreaLeft" fmla="*/ 0 w 1442520"/>
                <a:gd name="textAreaRight" fmla="*/ 1442880 w 144252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0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337320"/>
                <a:gd name="textAreaBottom" fmla="*/ 337680 h 33732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0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21760"/>
                <a:gd name="textAreaBottom" fmla="*/ 222120 h 22176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1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>
                <a:gd name="textAreaLeft" fmla="*/ 0 w 165600"/>
                <a:gd name="textAreaRight" fmla="*/ 165960 w 165600"/>
                <a:gd name="textAreaTop" fmla="*/ 0 h 622440"/>
                <a:gd name="textAreaBottom" fmla="*/ 622800 h 62244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91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91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>
                <a:gd name="textAreaLeft" fmla="*/ 0 w 409320"/>
                <a:gd name="textAreaRight" fmla="*/ 409680 w 409320"/>
                <a:gd name="textAreaTop" fmla="*/ 0 h 4401360"/>
                <a:gd name="textAreaBottom" fmla="*/ 4401720 h 440136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1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>
                <a:gd name="textAreaLeft" fmla="*/ 0 w 350640"/>
                <a:gd name="textAreaRight" fmla="*/ 351000 w 350640"/>
                <a:gd name="textAreaTop" fmla="*/ 0 h 1580760"/>
                <a:gd name="textAreaBottom" fmla="*/ 1581120 h 158076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1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>
                <a:gd name="textAreaLeft" fmla="*/ 0 w 357120"/>
                <a:gd name="textAreaRight" fmla="*/ 357480 w 35712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1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2235960"/>
                <a:gd name="textAreaBottom" fmla="*/ 2236320 h 223596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1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1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281520"/>
                <a:gd name="textAreaBottom" fmla="*/ 281880 h 28152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1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511560"/>
                <a:gd name="textAreaBottom" fmla="*/ 511920 h 51156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1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2716920"/>
                <a:gd name="textAreaBottom" fmla="*/ 2717280 h 271692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2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252720"/>
                <a:gd name="textAreaBottom" fmla="*/ 253080 h 25272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2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674280"/>
                <a:gd name="textAreaBottom" fmla="*/ 674640 h 67428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2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227880"/>
                <a:gd name="textAreaBottom" fmla="*/ 228240 h 22788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2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530640"/>
                <a:gd name="textAreaBottom" fmla="*/ 531000 h 53064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92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5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>
              <a:gd name="textAreaLeft" fmla="*/ 0 w 1359000"/>
              <a:gd name="textAreaRight" fmla="*/ 1359360 w 1359000"/>
              <a:gd name="textAreaTop" fmla="*/ -360 h 507960"/>
              <a:gd name="textAreaBottom" fmla="*/ 507960 h 507960"/>
            </a:gdLst>
            <a:ahLst/>
            <a:rect l="textAreaLeft" t="textAreaTop" r="textAreaRight" b="textAreaBottom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6" name="TextBox 34"/>
          <p:cNvSpPr/>
          <p:nvPr/>
        </p:nvSpPr>
        <p:spPr>
          <a:xfrm>
            <a:off x="1808280" y="6476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7" name="TextBox 62"/>
          <p:cNvSpPr/>
          <p:nvPr/>
        </p:nvSpPr>
        <p:spPr>
          <a:xfrm>
            <a:off x="8169120" y="2905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 type="dt" idx="40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 type="ftr" idx="41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2" name="PlaceHolder 5"/>
          <p:cNvSpPr>
            <a:spLocks noGrp="1"/>
          </p:cNvSpPr>
          <p:nvPr>
            <p:ph type="sldNum" idx="42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C97C4-62CA-4E2E-ADD0-970FC8F66181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97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626040"/>
                <a:gd name="textAreaBottom" fmla="*/ 626400 h 62604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7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>
                <a:gd name="textAreaLeft" fmla="*/ 0 w 449280"/>
                <a:gd name="textAreaRight" fmla="*/ 449640 w 44928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7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>
                <a:gd name="textAreaLeft" fmla="*/ 0 w 423360"/>
                <a:gd name="textAreaRight" fmla="*/ 423720 w 423360"/>
                <a:gd name="textAreaTop" fmla="*/ 0 h 1420200"/>
                <a:gd name="textAreaBottom" fmla="*/ 1420200 h 142020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7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7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>
                <a:gd name="textAreaLeft" fmla="*/ 0 w 570960"/>
                <a:gd name="textAreaRight" fmla="*/ 571320 w 570960"/>
                <a:gd name="textAreaTop" fmla="*/ 0 h 3328560"/>
                <a:gd name="textAreaBottom" fmla="*/ 3328920 h 332856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7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2927880"/>
                <a:gd name="textAreaBottom" fmla="*/ 2928240 h 292788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7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7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>
                <a:gd name="textAreaLeft" fmla="*/ 0 w 131760"/>
                <a:gd name="textAreaRight" fmla="*/ 132120 w 131760"/>
                <a:gd name="textAreaTop" fmla="*/ 0 h 1024920"/>
                <a:gd name="textAreaBottom" fmla="*/ 1025280 h 102492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7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>
                <a:gd name="textAreaLeft" fmla="*/ 0 w 1442520"/>
                <a:gd name="textAreaRight" fmla="*/ 1442880 w 144252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7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337320"/>
                <a:gd name="textAreaBottom" fmla="*/ 337680 h 33732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8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21760"/>
                <a:gd name="textAreaBottom" fmla="*/ 222120 h 22176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8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>
                <a:gd name="textAreaLeft" fmla="*/ 0 w 165600"/>
                <a:gd name="textAreaRight" fmla="*/ 165960 w 165600"/>
                <a:gd name="textAreaTop" fmla="*/ 0 h 622440"/>
                <a:gd name="textAreaBottom" fmla="*/ 622800 h 62244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98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98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>
                <a:gd name="textAreaLeft" fmla="*/ 0 w 409320"/>
                <a:gd name="textAreaRight" fmla="*/ 409680 w 409320"/>
                <a:gd name="textAreaTop" fmla="*/ 0 h 4401360"/>
                <a:gd name="textAreaBottom" fmla="*/ 4401720 h 440136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8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>
                <a:gd name="textAreaLeft" fmla="*/ 0 w 350640"/>
                <a:gd name="textAreaRight" fmla="*/ 351000 w 350640"/>
                <a:gd name="textAreaTop" fmla="*/ 0 h 1580760"/>
                <a:gd name="textAreaBottom" fmla="*/ 1581120 h 158076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8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>
                <a:gd name="textAreaLeft" fmla="*/ 0 w 357120"/>
                <a:gd name="textAreaRight" fmla="*/ 357480 w 35712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8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2235960"/>
                <a:gd name="textAreaBottom" fmla="*/ 2236320 h 223596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8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8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281520"/>
                <a:gd name="textAreaBottom" fmla="*/ 281880 h 28152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8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511560"/>
                <a:gd name="textAreaBottom" fmla="*/ 511920 h 51156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9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2716920"/>
                <a:gd name="textAreaBottom" fmla="*/ 2717280 h 271692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9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252720"/>
                <a:gd name="textAreaBottom" fmla="*/ 253080 h 25272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9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674280"/>
                <a:gd name="textAreaBottom" fmla="*/ 674640 h 67428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9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227880"/>
                <a:gd name="textAreaBottom" fmla="*/ 228240 h 22788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9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530640"/>
                <a:gd name="textAreaBottom" fmla="*/ 531000 h 53064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99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6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>
              <a:gd name="textAreaLeft" fmla="*/ 0 w 1359000"/>
              <a:gd name="textAreaRight" fmla="*/ 1359360 w 1359000"/>
              <a:gd name="textAreaTop" fmla="*/ -360 h 507960"/>
              <a:gd name="textAreaBottom" fmla="*/ 507960 h 507960"/>
            </a:gdLst>
            <a:ahLst/>
            <a:rect l="textAreaLeft" t="textAreaTop" r="textAreaRight" b="textAreaBottom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 type="dt" idx="43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 type="ftr" idx="44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1" name="PlaceHolder 5"/>
          <p:cNvSpPr>
            <a:spLocks noGrp="1"/>
          </p:cNvSpPr>
          <p:nvPr>
            <p:ph type="sldNum" idx="45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2134C-179C-42B5-BA71-D66E0C9EC623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03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626040"/>
                <a:gd name="textAreaBottom" fmla="*/ 626400 h 62604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4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>
                <a:gd name="textAreaLeft" fmla="*/ 0 w 449280"/>
                <a:gd name="textAreaRight" fmla="*/ 449640 w 44928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4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>
                <a:gd name="textAreaLeft" fmla="*/ 0 w 423360"/>
                <a:gd name="textAreaRight" fmla="*/ 423720 w 423360"/>
                <a:gd name="textAreaTop" fmla="*/ 0 h 1420200"/>
                <a:gd name="textAreaBottom" fmla="*/ 1420200 h 142020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4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4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>
                <a:gd name="textAreaLeft" fmla="*/ 0 w 570960"/>
                <a:gd name="textAreaRight" fmla="*/ 571320 w 570960"/>
                <a:gd name="textAreaTop" fmla="*/ 0 h 3328560"/>
                <a:gd name="textAreaBottom" fmla="*/ 3328920 h 332856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4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2927880"/>
                <a:gd name="textAreaBottom" fmla="*/ 2928240 h 292788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4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4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>
                <a:gd name="textAreaLeft" fmla="*/ 0 w 131760"/>
                <a:gd name="textAreaRight" fmla="*/ 132120 w 131760"/>
                <a:gd name="textAreaTop" fmla="*/ 0 h 1024920"/>
                <a:gd name="textAreaBottom" fmla="*/ 1025280 h 102492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4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>
                <a:gd name="textAreaLeft" fmla="*/ 0 w 1442520"/>
                <a:gd name="textAreaRight" fmla="*/ 1442880 w 144252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4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337320"/>
                <a:gd name="textAreaBottom" fmla="*/ 337680 h 33732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4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21760"/>
                <a:gd name="textAreaBottom" fmla="*/ 222120 h 22176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5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>
                <a:gd name="textAreaLeft" fmla="*/ 0 w 165600"/>
                <a:gd name="textAreaRight" fmla="*/ 165960 w 165600"/>
                <a:gd name="textAreaTop" fmla="*/ 0 h 622440"/>
                <a:gd name="textAreaBottom" fmla="*/ 622800 h 62244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05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05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>
                <a:gd name="textAreaLeft" fmla="*/ 0 w 409320"/>
                <a:gd name="textAreaRight" fmla="*/ 409680 w 409320"/>
                <a:gd name="textAreaTop" fmla="*/ 0 h 4401360"/>
                <a:gd name="textAreaBottom" fmla="*/ 4401720 h 440136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5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>
                <a:gd name="textAreaLeft" fmla="*/ 0 w 350640"/>
                <a:gd name="textAreaRight" fmla="*/ 351000 w 350640"/>
                <a:gd name="textAreaTop" fmla="*/ 0 h 1580760"/>
                <a:gd name="textAreaBottom" fmla="*/ 1581120 h 158076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5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>
                <a:gd name="textAreaLeft" fmla="*/ 0 w 357120"/>
                <a:gd name="textAreaRight" fmla="*/ 357480 w 35712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5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2235960"/>
                <a:gd name="textAreaBottom" fmla="*/ 2236320 h 223596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5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5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281520"/>
                <a:gd name="textAreaBottom" fmla="*/ 281880 h 28152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5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511560"/>
                <a:gd name="textAreaBottom" fmla="*/ 511920 h 51156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5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2716920"/>
                <a:gd name="textAreaBottom" fmla="*/ 2717280 h 271692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6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252720"/>
                <a:gd name="textAreaBottom" fmla="*/ 253080 h 25272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6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674280"/>
                <a:gd name="textAreaBottom" fmla="*/ 674640 h 67428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6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227880"/>
                <a:gd name="textAreaBottom" fmla="*/ 228240 h 22788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6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530640"/>
                <a:gd name="textAreaBottom" fmla="*/ 531000 h 53064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06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5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>
              <a:gd name="textAreaLeft" fmla="*/ 0 w 1359000"/>
              <a:gd name="textAreaRight" fmla="*/ 1359360 w 1359000"/>
              <a:gd name="textAreaTop" fmla="*/ -360 h 507960"/>
              <a:gd name="textAreaBottom" fmla="*/ 507960 h 507960"/>
            </a:gdLst>
            <a:ahLst/>
            <a:rect l="textAreaLeft" t="textAreaTop" r="textAreaRight" b="textAreaBottom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 type="dt" idx="46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 type="ftr" idx="47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 type="sldNum" idx="48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C7F44-A00B-4F44-9444-50226504116F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7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108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626040"/>
                <a:gd name="textAreaBottom" fmla="*/ 626400 h 62604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09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>
                <a:gd name="textAreaLeft" fmla="*/ 0 w 449280"/>
                <a:gd name="textAreaRight" fmla="*/ 449640 w 44928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10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>
                <a:gd name="textAreaLeft" fmla="*/ 0 w 423360"/>
                <a:gd name="textAreaRight" fmla="*/ 423720 w 423360"/>
                <a:gd name="textAreaTop" fmla="*/ 0 h 1420200"/>
                <a:gd name="textAreaBottom" fmla="*/ 1420200 h 142020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11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12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>
                <a:gd name="textAreaLeft" fmla="*/ 0 w 570960"/>
                <a:gd name="textAreaRight" fmla="*/ 571320 w 570960"/>
                <a:gd name="textAreaTop" fmla="*/ 0 h 3328560"/>
                <a:gd name="textAreaBottom" fmla="*/ 3328920 h 332856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13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2927880"/>
                <a:gd name="textAreaBottom" fmla="*/ 2928240 h 292788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14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15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>
                <a:gd name="textAreaLeft" fmla="*/ 0 w 131760"/>
                <a:gd name="textAreaRight" fmla="*/ 132120 w 131760"/>
                <a:gd name="textAreaTop" fmla="*/ 0 h 1024920"/>
                <a:gd name="textAreaBottom" fmla="*/ 1025280 h 102492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16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>
                <a:gd name="textAreaLeft" fmla="*/ 0 w 1442520"/>
                <a:gd name="textAreaRight" fmla="*/ 1442880 w 144252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17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337320"/>
                <a:gd name="textAreaBottom" fmla="*/ 337680 h 33732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18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21760"/>
                <a:gd name="textAreaBottom" fmla="*/ 222120 h 22176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19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>
                <a:gd name="textAreaLeft" fmla="*/ 0 w 165600"/>
                <a:gd name="textAreaRight" fmla="*/ 165960 w 165600"/>
                <a:gd name="textAreaTop" fmla="*/ 0 h 622440"/>
                <a:gd name="textAreaBottom" fmla="*/ 622800 h 62244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120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121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>
                <a:gd name="textAreaLeft" fmla="*/ 0 w 409320"/>
                <a:gd name="textAreaRight" fmla="*/ 409680 w 409320"/>
                <a:gd name="textAreaTop" fmla="*/ 0 h 4401360"/>
                <a:gd name="textAreaBottom" fmla="*/ 4401720 h 440136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22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>
                <a:gd name="textAreaLeft" fmla="*/ 0 w 350640"/>
                <a:gd name="textAreaRight" fmla="*/ 351000 w 350640"/>
                <a:gd name="textAreaTop" fmla="*/ 0 h 1580760"/>
                <a:gd name="textAreaBottom" fmla="*/ 1581120 h 158076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23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>
                <a:gd name="textAreaLeft" fmla="*/ 0 w 357120"/>
                <a:gd name="textAreaRight" fmla="*/ 357480 w 35712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24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2235960"/>
                <a:gd name="textAreaBottom" fmla="*/ 2236320 h 223596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25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26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281520"/>
                <a:gd name="textAreaBottom" fmla="*/ 281880 h 28152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27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511560"/>
                <a:gd name="textAreaBottom" fmla="*/ 511920 h 51156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28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2716920"/>
                <a:gd name="textAreaBottom" fmla="*/ 2717280 h 271692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29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252720"/>
                <a:gd name="textAreaBottom" fmla="*/ 253080 h 25272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30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674280"/>
                <a:gd name="textAreaBottom" fmla="*/ 674640 h 67428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31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227880"/>
                <a:gd name="textAreaBottom" fmla="*/ 228240 h 22788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32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530640"/>
                <a:gd name="textAreaBottom" fmla="*/ 531000 h 53064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133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4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>
              <a:gd name="textAreaLeft" fmla="*/ 0 w 1359000"/>
              <a:gd name="textAreaRight" fmla="*/ 1359360 w 1359000"/>
              <a:gd name="textAreaTop" fmla="*/ -360 h 507960"/>
              <a:gd name="textAreaBottom" fmla="*/ 507960 h 507960"/>
            </a:gdLst>
            <a:ahLst/>
            <a:rect l="textAreaLeft" t="textAreaTop" r="textAreaRight" b="textAreaBottom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 type="dt" idx="49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8" name="PlaceHolder 4"/>
          <p:cNvSpPr>
            <a:spLocks noGrp="1"/>
          </p:cNvSpPr>
          <p:nvPr>
            <p:ph type="ftr" idx="50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9" name="PlaceHolder 5"/>
          <p:cNvSpPr>
            <a:spLocks noGrp="1"/>
          </p:cNvSpPr>
          <p:nvPr>
            <p:ph type="sldNum" idx="51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880E0-A85A-47C9-B635-10AABCE25CB7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626040"/>
                <a:gd name="textAreaBottom" fmla="*/ 626400 h 62604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>
                <a:gd name="textAreaLeft" fmla="*/ 0 w 449280"/>
                <a:gd name="textAreaRight" fmla="*/ 449640 w 44928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>
                <a:gd name="textAreaLeft" fmla="*/ 0 w 423360"/>
                <a:gd name="textAreaRight" fmla="*/ 423720 w 423360"/>
                <a:gd name="textAreaTop" fmla="*/ 0 h 1420200"/>
                <a:gd name="textAreaBottom" fmla="*/ 1420200 h 142020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>
                <a:gd name="textAreaLeft" fmla="*/ 0 w 570960"/>
                <a:gd name="textAreaRight" fmla="*/ 571320 w 570960"/>
                <a:gd name="textAreaTop" fmla="*/ 0 h 3328560"/>
                <a:gd name="textAreaBottom" fmla="*/ 3328920 h 332856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2927880"/>
                <a:gd name="textAreaBottom" fmla="*/ 2928240 h 292788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>
                <a:gd name="textAreaLeft" fmla="*/ 0 w 131760"/>
                <a:gd name="textAreaRight" fmla="*/ 132120 w 131760"/>
                <a:gd name="textAreaTop" fmla="*/ 0 h 1024920"/>
                <a:gd name="textAreaBottom" fmla="*/ 1025280 h 102492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>
                <a:gd name="textAreaLeft" fmla="*/ 0 w 1442520"/>
                <a:gd name="textAreaRight" fmla="*/ 1442880 w 144252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337320"/>
                <a:gd name="textAreaBottom" fmla="*/ 337680 h 33732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21760"/>
                <a:gd name="textAreaBottom" fmla="*/ 222120 h 22176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>
                <a:gd name="textAreaLeft" fmla="*/ 0 w 165600"/>
                <a:gd name="textAreaRight" fmla="*/ 165960 w 165600"/>
                <a:gd name="textAreaTop" fmla="*/ 0 h 622440"/>
                <a:gd name="textAreaBottom" fmla="*/ 622800 h 62244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8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8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>
                <a:gd name="textAreaLeft" fmla="*/ 0 w 409320"/>
                <a:gd name="textAreaRight" fmla="*/ 409680 w 409320"/>
                <a:gd name="textAreaTop" fmla="*/ 0 h 4401360"/>
                <a:gd name="textAreaBottom" fmla="*/ 4401720 h 440136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>
                <a:gd name="textAreaLeft" fmla="*/ 0 w 350640"/>
                <a:gd name="textAreaRight" fmla="*/ 351000 w 350640"/>
                <a:gd name="textAreaTop" fmla="*/ 0 h 1580760"/>
                <a:gd name="textAreaBottom" fmla="*/ 1581120 h 158076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>
                <a:gd name="textAreaLeft" fmla="*/ 0 w 357120"/>
                <a:gd name="textAreaRight" fmla="*/ 357480 w 35712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2235960"/>
                <a:gd name="textAreaBottom" fmla="*/ 2236320 h 223596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281520"/>
                <a:gd name="textAreaBottom" fmla="*/ 281880 h 28152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511560"/>
                <a:gd name="textAreaBottom" fmla="*/ 511920 h 51156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2716920"/>
                <a:gd name="textAreaBottom" fmla="*/ 2717280 h 271692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252720"/>
                <a:gd name="textAreaBottom" fmla="*/ 253080 h 25272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674280"/>
                <a:gd name="textAreaBottom" fmla="*/ 674640 h 67428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227880"/>
                <a:gd name="textAreaBottom" fmla="*/ 228240 h 22788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530640"/>
                <a:gd name="textAreaBottom" fmla="*/ 531000 h 53064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9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Freeform 8"/>
          <p:cNvSpPr/>
          <p:nvPr/>
        </p:nvSpPr>
        <p:spPr>
          <a:xfrm>
            <a:off x="-31680" y="4321080"/>
            <a:ext cx="1395360" cy="781200"/>
          </a:xfrm>
          <a:custGeom>
            <a:avLst/>
            <a:gdLst>
              <a:gd name="textAreaLeft" fmla="*/ 0 w 1395360"/>
              <a:gd name="textAreaRight" fmla="*/ 1395720 w 1395360"/>
              <a:gd name="textAreaTop" fmla="*/ 0 h 781200"/>
              <a:gd name="textAreaBottom" fmla="*/ 781560 h 781200"/>
            </a:gdLst>
            <a:ahLst/>
            <a:rect l="textAreaLeft" t="textAreaTop" r="textAreaRight" b="textAreaBottom"/>
            <a:pathLst>
              <a:path w="8042" h="10000">
                <a:moveTo>
                  <a:pt x="5799" y="10000"/>
                </a:moveTo>
                <a:cubicBezTo>
                  <a:pt x="5880" y="10000"/>
                  <a:pt x="5934" y="9940"/>
                  <a:pt x="5961" y="9880"/>
                </a:cubicBezTo>
                <a:cubicBezTo>
                  <a:pt x="5961" y="9820"/>
                  <a:pt x="5988" y="9820"/>
                  <a:pt x="5988" y="9820"/>
                </a:cubicBezTo>
                <a:lnTo>
                  <a:pt x="8042" y="5260"/>
                </a:lnTo>
                <a:cubicBezTo>
                  <a:pt x="8096" y="5140"/>
                  <a:pt x="8096" y="4901"/>
                  <a:pt x="8042" y="4721"/>
                </a:cubicBezTo>
                <a:lnTo>
                  <a:pt x="5988" y="221"/>
                </a:lnTo>
                <a:cubicBezTo>
                  <a:pt x="5988" y="160"/>
                  <a:pt x="5961" y="160"/>
                  <a:pt x="5961" y="160"/>
                </a:cubicBezTo>
                <a:cubicBezTo>
                  <a:pt x="5934" y="101"/>
                  <a:pt x="5880" y="41"/>
                  <a:pt x="5799" y="41"/>
                </a:cubicBezTo>
                <a:lnTo>
                  <a:pt x="18" y="0"/>
                </a:lnTo>
                <a:cubicBezTo>
                  <a:pt x="12" y="3330"/>
                  <a:pt x="6" y="6661"/>
                  <a:pt x="0" y="9991"/>
                </a:cubicBezTo>
                <a:lnTo>
                  <a:pt x="5799" y="10000"/>
                </a:ln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4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5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6"/>
          </p:nvPr>
        </p:nvSpPr>
        <p:spPr>
          <a:xfrm>
            <a:off x="423360" y="4529160"/>
            <a:ext cx="584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C73AB-FD8E-469F-AB0B-99E469A64A1D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38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626040"/>
                <a:gd name="textAreaBottom" fmla="*/ 626400 h 62604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9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>
                <a:gd name="textAreaLeft" fmla="*/ 0 w 449280"/>
                <a:gd name="textAreaRight" fmla="*/ 449640 w 44928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0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>
                <a:gd name="textAreaLeft" fmla="*/ 0 w 423360"/>
                <a:gd name="textAreaRight" fmla="*/ 423720 w 423360"/>
                <a:gd name="textAreaTop" fmla="*/ 0 h 1420200"/>
                <a:gd name="textAreaBottom" fmla="*/ 1420200 h 142020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1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2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>
                <a:gd name="textAreaLeft" fmla="*/ 0 w 570960"/>
                <a:gd name="textAreaRight" fmla="*/ 571320 w 570960"/>
                <a:gd name="textAreaTop" fmla="*/ 0 h 3328560"/>
                <a:gd name="textAreaBottom" fmla="*/ 3328920 h 332856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3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2927880"/>
                <a:gd name="textAreaBottom" fmla="*/ 2928240 h 292788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4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5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>
                <a:gd name="textAreaLeft" fmla="*/ 0 w 131760"/>
                <a:gd name="textAreaRight" fmla="*/ 132120 w 131760"/>
                <a:gd name="textAreaTop" fmla="*/ 0 h 1024920"/>
                <a:gd name="textAreaBottom" fmla="*/ 1025280 h 102492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6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>
                <a:gd name="textAreaLeft" fmla="*/ 0 w 1442520"/>
                <a:gd name="textAreaRight" fmla="*/ 1442880 w 144252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7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337320"/>
                <a:gd name="textAreaBottom" fmla="*/ 337680 h 33732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8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21760"/>
                <a:gd name="textAreaBottom" fmla="*/ 222120 h 22176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9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>
                <a:gd name="textAreaLeft" fmla="*/ 0 w 165600"/>
                <a:gd name="textAreaRight" fmla="*/ 165960 w 165600"/>
                <a:gd name="textAreaTop" fmla="*/ 0 h 622440"/>
                <a:gd name="textAreaBottom" fmla="*/ 622800 h 62244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50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51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>
                <a:gd name="textAreaLeft" fmla="*/ 0 w 409320"/>
                <a:gd name="textAreaRight" fmla="*/ 409680 w 409320"/>
                <a:gd name="textAreaTop" fmla="*/ 0 h 4401360"/>
                <a:gd name="textAreaBottom" fmla="*/ 4401720 h 440136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2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>
                <a:gd name="textAreaLeft" fmla="*/ 0 w 350640"/>
                <a:gd name="textAreaRight" fmla="*/ 351000 w 350640"/>
                <a:gd name="textAreaTop" fmla="*/ 0 h 1580760"/>
                <a:gd name="textAreaBottom" fmla="*/ 1581120 h 158076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3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>
                <a:gd name="textAreaLeft" fmla="*/ 0 w 357120"/>
                <a:gd name="textAreaRight" fmla="*/ 357480 w 35712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4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2235960"/>
                <a:gd name="textAreaBottom" fmla="*/ 2236320 h 223596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5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6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281520"/>
                <a:gd name="textAreaBottom" fmla="*/ 281880 h 28152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7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511560"/>
                <a:gd name="textAreaBottom" fmla="*/ 511920 h 51156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8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2716920"/>
                <a:gd name="textAreaBottom" fmla="*/ 2717280 h 271692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9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252720"/>
                <a:gd name="textAreaBottom" fmla="*/ 253080 h 25272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0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674280"/>
                <a:gd name="textAreaBottom" fmla="*/ 674640 h 67428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1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227880"/>
                <a:gd name="textAreaBottom" fmla="*/ 228240 h 22788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2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530640"/>
                <a:gd name="textAreaBottom" fmla="*/ 531000 h 53064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63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>
              <a:gd name="textAreaLeft" fmla="*/ 0 w 1359000"/>
              <a:gd name="textAreaRight" fmla="*/ 1359360 w 1359000"/>
              <a:gd name="textAreaTop" fmla="*/ -360 h 507960"/>
              <a:gd name="textAreaBottom" fmla="*/ 507960 h 507960"/>
            </a:gdLst>
            <a:ahLst/>
            <a:rect l="textAreaLeft" t="textAreaTop" r="textAreaRight" b="textAreaBottom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7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8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9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28A2B-CFB6-4311-9D4A-F1948472AF14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207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626040"/>
                <a:gd name="textAreaBottom" fmla="*/ 626400 h 62604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8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>
                <a:gd name="textAreaLeft" fmla="*/ 0 w 449280"/>
                <a:gd name="textAreaRight" fmla="*/ 449640 w 44928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9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>
                <a:gd name="textAreaLeft" fmla="*/ 0 w 423360"/>
                <a:gd name="textAreaRight" fmla="*/ 423720 w 423360"/>
                <a:gd name="textAreaTop" fmla="*/ 0 h 1420200"/>
                <a:gd name="textAreaBottom" fmla="*/ 1420200 h 142020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0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1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>
                <a:gd name="textAreaLeft" fmla="*/ 0 w 570960"/>
                <a:gd name="textAreaRight" fmla="*/ 571320 w 570960"/>
                <a:gd name="textAreaTop" fmla="*/ 0 h 3328560"/>
                <a:gd name="textAreaBottom" fmla="*/ 3328920 h 332856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2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2927880"/>
                <a:gd name="textAreaBottom" fmla="*/ 2928240 h 292788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3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4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>
                <a:gd name="textAreaLeft" fmla="*/ 0 w 131760"/>
                <a:gd name="textAreaRight" fmla="*/ 132120 w 131760"/>
                <a:gd name="textAreaTop" fmla="*/ 0 h 1024920"/>
                <a:gd name="textAreaBottom" fmla="*/ 1025280 h 102492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5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>
                <a:gd name="textAreaLeft" fmla="*/ 0 w 1442520"/>
                <a:gd name="textAreaRight" fmla="*/ 1442880 w 144252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6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337320"/>
                <a:gd name="textAreaBottom" fmla="*/ 337680 h 33732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7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21760"/>
                <a:gd name="textAreaBottom" fmla="*/ 222120 h 22176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8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>
                <a:gd name="textAreaLeft" fmla="*/ 0 w 165600"/>
                <a:gd name="textAreaRight" fmla="*/ 165960 w 165600"/>
                <a:gd name="textAreaTop" fmla="*/ 0 h 622440"/>
                <a:gd name="textAreaBottom" fmla="*/ 622800 h 62244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19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220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>
                <a:gd name="textAreaLeft" fmla="*/ 0 w 409320"/>
                <a:gd name="textAreaRight" fmla="*/ 409680 w 409320"/>
                <a:gd name="textAreaTop" fmla="*/ 0 h 4401360"/>
                <a:gd name="textAreaBottom" fmla="*/ 4401720 h 440136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1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>
                <a:gd name="textAreaLeft" fmla="*/ 0 w 350640"/>
                <a:gd name="textAreaRight" fmla="*/ 351000 w 350640"/>
                <a:gd name="textAreaTop" fmla="*/ 0 h 1580760"/>
                <a:gd name="textAreaBottom" fmla="*/ 1581120 h 158076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2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>
                <a:gd name="textAreaLeft" fmla="*/ 0 w 357120"/>
                <a:gd name="textAreaRight" fmla="*/ 357480 w 35712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3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2235960"/>
                <a:gd name="textAreaBottom" fmla="*/ 2236320 h 223596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4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5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281520"/>
                <a:gd name="textAreaBottom" fmla="*/ 281880 h 28152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6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511560"/>
                <a:gd name="textAreaBottom" fmla="*/ 511920 h 51156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7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2716920"/>
                <a:gd name="textAreaBottom" fmla="*/ 2717280 h 271692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8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252720"/>
                <a:gd name="textAreaBottom" fmla="*/ 253080 h 25272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9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674280"/>
                <a:gd name="textAreaBottom" fmla="*/ 674640 h 67428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0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227880"/>
                <a:gd name="textAreaBottom" fmla="*/ 228240 h 22788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1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530640"/>
                <a:gd name="textAreaBottom" fmla="*/ 531000 h 53064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32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>
              <a:gd name="textAreaLeft" fmla="*/ 0 w 1359000"/>
              <a:gd name="textAreaRight" fmla="*/ 1359360 w 1359000"/>
              <a:gd name="textAreaTop" fmla="*/ 360 h 508320"/>
              <a:gd name="textAreaBottom" fmla="*/ 509040 h 508320"/>
            </a:gdLst>
            <a:ahLst/>
            <a:rect l="textAreaLeft" t="textAreaTop" r="textAreaRight" b="textAreaBottom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dt" idx="10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ftr" idx="11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sldNum" idx="12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D90EC-7B28-4673-B69B-17CEFD9475BD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5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276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626040"/>
                <a:gd name="textAreaBottom" fmla="*/ 626400 h 62604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7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>
                <a:gd name="textAreaLeft" fmla="*/ 0 w 449280"/>
                <a:gd name="textAreaRight" fmla="*/ 449640 w 44928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8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>
                <a:gd name="textAreaLeft" fmla="*/ 0 w 423360"/>
                <a:gd name="textAreaRight" fmla="*/ 423720 w 423360"/>
                <a:gd name="textAreaTop" fmla="*/ 0 h 1420200"/>
                <a:gd name="textAreaBottom" fmla="*/ 1420200 h 142020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9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0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>
                <a:gd name="textAreaLeft" fmla="*/ 0 w 570960"/>
                <a:gd name="textAreaRight" fmla="*/ 571320 w 570960"/>
                <a:gd name="textAreaTop" fmla="*/ 0 h 3328560"/>
                <a:gd name="textAreaBottom" fmla="*/ 3328920 h 332856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1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2927880"/>
                <a:gd name="textAreaBottom" fmla="*/ 2928240 h 292788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2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3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>
                <a:gd name="textAreaLeft" fmla="*/ 0 w 131760"/>
                <a:gd name="textAreaRight" fmla="*/ 132120 w 131760"/>
                <a:gd name="textAreaTop" fmla="*/ 0 h 1024920"/>
                <a:gd name="textAreaBottom" fmla="*/ 1025280 h 102492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4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>
                <a:gd name="textAreaLeft" fmla="*/ 0 w 1442520"/>
                <a:gd name="textAreaRight" fmla="*/ 1442880 w 144252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5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337320"/>
                <a:gd name="textAreaBottom" fmla="*/ 337680 h 33732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6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21760"/>
                <a:gd name="textAreaBottom" fmla="*/ 222120 h 22176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7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>
                <a:gd name="textAreaLeft" fmla="*/ 0 w 165600"/>
                <a:gd name="textAreaRight" fmla="*/ 165960 w 165600"/>
                <a:gd name="textAreaTop" fmla="*/ 0 h 622440"/>
                <a:gd name="textAreaBottom" fmla="*/ 622800 h 62244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88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289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>
                <a:gd name="textAreaLeft" fmla="*/ 0 w 409320"/>
                <a:gd name="textAreaRight" fmla="*/ 409680 w 409320"/>
                <a:gd name="textAreaTop" fmla="*/ 0 h 4401360"/>
                <a:gd name="textAreaBottom" fmla="*/ 4401720 h 440136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0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>
                <a:gd name="textAreaLeft" fmla="*/ 0 w 350640"/>
                <a:gd name="textAreaRight" fmla="*/ 351000 w 350640"/>
                <a:gd name="textAreaTop" fmla="*/ 0 h 1580760"/>
                <a:gd name="textAreaBottom" fmla="*/ 1581120 h 158076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1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>
                <a:gd name="textAreaLeft" fmla="*/ 0 w 357120"/>
                <a:gd name="textAreaRight" fmla="*/ 357480 w 35712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2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2235960"/>
                <a:gd name="textAreaBottom" fmla="*/ 2236320 h 223596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3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4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281520"/>
                <a:gd name="textAreaBottom" fmla="*/ 281880 h 28152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5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511560"/>
                <a:gd name="textAreaBottom" fmla="*/ 511920 h 51156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6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2716920"/>
                <a:gd name="textAreaBottom" fmla="*/ 2717280 h 271692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7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252720"/>
                <a:gd name="textAreaBottom" fmla="*/ 253080 h 25272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8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674280"/>
                <a:gd name="textAreaBottom" fmla="*/ 674640 h 67428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9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227880"/>
                <a:gd name="textAreaBottom" fmla="*/ 228240 h 22788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0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530640"/>
                <a:gd name="textAreaBottom" fmla="*/ 531000 h 53064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01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>
              <a:gd name="textAreaLeft" fmla="*/ 0 w 1359000"/>
              <a:gd name="textAreaRight" fmla="*/ 1359360 w 1359000"/>
              <a:gd name="textAreaTop" fmla="*/ -360 h 507960"/>
              <a:gd name="textAreaBottom" fmla="*/ 507960 h 507960"/>
            </a:gdLst>
            <a:ahLst/>
            <a:rect l="textAreaLeft" t="textAreaTop" r="textAreaRight" b="textAreaBottom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13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14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15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09506-0C90-4B21-9E62-DC0616B02B85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4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345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626040"/>
                <a:gd name="textAreaBottom" fmla="*/ 626400 h 62604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6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>
                <a:gd name="textAreaLeft" fmla="*/ 0 w 449280"/>
                <a:gd name="textAreaRight" fmla="*/ 449640 w 44928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7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>
                <a:gd name="textAreaLeft" fmla="*/ 0 w 423360"/>
                <a:gd name="textAreaRight" fmla="*/ 423720 w 423360"/>
                <a:gd name="textAreaTop" fmla="*/ 0 h 1420200"/>
                <a:gd name="textAreaBottom" fmla="*/ 1420200 h 142020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8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9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>
                <a:gd name="textAreaLeft" fmla="*/ 0 w 570960"/>
                <a:gd name="textAreaRight" fmla="*/ 571320 w 570960"/>
                <a:gd name="textAreaTop" fmla="*/ 0 h 3328560"/>
                <a:gd name="textAreaBottom" fmla="*/ 3328920 h 332856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0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2927880"/>
                <a:gd name="textAreaBottom" fmla="*/ 2928240 h 292788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1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2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>
                <a:gd name="textAreaLeft" fmla="*/ 0 w 131760"/>
                <a:gd name="textAreaRight" fmla="*/ 132120 w 131760"/>
                <a:gd name="textAreaTop" fmla="*/ 0 h 1024920"/>
                <a:gd name="textAreaBottom" fmla="*/ 1025280 h 102492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3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>
                <a:gd name="textAreaLeft" fmla="*/ 0 w 1442520"/>
                <a:gd name="textAreaRight" fmla="*/ 1442880 w 144252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4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337320"/>
                <a:gd name="textAreaBottom" fmla="*/ 337680 h 33732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5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21760"/>
                <a:gd name="textAreaBottom" fmla="*/ 222120 h 22176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6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>
                <a:gd name="textAreaLeft" fmla="*/ 0 w 165600"/>
                <a:gd name="textAreaRight" fmla="*/ 165960 w 165600"/>
                <a:gd name="textAreaTop" fmla="*/ 0 h 622440"/>
                <a:gd name="textAreaBottom" fmla="*/ 622800 h 62244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57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358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>
                <a:gd name="textAreaLeft" fmla="*/ 0 w 409320"/>
                <a:gd name="textAreaRight" fmla="*/ 409680 w 409320"/>
                <a:gd name="textAreaTop" fmla="*/ 0 h 4401360"/>
                <a:gd name="textAreaBottom" fmla="*/ 4401720 h 440136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9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>
                <a:gd name="textAreaLeft" fmla="*/ 0 w 350640"/>
                <a:gd name="textAreaRight" fmla="*/ 351000 w 350640"/>
                <a:gd name="textAreaTop" fmla="*/ 0 h 1580760"/>
                <a:gd name="textAreaBottom" fmla="*/ 1581120 h 158076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0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>
                <a:gd name="textAreaLeft" fmla="*/ 0 w 357120"/>
                <a:gd name="textAreaRight" fmla="*/ 357480 w 35712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1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2235960"/>
                <a:gd name="textAreaBottom" fmla="*/ 2236320 h 223596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2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3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281520"/>
                <a:gd name="textAreaBottom" fmla="*/ 281880 h 28152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4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511560"/>
                <a:gd name="textAreaBottom" fmla="*/ 511920 h 51156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5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2716920"/>
                <a:gd name="textAreaBottom" fmla="*/ 2717280 h 271692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6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252720"/>
                <a:gd name="textAreaBottom" fmla="*/ 253080 h 25272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7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674280"/>
                <a:gd name="textAreaBottom" fmla="*/ 674640 h 67428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8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227880"/>
                <a:gd name="textAreaBottom" fmla="*/ 228240 h 22788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9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530640"/>
                <a:gd name="textAreaBottom" fmla="*/ 531000 h 53064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70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1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>
              <a:gd name="textAreaLeft" fmla="*/ 0 w 1359000"/>
              <a:gd name="textAreaRight" fmla="*/ 1359360 w 1359000"/>
              <a:gd name="textAreaTop" fmla="*/ -360 h 507960"/>
              <a:gd name="textAreaBottom" fmla="*/ 507960 h 507960"/>
            </a:gdLst>
            <a:ahLst/>
            <a:rect l="textAreaLeft" t="textAreaTop" r="textAreaRight" b="textAreaBottom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16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17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18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E8B5D-40A9-4DBD-9C5A-62AA5E378D87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3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414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626040"/>
                <a:gd name="textAreaBottom" fmla="*/ 626400 h 62604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5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>
                <a:gd name="textAreaLeft" fmla="*/ 0 w 449280"/>
                <a:gd name="textAreaRight" fmla="*/ 449640 w 44928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6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>
                <a:gd name="textAreaLeft" fmla="*/ 0 w 423360"/>
                <a:gd name="textAreaRight" fmla="*/ 423720 w 423360"/>
                <a:gd name="textAreaTop" fmla="*/ 0 h 1420200"/>
                <a:gd name="textAreaBottom" fmla="*/ 1420200 h 142020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7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8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>
                <a:gd name="textAreaLeft" fmla="*/ 0 w 570960"/>
                <a:gd name="textAreaRight" fmla="*/ 571320 w 570960"/>
                <a:gd name="textAreaTop" fmla="*/ 0 h 3328560"/>
                <a:gd name="textAreaBottom" fmla="*/ 3328920 h 332856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9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2927880"/>
                <a:gd name="textAreaBottom" fmla="*/ 2928240 h 292788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0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1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>
                <a:gd name="textAreaLeft" fmla="*/ 0 w 131760"/>
                <a:gd name="textAreaRight" fmla="*/ 132120 w 131760"/>
                <a:gd name="textAreaTop" fmla="*/ 0 h 1024920"/>
                <a:gd name="textAreaBottom" fmla="*/ 1025280 h 102492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2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>
                <a:gd name="textAreaLeft" fmla="*/ 0 w 1442520"/>
                <a:gd name="textAreaRight" fmla="*/ 1442880 w 144252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3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337320"/>
                <a:gd name="textAreaBottom" fmla="*/ 337680 h 33732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4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21760"/>
                <a:gd name="textAreaBottom" fmla="*/ 222120 h 22176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5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>
                <a:gd name="textAreaLeft" fmla="*/ 0 w 165600"/>
                <a:gd name="textAreaRight" fmla="*/ 165960 w 165600"/>
                <a:gd name="textAreaTop" fmla="*/ 0 h 622440"/>
                <a:gd name="textAreaBottom" fmla="*/ 622800 h 62244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426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427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>
                <a:gd name="textAreaLeft" fmla="*/ 0 w 409320"/>
                <a:gd name="textAreaRight" fmla="*/ 409680 w 409320"/>
                <a:gd name="textAreaTop" fmla="*/ 0 h 4401360"/>
                <a:gd name="textAreaBottom" fmla="*/ 4401720 h 440136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8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>
                <a:gd name="textAreaLeft" fmla="*/ 0 w 350640"/>
                <a:gd name="textAreaRight" fmla="*/ 351000 w 350640"/>
                <a:gd name="textAreaTop" fmla="*/ 0 h 1580760"/>
                <a:gd name="textAreaBottom" fmla="*/ 1581120 h 158076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9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>
                <a:gd name="textAreaLeft" fmla="*/ 0 w 357120"/>
                <a:gd name="textAreaRight" fmla="*/ 357480 w 35712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30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2235960"/>
                <a:gd name="textAreaBottom" fmla="*/ 2236320 h 223596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31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32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281520"/>
                <a:gd name="textAreaBottom" fmla="*/ 281880 h 28152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33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511560"/>
                <a:gd name="textAreaBottom" fmla="*/ 511920 h 51156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34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2716920"/>
                <a:gd name="textAreaBottom" fmla="*/ 2717280 h 271692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35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252720"/>
                <a:gd name="textAreaBottom" fmla="*/ 253080 h 25272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36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674280"/>
                <a:gd name="textAreaBottom" fmla="*/ 674640 h 67428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37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227880"/>
                <a:gd name="textAreaBottom" fmla="*/ 228240 h 22788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38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530640"/>
                <a:gd name="textAreaBottom" fmla="*/ 531000 h 53064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39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0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>
              <a:gd name="textAreaLeft" fmla="*/ 0 w 1359000"/>
              <a:gd name="textAreaRight" fmla="*/ 1359360 w 1359000"/>
              <a:gd name="textAreaTop" fmla="*/ -360 h 507960"/>
              <a:gd name="textAreaBottom" fmla="*/ 507960 h 507960"/>
            </a:gdLst>
            <a:ahLst/>
            <a:rect l="textAreaLeft" t="textAreaTop" r="textAreaRight" b="textAreaBottom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dt" idx="19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ftr" idx="20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sldNum" idx="21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4CAE3-971E-409B-BD73-580449C7E88A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2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483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626040"/>
                <a:gd name="textAreaBottom" fmla="*/ 626400 h 62604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4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>
                <a:gd name="textAreaLeft" fmla="*/ 0 w 449280"/>
                <a:gd name="textAreaRight" fmla="*/ 449640 w 44928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5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>
                <a:gd name="textAreaLeft" fmla="*/ 0 w 423360"/>
                <a:gd name="textAreaRight" fmla="*/ 423720 w 423360"/>
                <a:gd name="textAreaTop" fmla="*/ 0 h 1420200"/>
                <a:gd name="textAreaBottom" fmla="*/ 1420200 h 142020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6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7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>
                <a:gd name="textAreaLeft" fmla="*/ 0 w 570960"/>
                <a:gd name="textAreaRight" fmla="*/ 571320 w 570960"/>
                <a:gd name="textAreaTop" fmla="*/ 0 h 3328560"/>
                <a:gd name="textAreaBottom" fmla="*/ 3328920 h 332856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8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2927880"/>
                <a:gd name="textAreaBottom" fmla="*/ 2928240 h 292788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9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90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>
                <a:gd name="textAreaLeft" fmla="*/ 0 w 131760"/>
                <a:gd name="textAreaRight" fmla="*/ 132120 w 131760"/>
                <a:gd name="textAreaTop" fmla="*/ 0 h 1024920"/>
                <a:gd name="textAreaBottom" fmla="*/ 1025280 h 102492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91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>
                <a:gd name="textAreaLeft" fmla="*/ 0 w 1442520"/>
                <a:gd name="textAreaRight" fmla="*/ 1442880 w 144252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92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337320"/>
                <a:gd name="textAreaBottom" fmla="*/ 337680 h 33732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93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21760"/>
                <a:gd name="textAreaBottom" fmla="*/ 222120 h 22176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94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>
                <a:gd name="textAreaLeft" fmla="*/ 0 w 165600"/>
                <a:gd name="textAreaRight" fmla="*/ 165960 w 165600"/>
                <a:gd name="textAreaTop" fmla="*/ 0 h 622440"/>
                <a:gd name="textAreaBottom" fmla="*/ 622800 h 62244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495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496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>
                <a:gd name="textAreaLeft" fmla="*/ 0 w 409320"/>
                <a:gd name="textAreaRight" fmla="*/ 409680 w 409320"/>
                <a:gd name="textAreaTop" fmla="*/ 0 h 4401360"/>
                <a:gd name="textAreaBottom" fmla="*/ 4401720 h 440136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97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>
                <a:gd name="textAreaLeft" fmla="*/ 0 w 350640"/>
                <a:gd name="textAreaRight" fmla="*/ 351000 w 350640"/>
                <a:gd name="textAreaTop" fmla="*/ 0 h 1580760"/>
                <a:gd name="textAreaBottom" fmla="*/ 1581120 h 158076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98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>
                <a:gd name="textAreaLeft" fmla="*/ 0 w 357120"/>
                <a:gd name="textAreaRight" fmla="*/ 357480 w 35712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99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2235960"/>
                <a:gd name="textAreaBottom" fmla="*/ 2236320 h 223596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0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1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281520"/>
                <a:gd name="textAreaBottom" fmla="*/ 281880 h 28152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2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511560"/>
                <a:gd name="textAreaBottom" fmla="*/ 511920 h 51156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3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2716920"/>
                <a:gd name="textAreaBottom" fmla="*/ 2717280 h 271692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4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252720"/>
                <a:gd name="textAreaBottom" fmla="*/ 253080 h 25272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5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674280"/>
                <a:gd name="textAreaBottom" fmla="*/ 674640 h 67428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6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227880"/>
                <a:gd name="textAreaBottom" fmla="*/ 228240 h 22788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7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530640"/>
                <a:gd name="textAreaBottom" fmla="*/ 531000 h 53064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08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9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>
              <a:gd name="textAreaLeft" fmla="*/ 0 w 1359000"/>
              <a:gd name="textAreaRight" fmla="*/ 1359360 w 1359000"/>
              <a:gd name="textAreaTop" fmla="*/ -360 h 507960"/>
              <a:gd name="textAreaBottom" fmla="*/ 507960 h 507960"/>
            </a:gdLst>
            <a:ahLst/>
            <a:rect l="textAreaLeft" t="textAreaTop" r="textAreaRight" b="textAreaBottom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 type="dt" idx="22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 type="ftr" idx="23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 type="sldNum" idx="24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3D069-D62E-415B-BCDB-F59C4B4C6759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1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552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626040"/>
                <a:gd name="textAreaBottom" fmla="*/ 626400 h 62604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53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>
                <a:gd name="textAreaLeft" fmla="*/ 0 w 449280"/>
                <a:gd name="textAreaRight" fmla="*/ 449640 w 44928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54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>
                <a:gd name="textAreaLeft" fmla="*/ 0 w 423360"/>
                <a:gd name="textAreaRight" fmla="*/ 423720 w 423360"/>
                <a:gd name="textAreaTop" fmla="*/ 0 h 1420200"/>
                <a:gd name="textAreaBottom" fmla="*/ 1420200 h 142020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55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56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>
                <a:gd name="textAreaLeft" fmla="*/ 0 w 570960"/>
                <a:gd name="textAreaRight" fmla="*/ 571320 w 570960"/>
                <a:gd name="textAreaTop" fmla="*/ 0 h 3328560"/>
                <a:gd name="textAreaBottom" fmla="*/ 3328920 h 332856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57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2927880"/>
                <a:gd name="textAreaBottom" fmla="*/ 2928240 h 292788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58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59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>
                <a:gd name="textAreaLeft" fmla="*/ 0 w 131760"/>
                <a:gd name="textAreaRight" fmla="*/ 132120 w 131760"/>
                <a:gd name="textAreaTop" fmla="*/ 0 h 1024920"/>
                <a:gd name="textAreaBottom" fmla="*/ 1025280 h 102492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60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>
                <a:gd name="textAreaLeft" fmla="*/ 0 w 1442520"/>
                <a:gd name="textAreaRight" fmla="*/ 1442880 w 144252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61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337320"/>
                <a:gd name="textAreaBottom" fmla="*/ 337680 h 33732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62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21760"/>
                <a:gd name="textAreaBottom" fmla="*/ 222120 h 22176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63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>
                <a:gd name="textAreaLeft" fmla="*/ 0 w 165600"/>
                <a:gd name="textAreaRight" fmla="*/ 165960 w 165600"/>
                <a:gd name="textAreaTop" fmla="*/ 0 h 622440"/>
                <a:gd name="textAreaBottom" fmla="*/ 622800 h 62244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564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565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>
                <a:gd name="textAreaLeft" fmla="*/ 0 w 409320"/>
                <a:gd name="textAreaRight" fmla="*/ 409680 w 409320"/>
                <a:gd name="textAreaTop" fmla="*/ 0 h 4401360"/>
                <a:gd name="textAreaBottom" fmla="*/ 4401720 h 440136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66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>
                <a:gd name="textAreaLeft" fmla="*/ 0 w 350640"/>
                <a:gd name="textAreaRight" fmla="*/ 351000 w 350640"/>
                <a:gd name="textAreaTop" fmla="*/ 0 h 1580760"/>
                <a:gd name="textAreaBottom" fmla="*/ 1581120 h 158076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67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>
                <a:gd name="textAreaLeft" fmla="*/ 0 w 357120"/>
                <a:gd name="textAreaRight" fmla="*/ 357480 w 35712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68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2235960"/>
                <a:gd name="textAreaBottom" fmla="*/ 2236320 h 223596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69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70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281520"/>
                <a:gd name="textAreaBottom" fmla="*/ 281880 h 28152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71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511560"/>
                <a:gd name="textAreaBottom" fmla="*/ 511920 h 51156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72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2716920"/>
                <a:gd name="textAreaBottom" fmla="*/ 2717280 h 271692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73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252720"/>
                <a:gd name="textAreaBottom" fmla="*/ 253080 h 25272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74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674280"/>
                <a:gd name="textAreaBottom" fmla="*/ 674640 h 67428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75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227880"/>
                <a:gd name="textAreaBottom" fmla="*/ 228240 h 22788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76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530640"/>
                <a:gd name="textAreaBottom" fmla="*/ 531000 h 53064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77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8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>
              <a:gd name="textAreaLeft" fmla="*/ 0 w 1359000"/>
              <a:gd name="textAreaRight" fmla="*/ 1359360 w 1359000"/>
              <a:gd name="textAreaTop" fmla="*/ -360 h 507960"/>
              <a:gd name="textAreaBottom" fmla="*/ 507960 h 507960"/>
            </a:gdLst>
            <a:ahLst/>
            <a:rect l="textAreaLeft" t="textAreaTop" r="textAreaRight" b="textAreaBottom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 type="dt" idx="25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 type="ftr" idx="26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 type="sldNum" idx="27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29CFA-1F0E-4B98-9B6F-1889AD298CAE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340760" cy="3429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5400"/>
            </a:br>
            <a:r>
              <a:rPr b="1" lang="ru-RU" sz="5400" spc="-1" strike="noStrike">
                <a:solidFill>
                  <a:srgbClr val="920000"/>
                </a:solidFill>
                <a:latin typeface="Century Gothic"/>
              </a:rPr>
              <a:t>Перестройка в СССР</a:t>
            </a:r>
            <a:endParaRPr b="0" lang="en-US" sz="54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77" name="PlaceHolder 2"/>
          <p:cNvSpPr>
            <a:spLocks noGrp="1"/>
          </p:cNvSpPr>
          <p:nvPr>
            <p:ph type="subTitle"/>
          </p:nvPr>
        </p:nvSpPr>
        <p:spPr>
          <a:xfrm>
            <a:off x="837720" y="2410920"/>
            <a:ext cx="7162920" cy="383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000064"/>
                </a:solidFill>
                <a:latin typeface="Century Gothic"/>
              </a:rPr>
              <a:t>1985-1991гг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indent="0" algn="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indent="0" algn="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indent="0" algn="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indent="0" algn="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indent="0" algn="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920000"/>
                </a:solidFill>
                <a:latin typeface="Century Gothic"/>
              </a:rPr>
              <a:t>Итоги: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6" name=""/>
          <p:cNvSpPr txBox="1"/>
          <p:nvPr/>
        </p:nvSpPr>
        <p:spPr>
          <a:xfrm>
            <a:off x="304560" y="1828800"/>
            <a:ext cx="8762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Wingdings" charset="2"/>
              <a:buChar char="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Легализация «теневой экономики»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Wingdings" charset="2"/>
              <a:buChar char="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Начало товарного голода и всеобщего талонирования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Wingdings" charset="2"/>
              <a:buChar char="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Появление инфляции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Wingdings" charset="2"/>
              <a:buChar char="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Рост денег на сберкнижках, не обеспечен-ных товарами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Wingdings" charset="2"/>
              <a:buChar char="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Социальная напряженность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920000"/>
                </a:solidFill>
                <a:latin typeface="Century Gothic"/>
              </a:rPr>
              <a:t>III </a:t>
            </a:r>
            <a:r>
              <a:rPr b="1" lang="ru-RU" sz="3600" spc="-1" strike="noStrike">
                <a:solidFill>
                  <a:srgbClr val="920000"/>
                </a:solidFill>
                <a:latin typeface="Century Gothic"/>
              </a:rPr>
              <a:t>этап 1989-1991гг.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8" name=""/>
          <p:cNvSpPr txBox="1"/>
          <p:nvPr/>
        </p:nvSpPr>
        <p:spPr>
          <a:xfrm>
            <a:off x="456840" y="2057040"/>
            <a:ext cx="84582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Century Gothic"/>
              </a:rPr>
              <a:t>Цель: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Курс на переход к регулируемому рынку.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7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920000"/>
                </a:solidFill>
                <a:latin typeface="Century Gothic"/>
              </a:rPr>
              <a:t>Мероприятия:</a:t>
            </a: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00" name=""/>
          <p:cNvSpPr txBox="1"/>
          <p:nvPr/>
        </p:nvSpPr>
        <p:spPr>
          <a:xfrm>
            <a:off x="22824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64"/>
                </a:solidFill>
                <a:latin typeface="Century Gothic"/>
              </a:rPr>
              <a:t>1. </a:t>
            </a: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Программа «500 дней» Шаталина-Явлинского: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000064"/>
              </a:buClr>
              <a:buFont typeface="Wingdings" charset="2"/>
              <a:buChar char="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провести в сжатый срок поэтапную кардинальную приватизацию с ориентацией на прямой переход к свободным рыночным ценам;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000064"/>
              </a:buClr>
              <a:buFont typeface="Wingdings" charset="2"/>
              <a:buChar char="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существенно ограничить экономическую власть центра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500"/>
            </a:br>
            <a:r>
              <a:rPr b="1" lang="ru-RU" sz="2500" spc="-1" strike="noStrike">
                <a:solidFill>
                  <a:srgbClr val="920000"/>
                </a:solidFill>
                <a:latin typeface="Century Gothic"/>
              </a:rPr>
              <a:t>2. «Основные направления по стабилизации народного хозяйства и перехода к рыночной экономике»</a:t>
            </a:r>
            <a:br>
              <a:rPr sz="2500"/>
            </a:br>
            <a:endParaRPr b="0" lang="en-US" sz="25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457200" y="2971800"/>
            <a:ext cx="8229600" cy="36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Wingdings" charset="2"/>
              <a:buChar char="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Постепенная демонополизация, децентрализация и приватизация;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Wingdings" charset="2"/>
              <a:buChar char="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отказ от программы «500 дней»; 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Wingdings" charset="2"/>
              <a:buChar char="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обмен 50-100 рублевых купюр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920000"/>
                </a:solidFill>
                <a:latin typeface="Century Gothic"/>
              </a:rPr>
              <a:t>Итоги:</a:t>
            </a: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04" name=""/>
          <p:cNvSpPr txBox="1"/>
          <p:nvPr/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Wingdings" charset="2"/>
              <a:buChar char="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Начало абсолютного спада промышленного производства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Wingdings" charset="2"/>
              <a:buChar char="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В 1990 году национальный доход сократился на 4 %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Wingdings" charset="2"/>
              <a:buChar char="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Инфляция к концу 1991 г. достигла 25% в неделю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Wingdings" charset="2"/>
              <a:buChar char="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Бюджетный дефицит составлял 200 млрд. рублей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Wingdings" charset="2"/>
              <a:buChar char="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Нормированное распределение товаров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900" spc="-1" strike="noStrike">
                <a:solidFill>
                  <a:srgbClr val="920000"/>
                </a:solidFill>
                <a:latin typeface="Century Gothic"/>
              </a:rPr>
              <a:t>Причины неудач экономических реформ</a:t>
            </a:r>
            <a:endParaRPr b="0" lang="en-US" sz="29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06" name=""/>
          <p:cNvSpPr txBox="1"/>
          <p:nvPr/>
        </p:nvSpPr>
        <p:spPr>
          <a:xfrm>
            <a:off x="457200" y="12193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Непоследовательность и промедление в осуществлении реформы.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Многие правильные законы, принятые «наверху», выхолащивались бюрократами на местах. 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Механизм и сроки реализации мероприятий были намечены приблизительно и неконкретно.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Не проработали вопросы реформирования кредитной и ценовой политики.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Психологическая неподготовленность большинства руководителей к переходу к рынку</a:t>
            </a: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ru-RU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08" name=""/>
          <p:cNvSpPr txBox="1"/>
          <p:nvPr/>
        </p:nvSpPr>
        <p:spPr>
          <a:xfrm>
            <a:off x="1942920" y="2133360"/>
            <a:ext cx="659124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920000"/>
                </a:solidFill>
                <a:latin typeface="Century Gothic"/>
              </a:rPr>
              <a:t>Этапы политической реформы в СССР 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920000"/>
                </a:solidFill>
                <a:latin typeface="Century Gothic"/>
              </a:rPr>
              <a:t>(1988—1991)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920000"/>
                </a:solidFill>
                <a:latin typeface="Century Gothic"/>
              </a:rPr>
              <a:t>I </a:t>
            </a:r>
            <a:r>
              <a:rPr b="1" lang="ru-RU" sz="3200" spc="-1" strike="noStrike">
                <a:solidFill>
                  <a:srgbClr val="920000"/>
                </a:solidFill>
                <a:latin typeface="Century Gothic"/>
              </a:rPr>
              <a:t>этап - «кадровая революция»</a:t>
            </a:r>
            <a:r>
              <a:rPr b="0" lang="ru-RU" sz="3200" spc="-1" strike="noStrike">
                <a:solidFill>
                  <a:srgbClr val="262626"/>
                </a:solidFill>
                <a:latin typeface="Century Gothic"/>
              </a:rPr>
              <a:t> </a:t>
            </a:r>
            <a:endParaRPr b="0" lang="en-US" sz="32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10" name=""/>
          <p:cNvSpPr txBox="1"/>
          <p:nvPr/>
        </p:nvSpPr>
        <p:spPr>
          <a:xfrm>
            <a:off x="22824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Century Gothic"/>
              </a:rPr>
              <a:t>Цели:</a:t>
            </a: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совершенствование общества и выправление «отдельных деформаций» социализма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920000"/>
                </a:solidFill>
                <a:latin typeface="Century Gothic"/>
              </a:rPr>
              <a:t>Мероприятия:</a:t>
            </a:r>
            <a:endParaRPr b="0" lang="en-US" sz="32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12" name=""/>
          <p:cNvSpPr txBox="1"/>
          <p:nvPr/>
        </p:nvSpPr>
        <p:spPr>
          <a:xfrm>
            <a:off x="152280" y="1447920"/>
            <a:ext cx="86868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  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entury Gothic"/>
              </a:rPr>
              <a:t>Январь 1987 г.</a:t>
            </a: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  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Подбор кадров на основании главного критерия - поддержка целей и идей перестройки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000064"/>
              </a:buClr>
              <a:buFont typeface="Wingdings" charset="2"/>
              <a:buChar char="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омоложение кадров;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000064"/>
              </a:buClr>
              <a:buFont typeface="Wingdings" charset="2"/>
              <a:buChar char="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усиление местных руководителей, критика консерваторов;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000064"/>
              </a:buClr>
              <a:buFont typeface="Wingdings" charset="2"/>
              <a:buChar char="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вводились альтернативные выборы партийных секретарей;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000064"/>
              </a:buClr>
              <a:buFont typeface="Wingdings" charset="2"/>
              <a:buChar char="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открытое голосование заменялось тайным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920000"/>
                </a:solidFill>
                <a:latin typeface="Century Gothic"/>
              </a:rPr>
              <a:t>II </a:t>
            </a:r>
            <a:r>
              <a:rPr b="1" lang="ru-RU" sz="4000" spc="-1" strike="noStrike">
                <a:solidFill>
                  <a:srgbClr val="920000"/>
                </a:solidFill>
                <a:latin typeface="Century Gothic"/>
              </a:rPr>
              <a:t>этап </a:t>
            </a: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14" name=""/>
          <p:cNvSpPr txBox="1"/>
          <p:nvPr/>
        </p:nvSpPr>
        <p:spPr>
          <a:xfrm>
            <a:off x="22824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Начало осуществления реформы политической системы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Провозглашение целью реформы соединения социалистических ценностей с элементами либерализма.</a:t>
            </a: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685440" y="774720"/>
            <a:ext cx="7340760" cy="1636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700" spc="-1" strike="noStrike">
                <a:solidFill>
                  <a:srgbClr val="920000"/>
                </a:solidFill>
                <a:latin typeface="Century Gothic"/>
              </a:rPr>
              <a:t>Реформы в экономике</a:t>
            </a:r>
            <a:endParaRPr b="0" lang="en-US" sz="4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 type="subTitle"/>
          </p:nvPr>
        </p:nvSpPr>
        <p:spPr>
          <a:xfrm>
            <a:off x="121932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64"/>
                </a:solidFill>
                <a:latin typeface="Century Gothic"/>
              </a:rPr>
              <a:t>1985-1991гг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792504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920000"/>
                </a:solidFill>
                <a:latin typeface="Century Gothic"/>
              </a:rPr>
              <a:t>Мероприятия.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16" name=""/>
          <p:cNvSpPr txBox="1"/>
          <p:nvPr/>
        </p:nvSpPr>
        <p:spPr>
          <a:xfrm>
            <a:off x="151920" y="1447560"/>
            <a:ext cx="89917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entury Gothic"/>
              </a:rPr>
              <a:t>Лето 1988 г. -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XIX </a:t>
            </a: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Всесоюзная партийная конференция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entury Gothic"/>
              </a:rPr>
              <a:t>Итоги: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Курс на построение «социалистического правового государства»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Утверждение принципа разделения властей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Формирование «советского парламентаризма»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Учреждение Съезда народных депутатов СССР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Превращение Верховного Совета СССР в постоянно действующий парламент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920000"/>
                </a:solidFill>
                <a:latin typeface="Century Gothic"/>
              </a:rPr>
              <a:t>Политические события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18" name=""/>
          <p:cNvSpPr txBox="1"/>
          <p:nvPr/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1989г. Выборы и первые Съезды народных депутатов СССР. Политизация и радикализация общественного сознания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1990г.«Парад суверенитетов». Учреждение поста Президента СССР. Нарастание противоречий между законодательной и исполнительной властью. Начало ликвидации монополии КПСС на власть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1991г. Попытки подписания нового Союзного договора. Ослабление позиций консерваторов. ГКЧП. 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7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920000"/>
                </a:solidFill>
                <a:latin typeface="Century Gothic"/>
              </a:rPr>
              <a:t>ПРЕДПОСЫЛКИ РАСПАДА СССР</a:t>
            </a:r>
            <a:endParaRPr b="0" lang="en-US" sz="2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20" name=""/>
          <p:cNvSpPr txBox="1"/>
          <p:nvPr/>
        </p:nvSpPr>
        <p:spPr>
          <a:xfrm>
            <a:off x="380520" y="1523880"/>
            <a:ext cx="853452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Зарождение национального и регионального экономического изоляционизма вследствие неэффективности советской экономической системы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Ликвидация тоталитарной системы и монополии КПСС на власть, которые составляли каркас СССР и как обручем стягивали союзные республики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Борьба за власть между центральными и национально-региональными элитами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Отсутствие разумного баланса в полномочиях центра и национальных республик. Диктат центральной власти в отношении национально-государственных образований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848720" cy="94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920000"/>
                </a:solidFill>
                <a:latin typeface="Century Gothic"/>
              </a:rPr>
              <a:t>ОБОСТРЕНИЕ МЕЖНАЦИОНАЛЬНЫХ ОТНОШЕНИЙ В ПЕРИОД ПЕРЕСТРОЙКИ</a:t>
            </a:r>
            <a:endParaRPr b="0" lang="en-US" sz="24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22" name="Rectangle 4"/>
          <p:cNvSpPr/>
          <p:nvPr/>
        </p:nvSpPr>
        <p:spPr>
          <a:xfrm>
            <a:off x="531720" y="1677960"/>
            <a:ext cx="3048120" cy="1065240"/>
          </a:xfrm>
          <a:prstGeom prst="rect">
            <a:avLst/>
          </a:prstGeom>
          <a:solidFill>
            <a:srgbClr val="a53010"/>
          </a:solidFill>
          <a:ln w="25560">
            <a:solidFill>
              <a:srgbClr val="0000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4"/>
                </a:solidFill>
                <a:latin typeface="Arial"/>
              </a:rPr>
              <a:t>Экономический кризис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4"/>
                </a:solidFill>
                <a:latin typeface="Arial"/>
              </a:rPr>
              <a:t>охвативший все отрасл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4"/>
                </a:solidFill>
                <a:latin typeface="Arial"/>
              </a:rPr>
              <a:t>народного хозяйств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3" name="Rectangle 5"/>
          <p:cNvSpPr/>
          <p:nvPr/>
        </p:nvSpPr>
        <p:spPr>
          <a:xfrm>
            <a:off x="5257800" y="1676520"/>
            <a:ext cx="3429000" cy="1066680"/>
          </a:xfrm>
          <a:prstGeom prst="rect">
            <a:avLst/>
          </a:prstGeom>
          <a:solidFill>
            <a:srgbClr val="a53010"/>
          </a:solidFill>
          <a:ln w="25560">
            <a:solidFill>
              <a:srgbClr val="0000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4"/>
                </a:solidFill>
                <a:latin typeface="Arial"/>
              </a:rPr>
              <a:t>Непоследовательность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4"/>
                </a:solidFill>
                <a:latin typeface="Arial"/>
              </a:rPr>
              <a:t>и противоречивость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4"/>
                </a:solidFill>
                <a:latin typeface="Arial"/>
              </a:rPr>
              <a:t>национальной политик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4" name="Rectangle 6"/>
          <p:cNvSpPr/>
          <p:nvPr/>
        </p:nvSpPr>
        <p:spPr>
          <a:xfrm>
            <a:off x="3048120" y="3581280"/>
            <a:ext cx="2666880" cy="1143000"/>
          </a:xfrm>
          <a:prstGeom prst="rect">
            <a:avLst/>
          </a:prstGeom>
          <a:solidFill>
            <a:srgbClr val="a53010"/>
          </a:solidFill>
          <a:ln w="25560">
            <a:solidFill>
              <a:srgbClr val="0000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4"/>
                </a:solidFill>
                <a:latin typeface="Arial"/>
              </a:rPr>
              <a:t>Углублени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4"/>
                </a:solidFill>
                <a:latin typeface="Arial"/>
              </a:rPr>
              <a:t>межнациональных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4"/>
                </a:solidFill>
                <a:latin typeface="Arial"/>
              </a:rPr>
              <a:t>противоречий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5" name="Rectangle 7"/>
          <p:cNvSpPr/>
          <p:nvPr/>
        </p:nvSpPr>
        <p:spPr>
          <a:xfrm>
            <a:off x="1447920" y="5410080"/>
            <a:ext cx="6019560" cy="1143000"/>
          </a:xfrm>
          <a:prstGeom prst="rect">
            <a:avLst/>
          </a:prstGeom>
          <a:solidFill>
            <a:srgbClr val="a53010"/>
          </a:solidFill>
          <a:ln w="25560">
            <a:solidFill>
              <a:srgbClr val="0000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4"/>
                </a:solidFill>
                <a:latin typeface="Arial"/>
              </a:rPr>
              <a:t>В условиях развития гласности и демократи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4"/>
                </a:solidFill>
                <a:latin typeface="Arial"/>
              </a:rPr>
              <a:t>они приводят к открытым национальным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4"/>
                </a:solidFill>
                <a:latin typeface="Arial"/>
              </a:rPr>
              <a:t>конфликтам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6" name="Line 8"/>
          <p:cNvSpPr/>
          <p:nvPr/>
        </p:nvSpPr>
        <p:spPr>
          <a:xfrm>
            <a:off x="1828800" y="2743200"/>
            <a:ext cx="2286000" cy="762120"/>
          </a:xfrm>
          <a:prstGeom prst="line">
            <a:avLst/>
          </a:prstGeom>
          <a:ln w="25560">
            <a:solidFill>
              <a:srgbClr val="00006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7" name="Line 9"/>
          <p:cNvSpPr/>
          <p:nvPr/>
        </p:nvSpPr>
        <p:spPr>
          <a:xfrm flipH="1">
            <a:off x="4647960" y="2743200"/>
            <a:ext cx="2514600" cy="762120"/>
          </a:xfrm>
          <a:prstGeom prst="line">
            <a:avLst/>
          </a:prstGeom>
          <a:ln w="25560">
            <a:solidFill>
              <a:srgbClr val="00006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8" name="Line 10"/>
          <p:cNvSpPr/>
          <p:nvPr/>
        </p:nvSpPr>
        <p:spPr>
          <a:xfrm>
            <a:off x="4419720" y="4800600"/>
            <a:ext cx="0" cy="533520"/>
          </a:xfrm>
          <a:prstGeom prst="line">
            <a:avLst/>
          </a:prstGeom>
          <a:ln w="25560">
            <a:solidFill>
              <a:srgbClr val="00006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7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920000"/>
                </a:solidFill>
                <a:latin typeface="Century Gothic"/>
              </a:rPr>
              <a:t>Национальные конфликты</a:t>
            </a:r>
            <a:endParaRPr b="0" lang="en-US" sz="32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0" name=""/>
          <p:cNvSpPr txBox="1"/>
          <p:nvPr/>
        </p:nvSpPr>
        <p:spPr>
          <a:xfrm>
            <a:off x="151920" y="1447920"/>
            <a:ext cx="899172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Митинги и демонстрации в Алма-Ате (Казахстан) против русификации (1986 г.)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Карабахская проблема, конфликт между Арменией и Азербайджаном с 1988 г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Волнения в Узбекистане между турками-месхетинцами и узбеками (1989 г.)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Создание Народных фронтов в союзных республиках, превратившихся в центры сепаратистских движений (с 1988 г.)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Межэтнические столкновения в Киргизии (1989 г.)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Вооруженные столкновения в Абхазии (с 1989 г.)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920000"/>
                </a:solidFill>
                <a:latin typeface="Century Gothic"/>
              </a:rPr>
              <a:t>«Новое мышление» </a:t>
            </a:r>
            <a:br>
              <a:rPr sz="3600"/>
            </a:br>
            <a:r>
              <a:rPr b="1" lang="ru-RU" sz="3600" spc="-1" strike="noStrike">
                <a:solidFill>
                  <a:srgbClr val="920000"/>
                </a:solidFill>
                <a:latin typeface="Century Gothic"/>
              </a:rPr>
              <a:t>во внешней политике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900" spc="-1" strike="noStrike">
                <a:solidFill>
                  <a:srgbClr val="920000"/>
                </a:solidFill>
                <a:latin typeface="Century Gothic"/>
              </a:rPr>
              <a:t>Проблема</a:t>
            </a:r>
            <a:r>
              <a:rPr b="1" lang="ru-RU" sz="2900" spc="-1" strike="noStrike">
                <a:solidFill>
                  <a:srgbClr val="920000"/>
                </a:solidFill>
                <a:latin typeface="Century Gothic"/>
              </a:rPr>
              <a:t> </a:t>
            </a:r>
            <a:endParaRPr b="0" lang="en-US" sz="29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3" name=""/>
          <p:cNvSpPr txBox="1"/>
          <p:nvPr/>
        </p:nvSpPr>
        <p:spPr>
          <a:xfrm>
            <a:off x="228600" y="16002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64"/>
                </a:solidFill>
                <a:latin typeface="Century Gothic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Внешняя политика М.С, Горбачева оценивалась и оценивается крайне неоднозначно.</a:t>
            </a: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Одна из точек зрения «новое политическое мышление» привело к фактической капитуляции перед Западом, к поражению в холодной войне. 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Противоположная позиция - Горбачев начал процесс, позволивший в конечном счете всему миру избавиться от угрозы ядерной катастрофы, а России - занять достойное место в системе цивилизованных международных отношений. 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Какие аргументы можно привести в пользу той и другой позиции? 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Какие еще оценки можно высказать?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1371600" y="560160"/>
            <a:ext cx="7772400" cy="81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500" spc="-1" strike="noStrike">
                <a:solidFill>
                  <a:srgbClr val="920000"/>
                </a:solidFill>
                <a:latin typeface="Century Gothic"/>
              </a:rPr>
              <a:t>Внешнеполитическая ситуация начала 80-х гг.</a:t>
            </a:r>
            <a:br>
              <a:rPr sz="2500"/>
            </a:br>
            <a:endParaRPr b="0" lang="en-US" sz="25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5" name=""/>
          <p:cNvSpPr txBox="1"/>
          <p:nvPr/>
        </p:nvSpPr>
        <p:spPr>
          <a:xfrm>
            <a:off x="228240" y="1676520"/>
            <a:ext cx="8839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64"/>
                </a:solidFill>
                <a:latin typeface="Century Gothic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«Два мира - две системы» (СССР - США, ОВД - НАТО), борьба за сферы влияния в глобальном масштабе.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Гонка стратегических и обычных вооружений, изматывающая СССР, американская программа СОЙ с участием НАТО и Японии.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Война в Афганистане, присутствие СССР в «горячих точках» планеты.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Неблагоприятная для СССР внешнеполитическая ситуация (падение цен на нефть, технологическая блокада, рост внешнего долга и продовольственная зависимость).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Рост напряженности в странах «социалистического содружества» при реализации доктрины «ограниченного суверенитета».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Появление новых центров силы (Западная Европа, Япония, страны Юго-Восточной Азии, новая роль Китая).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600" spc="-1" strike="noStrike">
                <a:solidFill>
                  <a:srgbClr val="920000"/>
                </a:solidFill>
                <a:latin typeface="Century Gothic"/>
              </a:rPr>
              <a:t>Основные принципы нового политического мышления</a:t>
            </a:r>
            <a:r>
              <a:rPr b="0" lang="ru-RU" sz="4000" spc="-1" strike="noStrike">
                <a:solidFill>
                  <a:srgbClr val="262626"/>
                </a:solidFill>
                <a:latin typeface="Century Gothic"/>
              </a:rPr>
              <a:t> </a:t>
            </a: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7" name=""/>
          <p:cNvSpPr txBox="1"/>
          <p:nvPr/>
        </p:nvSpPr>
        <p:spPr>
          <a:xfrm>
            <a:off x="456840" y="1569600"/>
            <a:ext cx="853452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признание оружия массового поражения непригодным инструментом в решении внешнеполитических задач, создающим опасность для существования всего человечества;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провозглашение приоритета общечеловеческих интересов над классовыми или национальными;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общая задачей всех государств — решение глобальных проблем (в частности проблем экологии, экономического положения стран «третьего мира» и т.п.);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противостояние СССР и США должны уйти в прошлое; все разногласия могут быть разрешены на основе взаимных уступок и компромиссов, опирающихся на нормы Международного права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457200" y="88416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900" spc="-1" strike="noStrike">
                <a:solidFill>
                  <a:srgbClr val="920000"/>
                </a:solidFill>
                <a:latin typeface="Century Gothic"/>
              </a:rPr>
              <a:t>Основные события</a:t>
            </a:r>
            <a:endParaRPr b="0" lang="en-US" sz="29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9" name=""/>
          <p:cNvSpPr txBox="1"/>
          <p:nvPr/>
        </p:nvSpPr>
        <p:spPr>
          <a:xfrm>
            <a:off x="151920" y="1599840"/>
            <a:ext cx="8991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1987 - соглашение о ликвидации ракет средней и малой дальности в Европе.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1988 - 1991 — кризис и распад ОВД, СЭВ.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1989 - вывод советских войск из Афганистана.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1990 - объединение ФРГ и ГДР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1991 - заключение договора о сокращении стратегических наступательных вооружений (СНВ-1).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1991 – «Буря в пустыне» - военная операция США в Ираке.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Rectangle 5"/>
          <p:cNvSpPr/>
          <p:nvPr/>
        </p:nvSpPr>
        <p:spPr>
          <a:xfrm>
            <a:off x="380880" y="1447920"/>
            <a:ext cx="84582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ерестройка началась в обстановке всеобщей эйфории, ожидания быстрых перемен во всех сферах жизни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вершилась же она гибелью огромного евразийского государства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зникает вопрос: а надо ли было затевать столь рискованный социальный эксперимент?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ыл ли он объективно необходимым, предопределен предшествующим развитием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1" name="Rectangle 6"/>
          <p:cNvSpPr/>
          <p:nvPr/>
        </p:nvSpPr>
        <p:spPr>
          <a:xfrm>
            <a:off x="685800" y="609480"/>
            <a:ext cx="7340760" cy="7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800" spc="-1" strike="noStrike">
                <a:solidFill>
                  <a:srgbClr val="920000"/>
                </a:solidFill>
                <a:latin typeface="Garamond"/>
              </a:rPr>
              <a:t>Проблема</a:t>
            </a:r>
            <a:endParaRPr b="0" lang="en-US" sz="5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1219320" y="807840"/>
            <a:ext cx="7315200" cy="63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300" spc="-1" strike="noStrike">
                <a:solidFill>
                  <a:srgbClr val="920000"/>
                </a:solidFill>
                <a:latin typeface="Century Gothic"/>
              </a:rPr>
              <a:t>ПРОТИВОРЕЧИВЫЙ ХАРАКТЕР ИТОГОВ ПЕРЕСТРОЙКИ</a:t>
            </a:r>
            <a:endParaRPr b="0" lang="en-US" sz="23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41" name=""/>
          <p:cNvSpPr txBox="1"/>
          <p:nvPr/>
        </p:nvSpPr>
        <p:spPr>
          <a:xfrm>
            <a:off x="457200" y="15235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920000"/>
                </a:solidFill>
                <a:latin typeface="Century Gothic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   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Century Gothic"/>
              </a:rPr>
              <a:t>Позитивные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Wingdings" charset="2"/>
              <a:buChar char="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Разрушение тоталитарной системы и ее атрибутов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Wingdings" charset="2"/>
              <a:buChar char="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Утверждение политических свобод и свободы совести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Wingdings" charset="2"/>
              <a:buChar char="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Создание постоянно действующего парламента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Wingdings" charset="2"/>
              <a:buChar char="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Начало демилитаризации страны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Wingdings" charset="2"/>
              <a:buChar char="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Ликвидация гонки вооружений и военного противостояния держав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1294920" y="838080"/>
            <a:ext cx="807732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300" spc="-1" strike="noStrike">
                <a:solidFill>
                  <a:srgbClr val="920000"/>
                </a:solidFill>
                <a:latin typeface="Century Gothic"/>
              </a:rPr>
              <a:t>ПРОТИВОРЕЧИВЫЙ ХАРАКТЕР ИТОГОВ ПЕРЕСТРОЙКИ</a:t>
            </a:r>
            <a:endParaRPr b="0" lang="en-US" sz="23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43" name=""/>
          <p:cNvSpPr txBox="1"/>
          <p:nvPr/>
        </p:nvSpPr>
        <p:spPr>
          <a:xfrm>
            <a:off x="456840" y="1523520"/>
            <a:ext cx="85345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   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Century Gothic"/>
              </a:rPr>
              <a:t>Негативные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000064"/>
              </a:buClr>
              <a:buFont typeface="Wingdings" charset="2"/>
              <a:buChar char="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Обострение межнациональных противоречий 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000064"/>
              </a:buClr>
              <a:buFont typeface="Wingdings" charset="2"/>
              <a:buChar char="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Ухудшение социально-экономического положения населения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000064"/>
              </a:buClr>
              <a:buFont typeface="Wingdings" charset="2"/>
              <a:buChar char="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Ослабление власти в центре и на местах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000064"/>
              </a:buClr>
              <a:buFont typeface="Wingdings" charset="2"/>
              <a:buChar char="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Нарушение экономических связей между бывшими республиками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000064"/>
              </a:buClr>
              <a:buFont typeface="Wingdings" charset="2"/>
              <a:buChar char="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Ослабление обороноспособности всех республик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000064"/>
              </a:buClr>
              <a:buFont typeface="Wingdings" charset="2"/>
              <a:buChar char="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Распад СССР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609480" y="536400"/>
            <a:ext cx="7925040" cy="8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3600" spc="-1" strike="noStrike">
                <a:solidFill>
                  <a:srgbClr val="920000"/>
                </a:solidFill>
                <a:latin typeface="Century Gothic"/>
              </a:rPr>
              <a:t>Проблемы начала 80-х </a:t>
            </a:r>
            <a:r>
              <a:rPr b="0" i="1" lang="ru-RU" sz="3600" spc="-1" strike="noStrike">
                <a:solidFill>
                  <a:srgbClr val="920000"/>
                </a:solidFill>
                <a:latin typeface="Century Gothic"/>
              </a:rPr>
              <a:t>гг.: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83" name=""/>
          <p:cNvSpPr txBox="1"/>
          <p:nvPr/>
        </p:nvSpPr>
        <p:spPr>
          <a:xfrm>
            <a:off x="533520" y="1600200"/>
            <a:ext cx="861048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Падение темпов роста промышленного производства и производительности труда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Научно-технический разрыв с Западом. СССР превращается в сырьевой придаток СЭВ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Сокращение доходов от экспорта, рост внешнего долга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Непосильная гонка вооружений, рост внешнеэкономической изоляции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Продовольственные проблемы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Падение дисциплины, паралич общественного сознания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Отсутствие отечественных товаров массового спроса, затоваривание некачественными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920000"/>
                </a:solidFill>
                <a:latin typeface="Century Gothic"/>
              </a:rPr>
              <a:t>Этапы экономических реформ </a:t>
            </a:r>
            <a:br>
              <a:rPr sz="3200"/>
            </a:br>
            <a:r>
              <a:rPr b="1" lang="ru-RU" sz="3200" spc="-1" strike="noStrike">
                <a:solidFill>
                  <a:srgbClr val="920000"/>
                </a:solidFill>
                <a:latin typeface="Century Gothic"/>
              </a:rPr>
              <a:t>1985-1991 гг.</a:t>
            </a:r>
            <a:endParaRPr b="0" lang="en-US" sz="32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85" name="Rectangle 4"/>
          <p:cNvSpPr/>
          <p:nvPr/>
        </p:nvSpPr>
        <p:spPr>
          <a:xfrm>
            <a:off x="609480" y="1676520"/>
            <a:ext cx="480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20000"/>
                </a:solidFill>
                <a:latin typeface="Verdana"/>
              </a:rPr>
              <a:t>I </a:t>
            </a:r>
            <a:r>
              <a:rPr b="1" lang="ru-RU" sz="2000" spc="-1" strike="noStrike">
                <a:solidFill>
                  <a:srgbClr val="920000"/>
                </a:solidFill>
                <a:latin typeface="Verdana"/>
              </a:rPr>
              <a:t>этап</a:t>
            </a:r>
            <a:r>
              <a:rPr b="1" lang="en-US" sz="2000" spc="-1" strike="noStrike">
                <a:solidFill>
                  <a:srgbClr val="920000"/>
                </a:solidFill>
                <a:latin typeface="Verdana"/>
              </a:rPr>
              <a:t>           </a:t>
            </a:r>
            <a:r>
              <a:rPr b="1" lang="ru-RU" sz="2000" spc="-1" strike="noStrike">
                <a:solidFill>
                  <a:srgbClr val="920000"/>
                </a:solidFill>
                <a:latin typeface="Verdana"/>
              </a:rPr>
              <a:t>1985— 1986 гг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6" name="Text Box 5"/>
          <p:cNvSpPr/>
          <p:nvPr/>
        </p:nvSpPr>
        <p:spPr>
          <a:xfrm>
            <a:off x="609480" y="2819520"/>
            <a:ext cx="822960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Verdana"/>
              </a:rPr>
              <a:t>Цель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пытки реализации концепции ускорения социально-экономического развития стран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7924680" cy="76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200"/>
            </a:br>
            <a:r>
              <a:rPr b="1" lang="en-US" sz="2900" spc="-1" strike="noStrike">
                <a:solidFill>
                  <a:srgbClr val="920000"/>
                </a:solidFill>
                <a:latin typeface="Century Gothic"/>
              </a:rPr>
              <a:t>I </a:t>
            </a:r>
            <a:r>
              <a:rPr b="1" lang="ru-RU" sz="2900" spc="-1" strike="noStrike">
                <a:solidFill>
                  <a:srgbClr val="920000"/>
                </a:solidFill>
                <a:latin typeface="Century Gothic"/>
              </a:rPr>
              <a:t>этап</a:t>
            </a:r>
            <a:r>
              <a:rPr b="1" lang="en-US" sz="2900" spc="-1" strike="noStrike">
                <a:solidFill>
                  <a:srgbClr val="920000"/>
                </a:solidFill>
                <a:latin typeface="Century Gothic"/>
              </a:rPr>
              <a:t>   </a:t>
            </a:r>
            <a:r>
              <a:rPr b="1" lang="ru-RU" sz="2900" spc="-1" strike="noStrike">
                <a:solidFill>
                  <a:srgbClr val="920000"/>
                </a:solidFill>
                <a:latin typeface="Century Gothic"/>
              </a:rPr>
              <a:t>1985— 1986 гг.   </a:t>
            </a:r>
            <a:r>
              <a:rPr b="1" lang="ru-RU" sz="3200" spc="-1" strike="noStrike">
                <a:solidFill>
                  <a:srgbClr val="920000"/>
                </a:solidFill>
                <a:latin typeface="Century Gothic"/>
              </a:rPr>
              <a:t>Мероприятия:</a:t>
            </a:r>
            <a:endParaRPr b="0" lang="en-US" sz="32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88" name=""/>
          <p:cNvSpPr txBox="1"/>
          <p:nvPr/>
        </p:nvSpPr>
        <p:spPr>
          <a:xfrm>
            <a:off x="609120" y="16761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1) Шире использовать «скрытые резервы»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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максимальная загрузка производственных мощностей;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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многосменная работа;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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укрепление трудовой дисциплины;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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предложения рационализаторов;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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развитие соцсоревнования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2) Антиалкогольная кампания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3) Борьба с «нетрудовыми доходами»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4) Госприемка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7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920000"/>
                </a:solidFill>
                <a:latin typeface="Century Gothic"/>
              </a:rPr>
              <a:t>Итоги:</a:t>
            </a: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0" name=""/>
          <p:cNvSpPr txBox="1"/>
          <p:nvPr/>
        </p:nvSpPr>
        <p:spPr>
          <a:xfrm>
            <a:off x="914040" y="2133360"/>
            <a:ext cx="762012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64"/>
              </a:buClr>
              <a:buFont typeface="Wingdings" charset="2"/>
              <a:buChar char="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бюджет потерял 10 млрд. рублей за счет сокращения продажи спиртного;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000064"/>
              </a:buClr>
              <a:buFont typeface="Wingdings" charset="2"/>
              <a:buChar char="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200 тыс. инженеров работали на госприемку;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000064"/>
              </a:buClr>
              <a:buFont typeface="Wingdings" charset="2"/>
              <a:buChar char="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авария в Чернобыле 1986г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920000"/>
                </a:solidFill>
                <a:latin typeface="Century Gothic"/>
              </a:rPr>
              <a:t>II </a:t>
            </a:r>
            <a:r>
              <a:rPr b="1" lang="ru-RU" sz="3200" spc="-1" strike="noStrike">
                <a:solidFill>
                  <a:srgbClr val="920000"/>
                </a:solidFill>
                <a:latin typeface="Century Gothic"/>
              </a:rPr>
              <a:t>этап  1987-1989 гг.</a:t>
            </a:r>
            <a:endParaRPr b="0" lang="en-US" sz="32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2" name=""/>
          <p:cNvSpPr txBox="1"/>
          <p:nvPr/>
        </p:nvSpPr>
        <p:spPr>
          <a:xfrm>
            <a:off x="533160" y="144792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64"/>
                </a:solidFill>
                <a:latin typeface="Century Gothic"/>
              </a:rPr>
              <a:t>  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Century Gothic"/>
              </a:rPr>
              <a:t>Цель: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Ориентация на переход от административных методов к экономическим при сохранении централизованного управления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920000"/>
                </a:solidFill>
                <a:latin typeface="Century Gothic"/>
              </a:rPr>
              <a:t>Мероприятия:</a:t>
            </a:r>
            <a:endParaRPr b="0" lang="en-US" sz="32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4" name=""/>
          <p:cNvSpPr txBox="1"/>
          <p:nvPr/>
        </p:nvSpPr>
        <p:spPr>
          <a:xfrm>
            <a:off x="380880" y="1523880"/>
            <a:ext cx="86868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Расширение самостоятельности предприятий на принципах хозрасчета и самофинансирования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Постепенное возрождение частного сектора через кооперацию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Отказ от монополии внешней торговли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Более глубокая интеграция в мировой рынок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Сокращение числа отраслевых министерств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Аренда земли;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Признание равноправия новых форм хозяйств на селе (агрокомбинатов, арендных кооперативов и фермерских хозяйств) с колхозами и совхозами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Конверсия - перевод военно-промышленных предприятий на выпуск мирной продукции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dmin</dc:creator>
  <dc:description/>
  <dc:language>en-US</dc:language>
  <cp:lastModifiedBy>User</cp:lastModifiedBy>
  <dcterms:modified xsi:type="dcterms:W3CDTF">2019-06-09T12:59:23Z</dcterms:modified>
  <cp:revision>2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