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AEC5-8255-419C-8B95-5AFE2BD8DE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E243-910A-4CAE-8C17-13D387859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FD19-39CB-4EE3-AEFF-90BC7D64A6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955-A375-4DEB-B449-0D99FAA6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EA6-87B2-4A71-8EE3-56851494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CCB-B9FF-488A-9394-EDCF439B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3B8-9FFF-4D4D-B812-E4F734E1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0A7E-7899-40DE-BF94-23926A67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BE47-00F4-4621-A056-BAD0F8F8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DC75-3C29-4659-A673-4EFA8685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A039-09EB-4FF1-A714-0C4A75C7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12D1-D71F-4EC5-B8A8-4678E906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8E47-A5B9-4190-8F35-78950986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3AFA-1898-4970-ABAD-B2E02EEA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578-7A40-403F-9231-AD3682B0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266F-26C9-45B6-99D1-5B49D3C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3EFA-8248-4E34-A75B-B12C17B6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8223-B6B7-415A-A5B9-A27BAF5D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BB8E-71E3-4593-968B-F742B41E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B5B3-772F-42A4-8890-7168A628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0395-868B-4EFF-8CBC-41C02A78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80B9-1471-4FAB-AE7E-81E4F3E6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FC6A-6AF4-4010-86F5-2C2F211D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8D6C2-8E9A-4F40-94C4-D4C306FA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94E2-B4CE-4171-843A-E0A7363A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499-9770-4895-8C48-305FA9EA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B8D8-20A1-4E6C-8788-36ADB43C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6FE9-D375-4FE9-A978-B1555548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26CF-5EE0-4022-9C52-DB7D2353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5C48-289C-4140-BDAC-809CE0C4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E402-21ED-498E-A9B8-4DFDF498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D346F-0B2E-4102-BB69-D5DFEDAB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1A3F2-3AFB-4090-B32B-10FC4B96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0C74-2B0D-43E8-AF69-001F759F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11B04-7F84-4D20-ADEB-F93A5E52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9693A-4877-4841-AD8C-DA368214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879-299A-4C51-9F79-11A19AB8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51010-9F7D-4002-804A-102854D6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CF303-7637-435E-8DB1-DA2CCBAE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EF3B9-8318-4585-B625-A6E9ADDE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6293-7920-4B1F-87DC-5B0D7F2E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D5C9-88CE-47D3-9808-AA7181EC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92ED-55EE-4175-9EF2-8D0D4CA9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218E-1733-4D27-9A40-2C9CDF18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D9253-4BA0-474D-B726-95707C0B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F390-358A-4380-A5CD-B15CDC01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2842-386B-4F98-A0C1-BC3575CC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F50-1D90-4E79-813B-E56AC1AD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BC93C-C2B6-4236-BC23-A95D8F52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C165-43B5-4D66-8F00-580EF02F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ED0AA-E192-4578-8B31-C644B805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6C7FE-9AC5-457E-AC7D-B2CAECB8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E2FEE-CFAC-43A0-BEBB-786AF786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B9365-781D-4D78-894D-FB8C7A0B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CD3D8-81FF-4851-BB08-B9BA00C2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130A4-5993-4866-96BF-1C516C9C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769BC-D557-4C1E-AD61-6A712AC5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D56FF-F1DA-4222-922B-FC6C161D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EA6-DC16-4FA8-90A1-50F87539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3688-B692-4D66-9C68-C05DBCA0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3B4C-665E-4BAD-ACDE-5B87AC5D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2DD0-CCFF-4073-8521-E96831FB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CB92D-069C-4ABD-9E41-3D4C72FC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92AB8-D9C2-4528-96E6-BD267706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7EB6E-5BF8-4733-8395-CF606DDC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7E6DC-2274-4C83-8616-60D1069B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E4DAA-76CE-4058-8E21-24FE1E7B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23044-394E-47BA-A659-4DD51389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DE4FF-32F8-4627-B846-C4E12411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282-9301-4F46-8732-EFE1CA74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D6D43-5B24-421B-A920-5A46C9E9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75246-7417-45A4-9F6B-2CDFAB50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03832-1C28-4D03-88E6-6D9656F8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23683-29EC-4AF1-90EF-85FA0677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0ECAA-0F81-4291-9490-1415074F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BA8BF-4E0C-4F97-A8C8-EC1F9DDD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24D96-93D1-42D9-94D2-3314C06F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D6341-0A1E-4A4B-8FE1-DE284422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567DD-89A6-4AE0-B2BF-305F65E7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7C0CA-C2A2-4125-99DC-80F1B356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8C5-A21B-4BE5-8011-AB6CDAEE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BF83E-3DCF-4DD7-87BE-D57B3DC6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562FE-4C2A-4CD1-AFB0-BDA94B2C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A5E48-672F-4AAD-9D23-34F2AA09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B5B3C-DBE0-463F-BFEB-9FA881F5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068D3-9D55-4E9C-B90D-477DB58C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F9C90-5615-4B3F-B96F-DA2B76F7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2AA31-EFE2-4BDE-8C9F-1D2CDBE1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E3B37-B29F-46B5-9C03-5C29668A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4101B-BE5B-4D98-A9F6-1112B7E4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49679-8AFB-4149-9760-DDD18050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866-EB32-4384-A781-838D6C9B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51A6F-FC71-4B03-91E1-0B4057B3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CF297-9AF3-4F40-8C3E-EB43D8C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6CFCE-A75B-44B7-8B5E-CE48FE31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AEDB5-233A-4931-9964-4EC2C489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7CBAA-6F8D-4C52-A7B1-613E6CD5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3D111-7451-4F69-87E4-F1693661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D0A5A-7F29-4E68-BC20-098E643D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75EF-ADE4-4015-8C57-A11B0A4A41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2DF1-DB66-414B-9FCA-DD585D2AAE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5B8A-8B91-43EC-9B40-34B2A87610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F75B-733F-4834-96A4-3D8653288D0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075E-0786-4C08-8B1B-05189B5BBE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EB83-77DD-439B-901E-825C31CCB26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28E6-2ECA-402F-92D7-A2FB417A86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BC26-1F15-4C68-A57B-F9572787E53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Заголовок 1"/>
          <p:cNvSpPr/>
          <p:nvPr/>
        </p:nvSpPr>
        <p:spPr>
          <a:xfrm>
            <a:off x="1371600" y="914400"/>
            <a:ext cx="6477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271c"/>
                </a:solidFill>
                <a:latin typeface="Arial"/>
              </a:rPr>
              <a:t>ПОЛИТИЧЕСКАЯ СИСТЕМА Российской Феде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2689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7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Функции политической систем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83772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пределение целей, задач, путей развития обществ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спределение матер-х и дух-х ценносте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гласование разнообразных интересов гос-ва и соц-х общ-е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зработка правил и законов поведения людей и групп в обществ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952880" y="914040"/>
            <a:ext cx="3981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5. орг-ция деят-ти общества по выполнению принятых  целей и програм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6. Формиров-ие политического сознания, приобщение членов общ-ва к политич- му участию в деят-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7. обеспеч-ие внутренн-й и внешней безопасности и стабильности политического стро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8. Контроль за соблюдением выполнения законов и правил, пресечение действий, нарушающих политические нормы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Функции политической систем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ия общеобязательных решений, управления обществом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определение целей, задач развития общества, выработка политического курса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Интегративна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консолидация общества на основе общих ценностей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билизации ресурсов на достижение определенных целей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литической коммуникации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обеспечение связи между различными элементами политической системы, а также между системой и средой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олитический режим 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истема приёмов, методов, способов и средств, с помощью которых государство воздействует на общество, определяя свою власть; совокупность методов и способов осуществления в стране государственной власти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*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ЛИТИЧЕСКИЙ РЕЖИМ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это система методов осуществления власти в обществе, представляющая собой набор определенных правил политической игры, политических ценностей и политических норм, а также соответствующих политических институтов и структур, предназначенных для их реализации в политической практик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олитический режим представляет собой </a:t>
            </a:r>
            <a:r>
              <a:rPr b="0" i="1" lang="ru-RU" sz="2800" spc="-1" strike="noStrike">
                <a:solidFill>
                  <a:srgbClr val="572314"/>
                </a:solidFill>
                <a:latin typeface="Corbel"/>
              </a:rPr>
              <a:t>организацию власти 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в рамках той или иной политической системы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лассификация политических режимов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источнику власти (демократические, авторитарные, тоталитарны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форме правления (монархические, республиканск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характеру формирования правящей элиты (открытые, закрыты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составу правящих кругов (военные, гражданские, теократические…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доминирующим методам осуществления власти (диктаторские, либеральны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533520" y="213264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тическая сфера – одна из четырёх сфер жизни общества, включающая различные формы политической деятельности: отношения между людьми, организации и учреждения для решения политических целей, политическое сознание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1" descr="MEETING3"/>
          <p:cNvPicPr/>
          <p:nvPr/>
        </p:nvPicPr>
        <p:blipFill>
          <a:blip r:embed="rId1"/>
          <a:stretch/>
        </p:blipFill>
        <p:spPr>
          <a:xfrm>
            <a:off x="5029200" y="41911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80988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такое система?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33520" y="3962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стема (от др.-греч. — целое, составленное из частей; соединение) — множество элементов, находящихся в отношениях и связях друг с другом, которое образует определённую целостность, единство. В любой системе можно выделить отдельные части, выполняющие некоторые функции и взаимодействующие друг с друг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4505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литическая система-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сложная разветвленная совокупность различных политических институтов, социально- политических общностей, форм взаимодействий и взаимоотношений между ними, реализуемых через политическую вла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*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ЛИТИЧЕСКАЯ СИСТЕМА ОБЩЕСТВ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мплекс норм, институтов и организаций, в совокупности составляющих самоорганизацию обще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ЛИТИЧЕСКАЯ СИСТЕМА ОБЩЕСТВ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система институтов, в рамках которых проходит политическая жизнь общества и осуществляется государственная власт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304920" y="228600"/>
          <a:ext cx="8400960" cy="6035760"/>
        </p:xfrm>
        <a:graphic>
          <a:graphicData uri="http://schemas.openxmlformats.org/drawingml/2006/table">
            <a:tbl>
              <a:tblPr/>
              <a:tblGrid>
                <a:gridCol w="3809880"/>
                <a:gridCol w="4591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систе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туцион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о, партии, общественно – политические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ческие принципы, правовые нормы, политические традиции, нормы морали (воплощённые в законах), программы партий, уставы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, направления, методы осуществления вла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, направления, методы осуществления вла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но - ид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ология, культура, ценности, учения, образцы поведения, которые влияют на политическую де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труктура политической систем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7" name="Содержимое 3" descr=""/>
          <p:cNvPicPr/>
          <p:nvPr/>
        </p:nvPicPr>
        <p:blipFill>
          <a:blip r:embed="rId1"/>
          <a:stretch/>
        </p:blipFill>
        <p:spPr>
          <a:xfrm>
            <a:off x="457200" y="987480"/>
            <a:ext cx="8229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заимодействие политической системы  со средой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8240" y="1447920"/>
            <a:ext cx="42670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здействие общества на политическую систему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447560"/>
            <a:ext cx="4038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здействие политической системы на обще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3048120"/>
            <a:ext cx="403848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пульсы, побуждающие политическую систему реагировать на ни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8320" y="3048120"/>
            <a:ext cx="403848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ешения, осуществляющие мер по их претворению в жизн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393" name="Прямая со стрелкой 7"/>
          <p:cNvCxnSpPr>
            <a:stCxn id="388" idx="2"/>
            <a:endCxn id="389" idx="0"/>
          </p:cNvCxnSpPr>
          <p:nvPr/>
        </p:nvCxnSpPr>
        <p:spPr>
          <a:xfrm flipH="1">
            <a:off x="2361960" y="990720"/>
            <a:ext cx="2210400" cy="457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4" name="Прямая со стрелкой 9"/>
          <p:cNvCxnSpPr>
            <a:stCxn id="388" idx="2"/>
          </p:cNvCxnSpPr>
          <p:nvPr/>
        </p:nvCxnSpPr>
        <p:spPr>
          <a:xfrm>
            <a:off x="4572000" y="990720"/>
            <a:ext cx="2210400" cy="381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5" name="Прямая со стрелкой 11"/>
          <p:cNvCxnSpPr/>
          <p:nvPr/>
        </p:nvCxnSpPr>
        <p:spPr>
          <a:xfrm flipH="1">
            <a:off x="2284200" y="2363400"/>
            <a:ext cx="3600" cy="686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6" name="Прямая со стрелкой 13"/>
          <p:cNvCxnSpPr>
            <a:stCxn id="390" idx="2"/>
            <a:endCxn id="392" idx="0"/>
          </p:cNvCxnSpPr>
          <p:nvPr/>
        </p:nvCxnSpPr>
        <p:spPr>
          <a:xfrm flipH="1">
            <a:off x="6665040" y="2439720"/>
            <a:ext cx="3960" cy="610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Американские ученые Д. Истон, К. Дойч, Г. Алмонд представляют политическую систему как систему взаимодействий субъектов политического действия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ход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ребование к систем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держка системы со стороны гражда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 входе – широкий спектр требований. Нельзя допускать перегрузок. Эту работу выполняют партии, общ. организации, гос. деятели. Важна поддержка народ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ыход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3000"/>
          </a:bodyPr>
          <a:p>
            <a:pPr marL="364320" indent="-25344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нкретные полит. действия и решения. Оказывают воздействие на состояние самой внешней сред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4320" indent="-253440">
              <a:lnSpc>
                <a:spcPct val="9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мение гибко и оперативно  реагировать на новые требования – залог жизнеспособности системы в целом. Неспособность дать адекватный ответ приводит к коллапсу систем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Ольга</cp:lastModifiedBy>
  <dcterms:modified xsi:type="dcterms:W3CDTF">2018-02-26T06:29:5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