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2C86-D380-4F9F-B15C-C4847CAAA6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70FA-634E-45DF-A73D-A07B4B05B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312-3C02-43EC-8275-691AF96A4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800-67BB-4554-B75D-F765CFBA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4DA-71F9-418D-8A7B-8012065B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7A5-0CB1-4ABD-966E-C0A3BD86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ECA-8D19-4EA3-9006-5888E440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91A-C736-4333-AAE2-18CC90E6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576-AD09-414E-9D2F-5CB77D00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662-F2DC-41EA-B53B-6097E69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5B48-10CD-49C7-B634-A780C1FB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D718-0350-43B8-AE2E-6A365AF4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A0BA-693D-4937-AC07-22F94BD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BCF5-4B30-4CAC-BADE-BCCDD4A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8B7-13E7-43B6-81B6-399EAA7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248-352F-4ACC-ADF5-8C5FD15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E000-7413-4256-8586-3B50734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B0FB-B150-4FA3-8B29-7473CDE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196-4A91-45C0-B97A-BC657D15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D6C2-F938-463D-B91B-4098DC2E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E74F-7846-4E99-9368-30A1ECFE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A0B6-3367-49E2-A614-1F3A9BC2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D749-5C63-4C5C-92BB-5403678A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AAD1-C21B-470E-9367-62B5B54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7A48-E316-4309-AFC0-CBA0D24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DC6-7A4E-415A-8722-F54A34AD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72B5-0D5A-4FDF-91FE-D702CC31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D205-7B9E-46A1-A8C1-2A5FAB3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0631-B4FD-4755-A379-21C3C6F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E0F6-67DD-4AB2-9027-9F0DC28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28CD-0907-4984-8AA3-B75F3A30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0859-2B8C-40A7-8679-44258FDD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4EE3-75F9-457D-9B6F-8C55713C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CCA3-03C2-4568-8272-41A11B59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25C0-E1ED-4D94-8CB3-EE85D39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F94A-74A2-4D91-AD99-568788AC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45A-BE46-42B2-83D6-D94F82D7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171D-9EE4-47D2-9931-B4689574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9BEF-A9E3-480C-9206-77DD27C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E2BE-56AA-40E4-98B4-51C108AD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97A5-DFC6-4F4B-AE9C-9CB8734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5E8E-85C5-4E76-B37B-AAF1811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7B0F-BF62-44BD-B4C7-82CF723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B0FA-B983-4653-A7DB-5534D5E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FDEB-AB62-4A18-9146-384E5D37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5D7A-25C4-4430-AB84-8293C708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DC24-8CFB-4E75-898C-50A0672E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86D-6957-4CAB-AE5B-3366CCB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7AB0-5411-4AD4-93B4-97172A2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D363B-8467-4E15-905F-594B4063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2CFD-82C7-4DC4-B4A6-71590A0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769E5-2B12-4CEE-9615-31283AA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C069-E232-430C-9E88-9DCE4FE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BC8B-7FF8-48B9-8C49-AF2313A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C0CCD-EA4D-4AB2-BEAD-7CC4042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AAF2-4EE1-43FE-BB73-35090CF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A1826-775B-4D55-BED4-5133ACA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31DF-1E8E-46A9-9F18-9E73BB91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07A-BFA4-48E7-A851-68910E8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E63B-0001-4E31-B8B5-D5469E17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20681-EC48-4F61-ADF5-224DC7B2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480F3-4ABB-43F4-B19C-63699C09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F345-017C-4D89-92BD-41D8E61F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A0B3-AA53-4885-9072-8E1384B2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231E-DE00-457A-AC5F-5BE07AF7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DC8B1-0594-46D1-8BC7-28145CA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4620C-429C-4BA2-A389-4656E72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9BA8-AF93-4AD4-A199-5926C2A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05B0E-9B44-498D-89D7-1E3563E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4AB-ED29-439C-AA32-3927448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2DD9-89F9-4016-B519-34299103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A70B-77B4-4212-894A-95719F7A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A246C-F5C1-42FB-8C77-7EC5F54A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F70F-7075-45CC-B291-C7E9A40A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4F81D-A013-4DF4-B4B6-81B51C99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909A-6471-4571-BE05-63267D71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DD76-9C4A-4795-A8E2-0843EB4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5099-B395-443B-848C-67B491C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B45C-84E1-4608-9532-24CF03E7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2C82-A2B1-410A-B10B-B2C99CF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ECC-2CA4-4C0A-BC03-E2EC857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943E5-6B9F-4F07-A3A7-C4A560E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2B15-AF90-4AF7-961B-4862E56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23B5-E8C9-447C-9ACA-CE52479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D4E5-2C74-4C40-8409-235C8914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492CB-620F-4BD0-87C6-6F604DAD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5E433-4419-4792-BAC5-22FE00AC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A870-889D-4D7A-ADA5-0AB4FEF9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5D305-9F86-4F5A-897B-0AD7FE0B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C80CF-D2F7-471F-BFD5-C935380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D3A7-4EB0-43E5-B370-F2126EE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D39-8358-4A23-8E28-53FAEB6E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20C0-F98C-4EC8-BB64-7B9C36AA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29C0E-9CA6-47C9-B049-633D060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A97A4-A305-463B-9BA2-A813A76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C9F0-983F-4A41-AFC7-19FA3C6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DA9B-EEC1-4418-9BE5-F702609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604BC-1016-49ED-B9A6-0BEEE2AF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C2B4-8686-43C2-9F7E-EEBBEE5F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D655-E2CC-4DD6-A41A-B0E03F7120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E60-A645-426F-A3BC-2D230CFED49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5811-3087-4E4E-9558-624A0C8B61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0B26-3D9A-424E-9B1D-E266A2F694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D8A-1A31-4705-8CF4-EADF0A0084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A3F-C81D-4CB7-95F1-C3E73CDE8E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C2C-9E91-4FD2-A431-1B33FACD86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FA88-9110-4FF2-BAEE-7E4BDDF3E4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1371600" y="914400"/>
            <a:ext cx="6477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Arial"/>
              </a:rPr>
              <a:t>ПОЛИТИЧЕСКАЯ СИСТЕМА 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689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ункции политическ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83772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ение целей, задач, путей развития общест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пределение матер-х и дух-х ценност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гласование разнообразных интересов гос-ва и соц-х общ-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зработка правил и законов поведения людей и групп в обществ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952880" y="914040"/>
            <a:ext cx="3981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. орг-ция деят-ти общества по выполнению принятых  целей и програм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. Формиров-ие политического сознания, приобщение членов общ-ва к политич- му участию в деят-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. обеспеч-ие внутренн-й и внешней безопасности и стабильности политического стро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8. Контроль за соблюдением выполнения законов и правил, пресечение действий, нарушающих политические нормы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ункции политическ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ия общеобязательных решений, управления обществом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определение целей, задач развития общества, выработка политического курса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тегративна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консолидация общества на основе общих ценностей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билизации ресурсов на достижение определенных целе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литической коммуникации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обеспечение связи между различными элементами политической системы, а также между системой и средой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олитический режим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стема приёмов, методов, способов и средств, с помощью которых государство воздействует на общество, определяя свою власть; совокупность методов и способов осуществления в стране государственной власт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ИЙ РЕЖИМ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это система методов осуществления власти в обществе, представляющая собой набор определенных правил политической игры, политических ценностей и политических норм, а также соответствующих политических институтов и структур, предназначенных для их реализации в политической практи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олитический режим представляет собой </a:t>
            </a:r>
            <a:r>
              <a:rPr b="0" i="1" lang="ru-RU" sz="2800" spc="-1" strike="noStrike">
                <a:solidFill>
                  <a:srgbClr val="572314"/>
                </a:solidFill>
                <a:latin typeface="Corbel"/>
              </a:rPr>
              <a:t>организацию власти 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в рамках той или иной политической систем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лассификация политических режим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источнику власти (демократические, авторитарные, тоталитарны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форме правления (монархические, республиканск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характеру формирования правящей элиты (открытые, закрыты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составу правящих кругов (военные, гражданские, теократические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доминирующим методам осуществления власти (диктаторские, либеральны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33520" y="213264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ая сфера – одна из четырёх сфер жизни общества, включающая различные формы политической деятельности: отношения между людьми, организации и учреждения для решения политических целей, политическое сознание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" descr="MEETING3"/>
          <p:cNvPicPr/>
          <p:nvPr/>
        </p:nvPicPr>
        <p:blipFill>
          <a:blip r:embed="rId1"/>
          <a:stretch/>
        </p:blipFill>
        <p:spPr>
          <a:xfrm>
            <a:off x="5029200" y="41911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80988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система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52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а (от др.-греч. — целое, составленное из частей; соединение) — множество элементов, находящихся в отношениях и связях друг с другом, которое образует определённую целостность, единство. В любой системе можно выделить отдельные части, выполняющие некоторые функции и взаимодействующие друг с друг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4505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ая система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сложная разветвленная совокупность различных политических институтов, социально- политических общностей, форм взаимодействий и взаимоотношений между ними, реализуемых через политическую вла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АЯ СИСТЕМА ОБЩЕСТ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мплекс норм, институтов и организаций, в совокупности составляющих самоорганизацию обще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АЯ СИСТЕМА ОБЩЕСТ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система институтов, в рамках которых проходит политическая жизнь общества и осуществляется государственная влас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04920" y="228600"/>
          <a:ext cx="8400960" cy="6035760"/>
        </p:xfrm>
        <a:graphic>
          <a:graphicData uri="http://schemas.openxmlformats.org/drawingml/2006/table">
            <a:tbl>
              <a:tblPr/>
              <a:tblGrid>
                <a:gridCol w="3809880"/>
                <a:gridCol w="4591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ис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туцио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о, партии, общественно – политические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ие принципы, правовые нормы, политические традиции, нормы морали (воплощённые в законах), программы партий, уставы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, направления, методы осуществления вл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, направления, методы осуществления вл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о - ид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логия, культура, ценности, учения, образцы поведения, которые влияют на политическую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труктура политическ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457200" y="98748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заимодействие политической системы  со средо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240" y="1447920"/>
            <a:ext cx="4267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здействие общества на политическую систему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4475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здействие политической системы на обще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пульсы, побуждающие политическую систему реагировать на ни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ешения, осуществляющие мер по их претворению в жизн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93" name="Прямая со стрелкой 7"/>
          <p:cNvCxnSpPr>
            <a:stCxn id="388" idx="2"/>
            <a:endCxn id="389" idx="0"/>
          </p:cNvCxnSpPr>
          <p:nvPr/>
        </p:nvCxnSpPr>
        <p:spPr>
          <a:xfrm flipH="1">
            <a:off x="2361960" y="990720"/>
            <a:ext cx="221040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4" name="Прямая со стрелкой 9"/>
          <p:cNvCxnSpPr>
            <a:stCxn id="388" idx="2"/>
          </p:cNvCxnSpPr>
          <p:nvPr/>
        </p:nvCxnSpPr>
        <p:spPr>
          <a:xfrm>
            <a:off x="4572000" y="990720"/>
            <a:ext cx="221040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5" name="Прямая со стрелкой 11"/>
          <p:cNvCxnSpPr/>
          <p:nvPr/>
        </p:nvCxnSpPr>
        <p:spPr>
          <a:xfrm flipH="1">
            <a:off x="2284200" y="2363400"/>
            <a:ext cx="3600" cy="686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6" name="Прямая со стрелкой 13"/>
          <p:cNvCxnSpPr>
            <a:stCxn id="390" idx="2"/>
            <a:endCxn id="392" idx="0"/>
          </p:cNvCxnSpPr>
          <p:nvPr/>
        </p:nvCxnSpPr>
        <p:spPr>
          <a:xfrm flipH="1">
            <a:off x="6665040" y="2439720"/>
            <a:ext cx="3960" cy="610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Американские ученые Д. Истон, К. Дойч, Г. Алмонд представляют политическую систему как систему взаимодействий субъектов политического действи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ход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ебование к систем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держка системы со стороны гражда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входе – широкий спектр требований. Нельзя допускать перегрузок. Эту работу выполняют партии, общ. организации, гос. деятели. Важна поддержка наро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ход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3000"/>
          </a:bodyPr>
          <a:p>
            <a:pPr marL="364320" indent="-25344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нкретные полит. действия и решения. Оказывают воздействие на состояние самой внешней сред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4320" indent="-25344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мение гибко и оперативно  реагировать на новые требования – залог жизнеспособности системы в целом. Неспособность дать адекватный ответ приводит к коллапсу сист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Ольга</cp:lastModifiedBy>
  <dcterms:modified xsi:type="dcterms:W3CDTF">2018-02-26T06:29:5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