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1A0-7D75-4D4D-BCDE-D5550F9D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B8E-34D0-4792-9187-012FF90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74F-C9C5-45FC-AFAF-15E9AE2C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64-33F9-445D-88C7-FED87A96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A59-A649-4DBB-9EB5-EE560DB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687-5B2E-43A3-8CFE-11AE63F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A2B-9FC1-4D02-A1D9-F8B7E43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05-0DC8-41A6-B1EF-2C4C0A8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C8F-EE83-4DB2-AF7C-398852E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07F-9165-4A24-A4AC-014BB38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22B-7A1F-4876-B5B3-072618BA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39A-DAF6-433D-B97F-AB25AAF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D6F-8EAC-45DC-87E4-94AE408FDB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РАВОВОЕ ГОСУДАРСТВО И ГРАЖДАНСКОЕ ОБЩЕ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28760" y="142884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е несут ответственность перед государством, государственная власть должна нести ответственность перед гражда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stihi.ru/pics/2017/03/03/5982.jpg"/>
          <p:cNvPicPr/>
          <p:nvPr/>
        </p:nvPicPr>
        <p:blipFill>
          <a:blip r:embed="rId1"/>
          <a:stretch/>
        </p:blipFill>
        <p:spPr>
          <a:xfrm>
            <a:off x="714240" y="2214720"/>
            <a:ext cx="7929720" cy="42145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571680" y="2357280"/>
            <a:ext cx="8143560" cy="5205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АВОВОЕ ГОСУДАР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71680" y="1428840"/>
            <a:ext cx="814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я Российской Федерации устанавливает право обжалования действий органов государственной власти, местного самоуправления и должностных лиц в судебном порядке; устанавливает право дальнейшего обращения в межгосударственные органы для защиты нарушенных прав и своб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Картинки по запросу картинки правовое государство"/>
          <p:cNvPicPr/>
          <p:nvPr/>
        </p:nvPicPr>
        <p:blipFill>
          <a:blip r:embed="rId1"/>
          <a:stretch/>
        </p:blipFill>
        <p:spPr>
          <a:xfrm>
            <a:off x="2000160" y="3143160"/>
            <a:ext cx="464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428760" y="428760"/>
            <a:ext cx="828648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ЗАИМНОЙ ОТВЕТСТВЕННОСТИ ГОСУДАРСТВА И ЛИЧ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428760" y="1428840"/>
            <a:ext cx="807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о же время личность соглашается на определенные ограничения и обязуется подчиняться общим установлениям государства . Видами юридической ответственности по отношению к личности, нарушившей  правовые нормы являются: материальная ответственность, дисциплинарная ответственность,, гражданско-правовая ответственность, административная ответственность, уголо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http://cpp.oficery.ru/sites/default/files/news/2012/08/2012_08_17_44.jpg"/>
          <p:cNvPicPr/>
          <p:nvPr/>
        </p:nvPicPr>
        <p:blipFill>
          <a:blip r:embed="rId1"/>
          <a:stretch/>
        </p:blipFill>
        <p:spPr>
          <a:xfrm>
            <a:off x="428760" y="3643200"/>
            <a:ext cx="42145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s://m.ura.news/images/news/upload/news/184/216/1052184216/53319_Sud_nad_Gavrilovim_Ekaterinburg_politsiya_sud_1404114808_original.jpg"/>
          <p:cNvPicPr/>
          <p:nvPr/>
        </p:nvPicPr>
        <p:blipFill>
          <a:blip r:embed="rId2"/>
          <a:stretch/>
        </p:blipFill>
        <p:spPr>
          <a:xfrm>
            <a:off x="5000760" y="3286080"/>
            <a:ext cx="37144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2"/>
          <p:cNvSpPr/>
          <p:nvPr/>
        </p:nvSpPr>
        <p:spPr>
          <a:xfrm>
            <a:off x="500040" y="500040"/>
            <a:ext cx="81439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ПОЛИТИЧЕСКОГО И ИДЕОЛОГИЧЕСКОГО ПЛЮРАЛ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28760" y="15001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Политический плюрализм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это принцип, содействующий существованию многообразия политических сил с конкуренцией между ними за представительство в органах государственной власти. Он предполагает легальное столкновение интересов, дискуссии между сторонниками различных точек зрения. Другими словами — многопартий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fs.homegate.ru/file/225689"/>
          <p:cNvPicPr/>
          <p:nvPr/>
        </p:nvPicPr>
        <p:blipFill>
          <a:blip r:embed="rId1"/>
          <a:stretch/>
        </p:blipFill>
        <p:spPr>
          <a:xfrm>
            <a:off x="4705200" y="3429000"/>
            <a:ext cx="4010040" cy="298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https://psiho.guru/images/127685/partii.jpg"/>
          <p:cNvPicPr/>
          <p:nvPr/>
        </p:nvPicPr>
        <p:blipFill>
          <a:blip r:embed="rId2"/>
          <a:stretch/>
        </p:blipFill>
        <p:spPr>
          <a:xfrm>
            <a:off x="428760" y="3500280"/>
            <a:ext cx="4214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500120"/>
            <a:ext cx="828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Идеологический плюрализ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переход к признанию и закреплению в Конституции многообразия всех видов идеологических учений, если они не проповедуют насилие и рознь. Наличие различных идеологических концепций и взгля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428760"/>
            <a:ext cx="850104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ПОЛИТИЧЕСКОГО И ИДЕОЛОГИЧЕСКОГО ПЛЮРАЛ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http://aikido-mariel.ru/misc/i/gallery/10671/127004.jpg"/>
          <p:cNvPicPr/>
          <p:nvPr/>
        </p:nvPicPr>
        <p:blipFill>
          <a:blip r:embed="rId1"/>
          <a:stretch/>
        </p:blipFill>
        <p:spPr>
          <a:xfrm>
            <a:off x="428760" y="3071880"/>
            <a:ext cx="402408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идеологический плюрализм "/>
          <p:cNvPicPr/>
          <p:nvPr/>
        </p:nvPicPr>
        <p:blipFill>
          <a:blip r:embed="rId2"/>
          <a:stretch/>
        </p:blipFill>
        <p:spPr>
          <a:xfrm>
            <a:off x="4714920" y="314316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428760" y="500040"/>
            <a:ext cx="80722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ЕДИНСТВА ПРАВА И ЗА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00040" y="1071720"/>
            <a:ext cx="8143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значает, что закон должен отражать естественно – правовые начала, соответствовать международно – правовым нормам о правах человека и гражданина, быть принятым легитимным органом государственной власти, законно избранным или назначенным. Общепризнанные принципы и нормы международного права и международные договоры Российской Федерации являются составной частью ее правовой системы. Если международным договором Российской Федерации установлены иные правила, чем предусмотренные законом, то применяются правила международного догов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ttp://ic.pics.livejournal.com/dimonx6/46598475/8517/8517_900.jpg"/>
          <p:cNvPicPr/>
          <p:nvPr/>
        </p:nvPicPr>
        <p:blipFill>
          <a:blip r:embed="rId1"/>
          <a:stretch/>
        </p:blipFill>
        <p:spPr>
          <a:xfrm>
            <a:off x="500040" y="3929040"/>
            <a:ext cx="3857760" cy="242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kargalinskaya.servis95.ru/wp-content/uploads/sites/92/2017/06/3102d180d00add56f0b1442ebb4353b5-768x512.jpg"/>
          <p:cNvPicPr/>
          <p:nvPr/>
        </p:nvPicPr>
        <p:blipFill>
          <a:blip r:embed="rId2"/>
          <a:stretch/>
        </p:blipFill>
        <p:spPr>
          <a:xfrm>
            <a:off x="4500720" y="3929040"/>
            <a:ext cx="42145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358120" cy="1373760"/>
          </a:xfrm>
          <a:prstGeom prst="rect">
            <a:avLst/>
          </a:prstGeom>
          <a:solidFill>
            <a:srgbClr val="cc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НАЯ ГАРАНТИРОВАННОСТЬ И НЕЗЫБЛЕМОСТЬ ПРАВ И СВОБОД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500040" y="1928880"/>
            <a:ext cx="814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признак правового государства означает то, что все права и свободы человека в государстве должны быть не только лишь провозглашены, но и гарантированны самим государством. По Конституции РФ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жчина и женщина имеют равные права и свободы и равные возможности для их реал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428760" y="428760"/>
            <a:ext cx="8286480" cy="13737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НАЯ ГАРАНТИРОВАННОСТЬ И НЕЗЫБЛЕМОСТЬ ПРАВ И СВОБОД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28760" y="1785960"/>
          <a:ext cx="8215200" cy="489744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Личные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рава и свободы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оциально-экономические  и культурные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жизнь, достоинство личности, свободу личной неприкосновенност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икосновенности жилища, , свободу мысли, слова, совести, свободу передвижений, право на судебную защи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бъединение, свободу собраний, участие в управлении делами государства, право обращений, свободу информации 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храну частной собственности, трудовые права, охрану материнства, отцовства и детства, соцобесепечения,жилища, охрану здоровья, образования, благоприятную окружающую среду, участие в культурной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28760" y="428760"/>
            <a:ext cx="83581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ЭФФЕКТИВНАЯ СИСТЕМА КОНТРОЛЯ И НАДЗОРА НАД СОБЛЮДЕНИЕМ ЗА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57120" y="150012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оль за исполнением закона должны осуществлять специально созданные независимые суды, арбитражи, проку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syasnews.ru/media/zoo/images/nadzor1_bbacd7332cf000f1175bb227907beb38.jpg"/>
          <p:cNvPicPr/>
          <p:nvPr/>
        </p:nvPicPr>
        <p:blipFill>
          <a:blip r:embed="rId1"/>
          <a:stretch/>
        </p:blipFill>
        <p:spPr>
          <a:xfrm>
            <a:off x="642960" y="2214720"/>
            <a:ext cx="7572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57120" y="1143000"/>
            <a:ext cx="835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вое государство подразумевает обязательное существование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гражданского общ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Гражданское обществ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формирующаяся и развивающаяся в демократических государствах человеческая общность, представленная сетью добровольно образованных негосударственных структур во всех сферах жизнедеятельности общества и совокупностью негосударственных отношений – экономических, социальных, духовных, религиозных и друг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500040" y="57168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https://smartmoneyhedge.fund/wp-content/uploads/2016/10/social.jpg"/>
          <p:cNvPicPr/>
          <p:nvPr/>
        </p:nvPicPr>
        <p:blipFill>
          <a:blip r:embed="rId1"/>
          <a:stretch/>
        </p:blipFill>
        <p:spPr>
          <a:xfrm>
            <a:off x="1500120" y="3429000"/>
            <a:ext cx="6429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НЯТИЕ   ПРАВОВОГО ГОСУДАР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Frankfurt Am Main-Gerechtigkeitsbrunnen-Detail-Justitia von Nordwesten-20110411.jpg"/>
          <p:cNvPicPr/>
          <p:nvPr/>
        </p:nvPicPr>
        <p:blipFill>
          <a:blip r:embed="rId1"/>
          <a:stretch/>
        </p:blipFill>
        <p:spPr>
          <a:xfrm>
            <a:off x="5643720" y="2357280"/>
            <a:ext cx="295272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500040" y="107172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равовое государств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ем. Rechtsstaat) — государство, вся деятельность которого подчинена нормам права, а также фундаментальным правовым принципам, направленным на защиту достоинства, свободы и прав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s://im0-tub-ru.yandex.net/i?id=65d67402ab1ba11f78a15269ba195f98&amp;n=33&amp;h=215&amp;w=324"/>
          <p:cNvPicPr/>
          <p:nvPr/>
        </p:nvPicPr>
        <p:blipFill>
          <a:blip r:embed="rId2"/>
          <a:stretch/>
        </p:blipFill>
        <p:spPr>
          <a:xfrm>
            <a:off x="714240" y="342900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000080" y="1357200"/>
            <a:ext cx="2071800" cy="57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000080" y="1357200"/>
            <a:ext cx="2071800" cy="10087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ироком смысле с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714240" y="3143160"/>
            <a:ext cx="3071880" cy="1221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928800" y="4857840"/>
            <a:ext cx="2143080" cy="10087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зком смысле с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4643280" y="1357200"/>
            <a:ext cx="357192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4643280" y="1357200"/>
            <a:ext cx="3786480" cy="161856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       социальные структуры и отношения, которые непосредственно не регулируются государст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4714920" y="3643200"/>
            <a:ext cx="3714840" cy="22284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о на определенном этапе своего исторического развития, когда оно выступает социально-экономической основой демократического правового государ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15"/>
          <p:cNvSpPr/>
          <p:nvPr/>
        </p:nvSpPr>
        <p:spPr>
          <a:xfrm flipV="1">
            <a:off x="3071880" y="1857240"/>
            <a:ext cx="15714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Прямая со стрелкой 17"/>
          <p:cNvCxnSpPr>
            <a:stCxn id="110" idx="0"/>
          </p:cNvCxnSpPr>
          <p:nvPr/>
        </p:nvCxnSpPr>
        <p:spPr>
          <a:xfrm>
            <a:off x="6571080" y="3642840"/>
            <a:ext cx="723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3" name="Прямая соединительная линия 19"/>
          <p:cNvSpPr/>
          <p:nvPr/>
        </p:nvSpPr>
        <p:spPr>
          <a:xfrm flipV="1">
            <a:off x="3071880" y="5357880"/>
            <a:ext cx="16430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Соединительная линия уступом 21"/>
          <p:cNvCxnSpPr>
            <a:stCxn id="106" idx="1"/>
          </p:cNvCxnSpPr>
          <p:nvPr/>
        </p:nvCxnSpPr>
        <p:spPr>
          <a:xfrm flipH="1" flipV="1" rot="10800000">
            <a:off x="713160" y="3758760"/>
            <a:ext cx="72360" cy="1527840"/>
          </a:xfrm>
          <a:prstGeom prst="bentConnector4">
            <a:avLst>
              <a:gd name="adj1" fmla="val -320000"/>
              <a:gd name="adj2" fmla="val 70139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5" name="Прямая со стрелкой 67"/>
          <p:cNvCxnSpPr>
            <a:endCxn id="107" idx="0"/>
          </p:cNvCxnSpPr>
          <p:nvPr/>
        </p:nvCxnSpPr>
        <p:spPr>
          <a:xfrm flipH="1">
            <a:off x="1998360" y="4358880"/>
            <a:ext cx="216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Прямая со стрелкой 70"/>
          <p:cNvCxnSpPr/>
          <p:nvPr/>
        </p:nvCxnSpPr>
        <p:spPr>
          <a:xfrm flipV="1">
            <a:off x="1999080" y="2356560"/>
            <a:ext cx="2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28760" y="428760"/>
            <a:ext cx="8358120" cy="9471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ЕДПОСЫЛКИ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857160" y="2000160"/>
            <a:ext cx="135756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2786040" y="2000160"/>
            <a:ext cx="13572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857840" y="2000160"/>
            <a:ext cx="1357200" cy="142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7000920" y="2000160"/>
            <a:ext cx="1357200" cy="1714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500040" y="2000160"/>
            <a:ext cx="200016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Эконом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ная собственность,многоукладность экономики, свободный рынок и конкуре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2643120" y="2000160"/>
            <a:ext cx="1928880" cy="36306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Соци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ой удельный вес  в 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9"/>
          <p:cNvSpPr/>
          <p:nvPr/>
        </p:nvSpPr>
        <p:spPr>
          <a:xfrm>
            <a:off x="4714920" y="2000160"/>
            <a:ext cx="192888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Политико-прав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идическое равенство граждан, обеспечение прав и их защита, децентрализация власти, политический плюрал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6858000" y="2000160"/>
            <a:ext cx="1785960" cy="37530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Культу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прав человека на информацию, высокий образовательный уровень населения, свобода слова и сове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Стрелка вниз 51"/>
          <p:cNvSpPr/>
          <p:nvPr/>
        </p:nvSpPr>
        <p:spPr>
          <a:xfrm>
            <a:off x="1285920" y="13572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трелка вниз 52"/>
          <p:cNvSpPr/>
          <p:nvPr/>
        </p:nvSpPr>
        <p:spPr>
          <a:xfrm>
            <a:off x="3429000" y="135720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трелка вниз 53"/>
          <p:cNvSpPr/>
          <p:nvPr/>
        </p:nvSpPr>
        <p:spPr>
          <a:xfrm>
            <a:off x="5500800" y="1357200"/>
            <a:ext cx="484200" cy="621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Стрелка вниз 54"/>
          <p:cNvSpPr/>
          <p:nvPr/>
        </p:nvSpPr>
        <p:spPr>
          <a:xfrm>
            <a:off x="7572240" y="1357200"/>
            <a:ext cx="484200" cy="692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c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00040" y="428760"/>
            <a:ext cx="828684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00040" y="100008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Политические парт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4143240" y="100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бщественно-политические организации и движения: экологические, правозащитные 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https://kazanfirst.ru/wp-content/uploads/2016/06/c0a073ad0d079206b9ce213a4f43af51.jpg"/>
          <p:cNvPicPr/>
          <p:nvPr/>
        </p:nvPicPr>
        <p:blipFill>
          <a:blip r:embed="rId1"/>
          <a:stretch/>
        </p:blipFill>
        <p:spPr>
          <a:xfrm>
            <a:off x="357120" y="4071960"/>
            <a:ext cx="4071960" cy="23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abakan.bezformata.ru/content/image203121557.jpg"/>
          <p:cNvPicPr/>
          <p:nvPr/>
        </p:nvPicPr>
        <p:blipFill>
          <a:blip r:embed="rId2"/>
          <a:stretch/>
        </p:blipFill>
        <p:spPr>
          <a:xfrm>
            <a:off x="500040" y="1428840"/>
            <a:ext cx="3357720" cy="23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s://ok-inform.ru/images/december2012/KMO_131177_00020_1h.jpg"/>
          <p:cNvPicPr/>
          <p:nvPr/>
        </p:nvPicPr>
        <p:blipFill>
          <a:blip r:embed="rId3"/>
          <a:stretch/>
        </p:blipFill>
        <p:spPr>
          <a:xfrm>
            <a:off x="4000680" y="2143080"/>
            <a:ext cx="4833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28760" y="500040"/>
            <a:ext cx="82864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428760" y="10000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оюзы предприним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4143240" y="100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езависимые средства массовой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https://im0-tub-ru.yandex.net/i?id=c8aa26cc2d24e791176f4907b1bfc1d4&amp;n=33&amp;h=122&amp;w=480"/>
          <p:cNvPicPr/>
          <p:nvPr/>
        </p:nvPicPr>
        <p:blipFill>
          <a:blip r:embed="rId1"/>
          <a:stretch/>
        </p:blipFill>
        <p:spPr>
          <a:xfrm>
            <a:off x="428760" y="1428840"/>
            <a:ext cx="36432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business16.ru/media/k2/items/cache/140ea2bc6b4035be6940a56296e79124_XL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379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s://im0-tub-ru.yandex.net/i?id=96c42da0a300c35cf92e0beee919bd19&amp;n=33&amp;h=215&amp;w=426"/>
          <p:cNvPicPr/>
          <p:nvPr/>
        </p:nvPicPr>
        <p:blipFill>
          <a:blip r:embed="rId3"/>
          <a:stretch/>
        </p:blipFill>
        <p:spPr>
          <a:xfrm>
            <a:off x="4071960" y="1928880"/>
            <a:ext cx="45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428760" y="428760"/>
            <a:ext cx="828648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РУКТУРА  ГРАЖДАНСКОГО ОБЩ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57120" y="100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Научные и культурные организации, спортивные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3714840" y="378612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357960" y="1214280"/>
            <a:ext cx="345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8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6072120" y="92880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Церков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https://im0-tub-ru.yandex.net/i?id=d0a74b87c6791e0b0748680efa8a044a&amp;n=33&amp;h=215&amp;w=324"/>
          <p:cNvPicPr/>
          <p:nvPr/>
        </p:nvPicPr>
        <p:blipFill>
          <a:blip r:embed="rId1"/>
          <a:stretch/>
        </p:blipFill>
        <p:spPr>
          <a:xfrm>
            <a:off x="5500800" y="1643040"/>
            <a:ext cx="3085920" cy="2048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aupair.md/images/happy-family%201.jpg"/>
          <p:cNvPicPr/>
          <p:nvPr/>
        </p:nvPicPr>
        <p:blipFill>
          <a:blip r:embed="rId2"/>
          <a:stretch/>
        </p:blipFill>
        <p:spPr>
          <a:xfrm>
            <a:off x="2143080" y="4214880"/>
            <a:ext cx="4572000" cy="23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erskyrayon.gov-murman.ru/about/kartinki-k-novostyam/1027.jpg"/>
          <p:cNvPicPr/>
          <p:nvPr/>
        </p:nvPicPr>
        <p:blipFill>
          <a:blip r:embed="rId3"/>
          <a:stretch/>
        </p:blipFill>
        <p:spPr>
          <a:xfrm>
            <a:off x="500040" y="1643040"/>
            <a:ext cx="3643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00040" y="428760"/>
            <a:ext cx="821520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УНКЦИИ ГРАЖДАНСКОГО ОБ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500040" y="100008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о от государства располагает средствами и санкциями, с помощью которых можно заставить человека соблюдать общепринятые нормы, обеспечивающие социализацию и воспитание гражд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щищает граждан и их объединен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 и потребности о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конного вмешательства в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знь государства, защищает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вободы личности, определя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ницы поли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ствует формирова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ов государст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мократическому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истическому развит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ой системы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ttp://www.ap7.ru/wp-content/uploads/2015/07/Upravlyaemoe-grazhdanskoe-obshhestvo.jpg"/>
          <p:cNvPicPr/>
          <p:nvPr/>
        </p:nvPicPr>
        <p:blipFill>
          <a:blip r:embed="rId1"/>
          <a:stretch/>
        </p:blipFill>
        <p:spPr>
          <a:xfrm>
            <a:off x="4714920" y="2000160"/>
            <a:ext cx="41241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wallperz.com/wp-content/uploads/2016/11/11/wallperz.com-20161111012016.jpg"/>
          <p:cNvPicPr/>
          <p:nvPr/>
        </p:nvPicPr>
        <p:blipFill>
          <a:blip r:embed="rId1"/>
          <a:stretch/>
        </p:blipFill>
        <p:spPr>
          <a:xfrm>
            <a:off x="4786200" y="278604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00040" y="500040"/>
            <a:ext cx="8215200" cy="5205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НСТИТУЦИЯ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28760" y="114300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оссийская Федерация - Россия есть демократическое федеративное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 правово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co8tula.ru/upload/iblock/c61/c61209c05afd1a1cc0243d1ea57e75d2.jpg"/>
          <p:cNvPicPr/>
          <p:nvPr/>
        </p:nvPicPr>
        <p:blipFill>
          <a:blip r:embed="rId2"/>
          <a:stretch/>
        </p:blipFill>
        <p:spPr>
          <a:xfrm>
            <a:off x="285840" y="2786040"/>
            <a:ext cx="4357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28760" y="428760"/>
            <a:ext cx="8358120" cy="520560"/>
          </a:xfrm>
          <a:prstGeom prst="rect">
            <a:avLst/>
          </a:prstGeom>
          <a:solidFill>
            <a:srgbClr val="cc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ВЕРХОВЕНСТВА 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500040" y="1000080"/>
            <a:ext cx="8143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Принцип верховенства пра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чает, что закон одинаков для всех, все должны действовать в рамках закона. Это относится и к гражданам и к государству. Этот принцип  выражается в России главным образом в </a:t>
            </a: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верховенстве Конституции РФ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тношению ко всем нормативным актам. Законы и другие правовые акты не должны противоречить Конститу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атье 15 устанавливается, что Конституция имеет высшую правовую сил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рганы государственной власти, органы местного самоуправления, должностные лица, граждане и их объединения обязаны соблюдать Конституцию Российской Федерации и законы», – гласит статья 15 Конституции России. «Все равны перед законом и судом», – статья 1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ttp://vagu-m-v.narod.ru/sxemu/zis.gif"/>
          <p:cNvPicPr/>
          <p:nvPr/>
        </p:nvPicPr>
        <p:blipFill>
          <a:blip r:embed="rId1"/>
          <a:stretch/>
        </p:blipFill>
        <p:spPr>
          <a:xfrm>
            <a:off x="1979640" y="3213000"/>
            <a:ext cx="5008680" cy="29052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28760" y="114300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Принцип разделения власт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сматривает наличие законодательной, исполнительной и судебной власти. Ни одной из ветвей власти не принадлежит вся полнота государственной власти, действует система « сдержек и противовес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ая власть должна включать    три ветви власти - 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законодательную, исполнительную и судебну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ая из них имеет строго очерченные полномоч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00040" y="428760"/>
            <a:ext cx="8286840" cy="5205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РИНЦИП РАЗДЕЛЕНИЯ ВЛА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28760" y="500040"/>
            <a:ext cx="8286480" cy="9471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ОСУДАРСТВЕННАЯ ВЛАСТЬ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428760" y="1500120"/>
            <a:ext cx="82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татья 10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власть в Российской Федерации осуществляется на основе разделения на законодательную, исполнительную и судебную.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Статья 11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ую власть в РФ осуществляют Президент Российской Федерации, Федеральное собрание ( Совет Федерации и Государственная Дума), Правительство Российской Федерации, суды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Картинки по запросу картинки правовое государство"/>
          <p:cNvPicPr/>
          <p:nvPr/>
        </p:nvPicPr>
        <p:blipFill>
          <a:blip r:embed="rId1"/>
          <a:stretch/>
        </p:blipFill>
        <p:spPr>
          <a:xfrm>
            <a:off x="4932360" y="3860640"/>
            <a:ext cx="3076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00040" y="500040"/>
            <a:ext cx="8143920" cy="1373760"/>
          </a:xfrm>
          <a:prstGeom prst="rect">
            <a:avLst/>
          </a:prstGeom>
          <a:solidFill>
            <a:srgbClr val="b3b3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УЩЕСТВЛЕНИЕ ПРИНЦИПА РАЗДЕЛЕНИЯ ВЛАСТЕЙ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2000160"/>
          <a:ext cx="8215200" cy="4449960"/>
        </p:xfrm>
        <a:graphic>
          <a:graphicData uri="http://schemas.openxmlformats.org/drawingml/2006/table">
            <a:tbl>
              <a:tblPr/>
              <a:tblGrid>
                <a:gridCol w="2738160"/>
                <a:gridCol w="2738520"/>
                <a:gridCol w="2738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Ветвь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Органы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Полномо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Законод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ухпалатное Федеральное собрание: верхняя палата – Совет Федерации, нижняя -Государственная Дума. В субъектах Федерации – государственные собрания, законодательные собрания и п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принимать законы, бюджеты, осушествлять контроль за исполнительной вла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2" descr="https://im0-tub-ru.yandex.net/i?id=3dadb1ef92ffc2e67db643a9f38353ee&amp;n=33&amp;h=215&amp;w=382"/>
          <p:cNvPicPr/>
          <p:nvPr/>
        </p:nvPicPr>
        <p:blipFill>
          <a:blip r:embed="rId1"/>
          <a:stretch/>
        </p:blipFill>
        <p:spPr>
          <a:xfrm>
            <a:off x="5857920" y="4572000"/>
            <a:ext cx="2995560" cy="1833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im0-tub-ru.yandex.net/i?id=77e14a05f5ef05e934f83963dbad6c8b&amp;n=33&amp;h=215&amp;w=455"/>
          <p:cNvPicPr/>
          <p:nvPr/>
        </p:nvPicPr>
        <p:blipFill>
          <a:blip r:embed="rId2"/>
          <a:stretch/>
        </p:blipFill>
        <p:spPr>
          <a:xfrm>
            <a:off x="428760" y="4572000"/>
            <a:ext cx="2714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500040"/>
          <a:ext cx="8358120" cy="37497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Исполн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о, федеральные органы исполнительной власти, министерства, федеральные службы, комитеты и т.д. В субъектах Р президенты, правительства, министерства, администрации, мэрии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  организовать исполнение законов, а также вести управление  сферами и отраслями государственного и хозяйственно-культурного строительств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https://ivtextil.ru/sites/default/files/styles/collageformatter/public/collageformatter/news/22514/865x576_symlink_pravitelstvo-podderzhit-otrasl-dlinnym-rublem-30009.jpg?itok=e1cMf48z"/>
          <p:cNvPicPr/>
          <p:nvPr/>
        </p:nvPicPr>
        <p:blipFill>
          <a:blip r:embed="rId1"/>
          <a:stretch/>
        </p:blipFill>
        <p:spPr>
          <a:xfrm>
            <a:off x="5000760" y="4286160"/>
            <a:ext cx="3643200" cy="212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zakupkihelp.ru/wp-content/uploads/2014/01/pravitelstvo_rf.jpg"/>
          <p:cNvPicPr/>
          <p:nvPr/>
        </p:nvPicPr>
        <p:blipFill>
          <a:blip r:embed="rId2"/>
          <a:stretch/>
        </p:blipFill>
        <p:spPr>
          <a:xfrm>
            <a:off x="357120" y="4214880"/>
            <a:ext cx="3786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0040" y="500040"/>
          <a:ext cx="8286840" cy="313992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Судеб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я система судебных органов, которая обладает присущими только ей возможностями и способностями воздействия на процессы, происходящие в общ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различных правовых конфликтов между участниками общественных отношений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троль за соблюдением законов органами в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" descr="https://im0-tub-ru.yandex.net/i?id=b30ea639414b59642c0304d78d280f98&amp;n=33&amp;h=215&amp;w=382"/>
          <p:cNvPicPr/>
          <p:nvPr/>
        </p:nvPicPr>
        <p:blipFill>
          <a:blip r:embed="rId1"/>
          <a:stretch/>
        </p:blipFill>
        <p:spPr>
          <a:xfrm>
            <a:off x="500040" y="3643200"/>
            <a:ext cx="3643200" cy="276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www.bragazeta.ru/upload/news/142961113845608900.jpg"/>
          <p:cNvPicPr/>
          <p:nvPr/>
        </p:nvPicPr>
        <p:blipFill>
          <a:blip r:embed="rId2"/>
          <a:stretch/>
        </p:blipFill>
        <p:spPr>
          <a:xfrm>
            <a:off x="5000760" y="3643200"/>
            <a:ext cx="3833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Картинки по запросу картинки правовое государство"/>
          <p:cNvPicPr/>
          <p:nvPr/>
        </p:nvPicPr>
        <p:blipFill>
          <a:blip r:embed="rId3"/>
          <a:stretch/>
        </p:blipFill>
        <p:spPr>
          <a:xfrm>
            <a:off x="642960" y="1500120"/>
            <a:ext cx="2571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9-06-09T16:38:10Z</dcterms:modified>
  <cp:revision>131</cp:revision>
  <dc:subject/>
  <dc:title>Слайд 1</dc:title>
</cp:coreProperties>
</file>