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CF0-5151-4444-81D3-D032FAD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50B-165F-449D-99F1-C541A28F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469-A4E1-4794-A447-F03E801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1732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07976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11732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07976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2A3-5146-4FE6-8BD5-E6BF4889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FEBE-AEAB-4756-910C-00AFACFA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E336-2003-4391-8AC6-C9F3FC3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1B1-CC0D-499F-A95A-8C6ABDD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6B68-2326-4CE9-A274-4953B8A8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18D-FD3D-466C-B22D-D1AE1C6B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775-96F8-4452-B26E-E94899F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7441-9925-41A4-B43A-7312F74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E2E-49ED-41BD-92AD-5F9AD2ED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6001-100D-4590-BCA4-77E9403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EEBC-0B42-46E2-8745-13B0287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9C8A-792C-4276-92D7-2B821908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EE99-94D0-4907-870B-A41A94C8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1732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079760" y="260352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11732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079760" y="4388040"/>
            <a:ext cx="282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9A5C-9E05-4987-ABB6-BA024E56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9E1-5287-409C-8A65-842465C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E95-96EF-4D92-891B-BC19C6C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7DC-27B1-481D-BDBE-15EC979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208-A0C0-4332-898C-5038E65F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08F-39E1-4951-AE52-6F05DE3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4080" y="438804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A23-0299-4BFC-A237-E583E9E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44080" y="2603520"/>
            <a:ext cx="42750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76096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17F-AD09-45BF-BA40-62AA54E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1" name="Rectangle 25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4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5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6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7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8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21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5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12" name="Rectangle 7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0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1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2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dt" idx="1"/>
          </p:nvPr>
        </p:nvSpPr>
        <p:spPr>
          <a:xfrm rot="5400000">
            <a:off x="1008936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ftr" idx="2"/>
          </p:nvPr>
        </p:nvSpPr>
        <p:spPr>
          <a:xfrm rot="5400000">
            <a:off x="8959680" y="322668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9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3"/>
          </p:nvPr>
        </p:nvSpPr>
        <p:spPr>
          <a:xfrm>
            <a:off x="10351080" y="29268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55FA17-AE26-4510-AF47-0EBB0053A2D1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0" y="-2520"/>
            <a:ext cx="12191760" cy="6867000"/>
            <a:chOff x="0" y="-2520"/>
            <a:chExt cx="12191760" cy="6867000"/>
          </a:xfrm>
        </p:grpSpPr>
        <p:sp>
          <p:nvSpPr>
            <p:cNvPr id="62" name="Rectangle 25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24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1372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180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8235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7058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7999560" y="-252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609040" y="58741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f7f7f7">
                    <a:alpha val="14117"/>
                  </a:srgbClr>
                </a:gs>
                <a:gs pos="100000">
                  <a:srgbClr val="f7f7f7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2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10650960" y="639396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52848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1B858F-3661-41CA-BF52-1EBC5E6F554F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3860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ПРЕЗЕНТАЦИЯ</a:t>
            </a:r>
            <a:br>
              <a:rPr sz="4800"/>
            </a:br>
            <a:r>
              <a:rPr b="1" lang="ru-RU" sz="4800" spc="-1" strike="noStrike">
                <a:solidFill>
                  <a:srgbClr val="ebebeb"/>
                </a:solidFill>
                <a:latin typeface="Century Gothic"/>
              </a:rPr>
              <a:t>«Совместная деятельность взрослых и детей в театрализованной деятельности»</a:t>
            </a:r>
            <a:endParaRPr b="0" lang="ru-RU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701440" y="560808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7ac4f0"/>
                </a:solidFill>
                <a:latin typeface="Century Gothic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7ac4f0"/>
                </a:solidFill>
                <a:latin typeface="Century Gothic"/>
              </a:rPr>
              <a:t>Мещерякова Т.Г.  </a:t>
            </a:r>
            <a:r>
              <a:rPr b="0" lang="ru-RU" sz="1800" spc="-1" strike="noStrike" cap="all">
                <a:solidFill>
                  <a:srgbClr val="7ac4f0"/>
                </a:solidFill>
                <a:latin typeface="Century Gothic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4239360" y="869040"/>
            <a:ext cx="371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ac4f0"/>
                </a:solidFill>
                <a:latin typeface="Times New Roman"/>
              </a:rPr>
              <a:t>МБОУ  лицей № 3   г. Ворон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3" name="Объект 3" descr=""/>
          <p:cNvPicPr/>
          <p:nvPr/>
        </p:nvPicPr>
        <p:blipFill>
          <a:blip r:embed="rId1"/>
          <a:stretch/>
        </p:blipFill>
        <p:spPr>
          <a:xfrm>
            <a:off x="2702160" y="2333880"/>
            <a:ext cx="56401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5" name="Объект 3" descr=""/>
          <p:cNvPicPr/>
          <p:nvPr/>
        </p:nvPicPr>
        <p:blipFill>
          <a:blip r:embed="rId1"/>
          <a:stretch/>
        </p:blipFill>
        <p:spPr>
          <a:xfrm>
            <a:off x="2278080" y="2248560"/>
            <a:ext cx="57736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7" name="Объект 3" descr=""/>
          <p:cNvPicPr/>
          <p:nvPr/>
        </p:nvPicPr>
        <p:blipFill>
          <a:blip r:embed="rId1"/>
          <a:stretch/>
        </p:blipFill>
        <p:spPr>
          <a:xfrm>
            <a:off x="2456640" y="2286000"/>
            <a:ext cx="57862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39" name="Объект 3" descr=""/>
          <p:cNvPicPr/>
          <p:nvPr/>
        </p:nvPicPr>
        <p:blipFill>
          <a:blip r:embed="rId1"/>
          <a:stretch/>
        </p:blipFill>
        <p:spPr>
          <a:xfrm>
            <a:off x="2471400" y="2497680"/>
            <a:ext cx="5488920" cy="41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2456640" y="2387880"/>
            <a:ext cx="5649840" cy="42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ЕЛЕВЫЕ ОРИЕНТИРЫ Расширяются и углубляются знания детей об окружающем мире Развиваются психические процессы: внимание, память, восприятие, воображение; Происходит развитие различных анализаторов: зрительного, слухового, речедвигательного; Активизируется и совершенствуется словарный запас, грамматический строй речи, звукопроизношение, навыки связной речи, интонационная сторона речи, темп, выразительность; Совершенствуется моторика, координация, целенаправленность движений Развивается эмоционально-волевая сфера; Происходит коррекция поведения Формируется опыт поведения Стимулируется развитие творческой, поисковой активности, самостоятельности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ывод : Таким образом, использование театрализованной деятельности с семьями воспитанников детского сада дает положительные результаты. Всей своей работой мы доказываем родителям , что их вовлечение в педагогическую деятельность, заинтересованное участие в воспитательно-образовательном процессе важно не потому, что это хочет воспитатель, а потому, что это необходимо для развития их собственного ребенка. Внедрение ФГОС позволяет организовать совместную деятельность детского сада и семьи более эффективно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3072240" y="2900160"/>
            <a:ext cx="6326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72a40"/>
                </a:solidFill>
                <a:latin typeface="Century Gothic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72a40"/>
                </a:solidFill>
                <a:latin typeface="Century Gothic"/>
              </a:rPr>
              <a:t>ЗА ВНИМАНИЕ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4880" y="2286000"/>
            <a:ext cx="876096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72a40"/>
                </a:solidFill>
                <a:latin typeface="Century Gothic"/>
              </a:rPr>
              <a:t>Тема : Совместная деятельность взрослых и  детей  в театрализованной деятельности. Подготовили воспитатели Кузнецова Марина Вячеславовна и Мещерякова Марина Вячеславовна МБОУ лицей №3 г.Воронеж, группа № 5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048120" y="2828880"/>
            <a:ext cx="6095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еатр – это волшебный мир. Он дает уроки красоты, морали и нравственности. А чем они богаче, тем успешнее идет развитие духовного мира детей… Б. М. Теп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4920" y="1511640"/>
            <a:ext cx="590904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«Любая работа эффективна тогда, когда она правильно организована» .Стандарт является основой для оказания помощи родителям в воспитании детей, охране и укреплении их физического и психического здоровья, в развитии индивидуальных способностей и необходимой коррекции нарушений их развития В Конституции РФ, в законодательстве РФ, в Конвенции ООН о правах ребенка, в Федеральном государственном образовательном стандарте дошкольного образования (ФГОС ДО) заложен принцип личностно-развивающего и гуманистического характера взаимодействия взрослых и детей. В соответствии с этим, организация учебно-воспитательного процесса с детьми должна обеспечивать личностно-развивающее воздействие. В своей работе я использую только те обучающие средства, которые оказывают положительное влияние на личностное развитие детей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ель педагога: - создать единое пространство развития ребенка в семье и ДОУ; - сделать родителей участниками полноценного воспитательного процесса; - достичь высокого качества в развитии, полностью удовлетворить интересы родителей и детей; - создать это единое пространство возможно при систематическом взаимодействии ДОУ и семьи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едущие цели: - создание в детском саду необходимых условий для развития ответственных и взаимозависимых отношений с семьями воспитанников, обеспечивающих целостное развитие личности дошкольника; - повышение компетентности родителей в области воспитания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тоды и приемы работы: - творческая деятельность (игровое творчество, песенное, танцевальное, импровизация на детских музыкальных инструментах); - экспериментирование; - сочинения сказок, модификация сказок; - игры-драматизации; - беседы после просмотра спектаклей; - упражнения для социально-эмоционального развития детей; - коррекционно-развивающие игры; - упражнения по дикции; - игры-превращения; - упражнения на развитие мимики, детской пластики, элементы искусства пантомимы; - театральные этюды; - репетиции и обыгрывание сказок и инсценировок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3048120" y="1443960"/>
            <a:ext cx="609552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оды и приемы работы: - творческая деятельность (игровое творчество, песенное, танцевальное, импровизация на детских музыкальных инструментах); - экспериментирование; - сочинения сказок, модификация сказок; - игры-драматизации; - беседы после просмотра спектаклей; - упражнения для социально-эмоционального развития детей; - коррекционно-развивающие игры; - упражнения по дикции; - игры-превращения; - упражнения на развитие мимики, детской пластики, элементы искусства пантомимы; - театральные этюды; - репетиции и обыгрывание сказок и инсцениров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76096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правления занятий по театрализованной деятельности. Освоение основ актерского мастерства в процессе выполнения упражнений творческого характера. Освоение детьми технических приемов, характерных для различных видов театрального искусства.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0e5580"/>
      </a:dk2>
      <a:lt2>
        <a:srgbClr val="ebebeb"/>
      </a:lt2>
      <a:accent1>
        <a:srgbClr val="acd433"/>
      </a:accent1>
      <a:accent2>
        <a:srgbClr val="e6c133"/>
      </a:accent2>
      <a:accent3>
        <a:srgbClr val="ef7a24"/>
      </a:accent3>
      <a:accent4>
        <a:srgbClr val="5aa0f5"/>
      </a:accent4>
      <a:accent5>
        <a:srgbClr val="75ceec"/>
      </a:accent5>
      <a:accent6>
        <a:srgbClr val="65d6a0"/>
      </a:accent6>
      <a:hlink>
        <a:srgbClr val="c4e46e"/>
      </a:hlink>
      <a:folHlink>
        <a:srgbClr val="bde0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0e5580"/>
      </a:dk2>
      <a:lt2>
        <a:srgbClr val="ebebeb"/>
      </a:lt2>
      <a:accent1>
        <a:srgbClr val="acd433"/>
      </a:accent1>
      <a:accent2>
        <a:srgbClr val="e6c133"/>
      </a:accent2>
      <a:accent3>
        <a:srgbClr val="ef7a24"/>
      </a:accent3>
      <a:accent4>
        <a:srgbClr val="5aa0f5"/>
      </a:accent4>
      <a:accent5>
        <a:srgbClr val="75ceec"/>
      </a:accent5>
      <a:accent6>
        <a:srgbClr val="65d6a0"/>
      </a:accent6>
      <a:hlink>
        <a:srgbClr val="c4e46e"/>
      </a:hlink>
      <a:folHlink>
        <a:srgbClr val="bde0f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2691</TotalTime>
  <Application>LibreOffice/7.4.7.2$Linux_X86_64 LibreOffice_project/40$Build-2</Application>
  <AppVersion>15.0000</AppVersion>
  <Words>62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09:49:17Z</dcterms:created>
  <dc:creator>Яна Бухинник</dc:creator>
  <dc:description/>
  <dc:language>en-US</dc:language>
  <cp:lastModifiedBy>Виктория Ю. Плуготыренко</cp:lastModifiedBy>
  <dcterms:modified xsi:type="dcterms:W3CDTF">2019-04-04T06:22:20Z</dcterms:modified>
  <cp:revision>26</cp:revision>
  <dc:subject/>
  <dc:title>ПРЕЗЕНТАЦИЯ «Правильная осанка-ключ к здоровью ребенк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7</vt:r8>
  </property>
</Properties>
</file>