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744-BA86-4A9B-855B-BC97A738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53C-6315-4B59-94FC-2BE5F775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249-240E-4564-8AF0-500E2894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1732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07976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11732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07976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D88-07E1-4B9D-89F8-B4D1E933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6C42-49CB-4BE0-BB57-EC7DAE64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8318-1C60-4779-ADB6-F5EAE88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3E1-0C87-417C-AE5E-032A57B7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98AC-FE67-47BE-A92C-32252C9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AC1B-C4FC-4DB1-A849-923664DB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CF0-95FB-4E9E-8810-BA75E4E5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3A50-4201-4ADC-A5EC-1C5BCB7F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729-4A52-4B67-94AE-E41D1CCA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163B-D392-42BD-A780-3600F6F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29C6-328A-4430-8D73-EC1F9B7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F6F7-3286-4A22-957A-F0C6F33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605-B218-453C-96DD-9C4B38A2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1732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07976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11732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07976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7EE3-1B4C-4C9C-BEB6-5CE0E71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824-8D28-4089-B232-BF665677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ACF-3D57-4E8A-B013-5298BE9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DFA-7BFE-4B93-9429-D37A80E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8B1-3C8F-4764-AA17-799F1E3F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230-6BAC-4B22-B87F-60DF276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622-BF7C-4380-836F-AF66665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2D2-A5A9-460F-B7B4-75E8639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1" name="Rectangle 25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4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5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6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7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8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1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5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12" name="Rectangle 7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0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1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2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dt" idx="1"/>
          </p:nvPr>
        </p:nvSpPr>
        <p:spPr>
          <a:xfrm rot="5400000">
            <a:off x="1008936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ftr" idx="2"/>
          </p:nvPr>
        </p:nvSpPr>
        <p:spPr>
          <a:xfrm rot="5400000">
            <a:off x="8959680" y="322668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9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3"/>
          </p:nvPr>
        </p:nvSpPr>
        <p:spPr>
          <a:xfrm>
            <a:off x="10351080" y="29268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DAA7C8-71A9-4447-8142-5402BA140032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62" name="Rectangle 25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2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10650960" y="639396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52848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00EDA0-8F2B-48A4-9A5D-8BA6D8407AD1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3860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ПРЕЗЕНТАЦИЯ</a:t>
            </a:r>
            <a:br>
              <a:rPr sz="4800"/>
            </a:b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«Совместная деятельность взрослых и детей в театрализованной деятельности»</a:t>
            </a:r>
            <a:endParaRPr b="0" lang="ru-RU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701440" y="560808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7ac4f0"/>
                </a:solidFill>
                <a:latin typeface="Century Gothic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7ac4f0"/>
                </a:solidFill>
                <a:latin typeface="Century Gothic"/>
              </a:rPr>
              <a:t>Мещерякова Т.Г.  </a:t>
            </a:r>
            <a:r>
              <a:rPr b="0" lang="ru-RU" sz="1800" spc="-1" strike="noStrike" cap="all">
                <a:solidFill>
                  <a:srgbClr val="7ac4f0"/>
                </a:solidFill>
                <a:latin typeface="Century Gothic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239360" y="869040"/>
            <a:ext cx="371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ac4f0"/>
                </a:solidFill>
                <a:latin typeface="Times New Roman"/>
              </a:rPr>
              <a:t>МБОУ  лицей № 3   г. Ворон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2702160" y="2333880"/>
            <a:ext cx="56401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2278080" y="2248560"/>
            <a:ext cx="57736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2456640" y="2286000"/>
            <a:ext cx="57862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2471400" y="2497680"/>
            <a:ext cx="5488920" cy="41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2456640" y="2387880"/>
            <a:ext cx="5649840" cy="42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ЕЛЕВЫЕ ОРИЕНТИРЫ Расширяются и углубляются знания детей об окружающем мире Развиваются психические процессы: внимание, память, восприятие, воображение; Происходит развитие различных анализаторов: зрительного, слухового, речедвигательного; Активизируется и совершенствуется словарный запас, грамматический строй речи, звукопроизношение, навыки связной речи, интонационная сторона речи, темп, выразительность; Совершенствуется моторика, координация, целенаправленность движений Развивается эмоционально-волевая сфера; Происходит коррекция поведения Формируется опыт поведения Стимулируется развитие творческой, поисковой активности, самостоятельности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вод : Таким образом, использование театрализованной деятельности с семьями воспитанников детского сада дает положительные результаты. Всей своей работой мы доказываем родителям , что их вовлечение в педагогическую деятельность, заинтересованное участие в воспитательно-образовательном процессе важно не потому, что это хочет воспитатель, а потому, что это необходимо для развития их собственного ребенка. Внедрение ФГОС позволяет организовать совместную деятельность детского сада и семьи более эффективно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3072240" y="2900160"/>
            <a:ext cx="6326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72a40"/>
                </a:solidFill>
                <a:latin typeface="Century Gothic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72a40"/>
                </a:solidFill>
                <a:latin typeface="Century Gothic"/>
              </a:rPr>
              <a:t>ЗА 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4880" y="2286000"/>
            <a:ext cx="876096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2a40"/>
                </a:solidFill>
                <a:latin typeface="Century Gothic"/>
              </a:rPr>
              <a:t>Тема : Совместная деятельность взрослых и  детей  в театрализованной деятельности. Подготовили воспитатели Кузнецова Марина Вячеславовна и Мещерякова Марина Вячеславовна МБОУ лицей №3 г.Воронеж, группа № 5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048120" y="2828880"/>
            <a:ext cx="6095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еатр – это волшебный мир. Он дает уроки красоты, морали и нравственности. А чем они богаче, тем успешнее идет развитие духовного мира детей… Б. М. Теп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4920" y="1511640"/>
            <a:ext cx="590904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Любая работа эффективна тогда, когда она правильно организована» .Стандарт является основой для оказания помощи родителям в воспитании детей, охране и укреплении их физического и психического здоровья, в развитии индивидуальных способностей и необходимой коррекции нарушений их развития В Конституции РФ, в законодательстве РФ, в Конвенции ООН о правах ребенка, в Федеральном государственном образовательном стандарте дошкольного образования (ФГОС ДО) заложен принцип личностно-развивающего и гуманистического характера взаимодействия взрослых и детей. В соответствии с этим, организация учебно-воспитательного процесса с детьми должна обеспечивать личностно-развивающее воздействие. В своей работе я использую только те обучающие средства, которые оказывают положительное влияние на личностное развитие дете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ель педагога: - создать единое пространство развития ребенка в семье и ДОУ; - сделать родителей участниками полноценного воспитательного процесса; - достичь высокого качества в развитии, полностью удовлетворить интересы родителей и детей; - создать это единое пространство возможно при систематическом взаимодействии ДОУ и семь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дущие цели: - создание в детском саду необходимых условий для развития ответственных и взаимозависимых отношений с семьями воспитанников, обеспечивающих целостное развитие личности дошкольника; - повышение компетентности родителей в области воспита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оды и приемы работы: - творческая деятельность (игровое творчество, песенное, танцевальное, импровизация на детских музыкальных инструментах); - экспериментирование; - сочинения сказок, модификация сказок; - игры-драматизации; - беседы после просмотра спектаклей; - упражнения для социально-эмоционального развития детей; - коррекционно-развивающие игры; - упражнения по дикции; - игры-превращения; - упражнения на развитие мимики, детской пластики, элементы искусства пантомимы; - театральные этюды; - репетиции и обыгрывание сказок и инсценировок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3048120" y="1443960"/>
            <a:ext cx="60955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оды и приемы работы: - творческая деятельность (игровое творчество, песенное, танцевальное, импровизация на детских музыкальных инструментах); - экспериментирование; - сочинения сказок, модификация сказок; - игры-драматизации; - беседы после просмотра спектаклей; - упражнения для социально-эмоционального развития детей; - коррекционно-развивающие игры; - упражнения по дикции; - игры-превращения; - упражнения на развитие мимики, детской пластики, элементы искусства пантомимы; - театральные этюды; - репетиции и обыгрывание сказок и инсцениро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авления занятий по театрализованной деятельности. Освоение основ актерского мастерства в процессе выполнения упражнений творческого характера. Освоение детьми технических приемов, характерных для различных видов театрального искусств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0e5580"/>
      </a:dk2>
      <a:lt2>
        <a:srgbClr val="ebebeb"/>
      </a:lt2>
      <a:accent1>
        <a:srgbClr val="acd433"/>
      </a:accent1>
      <a:accent2>
        <a:srgbClr val="e6c133"/>
      </a:accent2>
      <a:accent3>
        <a:srgbClr val="ef7a24"/>
      </a:accent3>
      <a:accent4>
        <a:srgbClr val="5aa0f5"/>
      </a:accent4>
      <a:accent5>
        <a:srgbClr val="75ceec"/>
      </a:accent5>
      <a:accent6>
        <a:srgbClr val="65d6a0"/>
      </a:accent6>
      <a:hlink>
        <a:srgbClr val="c4e46e"/>
      </a:hlink>
      <a:folHlink>
        <a:srgbClr val="bde0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0e5580"/>
      </a:dk2>
      <a:lt2>
        <a:srgbClr val="ebebeb"/>
      </a:lt2>
      <a:accent1>
        <a:srgbClr val="acd433"/>
      </a:accent1>
      <a:accent2>
        <a:srgbClr val="e6c133"/>
      </a:accent2>
      <a:accent3>
        <a:srgbClr val="ef7a24"/>
      </a:accent3>
      <a:accent4>
        <a:srgbClr val="5aa0f5"/>
      </a:accent4>
      <a:accent5>
        <a:srgbClr val="75ceec"/>
      </a:accent5>
      <a:accent6>
        <a:srgbClr val="65d6a0"/>
      </a:accent6>
      <a:hlink>
        <a:srgbClr val="c4e46e"/>
      </a:hlink>
      <a:folHlink>
        <a:srgbClr val="bde0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2691</TotalTime>
  <Application>LibreOffice/7.4.7.2$Linux_X86_64 LibreOffice_project/40$Build-2</Application>
  <AppVersion>15.0000</AppVersion>
  <Words>62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09:49:17Z</dcterms:created>
  <dc:creator>Яна Бухинник</dc:creator>
  <dc:description/>
  <dc:language>en-US</dc:language>
  <cp:lastModifiedBy>Виктория Ю. Плуготыренко</cp:lastModifiedBy>
  <dcterms:modified xsi:type="dcterms:W3CDTF">2019-04-04T06:22:20Z</dcterms:modified>
  <cp:revision>26</cp:revision>
  <dc:subject/>
  <dc:title>ПРЕЗЕНТАЦИЯ «Правильная осанка-ключ к здоровью ребенк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7</vt:r8>
  </property>
</Properties>
</file>