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E92-CB00-453C-8C5A-5370D97E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FE6-55B6-465B-BA3A-2F1A6C9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71B-0EF2-4FC8-9377-064C46F7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206-EFE4-4D8B-A3C0-92E64E40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006-A0B6-44F0-8C82-4680CC9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53A-E696-4919-9033-B782C8C6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126-B7C6-4C38-9E1B-3713445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148-14F8-49DB-8F18-82B7BBC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836-DC1D-4F25-86DD-EEAA5F58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0A0-BB79-4B7C-B434-B372601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4DD-C5AE-45AB-A004-EE8565E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D50-33EA-41B0-96D8-1FB3CB1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48F-99E8-488F-B42D-F6CA4A94E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Смутное время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мутное время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ериод в истории России, который характеризовался слабостью государственной власти и неподчинением окраин центру, самозванством, гражданской войной, интервенцией и великой разрухой Московского ц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4600_0"/>
          <p:cNvPicPr/>
          <p:nvPr/>
        </p:nvPicPr>
        <p:blipFill>
          <a:blip r:embed="rId1"/>
          <a:stretch/>
        </p:blipFill>
        <p:spPr>
          <a:xfrm>
            <a:off x="5219640" y="3933720"/>
            <a:ext cx="2952720" cy="221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45" name="Picture 5" descr="cover_61638_44710"/>
          <p:cNvPicPr/>
          <p:nvPr/>
        </p:nvPicPr>
        <p:blipFill>
          <a:blip r:embed="rId2"/>
          <a:srcRect l="3031" t="10538" r="3235" b="24192"/>
          <a:stretch/>
        </p:blipFill>
        <p:spPr>
          <a:xfrm>
            <a:off x="755640" y="3933720"/>
            <a:ext cx="4464000" cy="2232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чины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1. Опричнина Ивана Грозного, показавшая обществу его бесправие перед произволом цар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2. Падение нравов в российском 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(по мнению некоторых истори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3. Борьба боярства за ограничение цар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4. Представление народа, что власть в стране должна принадлежать «природному царю», а не избр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5. Стремление различных социальных групп улучшить свое социальное положение любыми пу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события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97000"/>
          <a:ext cx="8229600" cy="5425920"/>
        </p:xfrm>
        <a:graphic>
          <a:graphicData uri="http://schemas.openxmlformats.org/drawingml/2006/table">
            <a:tbl>
              <a:tblPr/>
              <a:tblGrid>
                <a:gridCol w="647640"/>
                <a:gridCol w="1224000"/>
                <a:gridCol w="6357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Дата (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чало правления Бориса Году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1-1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урожаи и массовый голод в России, нарастание социальной напряжё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58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Ливонская во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мерть Бориса Годунова. Воцарение Лжедмитрия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6-1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Царствование Василия Шуй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6-1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осстание по руководством И. Болотни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чало военных действий Лжедмитрия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тягивание в гражданскую войну Швеции и Польши. Начало польской интерв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0-1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авление «Семибоярщин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1-1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ятельность первого и второго ополчения, освобождавших Москву от польских интерв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Установление династии Ром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улинское перемирие с Польш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3-1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авление Михаила Ро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тоги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1. Экономическая разруха и обнищание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2. Ухудшение международного положения России, и потеря ряда терри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3. Воцарение новой династии Романовых ( 1613-1917гг.) на царском пре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4. Временное усиление сословно-представительных органов- Боярской Думы и Земского Соб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691"/>
          <p:cNvPicPr/>
          <p:nvPr/>
        </p:nvPicPr>
        <p:blipFill>
          <a:blip r:embed="rId1"/>
          <a:stretch/>
        </p:blipFill>
        <p:spPr>
          <a:xfrm>
            <a:off x="3132000" y="4508640"/>
            <a:ext cx="3311640" cy="2163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414"/>
          <p:cNvPicPr/>
          <p:nvPr/>
        </p:nvPicPr>
        <p:blipFill>
          <a:blip r:embed="rId1"/>
          <a:stretch/>
        </p:blipFill>
        <p:spPr>
          <a:xfrm>
            <a:off x="2297160" y="100080"/>
            <a:ext cx="4424400" cy="6669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то способствовало прекращению Смутного времени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632720" cy="452592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ражения в октябре 1612 г. не были рядовыми столкновениями между поляками и русскими- шла борьба за сохранение веры, культуры, самосознания. Победа Второго ополчения в битве за Москву имела историческое значение: она доказывала правоту тех, кто выступал за освобождение родной земли от чужестранцев и призывала русский народ к един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менно в начале 17в. на волне патриотического подъема народ осознал, насколько важно научиться жить единой нацией в собственном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сле событий 1612г. Все усилия российского народа были направлены на восстановление могущества державы. Один безвестный летописец сформулировал эту мысль как нравственный приказ, как некую установку на будущее возрождение России: «выжить надо, коль Смуте конец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. Н. Бердыш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anner_monar_120_240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6:34Z</dcterms:created>
  <dc:creator>Электроник</dc:creator>
  <dc:description/>
  <dc:language>en-US</dc:language>
  <cp:lastModifiedBy>User</cp:lastModifiedBy>
  <dcterms:modified xsi:type="dcterms:W3CDTF">2019-06-09T13:27:49Z</dcterms:modified>
  <cp:revision>12</cp:revision>
  <dc:subject/>
  <dc:title>Смута –период в истории России с 1598-1613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80000000000010250300207f7000400038000</vt:lpwstr>
  </property>
</Properties>
</file>