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176-ECCC-481C-8CA1-381C4902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AF1-3A59-4BCE-ACBF-CBF0D2BC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5F5-CED1-4B60-8802-A85601C0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43E-8C1B-4A94-BF44-5C80390D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9FC-68CB-4917-ADF1-910C4540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5CA-7593-43AB-A065-F9CF36AD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41C-4E5B-4480-9016-A463157A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B8A-74F4-487A-B55F-D670F93E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378-6F64-4390-B0CE-F5886E8D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550-2106-4795-9D19-05AED6DC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E6E-2799-4B32-BDF2-7B6A64E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175-7125-4A95-B101-29EBC26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FBCA-17B3-49D4-AA4B-C74BDE5B6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Смутное время</a:t>
            </a:r>
            <a:br>
              <a:rPr sz="72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мутное время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период в истории России, который характеризовался слабостью государственной власти и неподчинением окраин центру, самозванством, гражданской войной, интервенцией и великой разрухой Московского ц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24600_0"/>
          <p:cNvPicPr/>
          <p:nvPr/>
        </p:nvPicPr>
        <p:blipFill>
          <a:blip r:embed="rId1"/>
          <a:stretch/>
        </p:blipFill>
        <p:spPr>
          <a:xfrm>
            <a:off x="5219640" y="3933720"/>
            <a:ext cx="2952720" cy="221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45" name="Picture 5" descr="cover_61638_44710"/>
          <p:cNvPicPr/>
          <p:nvPr/>
        </p:nvPicPr>
        <p:blipFill>
          <a:blip r:embed="rId2"/>
          <a:srcRect l="3031" t="10538" r="3235" b="24192"/>
          <a:stretch/>
        </p:blipFill>
        <p:spPr>
          <a:xfrm>
            <a:off x="755640" y="3933720"/>
            <a:ext cx="4464000" cy="22320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чины Смутно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1. Опричнина Ивана Грозного, показавшая обществу его бесправие перед произволом царск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2. Падение нравов в российском обще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(по мнению некоторых историк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3. Борьба боярства за ограничение царск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4. Представление народа, что власть в стране должна принадлежать «природному царю», а не избра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5. Стремление различных социальных групп улучшить свое социальное положение любыми пу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е события Смутно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197000"/>
          <a:ext cx="8229600" cy="5425920"/>
        </p:xfrm>
        <a:graphic>
          <a:graphicData uri="http://schemas.openxmlformats.org/drawingml/2006/table">
            <a:tbl>
              <a:tblPr/>
              <a:tblGrid>
                <a:gridCol w="647640"/>
                <a:gridCol w="1224000"/>
                <a:gridCol w="6357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Дата (г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обы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5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чало правления Бориса Году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1-1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еурожаи и массовый голод в России, нарастание социальной напряжё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558-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Ливонская во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мерть Бориса Годунова. Воцарение Лжедмитрия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6-1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Царствование Василия Шуй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6-1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осстание по руководством И. Болотни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Начало военных действий Лжедмитрия </a:t>
                      </a: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тягивание в гражданскую войну Швеции и Польши. Начало польской интерв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10-16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авление «Семибоярщин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11-1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Деятельность первого и второго ополчения, освобождавших Москву от польских интерв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Установление династии Романов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Деулинское перемирие с Польш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613-16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авление Михаила Ром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тоги Смутног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1. Экономическая разруха и обнищание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2. Ухудшение международного положения России, и потеря ряда террито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3. Воцарение новой династии Романовых ( 1613-1917гг.) на царском прест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4. Временное усиление сословно-представительных органов- Боярской Думы и Земского Соб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691"/>
          <p:cNvPicPr/>
          <p:nvPr/>
        </p:nvPicPr>
        <p:blipFill>
          <a:blip r:embed="rId1"/>
          <a:stretch/>
        </p:blipFill>
        <p:spPr>
          <a:xfrm>
            <a:off x="3132000" y="4508640"/>
            <a:ext cx="3311640" cy="21636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414"/>
          <p:cNvPicPr/>
          <p:nvPr/>
        </p:nvPicPr>
        <p:blipFill>
          <a:blip r:embed="rId1"/>
          <a:stretch/>
        </p:blipFill>
        <p:spPr>
          <a:xfrm>
            <a:off x="2297160" y="100080"/>
            <a:ext cx="4424400" cy="66690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Что способствовало прекращению Смутного времени в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7632720" cy="4525920"/>
          </a:xfrm>
          <a:prstGeom prst="rect">
            <a:avLst/>
          </a:prstGeom>
          <a:noFill/>
          <a:ln w="1908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Сражения в октябре 1612 г. не были рядовыми столкновениями между поляками и русскими- шла борьба за сохранение веры, культуры, самосознания. Победа Второго ополчения в битве за Москву имела историческое значение: она доказывала правоту тех, кто выступал за освобождение родной земли от чужестранцев и призывала русский народ к един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менно в начале 17в. на волне патриотического подъема народ осознал, насколько важно научиться жить единой нацией в собственном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сле событий 1612г. Все усилия российского народа были направлены на восстановление могущества державы. Один безвестный летописец сформулировал эту мысль как нравственный приказ, как некую установку на будущее возрождение России: «выжить надо, коль Смуте конец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                                                                           </a:t>
            </a: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С. Н. Бердыш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banner_monar_120_240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06:34Z</dcterms:created>
  <dc:creator>Электроник</dc:creator>
  <dc:description/>
  <dc:language>en-US</dc:language>
  <cp:lastModifiedBy>User</cp:lastModifiedBy>
  <dcterms:modified xsi:type="dcterms:W3CDTF">2019-06-09T13:27:49Z</dcterms:modified>
  <cp:revision>12</cp:revision>
  <dc:subject/>
  <dc:title>Смута –период в истории России с 1598-1613г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80000000000010250300207f7000400038000</vt:lpwstr>
  </property>
</Properties>
</file>