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6DF-1A95-447F-A89D-9EC07262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8A9-60A5-4E6A-91D9-6DE9BC7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436-E184-4073-BDB9-61D5BBCD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3C4-F8E3-41B2-8F36-64A1A4D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3F0-2E56-4CA1-A61E-3B7065E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DD0-BB00-41BD-ABB1-1CE4C347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592-D26A-45B6-BDFC-63EE91E7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4AD-F507-45D6-80FB-24F3D8C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A40-BB95-4F50-8907-CC95A145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355-38DE-444B-8677-D2023E4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050-DE7A-4927-9FC2-0917A4D7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4B3-AA82-4C0B-B990-D63ADB9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E6C-6E89-4479-A52B-406AE54F0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 Black"/>
                <a:ea typeface="Aharoni"/>
              </a:rPr>
              <a:t>Профессии моей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Arial Black"/>
                <a:ea typeface="Aharoni"/>
              </a:rPr>
              <a:t>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 средняя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Пешкова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профессией повара  (сентябр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«Украшаем тарел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ирование  из бумаги « Чайный серви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:\фото детей осень 2016\средняя группа осень 2016\SAM_2229.JPG"/>
          <p:cNvPicPr/>
          <p:nvPr/>
        </p:nvPicPr>
        <p:blipFill>
          <a:blip r:embed="rId1"/>
          <a:stretch/>
        </p:blipFill>
        <p:spPr>
          <a:xfrm>
            <a:off x="457200" y="1752480"/>
            <a:ext cx="4495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с профессией библиотек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:\фото детей осень 2016\средняя группа осень 2016\SAM_2273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:\DCIM\101PHOTO\SAM_2274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СКУРСИЯ В Х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User\Desktop\101PHOTO\SAM_2414.JPG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User\Desktop\101PHOTO\SAM_2417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Экскурсия в парикмахерску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:\DCIM\101PHOTO\SAM_247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Спасибо 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User\Desktop\к презентации\ффотто\9JrOyEinaEM.jpg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олько  вместе с родителями, общими усилиями, педагоги могут дать  детям  большое человеческое  счастье»      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   (  В. А. Сухомлински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детей с трудом взрослых — это не только средство формирования системных знаний, но и значимое социально-эмоциональное  средство приобщения к миру взрослых, приобретение детьми опыта общения  с людьми, расширение  представлений  детей о  своей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овать обогащению детско-родитель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ом совместной творческой деятель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влечению родителей в совместную деятельность с ребенком в условиях семьи и детского с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буждение  у детей любознательности и интереса к деятельности своих родителей, уважения к их  труду,   расширение  и уточнение  знаний детей о мире  профессий на примере профессий родителей; трудовых  действиях, совершаемых взрослыми; о материалах, необходимых для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богащение словаря  детей путем введения новых    понятий:«профессия», названий профессий; орудий   тру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отрудничество с родителями в решении задач образовательной программы ДОУ и активизации их в жизни группы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ники 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и груп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средней  группы, их 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ок реализации  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тябрь 2016- май 2017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.Подготов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оставление плана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аработка и накопление необходим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аботка плана меропри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Сбор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реализации пр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I.Основной (планируемые мероприя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Экскурсии на  места работы  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езентация для детей «Професс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тение художественной литературы по тем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исование на тему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Сюжетно-ролевые  игры: Парикмахерская, Магазин, Больница, Готовим обе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тихи, загадки о труде, професс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Семейный досуг «Вечер дружной семь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Творческое задание для детей и родителей «Изгот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тюмов и реквизита для сюжетно-ролевых игр по профессия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Оформление альбома детско-родительских работ «Профессии   моей семь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Итоговая презентация с заданиями на закрепление «Какие  профессии мы  знае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.Заключ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Подготовка и проведение выставки детско-родительски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каз-дефиле костюмов и атрибутов  «Парад  професс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оздание фотоотчета о проведенных мероприят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готовка материалов проекта для размещения на сайте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ируемые 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Дети знают и активно употребляют в речи слова, связанны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Имеют представление о разных профессиях; трудовых действиях,  совершаемых взрослыми; о материалах, необходимых дл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меют активно, самостоятельно применять полученные знания в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ети вместе с родителями готовят предложенные задания, применив творческий подх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готовлен материал для сюжетно-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Оформлен альбом «Профессии моей  семь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Оформленный про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Высокая  вовлеченность в проект дет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Ирина</cp:lastModifiedBy>
  <dcterms:modified xsi:type="dcterms:W3CDTF">2019-06-10T16:33:4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