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8AC-DAC3-4FF5-94E1-125AA617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AD7-07CD-4252-81C9-F271E638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D7B-50B9-4A45-8B45-063D048C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F07-E99D-45ED-8FE9-3FF6D1F0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FD8F-EC6B-42BE-8DE8-52586C7B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AA5-FA22-46B1-B251-13E65E70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FCE-CA57-4D8C-BB4C-62FA2A47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598-2CE6-43FA-989A-913DF4F0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2EE-4789-4D46-B47F-5A4D647E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7DA-DB42-4071-8F4F-624DCFA2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DFA-311A-4F23-9C6A-ACBC3F81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22F-44C8-4DA7-B27D-7B43DA86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FC28-318E-4D32-9FF5-790FCFB02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 Black"/>
                <a:ea typeface="Aharoni"/>
              </a:rPr>
              <a:t>Профессии моей </a:t>
            </a:r>
            <a:br>
              <a:rPr sz="4400"/>
            </a:br>
            <a:r>
              <a:rPr b="0" i="1" lang="ru-RU" sz="4400" spc="-1" strike="noStrike">
                <a:solidFill>
                  <a:srgbClr val="333399"/>
                </a:solidFill>
                <a:latin typeface="Arial Black"/>
                <a:ea typeface="Aharoni"/>
              </a:rPr>
              <a:t>сем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 средняя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ель Пешкова И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комство с профессией повара  (сентябр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8112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ование «Украшаем тарело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ирование  из бумаги « Чайный сервиз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D:\фото детей осень 2016\средняя группа осень 2016\SAM_2229.JPG"/>
          <p:cNvPicPr/>
          <p:nvPr/>
        </p:nvPicPr>
        <p:blipFill>
          <a:blip r:embed="rId1"/>
          <a:stretch/>
        </p:blipFill>
        <p:spPr>
          <a:xfrm>
            <a:off x="457200" y="1752480"/>
            <a:ext cx="4495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комство с профессией библиотек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D:\фото детей осень 2016\средняя группа осень 2016\SAM_2273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H:\DCIM\101PHOTO\SAM_2274.JPG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СКУРСИЯ В ХР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User\Desktop\101PHOTO\SAM_2414.JPG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96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User\Desktop\101PHOTO\SAM_2417.JPG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Экскурсия в парикмахерску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:\DCIM\101PHOTO\SAM_247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Спасибо 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Users\User\Desktop\к презентации\ффотто\9JrOyEinaEM.jpg"/>
          <p:cNvPicPr/>
          <p:nvPr/>
        </p:nvPicPr>
        <p:blipFill>
          <a:blip r:embed="rId1"/>
          <a:stretch/>
        </p:blipFill>
        <p:spPr>
          <a:xfrm>
            <a:off x="1219320" y="160020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олько  вместе с родителями, общими усилиями, педагоги могут дать  детям  большое человеческое  счастье»      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                        (  В. А. Сухомлинский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детей с трудом взрослых — это не только средство формирования системных знаний, но и значимое социально-эмоциональное  средство приобщения к миру взрослых, приобретение детьми опыта общения  с людьми, расширение  представлений  детей о  своей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ствовать обогащению детско-родительски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ытом совместной творческой деятель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влечению родителей в совместную деятельность с ребенком в условиях семьи и детского са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буждение  у детей любознательности и интереса к деятельности своих родителей, уважения к их  труду,   расширение  и уточнение  знаний детей о мире  профессий на примере профессий родителей; трудовых  действиях, совершаемых взрослыми; о материалах, необходимых для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Обогащение словаря  детей путем введения новых    понятий:«профессия», названий профессий; орудий   тру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Сотрудничество с родителями в решении задач образовательной программы ДОУ и активизации их в жизни группы детского с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ники 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и груп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средней  группы, их 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ок реализации  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нтябрь 2016- май 2017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ы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.Подготови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оставление плана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Наработка и накопление необходимого матери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зработка плана мероприят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Сбор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ы реализации пр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I.Основной (планируемые мероприя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Экскурсии на  места работы 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Презентация для детей «Професси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Чтение художественной литературы по теме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Рисование на тему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Сюжетно-ролевые  игры: Парикмахерская, Магазин, Больница, Готовим обе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Стихи, загадки о труде, професс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Семейный досуг «Вечер дружной семь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Творческое задание для детей и родителей «Изгот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тюмов и реквизита для сюжетно-ролевых игр по профессиям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Оформление альбома детско-родительских работ «Профессии   моей семь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Итоговая презентация с заданиями на закрепление «Какие  профессии мы  знае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ы 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II.Заключ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Подготовка и проведение выставки детско-родительских р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каз-дефиле костюмов и атрибутов  «Парад  професс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Создание фотоотчета о проведенных мероприят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дготовка материалов проекта для размещения на сайте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ируемые 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Дети знают и активно употребляют в речи слова, связанные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Имеют представление о разных профессиях; трудовых действиях,  совершаемых взрослыми; о материалах, необходимых для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Умеют активно, самостоятельно применять полученные знания в игров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ети вместе с родителями готовят предложенные задания, применив творческий подх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готовлен материал для сюжетно- ролевых 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Оформлен альбом «Профессии моей  семь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Оформленный проек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Высокая  вовлеченность в проект детей и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Ирина</cp:lastModifiedBy>
  <dcterms:modified xsi:type="dcterms:W3CDTF">2019-06-10T16:33:41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