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FD78-1360-4241-90E2-40B8B0A68B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838C-5F45-412B-9728-C1A326A19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A96-2F4A-42E5-A1FF-DBBE2CBA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632-0B60-41D6-AF85-7CD3FC5D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F54-61A3-4CE2-B045-E225A325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3FF-6EEF-4B54-9AB4-BD7C595A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4450-0221-4B18-AE19-94C98EE5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BC77-2AC8-464C-93CF-E2A52912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A80E-E3C6-4306-BBB6-A7FC4058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CC5C-F99A-4EE9-9D21-21DE2881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4503-2231-46DC-974E-938C8C13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1033-2C4F-488A-BB28-B7A7DE21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08F4-6B97-4A05-977B-B30322AD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FBE-B9E7-4F92-A392-945B18E2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52CF-7D7F-4E1B-930F-D2729652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6D7C-AEA4-459E-AF96-6D588733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6758-3824-4780-93DF-855A2530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808-FBFD-4903-B8D7-8E2F3DD5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18C9-C772-421B-A5D5-334407FA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54F02-AA93-4733-8A6B-EA8D0EFC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B6DDE-06CC-4535-8A61-C2C1B168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46EF-6C33-4D7A-B510-C0F35452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798A-C292-478C-8314-F80373D4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BE72-D73D-4C68-ADAA-0E01E6F6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275-E9F1-4034-8191-82B8EEDE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91F4-64D4-4DA2-977F-08CBAEA5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702C-464A-4C9E-A549-76801AC5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367B2-8D2B-484A-95F5-C2777604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61476-FBC8-41B5-B3D6-2D33C144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AE8A-9A53-443E-9533-70880D5E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CAE00-EB4B-4DA1-834E-E651AFE2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FA87-237A-4C5A-A833-D07B4EBA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2DF1-FE35-4D8D-8E8E-D0180D28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35A4F-4882-4BD3-A8F9-989850D9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A3E17-8533-4957-B05A-5B57430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FF1-6CD7-49E1-83CD-4F8F6014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0E19-EEE9-4747-860F-E6C2AF73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F065-342A-4002-93EE-A4BE9027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717C8-7287-4ED5-BA16-8273DE71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2370C-0EA2-4239-BEC7-7DB5A56F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D5FDD-D1C2-4F59-8E81-3887270E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EF712-914A-4174-9FE4-AE4F8EC2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32BB-899D-4C75-98D9-E6CBEDE2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D1A97-E4BB-479C-9878-588744C3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2833-0AAD-431B-A031-81CCB0F7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2B048-5270-4471-850A-ADA744DA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FBE-4DBD-48A5-91F6-07CF44D8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370C-C66F-4BE8-A82E-AD3585F9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D8A00-B4F1-4631-A3D3-D726B7B7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EB4A-8344-4456-B30F-615C0513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CA47E-644F-4DB2-A734-FADDAB3D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155F2-C17A-4F93-9007-D0EE9CE2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BCE4D-92E3-4EEC-A23C-73F9D012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518B5-72CD-452B-8001-12C529E1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B8563-17DD-4683-BED9-BB81C9E8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D5977-D2F1-4F7C-ABDE-0F476655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8223D-D2D2-4085-883C-9B1AC20A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2C7-2E90-4351-B84E-738FD88C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0271-EE70-433D-9DDA-62DF2E3F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8DADB-0266-4FD3-B33D-7651F8FC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4BFAE-177D-4908-BABD-7F5EF66F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0AE88-6277-468E-89B2-0A8D68F1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83FAC-09C8-49BA-A15B-975B814F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A1F67-6F84-4303-96A2-E1951066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28F94-0AFF-4383-B8C0-DCD4D04A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DAA60-7590-488D-AC1D-AA2FB42E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99EDC-7234-40B8-BD72-1316CB31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D5835-44F9-4C5C-BAD8-CDE117DD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C42-4FA9-440C-9B53-23CD4E10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821958-CC80-4A92-BFFF-561A4430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922D1-FD4F-4DC9-97E6-AA3846FD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C6CFB-9455-496B-8DA7-C6231688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BE18D-41A1-41EC-B5D7-FE1C630E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A74EB-79FB-4D9F-B0D9-6E614277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C5DED-C30F-4DE9-B48C-7466343E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549B0-2858-4F9B-80E2-66A20407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C2B11-C0C8-4A3E-A969-68442866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1C043-904D-4B53-84F9-86561F2E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1626E-C583-4FBE-846E-075114C0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565-FCB7-4EAE-9337-32B3A148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D148B-AE01-4054-BBF7-199BD295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43A9A-0342-472F-AF9B-C6FC2A67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73E0-0F80-4E1C-8611-47529D27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1102E-1815-4299-ABB7-4465B129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F04B1-41D5-4979-A9E6-42A4FA08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467-E729-482E-98CF-5ED840A7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C72-64E5-4198-B47B-6F17058FAB3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2AD0-AC95-4E59-A143-6F4E16E36344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2CEE-73FE-4C86-B7F4-7115869C97C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DBB1-E579-476C-8AC6-593A1287D53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9C4A-DFC1-47E5-96F8-BB173FA522D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9874-BC93-4934-9474-08370CECC84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AF42-1CD4-4F1E-9B2B-06ED56F03AC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4520160" y="260280"/>
            <a:ext cx="2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7000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116000" y="1628640"/>
            <a:ext cx="684072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6800"/>
                </a:solidFill>
                <a:latin typeface="Book Antiqua"/>
              </a:rPr>
              <a:t>Презентация на 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800"/>
                </a:solidFill>
                <a:latin typeface="Book Antiqua"/>
              </a:rPr>
              <a:t>«Сказка - волшеб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6800"/>
                </a:solidFill>
                <a:latin typeface="Book Antiqua"/>
              </a:rPr>
              <a:t>мир в жизни ребенк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6800"/>
                </a:solidFill>
                <a:latin typeface="Book Antiqua"/>
              </a:rPr>
              <a:t>Воспитатель: Шапошникова Ольг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6" descr=""/>
          <p:cNvPicPr/>
          <p:nvPr/>
        </p:nvPicPr>
        <p:blipFill>
          <a:blip r:embed="rId1"/>
          <a:stretch/>
        </p:blipFill>
        <p:spPr>
          <a:xfrm>
            <a:off x="6804000" y="765000"/>
            <a:ext cx="21207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714760" y="0"/>
            <a:ext cx="5829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Book Antiqua"/>
              </a:rPr>
              <a:t>ДОБРОЕ НЕРАЗРЫВНО СВЯЗАНО С КРАСОТОЙ, И ЛЮБОВАНИЕ ЕЮ – ЭТО ЛИШЬ ПЕРВЫЙ РОСТОК ДОБРОГО ЧУВСТВА, КОТОРОЕ НАДО РАЗВИВАТЬ, ПРЕВРАЩАЯ В АКТИВНОЕ СТРЕМЛЕНИЕ К ДЕЯТЕЛЬНОСТИ.                          В.А. СУХОМЛИНСКИЙ.</a:t>
            </a:r>
            <a:endParaRPr b="0" lang="en-US" sz="1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28400" y="3285720"/>
            <a:ext cx="825804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Сказка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– это удивительное по силе психологического воздействия, средство работы с внутренним миром ребенка, мощный инструмент развития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Book Antiqua"/>
              </a:rPr>
              <a:t>КЛАССИФИКАЦИЯ СКАЗОК.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Народные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Литературные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Бытовые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  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Былинные</a:t>
            </a: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    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Волшебные   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        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Сказки о животных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Фантастические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               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Юмористические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64b3c"/>
                </a:solidFill>
                <a:latin typeface="Century Gothic"/>
              </a:rPr>
              <a:t>                </a:t>
            </a: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Сатирические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Цель</a:t>
            </a:r>
            <a:r>
              <a:rPr b="1" lang="ru-RU" sz="2600" spc="-1" strike="noStrike">
                <a:solidFill>
                  <a:srgbClr val="564b3c"/>
                </a:solidFill>
                <a:latin typeface="Book Antiqua"/>
              </a:rPr>
              <a:t>: </a:t>
            </a:r>
            <a:r>
              <a:rPr b="1" lang="ru-RU" sz="1700" spc="-1" strike="noStrike">
                <a:solidFill>
                  <a:srgbClr val="564b3c"/>
                </a:solidFill>
                <a:latin typeface="Book Antiqua"/>
              </a:rPr>
              <a:t>ознакомление детей со сказочным жанром.</a:t>
            </a: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1" lang="ru-RU" sz="1500" spc="-1" strike="noStrike">
                <a:solidFill>
                  <a:srgbClr val="564b3c"/>
                </a:solidFill>
                <a:latin typeface="Century Gothic"/>
              </a:rPr>
              <a:t>      </a:t>
            </a:r>
            <a:endParaRPr b="0" lang="en-US" sz="15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 Antiqua"/>
              </a:rPr>
              <a:t>ПУТЕШЕСТВИЕ В СКАЗКУ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Gothic"/>
              </a:rPr>
              <a:t>Цель:</a:t>
            </a: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формирование интереса к сказочному литературному жанру,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              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приобщение детей к народному творчеству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Gothic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Century Gothic"/>
              </a:rPr>
              <a:t>Задачи: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Расширение представлений детей о разнообразии сказок;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Ознакомление детей с устным народным творчеством, ведущим искусством  слова;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Формирование элементарных представлений на примере героев сказок о традициях и обычаях народа;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Воспитание положительных черт характера на примере сказочных героев;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Формирование элементарных умений обсуждать эмоциональное состояние героев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714240" y="-36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entury Gothic"/>
              </a:rPr>
              <a:t>Творческие задания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Сказки, но по – новому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Сказки о бытовых предметах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Узнай сказку по песенке героев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родолжи сказку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От  точек – к сказке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Нарисуй сказку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гровые задания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Century Gothic"/>
              </a:rPr>
              <a:t>Дидактические игры    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Составь портрет героя сказки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                                                           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Треугольник и квадрат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                                                            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Добрые –  злые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Цель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: Формирование рече-творческих способностей, воображения, фантази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                                                           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8" name="Прямая со стрелкой 6" descr=""/>
          <p:cNvPicPr/>
          <p:nvPr/>
        </p:nvPicPr>
        <p:blipFill>
          <a:blip r:embed="rId1"/>
          <a:stretch/>
        </p:blipFill>
        <p:spPr>
          <a:xfrm>
            <a:off x="3333600" y="3597120"/>
            <a:ext cx="142740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Book Antiqua"/>
              </a:rPr>
              <a:t>ОСОБЕННОСТИ РАБОТЫ СО СКАЗКОЙ:</a:t>
            </a: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Создание эмоционального фона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Цель:</a:t>
            </a: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оздание комфорта и заинтересованно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Эмоциональное рассказывание сказки и беседа по содержанию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Цель: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формирование интереса, эмоциональног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      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овлечения в ситуацию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Игровые действия по сказке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Цель: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развитие творческой активности, уме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      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заимодействовать с окружающим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Свободная игровая, продуктивная деятельность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Цель: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использование полученных знаний в различных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      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идах деятельно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Book Antiqua"/>
              </a:rPr>
              <a:t>МНЕМОТАБЛИЦЫ</a:t>
            </a:r>
            <a:endParaRPr b="0" lang="en-US" sz="2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765000"/>
            <a:ext cx="8507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 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Мнемотехника –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это система методов и приемов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                             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обеспечивающих эффективное запоминание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                             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сохранение и воспроизведение информации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Цель обучения –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развитие памяти, мышления, внимания, 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                                  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воображения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    </a:t>
            </a:r>
            <a:r>
              <a:rPr b="1" lang="ru-RU" sz="2400" spc="-1" strike="noStrike">
                <a:solidFill>
                  <a:srgbClr val="7030a0"/>
                </a:solidFill>
                <a:latin typeface="Book Antiqua"/>
                <a:ea typeface="幼圆"/>
              </a:rPr>
              <a:t>Мнемотаблица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– это схема, в которую заложена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                               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определенная информация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</a:t>
            </a:r>
            <a:r>
              <a:rPr b="1" lang="ru-RU" sz="2800" spc="-1" strike="noStrike">
                <a:solidFill>
                  <a:srgbClr val="7030a0"/>
                </a:solidFill>
                <a:latin typeface="Book Antiqua"/>
                <a:ea typeface="幼圆"/>
              </a:rPr>
              <a:t>Задачи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- развитие основных психических процессов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- перекодирование информации;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     </a:t>
            </a:r>
            <a:r>
              <a:rPr b="0" lang="ru-RU" sz="2000" spc="-1" strike="noStrike">
                <a:solidFill>
                  <a:srgbClr val="564b3c"/>
                </a:solidFill>
                <a:latin typeface="Book Antiqua"/>
                <a:ea typeface="幼圆"/>
              </a:rPr>
              <a:t>- развитие мелкой моторики рук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0" y="3813120"/>
            <a:ext cx="1414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857160" y="54936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ook Antiqua"/>
                <a:ea typeface="幼圆"/>
              </a:rPr>
              <a:t>Задачи работы с мнемотаб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4000" y="1071720"/>
            <a:ext cx="88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1. Формирование умения  воспринимать, действовать в соответствии тек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2. Развитие внимания, выдержки, памяти, речи, воображения и фантаз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3. Формирование умений разыгрывать сценки по знакомым сказкам,   использу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разные виды театров, элементы костюмов, используя при эт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выразительные  сред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4. Формирование умения понимать и  оценивать поступки героев и выражать отношение к н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5. Совершенствование умения понимать эмоциональное состо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  <a:ea typeface="幼圆"/>
              </a:rPr>
              <a:t>окружающи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  <a:ea typeface="SimSun"/>
              </a:rPr>
              <a:t> </a:t>
            </a:r>
            <a:br>
              <a:rPr sz="3200"/>
            </a:br>
            <a:r>
              <a:rPr b="1" lang="ru-RU" sz="2300" spc="-1" strike="noStrike">
                <a:solidFill>
                  <a:srgbClr val="7030a0"/>
                </a:solidFill>
                <a:latin typeface="Book Antiqua"/>
                <a:ea typeface="SimSun"/>
              </a:rPr>
              <a:t>ПОДГОТОВКА К ТЕАТРАЛИЗОВАННОЙ</a:t>
            </a:r>
            <a:r>
              <a:rPr b="1" lang="ru-RU" sz="3200" spc="-1" strike="noStrike">
                <a:solidFill>
                  <a:srgbClr val="7030a0"/>
                </a:solidFill>
                <a:latin typeface="Book Antiqua"/>
                <a:ea typeface="SimSun"/>
              </a:rPr>
              <a:t> </a:t>
            </a:r>
            <a:r>
              <a:rPr b="1" lang="ru-RU" sz="2300" spc="-1" strike="noStrike">
                <a:solidFill>
                  <a:srgbClr val="7030a0"/>
                </a:solidFill>
                <a:latin typeface="Book Antiqua"/>
                <a:ea typeface="SimSun"/>
              </a:rPr>
              <a:t>ДЕЯТЕЛЬНОСТИ</a:t>
            </a:r>
            <a:br>
              <a:rPr sz="3200"/>
            </a:br>
            <a:r>
              <a:rPr b="0" lang="ru-RU" sz="3200" spc="-1" strike="noStrike">
                <a:solidFill>
                  <a:srgbClr val="6b7d72"/>
                </a:solidFill>
                <a:latin typeface="Book Antiqua"/>
                <a:ea typeface="SimSun"/>
              </a:rPr>
              <a:t>       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  <a:ea typeface="幼圆"/>
              </a:rPr>
              <a:t>     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  <a:ea typeface="幼圆"/>
              </a:rPr>
              <a:t>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1. Выразительное чтение произведения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2. Беседа о прочитанном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3.</a:t>
            </a:r>
            <a:r>
              <a:rPr b="0" i="1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Просмотр иллюстраций в детских книгах или просто картинок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4. Обучение  детей передавать настроение и характер героев мимикой и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движениям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5.  Проговаривание  отдельных фрагментов сказки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6. Театрализация сказк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7. Привлечение родителей в подготовке детей к театральной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 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деятельности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   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  <a:ea typeface="幼圆"/>
              </a:rPr>
              <a:t>8. Изготовление билетов и афиш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55:58Z</dcterms:created>
  <dc:creator>Лариса</dc:creator>
  <dc:description/>
  <dc:language>en-US</dc:language>
  <cp:lastModifiedBy>Светлана</cp:lastModifiedBy>
  <dcterms:modified xsi:type="dcterms:W3CDTF">2019-06-10T18:50:16Z</dcterms:modified>
  <cp:revision>65</cp:revision>
  <dc:subject/>
  <dc:title>Слайд 1</dc:title>
</cp:coreProperties>
</file>