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727F-F689-41CE-B027-F4C9A35CFA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D1D3-8FDD-4DA8-B56C-6592FF5B36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D27-E8D4-4742-A9D5-B32E4790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630-943A-4AA5-8EBF-3889E73F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665-BD20-4858-AFD5-A23C9CA2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DC2-AA45-4217-A323-2B85BF4B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7226-5BBC-43AA-8FC8-5CF33A90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D3DB-765C-4BC1-BA06-E0D8F6F4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B5BF-F3AB-441E-829D-BF920EB4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D0B9-CFC8-4251-87FA-E6008A2E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E2EF-06FD-4A6E-AC66-16DEE143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8CD3-113E-487D-9268-6A499D9B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6539-11E9-406F-BCF3-9F7FF248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3A0-71F3-42F3-8696-7BA6A92D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5AAF-55C7-4951-A6D6-B486D962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F535-2182-42ED-9476-05587E8E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8325-15D0-4962-BDDA-75DC2E1E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901F-D6D8-4C88-A95C-57077073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A4C8-6EC8-45F4-95E4-72A06D2F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061B-3518-4132-89F2-90DBC22C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50A7B-9D61-4947-B9A1-B651ED39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0D916-3490-43B1-BA76-27F58CB0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3EB39-38E0-4BF9-B6D8-981A4337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5FF2E-236E-4DF9-82AA-DC51C23E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92D-A31A-4AFB-AC3A-D27ADEAC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95E32-75DC-43A7-862F-2313B164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54B03-E7B5-4273-8776-F2FA17C9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4CEB-8015-4533-9164-FA19CD68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1725F-E198-4736-9C2D-F178B090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6DE1B-89EF-465D-88C8-1ED95D5B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A899-22F0-49C4-801B-FF68752A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AA59-E6C0-444E-96DC-04F6816B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7AD84-F799-49DC-99B2-10FDB1F9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C5EF2-E1D3-4CE5-BABE-57EBC9F6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E849A-C4B7-462D-A4C4-6E9BEA73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BA8-7CCE-426F-935D-CB300E4B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215C9-DD60-4386-B437-1A45AE6C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5905A-C79E-42B4-9DA6-7AA28199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E447A-6E79-45EC-ACA7-C4F610EA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77B2-7F13-4816-8DF7-8556BA56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A985-4982-4E25-838C-C46CBA90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AAD48-7172-4A71-9579-98C2C279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61E67-9B50-4B04-B7FF-94C6CA1F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B706-124A-45AE-A141-8D8076FA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5F02C-5BDB-4D28-9A15-2D38CA14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243E0-E537-4504-9D67-B11E20F6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8AD-8337-4304-91E3-E2478D1A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8C5B0-5BA6-47CC-8EB1-AC3C6CC4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8F996-F3EC-4393-A418-B3314723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D8179-4E6E-4E5A-B05E-FDBC3F8C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6C2B1-AD23-4627-B36F-ABA0B23A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09BC3-D9ED-449D-974E-A8CD596A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CDFB9-171D-483D-B34F-35FCCA4A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A5BA4-0809-4752-B938-BE4365A9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6D125-DC5D-4EB6-85AB-5F93EACE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64B69-65E9-434C-803A-E1F697F8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79FCB-E556-44B7-BF4B-5DA5169E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E0D-D38A-434D-9C72-C58BA8B4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BA99E-459C-43DB-9A2D-D6BB7248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D440FF-4E69-4124-AEDC-CFEBF9B0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B7C8B6-0A28-4B4C-A319-1BEFC69E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95E7EA-6D6D-4F5F-804F-869570E9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C86D6-F6A5-4F1D-9C81-50218815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47A59-D603-4C67-B505-7544CB6F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4F367F-A475-4BC5-8A2A-453D3820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CC055B-72AA-409B-80F7-4A926809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1FBC8-B5B0-451F-AD4B-9C299317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5DFEBA-006E-4F27-A76F-ECCF69F7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30E-070F-4632-9772-BBBA8E88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BAA58-E94D-47FF-93D1-87516799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298F0A-6F86-42BF-AD8C-2EC9FE62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9466F-2EC2-4821-B4F8-2C2D5408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30100-4605-4972-9199-79E0824C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98F91-6C04-408B-AE39-E0F69F46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7BA07-6783-4199-A5F0-241931E0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A637E-568F-4905-B598-EB252203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D64DC-30B2-4255-AC50-A3A2B79D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41CFD-7568-44E0-94B7-BD663F01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C5C56-BF40-4CF0-A5C7-90078E93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005-ED70-4749-AC52-EE977AF5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D8E2D-030E-418A-ABED-5316360D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1EFA1-1579-47D2-84FC-2A60214F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BAD69-F437-437D-B481-F4B160C1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21424-C739-4C89-B00E-29C7842A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87C98-1A79-42A8-AE9A-20D1D189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DACF-0AAE-402B-817E-9DD78C4C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CFF6-6957-47AF-88EB-4AFEE4A286D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D6CF-81CA-4742-9C7A-2782CC23E65B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E15D-A727-4D1C-AE4E-5FE1CBFD7DC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A383-35DF-4C25-BAD1-D7D0EABE902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045B-83B6-47AF-9AE8-63371090B40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3480-0456-4BB9-957D-656868E3855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7999-7CA1-49FF-904B-284E0D459D3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4520160" y="260280"/>
            <a:ext cx="2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7000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116000" y="1628640"/>
            <a:ext cx="684072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6800"/>
                </a:solidFill>
                <a:latin typeface="Book Antiqua"/>
              </a:rPr>
              <a:t>Презентация на 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800"/>
                </a:solidFill>
                <a:latin typeface="Book Antiqua"/>
              </a:rPr>
              <a:t>«Сказка - волшеб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800"/>
                </a:solidFill>
                <a:latin typeface="Book Antiqua"/>
              </a:rPr>
              <a:t>мир в жизни ребенк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6800"/>
                </a:solidFill>
                <a:latin typeface="Book Antiqua"/>
              </a:rPr>
              <a:t>Воспитатель: Шапошникова Ольг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6" descr=""/>
          <p:cNvPicPr/>
          <p:nvPr/>
        </p:nvPicPr>
        <p:blipFill>
          <a:blip r:embed="rId1"/>
          <a:stretch/>
        </p:blipFill>
        <p:spPr>
          <a:xfrm>
            <a:off x="6804000" y="765000"/>
            <a:ext cx="212076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714760" y="0"/>
            <a:ext cx="58291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 Antiqua"/>
              </a:rPr>
              <a:t>ДОБРОЕ НЕРАЗРЫВНО СВЯЗАНО С КРАСОТОЙ, И ЛЮБОВАНИЕ ЕЮ – ЭТО ЛИШЬ ПЕРВЫЙ РОСТОК ДОБРОГО ЧУВСТВА, КОТОРОЕ НАДО РАЗВИВАТЬ, ПРЕВРАЩАЯ В АКТИВНОЕ СТРЕМЛЕНИЕ К ДЕЯТЕЛЬНОСТИ.                          В.А. СУХОМЛИНСКИЙ.</a:t>
            </a:r>
            <a:endParaRPr b="0" lang="en-US" sz="1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28400" y="3285720"/>
            <a:ext cx="825804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Сказка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– это удивительное по силе психологического воздействия, средство работы с внутренним миром ребенка, мощный инструмент развития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Book Antiqua"/>
              </a:rPr>
              <a:t>КЛАССИФИКАЦИЯ СКАЗОК.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Народные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Литературные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Бытовые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       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Былинные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        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Волшебные   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             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Сказки о животных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Фантастические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                    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Юмористические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64b3c"/>
                </a:solidFill>
                <a:latin typeface="Century Gothic"/>
              </a:rPr>
              <a:t>               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Сатирические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Цель</a:t>
            </a:r>
            <a:r>
              <a:rPr b="1" lang="ru-RU" sz="2600" spc="-1" strike="noStrike">
                <a:solidFill>
                  <a:srgbClr val="564b3c"/>
                </a:solidFill>
                <a:latin typeface="Book Antiqua"/>
              </a:rPr>
              <a:t>: </a:t>
            </a:r>
            <a:r>
              <a:rPr b="1" lang="ru-RU" sz="1700" spc="-1" strike="noStrike">
                <a:solidFill>
                  <a:srgbClr val="564b3c"/>
                </a:solidFill>
                <a:latin typeface="Book Antiqua"/>
              </a:rPr>
              <a:t>ознакомление детей со сказочным жанром.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1" lang="ru-RU" sz="1500" spc="-1" strike="noStrike">
                <a:solidFill>
                  <a:srgbClr val="564b3c"/>
                </a:solidFill>
                <a:latin typeface="Century Gothic"/>
              </a:rPr>
              <a:t>      </a:t>
            </a:r>
            <a:endParaRPr b="0" lang="en-US" sz="15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 Antiqua"/>
              </a:rPr>
              <a:t>ПУТЕШЕСТВИЕ В СКАЗКУ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Gothic"/>
              </a:rPr>
              <a:t>Цель: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формирование интереса к сказочному литературному жанру,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                  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приобщение детей к народному творчеству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Gothic"/>
              </a:rPr>
              <a:t>           </a:t>
            </a:r>
            <a:r>
              <a:rPr b="1" lang="ru-RU" sz="2800" spc="-1" strike="noStrike">
                <a:solidFill>
                  <a:srgbClr val="7030a0"/>
                </a:solidFill>
                <a:latin typeface="Century Gothic"/>
              </a:rPr>
              <a:t>Задачи: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Расширение представлений детей о разнообразии сказок;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Ознакомление детей с устным народным творчеством, ведущим искусством  слова;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Формирование элементарных представлений на примере героев сказок о традициях и обычаях народа;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Воспитание положительных черт характера на примере сказочных героев;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Формирование элементарных умений обсуждать эмоциональное состояние героев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714240" y="-36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entury Gothic"/>
              </a:rPr>
              <a:t>Творческие задания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Сказки, но по – новому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Сказки о бытовых предметах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знай сказку по песенке героев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родолжи сказку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т  точек – к сказке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Нарисуй сказку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Игровые задания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Century Gothic"/>
              </a:rPr>
              <a:t>Дидактические игры    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Составь портрет героя сказки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                                                               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Треугольник и квадрат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                                                                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Добрые –  злые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Цель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: Формирование рече-творческих способностей, воображения, фантази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                                                          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8" name="Прямая со стрелкой 6" descr=""/>
          <p:cNvPicPr/>
          <p:nvPr/>
        </p:nvPicPr>
        <p:blipFill>
          <a:blip r:embed="rId1"/>
          <a:stretch/>
        </p:blipFill>
        <p:spPr>
          <a:xfrm>
            <a:off x="3333600" y="3597120"/>
            <a:ext cx="142740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Book Antiqua"/>
              </a:rPr>
              <a:t>ОСОБЕННОСТИ РАБОТЫ СО СКАЗКОЙ:</a:t>
            </a: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Создание эмоционального фона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Цель:</a:t>
            </a: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оздание комфорта и заинтересованност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Эмоциональное рассказывание сказки и беседа по содержанию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Цель: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формирование интереса, эмоционального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      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овлечения в ситуацию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Игровые действия по сказке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Цель: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развитие творческой активности, уме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      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заимодействовать с окружающим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Свободная игровая, продуктивная деятельность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Цель: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использование полученных знаний в различных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      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идах деятельност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Book Antiqua"/>
              </a:rPr>
              <a:t>МНЕМОТАБЛИЦЫ</a:t>
            </a: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3640" y="765000"/>
            <a:ext cx="8507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 Antiqua"/>
                <a:ea typeface="幼圆"/>
              </a:rPr>
              <a:t>  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 Antiqua"/>
                <a:ea typeface="幼圆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Book Antiqua"/>
                <a:ea typeface="幼圆"/>
              </a:rPr>
              <a:t>Мнемотехника –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это система методов и приемов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                                     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обеспечивающих эффективное запоминание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                                     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сохранение и воспроизведение информации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 Antiqua"/>
                <a:ea typeface="幼圆"/>
              </a:rPr>
              <a:t>     </a:t>
            </a:r>
            <a:r>
              <a:rPr b="1" lang="ru-RU" sz="2400" spc="-1" strike="noStrike">
                <a:solidFill>
                  <a:srgbClr val="7030a0"/>
                </a:solidFill>
                <a:latin typeface="Book Antiqua"/>
                <a:ea typeface="幼圆"/>
              </a:rPr>
              <a:t>Цель обучения –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развитие памяти, мышления, внимания, 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                                          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воображения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 Antiqua"/>
                <a:ea typeface="幼圆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Book Antiqua"/>
                <a:ea typeface="幼圆"/>
              </a:rPr>
              <a:t>Мнемотаблица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– это схема, в которую заложена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                                       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определенная информация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    </a:t>
            </a:r>
            <a:r>
              <a:rPr b="1" lang="ru-RU" sz="2800" spc="-1" strike="noStrike">
                <a:solidFill>
                  <a:srgbClr val="7030a0"/>
                </a:solidFill>
                <a:latin typeface="Book Antiqua"/>
                <a:ea typeface="幼圆"/>
              </a:rPr>
              <a:t>Задачи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   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- развитие основных психических процессов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   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- перекодирование информаци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   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- развитие мелкой моторики рук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0" y="3813120"/>
            <a:ext cx="1414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857160" y="54936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Book Antiqua"/>
                <a:ea typeface="幼圆"/>
              </a:rPr>
              <a:t>Задачи работы с мнемотаб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24000" y="1071720"/>
            <a:ext cx="88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1. Формирование умения  воспринимать, действовать в соответствии тек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2. Развитие внимания, выдержки, памяти, речи, воображения и фантаз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3. Формирование умений разыгрывать сценки по знакомым сказкам,   использу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разные виды театров, элементы костюмов, используя при это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выразительные  сред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4. Формирование умения понимать и  оценивать поступки героев и выражать отношение к н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5. Совершенствование умения понимать эмоциональное состоя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окружающих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  <a:ea typeface="SimSun"/>
              </a:rPr>
              <a:t> </a:t>
            </a:r>
            <a:br>
              <a:rPr sz="3200"/>
            </a:br>
            <a:r>
              <a:rPr b="1" lang="ru-RU" sz="2300" spc="-1" strike="noStrike">
                <a:solidFill>
                  <a:srgbClr val="7030a0"/>
                </a:solidFill>
                <a:latin typeface="Book Antiqua"/>
                <a:ea typeface="SimSun"/>
              </a:rPr>
              <a:t>ПОДГОТОВКА К ТЕАТРАЛИЗОВАННОЙ</a:t>
            </a:r>
            <a:r>
              <a:rPr b="1" lang="ru-RU" sz="3200" spc="-1" strike="noStrike">
                <a:solidFill>
                  <a:srgbClr val="7030a0"/>
                </a:solidFill>
                <a:latin typeface="Book Antiqua"/>
                <a:ea typeface="SimSun"/>
              </a:rPr>
              <a:t> </a:t>
            </a:r>
            <a:r>
              <a:rPr b="1" lang="ru-RU" sz="2300" spc="-1" strike="noStrike">
                <a:solidFill>
                  <a:srgbClr val="7030a0"/>
                </a:solidFill>
                <a:latin typeface="Book Antiqua"/>
                <a:ea typeface="SimSun"/>
              </a:rPr>
              <a:t>ДЕЯТЕЛЬНОСТИ</a:t>
            </a:r>
            <a:br>
              <a:rPr sz="3200"/>
            </a:br>
            <a:r>
              <a:rPr b="0" lang="ru-RU" sz="3200" spc="-1" strike="noStrike">
                <a:solidFill>
                  <a:srgbClr val="6b7d72"/>
                </a:solidFill>
                <a:latin typeface="Book Antiqua"/>
                <a:ea typeface="SimSun"/>
              </a:rPr>
              <a:t>       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  <a:ea typeface="幼圆"/>
              </a:rPr>
              <a:t>     </a:t>
            </a: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  <a:ea typeface="幼圆"/>
              </a:rPr>
              <a:t>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1. Выразительное чтение произведения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2. Беседа о прочитанном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3.</a:t>
            </a:r>
            <a:r>
              <a:rPr b="0" i="1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Просмотр иллюстраций в детских книгах или просто картинок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4. Обучение  детей передавать настроение и характер героев мимикой и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движениям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5.  Проговаривание  отдельных фрагментов сказки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6. Театрализация сказк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7. Привлечение родителей в подготовке детей к театральной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деятельност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8. Изготовление билетов и афиш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1:55:58Z</dcterms:created>
  <dc:creator>Лариса</dc:creator>
  <dc:description/>
  <dc:language>en-US</dc:language>
  <cp:lastModifiedBy>Светлана</cp:lastModifiedBy>
  <dcterms:modified xsi:type="dcterms:W3CDTF">2019-06-10T18:50:16Z</dcterms:modified>
  <cp:revision>65</cp:revision>
  <dc:subject/>
  <dc:title>Слайд 1</dc:title>
</cp:coreProperties>
</file>